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26F-C539-41E8-91EE-38753DF8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AE5-BB69-4105-BCEF-36BDB8DA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D17-5BBB-4236-AB49-4D9AF4FD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D00-D977-4AD3-B612-000D2F3C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3149-A073-4A36-BDE6-8E0C695C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848F-4CC5-43EB-B013-94F5A4E8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F81E-A177-4A35-A719-80310C8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A737-7E38-4A7C-B562-418E1C6B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6D1E-4CBD-4AB7-86C2-0555E1E8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4FDE-F5ED-434A-AF45-1253F2B8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E0FF-0B63-4AF4-B7A8-4DD2AFF5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8B8-8886-428B-B8F4-8867DDD1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3EBF-9128-4CED-A526-25526A5C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232B-E2B8-4EC6-ACBD-3D71741B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BBE0-B57E-4B9E-A390-F7F05670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E5DB-CADF-41E3-9C6E-96235010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06F5-FC92-4DB7-B7F5-34A23F55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8EC6-5253-4F48-A660-30206C2C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DC22-278C-47A3-BC74-0FF38EBD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D607-8BC0-4928-8F67-B001AD7A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8B43-FF79-4612-8487-69A63AF6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AD52-41AE-4BD0-A236-B4726BB9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114-00F6-47F0-95B0-D638C17D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C607-BD60-4C18-99A1-C16B0FF0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23B2-3BB6-430A-BEC7-678B760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9647-B067-4F45-AB88-B6CF5F5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8726-6091-4B87-A2E8-93328B4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027A-3943-4CBA-9E4B-98D8CDC8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AEDC-8389-460F-A1C9-8134D5F3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5CD6-791D-43B8-863C-313E3CA2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818E-0E83-418F-99FF-9F08CB50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8F78-FA64-4BE0-B624-721377C9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8143-EF0E-40A5-AA64-F9F9B83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F3D-A41B-47CF-A1D3-64722BEE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245C3-DC36-4CCF-A61B-F65087DF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0397-9865-45FC-851D-BA4F8CAA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BB61D-D2DF-4CFA-ABA2-9D770031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6F5A-0073-428E-B97F-69533CAC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84C6-5775-4430-A89B-33E4E7F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9B9C-16CB-477D-8088-D357E243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54B7-D498-4D3C-87EC-D18B08CE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D4FF-79EE-4C54-BDE8-8BD6E2F9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B303-CE45-4C48-96F7-53D74685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718C9-871B-43FA-901D-5532A956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DC8-646E-41DA-B05E-FED4F866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97CD-B997-402F-826F-0D1E998E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80887-1069-40B9-9B9C-4197B6EC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341F-D821-43BF-BAD3-79A9D8BA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990FF-5133-4019-A346-B4CBA609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859AD-FA6C-4283-A785-B529360A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52C8A-CA73-4BD7-B8D4-3DF6CA3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394A-5EB2-483B-9060-6C8D588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FEB35-D582-4A72-BAB2-85CCA6A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08CCB-C195-496E-A6B4-3412D833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57A85-EEDB-492D-B0F6-8ADB0DFE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B5E-5DC4-4B40-949F-05196DE4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F70A-E1F9-451A-B848-22EFFBF0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92C3-2E50-40C3-8142-C7BF9074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E401F-C319-49F8-B108-DB3CEBB9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7027B-C020-4A02-B4EB-6911A6F6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A5582-B693-448D-968C-79BD817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CEAEA-4E72-470B-8458-DFB34253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B02B0-2EDE-4E40-8C9A-C6286F46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95BE8-3EA7-4E05-BF29-EAF426E2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7D0C7-0F46-420D-88B6-0B0CF9A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43AA2-7659-4184-B13D-61894542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D22-CB8B-4B2F-BF40-90F703FB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314BE-892C-45D8-B73F-B0352C7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04392-2D57-4AFC-B87B-2FA5195E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5B16E-818C-4DEC-8EDB-BBBCDDE7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DF82-31C6-484C-996B-46C4454A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F1038-A985-414E-95B7-5D3233F6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76CA5-B799-4610-BCCF-0E8D4A5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291EE-0D6C-47C8-9EBF-1516513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75702-2434-4F93-996D-AFC45C84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00BE8-F84D-4B25-B1F1-F3757600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7B69-3776-4349-BBE8-C987FE83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776-8979-4D23-985B-08214F9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909DF-A7A3-4A97-8C75-A7328C94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064C-8D8E-45DF-9259-D235F77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8E110-DE34-4150-A01E-E91A3BF3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7312E-C9FA-422A-9942-7994DD02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50521-689A-41D9-B9BA-21C5E065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F2FE4-1622-4DCE-B740-F8C4B62A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BABE7-C477-4BCE-8A2E-8DE63564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1D64E-51EA-488A-BDBD-42BD1007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77D8-2155-4779-A43D-16C2A37D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51C34-5133-409D-A403-3117437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540-B962-4A60-BB70-A6EBB93F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84EAD-B42B-4EE5-BB2C-5AA33D96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5EB1E-2BBF-4BF7-A24B-8E6F567B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E0298-2949-4812-BD98-6C1ADC9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9D28-DF7C-49A8-B44C-A94F146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381CC-EE96-4125-B73A-A739D1E6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0CD69-8E22-4D26-8304-DE9BF75A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4FF7F-7FD4-4452-A2CC-E886E840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84B8-2443-48EC-9614-89694DCEE210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Obdélní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4FCB-8888-4759-BEBC-5BFCB1FFA6F9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0ACD-212A-4152-8AC9-DE76F2E358BE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ovnoramenný trojúhelní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43F9-08ED-4744-BBAA-7D628DC60A22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8CC0-411D-42FD-8588-4FF802D27557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římá spojnice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Rovnoramenný trojúhelník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5542-5F0C-4C4B-8606-59ACF433C3AA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Obdélní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1FA3-DF5C-4B1E-885B-5F6C1AF2845A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římá spojnice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717F-EDBB-4C18-91C5-E3799E47721A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wseum.org/" TargetMode="External"/><Relationship Id="rId2" Type="http://schemas.openxmlformats.org/officeDocument/2006/relationships/hyperlink" Target="http://www.newseum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seum.org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  <a:ea typeface="Arial"/>
              </a:rPr>
              <a:t>Seriózní a bulvární noviny: srovnání způsobů mediální reprezentac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4653"/>
                </a:solidFill>
                <a:latin typeface="Arial"/>
                <a:ea typeface="Arial"/>
              </a:rPr>
              <a:t>Katka Kirkosov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Závě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mediální konstrukce rea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bulvární vs. seriózní: hraniční body šká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bulvariza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50560" y="2636640"/>
            <a:ext cx="84358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e5d78"/>
                </a:solidFill>
                <a:latin typeface="Arial"/>
              </a:rPr>
              <a:t>Děkuji za Vaši pozornos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Struktur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ýchodiska: mediální text a jeho význ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ýchodiska II: bulvární vs. seriózní novi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metoda: návrh modelu pro analýz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íkla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závě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Východiska: mediální text a jeho význa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edpokla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znam je </a:t>
            </a: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sociálně konstruová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znam je </a:t>
            </a: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kontextualizová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médium je poselství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 (McLuhan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=&gt; média re-prezentují realitu/konstruují její obraz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nastolování agendy (agenda-setting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Východiska: bulvární vs. seriózní tis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rozdí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layout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 titulní strany: typografické a grafické znak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syntagmatická struk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TS: narativizace, personalizace, celebritizace, konverzacionaliza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464653"/>
                </a:solidFill>
                <a:uFillTx/>
                <a:latin typeface="Gill Sans MT"/>
              </a:rPr>
              <a:t>paradigmatická struk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TS: lingvistické znak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Gill Sans MT"/>
              </a:rPr>
              <a:t>textuální analýza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: sémiotická, narativní, diskurzivní, konverzační (etc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tři klíčové okruhy otázek: reprezentace – identita - vztah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Metoda: návrh modelu pro analýzu text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1218960"/>
            <a:ext cx="82184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Gill Sans MT"/>
              </a:rPr>
              <a:t>layout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titulní strany (typografické a grafické znak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hlavní zpráva: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Gill Sans MT"/>
              </a:rPr>
              <a:t>syntagmatická struktura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(sekvenční a prostorové uspořádání textu; narac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5 W‘s: who – what – when – where – wh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rincip obrácené pyramid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hlavní zpráva: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Gill Sans MT"/>
              </a:rPr>
              <a:t>paradigmatická struktura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(lingvistické znak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žurnalistický sty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fakta – fikce/názory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eprezentovaná stanovisk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olární opozi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Příklady: </a:t>
            </a:r>
            <a:r>
              <a:rPr b="0" i="1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Horor v Norsk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</a:t>
            </a:r>
            <a:r>
              <a:rPr b="0" lang="cs-CZ" sz="26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www.newseum.org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7920" y="1768320"/>
            <a:ext cx="3200400" cy="4846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"/>
          <p:cNvPicPr/>
          <p:nvPr/>
        </p:nvPicPr>
        <p:blipFill>
          <a:blip r:embed="rId4"/>
          <a:stretch/>
        </p:blipFill>
        <p:spPr>
          <a:xfrm>
            <a:off x="2771640" y="2025720"/>
            <a:ext cx="3200400" cy="452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5"/>
          <a:stretch/>
        </p:blipFill>
        <p:spPr>
          <a:xfrm>
            <a:off x="5796000" y="1785960"/>
            <a:ext cx="32749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Příklady: </a:t>
            </a:r>
            <a:r>
              <a:rPr b="0" i="1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Horor v Norsk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5827680" y="1241280"/>
            <a:ext cx="3333960" cy="4915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2"/>
          <a:stretch/>
        </p:blipFill>
        <p:spPr>
          <a:xfrm>
            <a:off x="3276720" y="1314360"/>
            <a:ext cx="3200400" cy="4837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3"/>
          <a:stretch/>
        </p:blipFill>
        <p:spPr>
          <a:xfrm>
            <a:off x="0" y="1279440"/>
            <a:ext cx="3521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Příklady: smrt Stevea Job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newseum.or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3475080" cy="4973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2771640" y="1631880"/>
            <a:ext cx="3475080" cy="5257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5580000" y="1600200"/>
            <a:ext cx="347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"/>
                <a:ea typeface="Arial"/>
              </a:rPr>
              <a:t>Příklady: pád letadla v Jaroslavl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5711760" y="1413000"/>
            <a:ext cx="3394080" cy="48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"/>
          <p:cNvPicPr/>
          <p:nvPr/>
        </p:nvPicPr>
        <p:blipFill>
          <a:blip r:embed="rId2"/>
          <a:stretch/>
        </p:blipFill>
        <p:spPr>
          <a:xfrm>
            <a:off x="27000" y="1413000"/>
            <a:ext cx="3394080" cy="4817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"/>
          <p:cNvPicPr/>
          <p:nvPr/>
        </p:nvPicPr>
        <p:blipFill>
          <a:blip r:embed="rId3"/>
          <a:stretch/>
        </p:blipFill>
        <p:spPr>
          <a:xfrm>
            <a:off x="2843280" y="1206360"/>
            <a:ext cx="315576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09:10:45Z</dcterms:created>
  <dc:creator>katka</dc:creator>
  <dc:description/>
  <dc:language>en-US</dc:language>
  <cp:lastModifiedBy>katka</cp:lastModifiedBy>
  <dcterms:modified xsi:type="dcterms:W3CDTF">2011-10-13T20:18:15Z</dcterms:modified>
  <cp:revision>22</cp:revision>
  <dc:subject/>
  <dc:title>Seriózní a bulvární noviny: srovnání způsobů mediální reprezentace</dc:title>
</cp:coreProperties>
</file>