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741-CBB2-4474-8EAC-0D8B10DB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2E0-00D5-4261-907A-2F2DBAED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483-D7AE-4C45-93E0-C5BBAB3E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0AA-5C40-4545-B05A-5EF1ACC4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24CA-9FEA-4E3C-B829-2220418D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26B5-9731-4546-BD13-A3E30F1D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42E7-FD3B-407F-8ADF-1AAD1596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DCB5-0C20-42BA-A425-97C3DFC7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2B4B-64CA-4B85-B89F-095A05D8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A6D4-E4CE-468C-9131-00675558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4632-FD38-4771-B377-019B4FDD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C077-0998-4A2F-BC65-7E2BA760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88CC-4CF0-4A46-A4AB-2224EC59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82BC-766F-49B2-8D7E-45E9994C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B5F6-FF72-4013-9C9D-1FFDF6F0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534F-ED2B-403A-8AD6-693D60FC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FAA2-BC89-4396-B856-69B6A5D0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F0A4E-EBDA-482A-A3B4-5BBE6BF3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A5983-3EF9-48F4-A456-60A5F7B5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6477A-0BA8-4D99-BFED-4D14E632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E1119-DF09-40B5-B851-B14824AB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398CF-C262-4FA1-870B-22A5320A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8E2-C41D-4028-86A2-CEE05E24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433A6-113B-4FA1-92CF-6ADEA7D5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4D9ED-606C-4C8D-99CE-E4A79502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059AA-18C1-4743-A1CC-308F94CE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05B12-9FB9-4581-A6D1-298D98D6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7AF73-C861-4CFE-9F44-0F894F13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CCD2F-D43B-4C98-A580-D5488291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335CC-2773-4DFA-8738-3BC3795C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40EB4-E89C-462B-A955-2D801587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B3FEB-ADEC-4FAA-8730-F9AF8C1B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CAC7F-791D-456D-AEE6-22F18A1C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A751-7D03-49C8-BE5E-1BA6626C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777D7-B3CC-46E4-A7AF-4909841D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DBBC7-84FF-43F0-BE63-A5D456AC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EEB86-3B50-46B5-8D37-6C239115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A2F3B-8DC2-412A-9A89-56D2E434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5E1EE-EDB8-44C1-ABFB-9457BADC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AE456-AE87-4A38-AE9E-48515B32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F576A-1CB6-4BAC-9058-B0F2B4DE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2F4A4-CB12-4074-B544-2AB698FB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49C94-7CC8-4770-949F-ECC62B82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32FF1-1A92-4B48-9A56-D0EF3C36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3942-6F79-4DE9-8AC9-91E15BD8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42176-A8AD-463B-BADA-6ABFCBB0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38E1A-6907-4389-9717-FAE2192A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F13D4-819A-4700-A45B-7DCA735A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70485-9CF0-4FD7-B7DC-45257BA1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2A4C1-AA42-4E8C-ADC7-6CFCA73A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070F2-FA1C-4595-B200-61BE2FC4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92769-3403-4264-832D-BAF352F1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D4EEE-E6F2-4682-8186-BB10892B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CA721-F8C4-4745-96F7-728B7838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7BBDB-2C72-4732-95B4-98970651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4AC-718A-4E81-814C-6190D7BF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55610-A632-4E45-BCE2-2D686E6B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11639-BE31-4827-B454-82651E45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B8DDB-7DF9-48B0-B5AC-80EF2CFD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E2391-C1BF-4B3F-9182-0CA72EE3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04E5A-C795-420C-8B76-DC06D9FC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6457D-D0C3-4BB3-8A61-397F90C0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A4B46-26F6-4877-A5DF-8F5C7338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09046-F09C-4090-B68D-437DE6BE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887C2-0925-4FC9-8C06-C9606F1B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2B456-ED7F-4769-8FCB-D5045D6C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5412-D23E-454A-B8BC-FC5D5167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6DA76-35E3-40E2-A209-D7DAE62E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708A4-E30E-46B9-B0BE-B14D0194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1BE55-9620-4E0C-9E90-58EDF849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9DD0B-96ED-4CA2-8F5C-452A82B2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587DB-5577-419F-A669-F556A79A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9052A-3457-479B-9815-ADECE78B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3974E-AB95-4B00-A9A2-882C43BE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E28F4-2DFB-40F2-84AB-3DAD64D3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BF0F5-E546-4AC5-B90D-E18E04F8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5627C-935A-4A0D-A143-BC626CEB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1F4-06EA-4313-B41B-4AE03EA0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C3EC8-A2BA-4F77-A58C-1FA82FCC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4093B-56BE-4FE1-91DF-72FF4AA3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BFA80-DA03-4270-880D-0B164F32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349BE-4293-48EC-A719-A812FBB3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14B1D-EC31-4D46-BE4A-901695CE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8DD20-CA0A-4D4F-9F83-29942707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1FCA1-FCF3-4461-B07E-1B620D92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78214-40CD-4219-90EA-078F8ECC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A2BEA-BEFD-4E9C-88B8-B7833FAF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83D28-3B7C-47F4-8A11-576F723B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99C-E5A7-4958-A796-68B5D327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2176A-8573-4875-9D0A-879CD805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E36C5-FC54-4555-9648-BBBDE067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0C626-749F-4D5D-A2D2-6C234555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90F3B-48B3-4C54-95E8-594BC66B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ECCB6-BC86-479A-AE88-9981BAC9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EE8C1-A424-40C5-93E5-FA18A0F1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BEB72-FD93-4F01-BC32-E41E60BA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B43A-A3C2-41A7-9F14-F51871F19B8D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Obdélní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Obdélník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B0E0-E13B-4455-BE38-0EC65FC17733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9CF0-B436-4AD8-9554-90A0DE4D19D1}" type="slidenum">
              <a:rPr b="0" lang="cs-CZ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ovnoramenný trojúhelní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B3F7-BB24-4E56-BE61-15D41FE5273B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Rovnoramenný trojúhelní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9008-C209-40F0-9056-581F2B88A912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římá spojnice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Rovnoramenný trojúhelník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DC26-D313-48EE-A886-361528CFFEAD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Rovnoramenný trojúhelní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Obdélník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1EE9-17E0-4141-861A-0918A9358C60}" type="slidenum">
              <a:rPr b="0" lang="cs-CZ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Rovnoramenný trojúhelní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římá spojnice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FA13-383C-4CBB-9D2B-32EB0161C5B7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ewseum.org/" TargetMode="External"/><Relationship Id="rId2" Type="http://schemas.openxmlformats.org/officeDocument/2006/relationships/hyperlink" Target="http://www.newseum.org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ewseum.org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  <a:ea typeface="Arial"/>
              </a:rPr>
              <a:t>Seriózní a bulvární noviny: srovnání způsobů mediální reprezentac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4653"/>
                </a:solidFill>
                <a:latin typeface="Arial"/>
                <a:ea typeface="Arial"/>
              </a:rPr>
              <a:t>Katka Kirkosová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Závě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mediální konstrukce real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bulvární vs. seriózní: hraniční body šká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bulvarizac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50560" y="2636640"/>
            <a:ext cx="843588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e5d78"/>
                </a:solidFill>
                <a:latin typeface="Arial"/>
              </a:rPr>
              <a:t>Děkuji za Vaši pozornos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Struktur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východiska: mediální text a jeho význa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východiska II: bulvární vs. seriózní novin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metoda: návrh modelu pro analýz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říkla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závě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Východiska: mediální text a jeho význam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ředpokla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význam je </a:t>
            </a:r>
            <a:r>
              <a:rPr b="0" lang="cs-CZ" sz="2300" spc="-1" strike="noStrike" u="sng">
                <a:solidFill>
                  <a:srgbClr val="464653"/>
                </a:solidFill>
                <a:uFillTx/>
                <a:latin typeface="Gill Sans MT"/>
              </a:rPr>
              <a:t>sociálně konstruová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význam je </a:t>
            </a:r>
            <a:r>
              <a:rPr b="0" lang="cs-CZ" sz="2300" spc="-1" strike="noStrike" u="sng">
                <a:solidFill>
                  <a:srgbClr val="464653"/>
                </a:solidFill>
                <a:uFillTx/>
                <a:latin typeface="Gill Sans MT"/>
              </a:rPr>
              <a:t>kontextualizová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464653"/>
                </a:solidFill>
                <a:uFillTx/>
                <a:latin typeface="Gill Sans MT"/>
              </a:rPr>
              <a:t>médium je poselství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 (McLuhan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=&gt; média re-prezentují realitu/konstruují její obraz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nastolování agendy (agenda-setting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Východiska: bulvární vs. seriózní tisk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rozdí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464653"/>
                </a:solidFill>
                <a:uFillTx/>
                <a:latin typeface="Gill Sans MT"/>
              </a:rPr>
              <a:t>layout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 titulní strany: typografické a grafické znak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464653"/>
                </a:solidFill>
                <a:uFillTx/>
                <a:latin typeface="Gill Sans MT"/>
              </a:rPr>
              <a:t>syntagmatická struktura 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TS: narativizace, personalizace, celebritizace, konverzacionaliza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464653"/>
                </a:solidFill>
                <a:uFillTx/>
                <a:latin typeface="Gill Sans MT"/>
              </a:rPr>
              <a:t>paradigmatická struktura 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TS: lingvistické znak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Gill Sans MT"/>
              </a:rPr>
              <a:t>textuální analýza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: sémiotická, narativní, diskurzivní, konverzační (etc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tři klíčové okruhy otázek: reprezentace – identita - vztah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Metoda: návrh modelu pro analýzu textu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000" y="1218960"/>
            <a:ext cx="821844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Gill Sans MT"/>
              </a:rPr>
              <a:t>layout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titulní strany (typografické a grafické znaky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hlavní zpráva: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Gill Sans MT"/>
              </a:rPr>
              <a:t>syntagmatická struktura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(sekvenční a prostorové uspořádání textu; narac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5 W‘s: who – what – when – where – wh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rincip obrácené pyramid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hlavní zpráva: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Gill Sans MT"/>
              </a:rPr>
              <a:t>paradigmatická struktura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(lingvistické znaky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žurnalistický sty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fakta – fikce/názor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eprezentovaná stanoviska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olární opozi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Příklady: </a:t>
            </a:r>
            <a:r>
              <a:rPr b="0" i="1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Horor v Norsku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http://</a:t>
            </a:r>
            <a:r>
              <a:rPr b="0" lang="cs-CZ" sz="2600" spc="-1" strike="noStrike" u="sng">
                <a:solidFill>
                  <a:srgbClr val="b292ca"/>
                </a:solidFill>
                <a:uFillTx/>
                <a:latin typeface="Gill Sans MT"/>
                <a:hlinkClick r:id="rId2"/>
              </a:rPr>
              <a:t>www.newseum.org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7920" y="1768320"/>
            <a:ext cx="3200400" cy="4846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"/>
          <p:cNvPicPr/>
          <p:nvPr/>
        </p:nvPicPr>
        <p:blipFill>
          <a:blip r:embed="rId4"/>
          <a:stretch/>
        </p:blipFill>
        <p:spPr>
          <a:xfrm>
            <a:off x="2771640" y="2025720"/>
            <a:ext cx="3200400" cy="4525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5"/>
          <a:stretch/>
        </p:blipFill>
        <p:spPr>
          <a:xfrm>
            <a:off x="5796000" y="1785960"/>
            <a:ext cx="327492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Příklady: </a:t>
            </a:r>
            <a:r>
              <a:rPr b="0" i="1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Horor v Norsku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5827680" y="1241280"/>
            <a:ext cx="3333960" cy="4915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2"/>
          <a:stretch/>
        </p:blipFill>
        <p:spPr>
          <a:xfrm>
            <a:off x="3276720" y="1314360"/>
            <a:ext cx="3200400" cy="4837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"/>
          <p:cNvPicPr/>
          <p:nvPr/>
        </p:nvPicPr>
        <p:blipFill>
          <a:blip r:embed="rId3"/>
          <a:stretch/>
        </p:blipFill>
        <p:spPr>
          <a:xfrm>
            <a:off x="0" y="1279440"/>
            <a:ext cx="35211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Příklady: smrt Stevea Job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http://www.newseum.or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3475080" cy="49737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2771640" y="1631880"/>
            <a:ext cx="3475080" cy="5257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5580000" y="1600200"/>
            <a:ext cx="347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Příklady: pád letadla v Jaroslavl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tretch/>
        </p:blipFill>
        <p:spPr>
          <a:xfrm>
            <a:off x="5711760" y="1413000"/>
            <a:ext cx="3394080" cy="4817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"/>
          <p:cNvPicPr/>
          <p:nvPr/>
        </p:nvPicPr>
        <p:blipFill>
          <a:blip r:embed="rId2"/>
          <a:stretch/>
        </p:blipFill>
        <p:spPr>
          <a:xfrm>
            <a:off x="27000" y="1413000"/>
            <a:ext cx="3394080" cy="4817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"/>
          <p:cNvPicPr/>
          <p:nvPr/>
        </p:nvPicPr>
        <p:blipFill>
          <a:blip r:embed="rId3"/>
          <a:stretch/>
        </p:blipFill>
        <p:spPr>
          <a:xfrm>
            <a:off x="2843280" y="1206360"/>
            <a:ext cx="315576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09:10:45Z</dcterms:created>
  <dc:creator>katka</dc:creator>
  <dc:description/>
  <dc:language>en-US</dc:language>
  <cp:lastModifiedBy>katka</cp:lastModifiedBy>
  <dcterms:modified xsi:type="dcterms:W3CDTF">2011-10-13T20:18:15Z</dcterms:modified>
  <cp:revision>22</cp:revision>
  <dc:subject/>
  <dc:title>Seriózní a bulvární noviny: srovnání způsobů mediální reprezentace</dc:title>
</cp:coreProperties>
</file>