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1400" y="3236760"/>
            <a:ext cx="780912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2888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440" y="48765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adaaaaaaaaa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D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5830200" y="3162240"/>
            <a:ext cx="54864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391640" y="2105640"/>
            <a:ext cx="363240" cy="9144000"/>
          </a:xfrm>
          <a:custGeom>
            <a:avLst/>
            <a:gdLst>
              <a:gd name="textAreaLeft" fmla="*/ 360 w 363240"/>
              <a:gd name="textAreaRight" fmla="*/ 362880 w 36324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543229">
                <a:moveTo>
                  <a:pt x="94" y="0"/>
                </a:moveTo>
                <a:arcTo wR="94" hR="94" stAng="16200000" swAng="-5400000"/>
                <a:lnTo>
                  <a:pt x="0" y="543135"/>
                </a:lnTo>
                <a:arcTo wR="94" hR="94" stAng="10800000" swAng="-5400000"/>
                <a:lnTo>
                  <a:pt x="21506" y="543229"/>
                </a:lnTo>
                <a:arcTo wR="94" hR="94" stAng="5400000" swAng="-5400000"/>
                <a:lnTo>
                  <a:pt x="21600" y="94"/>
                </a:lnTo>
                <a:arcTo wR="94" hR="9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078080" y="-4075200"/>
            <a:ext cx="990720" cy="9144000"/>
          </a:xfrm>
          <a:custGeom>
            <a:avLst/>
            <a:gdLst>
              <a:gd name="textAreaLeft" fmla="*/ 360 w 990720"/>
              <a:gd name="textAreaRight" fmla="*/ 990360 w 99072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199296">
                <a:moveTo>
                  <a:pt x="34" y="0"/>
                </a:moveTo>
                <a:arcTo wR="34" hR="34" stAng="16200000" swAng="-5400000"/>
                <a:lnTo>
                  <a:pt x="0" y="199262"/>
                </a:lnTo>
                <a:arcTo wR="34" hR="34" stAng="10800000" swAng="-5400000"/>
                <a:lnTo>
                  <a:pt x="21566" y="199296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8172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19320"/>
            <a:ext cx="7597800" cy="1728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0060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7985880" y="-14976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7985880" y="307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7985880" y="764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7985880" y="1221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16200000">
            <a:off x="7985880" y="1678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7985880" y="2135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16200000">
            <a:off x="7985880" y="2593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16200000">
            <a:off x="7985880" y="3050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rot="16200000">
            <a:off x="7985880" y="3507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rot="16200000">
            <a:off x="7985880" y="3964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rot="16200000">
            <a:off x="7985880" y="4421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rot="16200000">
            <a:off x="7985880" y="4879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16200000">
            <a:off x="7985880" y="5336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5400000">
            <a:off x="6973200" y="4305240"/>
            <a:ext cx="32004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10181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4390200" y="2105640"/>
            <a:ext cx="363240" cy="9144000"/>
          </a:xfrm>
          <a:custGeom>
            <a:avLst/>
            <a:gdLst>
              <a:gd name="textAreaLeft" fmla="*/ 360 w 363240"/>
              <a:gd name="textAreaRight" fmla="*/ 362880 w 36324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543229">
                <a:moveTo>
                  <a:pt x="94" y="0"/>
                </a:moveTo>
                <a:arcTo wR="94" hR="94" stAng="16200000" swAng="-5400000"/>
                <a:lnTo>
                  <a:pt x="0" y="543135"/>
                </a:lnTo>
                <a:arcTo wR="94" hR="94" stAng="10800000" swAng="-5400000"/>
                <a:lnTo>
                  <a:pt x="21506" y="543229"/>
                </a:lnTo>
                <a:arcTo wR="94" hR="94" stAng="5400000" swAng="-5400000"/>
                <a:lnTo>
                  <a:pt x="21600" y="94"/>
                </a:lnTo>
                <a:arcTo wR="94" hR="9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008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2935080" y="-2932200"/>
            <a:ext cx="3276720" cy="9144000"/>
          </a:xfrm>
          <a:custGeom>
            <a:avLst/>
            <a:gdLst>
              <a:gd name="textAreaLeft" fmla="*/ 360 w 3276720"/>
              <a:gd name="textAreaRight" fmla="*/ 3276360 w 327672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60273">
                <a:moveTo>
                  <a:pt x="10" y="0"/>
                </a:moveTo>
                <a:arcTo wR="10" hR="10" stAng="16200000" swAng="-5400000"/>
                <a:lnTo>
                  <a:pt x="0" y="60263"/>
                </a:lnTo>
                <a:arcTo wR="10" hR="10" stAng="10800000" swAng="-5400000"/>
                <a:lnTo>
                  <a:pt x="21590" y="60273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505320"/>
            <a:ext cx="7597800" cy="1728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9840"/>
            <a:ext cx="7597800" cy="1728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7985880" y="5336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7985880" y="4802760"/>
            <a:ext cx="17640" cy="2292120"/>
          </a:xfrm>
          <a:custGeom>
            <a:avLst/>
            <a:gdLst>
              <a:gd name="textAreaLeft" fmla="*/ 360 w 17640"/>
              <a:gd name="textAreaRight" fmla="*/ 17280 w 1764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750976">
                <a:moveTo>
                  <a:pt x="2160" y="0"/>
                </a:moveTo>
                <a:arcTo wR="2160" hR="2160" stAng="16200000" swAng="-5400000"/>
                <a:lnTo>
                  <a:pt x="0" y="2748816"/>
                </a:lnTo>
                <a:arcTo wR="2160" hR="2160" stAng="10800000" swAng="-5400000"/>
                <a:lnTo>
                  <a:pt x="19440" y="2750976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985880" y="426960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7985880" y="3736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985880" y="3202560"/>
            <a:ext cx="17640" cy="2292120"/>
          </a:xfrm>
          <a:custGeom>
            <a:avLst/>
            <a:gdLst>
              <a:gd name="textAreaLeft" fmla="*/ 360 w 17640"/>
              <a:gd name="textAreaRight" fmla="*/ 17280 w 1764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750976">
                <a:moveTo>
                  <a:pt x="2160" y="0"/>
                </a:moveTo>
                <a:arcTo wR="2160" hR="2160" stAng="16200000" swAng="-5400000"/>
                <a:lnTo>
                  <a:pt x="0" y="2748816"/>
                </a:lnTo>
                <a:arcTo wR="2160" hR="2160" stAng="10800000" swAng="-5400000"/>
                <a:lnTo>
                  <a:pt x="19440" y="2750976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7985880" y="266940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7985880" y="2135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1240" indent="-284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b9a"/>
                </a:solidFill>
                <a:latin typeface="Arial"/>
              </a:rPr>
              <a:t>Výpočetní technika</a:t>
            </a:r>
            <a:endParaRPr b="1" lang="en-US" sz="44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Břetislav Regner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Centrum výpočetní techniky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Lékařská fakulta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Masarykova univerzita v Brně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579920" y="518004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Síťová karta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Připojení počítače k síti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10/100/1000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Bezdrátové připojení - WiFi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Zvuková karta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Integrovaná/samostatná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Výstup – sluchátka, vstup – mikrofon, AUX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Stereo/prostorový zvu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Optická mechanika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CD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CD-R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DVD/CD-R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DVD+R/RW, -R/R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Zdroj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Chlazení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Pasivní/aktivní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Elektrická síť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Monitor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VG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DVI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Úterý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Počítačové komponen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Periferní zařízení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Operační systémy, základní operac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Viry, ochran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Vybrané úloh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Pošta, Internet, online komunikace, vypalování, multimédi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Notebooky - specifik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Středa – Office a pokročilé funkce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Word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Exc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PowerPoin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Outlook – adresář, kalendář, úkoly, spa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OpenOffic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Počítač – komponenty 1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Case (skříň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Počítač – Procesor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41832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996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Intel (286 – 12MHz, 386 – 40MHz, 486 – 66MHz,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Pentium – 75-200MHz, Pentium II – 266-400MHz,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Pentium III – 400MHz-1GHz, Pentium 4 1.5GHz-3.2GHz, Celeron 266MHz-2,8GHz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996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AMD(K3, Duron, Athlon, AthlonXP, Athlon64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Počítač – paměť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RAM – operační paměť, uložení dat při práci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1MB – 256MB (2004 standard) – 512MB – 1GB ..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Disketová (floppy) mechanika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1.2 MB – 5.25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1.44 MB – 3.5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Nespolehlivé, pomalé, malá kapacit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Pevný disk (HDD)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Trvalé ukládání dat, odkládací mezipaměť RA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10MB – 80GB (2004 standard) – 300GB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Šuplí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b9a"/>
                </a:solidFill>
                <a:latin typeface="Arial"/>
              </a:rPr>
              <a:t>Grafická karta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Integrovaná/samostatná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ATI Radeon, nVidia GeForce, Matrox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</a:rPr>
              <a:t>SIS, Intel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řetislav Regner</dc:creator>
  <dc:description/>
  <dc:language>en-US</dc:language>
  <cp:lastModifiedBy>Břetislav Regner</cp:lastModifiedBy>
  <cp:revision>0</cp:revision>
  <dc:subject/>
  <dc:title/>
</cp:coreProperties>
</file>