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30AE2-81B6-4EAC-9B77-ED117201FDD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4F15D-AC5F-495C-BEF6-8684F020E39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Zástupný symbol pro datum 4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Zástupný symbol pro záhlaví 5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9B404-6816-4D71-81DE-13B766A832A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304E2-51A3-494C-9059-972B02AB90A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A554C-F5AA-40AC-A2AF-846D074295F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104FC-D079-4C3B-B3FD-3FE29F00950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7F18-FEFE-4057-A1B6-1AE4E355D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AF3E-5B7B-4960-A949-6A0A0D1E0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4D9D-DF5D-42BF-8CE7-12446907B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7C6F-E3C4-4883-93E9-6E2E99340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7447-C52C-43F3-AC77-A712DD6CA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5E12-2F10-4C40-B371-A0FE6BBD7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6BA0-6ED4-4296-80BB-E36F89252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0474-8370-4048-9F4B-8BF4C3DAE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4702-0F66-4441-AA77-41F00BEA0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1307-C056-4559-96AD-A3A18C6DC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EF0A-129E-4B9B-8323-4439AB295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B945-813A-42AC-B74A-E32AFCDA8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0D02C-E0F4-4F7F-A69C-C1B9BE4388BF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92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Work abilit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195640" y="2852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62673"/>
                </a:solidFill>
                <a:latin typeface="Arial"/>
              </a:rPr>
              <a:t>Koncept práceschopnosti (W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62673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62673"/>
                </a:solidFill>
                <a:latin typeface="Arial"/>
              </a:rPr>
              <a:t>Work Ability Ind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262673"/>
                </a:solidFill>
                <a:latin typeface="Arial"/>
              </a:rPr>
              <a:t>Proměny konceptu W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8360" y="141264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jetí WA se rozvíjí s postupem do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jde již jen o zdraví či nemoc - odklon od medicínského poje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endence k multidimenzionálnímu pohl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WA  je spojena s mnoha faktory pracovního života, které jsou spojeny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jak s jedincem, tak i s pracovním místem, prací samotnou, se sociálním prostředím či společnos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2" descr="MC900019283[1]"/>
          <p:cNvPicPr/>
          <p:nvPr/>
        </p:nvPicPr>
        <p:blipFill>
          <a:blip r:embed="rId1"/>
          <a:stretch/>
        </p:blipFill>
        <p:spPr>
          <a:xfrm>
            <a:off x="468360" y="1700280"/>
            <a:ext cx="4248000" cy="181296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53735"/>
                </a:solidFill>
                <a:latin typeface="Arial"/>
              </a:rPr>
              <a:t>Multidimenzionální WA model – Dům pracovní schop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3995640" y="5300640"/>
            <a:ext cx="3889440" cy="91440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Zdraví a funkční kapac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3995640" y="4365720"/>
            <a:ext cx="3889440" cy="9349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chop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3995640" y="3429000"/>
            <a:ext cx="3889440" cy="10080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Hodno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osto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otiv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3995640" y="2492280"/>
            <a:ext cx="3889440" cy="936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rá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racovní komun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ed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5"/>
          <p:cNvSpPr/>
          <p:nvPr/>
        </p:nvSpPr>
        <p:spPr>
          <a:xfrm>
            <a:off x="3419640" y="3860640"/>
            <a:ext cx="576000" cy="505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6"/>
          <p:cNvSpPr/>
          <p:nvPr/>
        </p:nvSpPr>
        <p:spPr>
          <a:xfrm>
            <a:off x="2050920" y="4869000"/>
            <a:ext cx="1584360" cy="136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Rod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7"/>
          <p:cNvSpPr/>
          <p:nvPr/>
        </p:nvSpPr>
        <p:spPr>
          <a:xfrm>
            <a:off x="468360" y="3716280"/>
            <a:ext cx="1942920" cy="12747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ociální kon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0"/>
          <p:cNvSpPr/>
          <p:nvPr/>
        </p:nvSpPr>
        <p:spPr>
          <a:xfrm>
            <a:off x="179280" y="981000"/>
            <a:ext cx="8785440" cy="432000"/>
          </a:xfrm>
          <a:prstGeom prst="rect">
            <a:avLst/>
          </a:prstGeom>
          <a:solidFill>
            <a:srgbClr val="bbe0e3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olečnost: kultura, legislativa, vzdělávací politika,                sociální a zdr. politi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9"/>
          <p:cNvSpPr/>
          <p:nvPr/>
        </p:nvSpPr>
        <p:spPr>
          <a:xfrm>
            <a:off x="3995640" y="907920"/>
            <a:ext cx="3889440" cy="1584360"/>
          </a:xfrm>
          <a:prstGeom prst="triangle">
            <a:avLst>
              <a:gd name="adj" fmla="val 50000"/>
            </a:avLst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Pracovní schop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4"/>
          <p:cNvSpPr/>
          <p:nvPr/>
        </p:nvSpPr>
        <p:spPr>
          <a:xfrm>
            <a:off x="1042920" y="141300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nější prostřed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100" spc="-1" strike="noStrike">
                <a:solidFill>
                  <a:srgbClr val="262673"/>
                </a:solidFill>
                <a:latin typeface="Arial"/>
              </a:rPr>
              <a:t>WAI – Work Ability Index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68360" y="1125360"/>
            <a:ext cx="8229600" cy="49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Sebeposuzovací dotazník (škály). Dlouhá a krátká verz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0. Charakter práce: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zda je práce duševní či tělesná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1. Posouzení práceschopnosti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s ohledem k nejlepší práceschopnosti (0-1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90033"/>
                </a:solidFill>
                <a:latin typeface="Arial"/>
              </a:rPr>
              <a:t>2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Práceschopnost s ohledem k požadavkům práce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tělesné a psychické požadavky) (násobí se 1,5 při tělesné práci, 0,5 při duševní, sečíst otázk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Výčet aktuálních diagnóz 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– vlastních a lékařských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úrazy, pohybový systém, kardiovaskulární systém, respirační choroby, psychické problémy, neurologické a smyslové choroby, gastrointestinální systém, močové cesty, kožní onemocnění, tumory a rakovinové onemocnění, nemoci hormonální a látkové výměny, cévní onemocnění, vrozené vady a další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376092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376092"/>
                </a:solidFill>
                <a:latin typeface="Arial"/>
              </a:rPr>
              <a:t>dlouhý (51) či krátký (14) výčet nemocí (více jak 5 nemocí = 1 bod, žádná nemoc = 7 bodů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500" spc="-1" strike="noStrike">
                <a:solidFill>
                  <a:srgbClr val="953735"/>
                </a:solidFill>
                <a:latin typeface="Arial"/>
              </a:rPr>
              <a:t>WAI – Work Ability Index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Odhad zhoršení pracovního  výkonu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– omezení výkonu (1-6 bodů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Nemocnost v posledním roce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(1-5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Odhad pracovní schopnosti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ve dvou následujících letech (1,4 nebo 7 bodů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Psychické rezervy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(radost, aktivita, víra v budoucnost) (sečíst 0-3 = 1 bod…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Nejvyšší dosažený počet bodů je 49 </a:t>
            </a:r>
            <a:r>
              <a:rPr b="0" lang="cs-CZ" sz="2500" spc="-1" strike="noStrike">
                <a:solidFill>
                  <a:srgbClr val="262673"/>
                </a:solidFill>
                <a:latin typeface="Arial"/>
              </a:rPr>
              <a:t>(maximální práceschopnost),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 nejnižší je 7 bodů  </a:t>
            </a:r>
            <a:r>
              <a:rPr b="0" lang="cs-CZ" sz="2500" spc="-1" strike="noStrike">
                <a:solidFill>
                  <a:srgbClr val="262673"/>
                </a:solidFill>
                <a:latin typeface="Arial"/>
              </a:rPr>
              <a:t>(minimální práceschopnost).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Všechny položky musí být zodpovězeny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262673"/>
                </a:solidFill>
                <a:latin typeface="Arial"/>
              </a:rPr>
              <a:t>Dimenze pracovní schopnosti - výzkum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68360" y="1052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ýsledky dotazování ve Finsku  (Finnish Health 2000 Survey) zaměřené na skupinu  pracovníků 30 – 64 let (přes 5.000 respondentů). Sledovali 3 indikátory WA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Odhad WA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zcela fit, částečně omezen, zcela neschopen práce)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WA score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: na škále 0-10 posoudit míru práceschopnosti (ve vztahu k jejich nejvyšší dosažené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WA Index – Index práceschopnos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Určité skupiny lidí měly zhoršenou práceschopnost (starší lidé, starší ženy, nezaměstnaní, s nízkou úrovní vzdělání…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e srovnání s dřívějšími výzkumy ve Finsku se práceschopnost zvýšila. Dobrá práceschopnost byla zjištěna u pracovníků vykonávajících fyzicky lehkou práci, s vyšším vzděláním, s dobrým zdraví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Byly identifikovány faktory podporující práceschopnost: supervize, podpora kolegů, nízké požadavky na fyzickou sílu…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990033"/>
                </a:solidFill>
                <a:latin typeface="Arial"/>
              </a:rPr>
              <a:t>Představení WAI v Č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zbudil zájem jak praktiků, tak i výzkumníků (možné využití pro neziskové úče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tázky spojené s konstrukcí dotazníku (jednoduchost, spolehlivost – např. vázanost na aktuální náladu apo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tázky spojené s jeho aplikací – kde by měl být užíván, kým…, důvěrnost dat – etické otázky, ochota pracovníků vyplnit dotazník apod. – cíle využití (pro rozvoj jedi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užití pro výzkumné účely (rozvoj institucí a politická doporučen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5:30:35Z</cp:lastPrinted>
  <dcterms:modified xsi:type="dcterms:W3CDTF">2012-01-04T16:19:44Z</dcterms:modified>
  <cp:revision>5</cp:revision>
  <dc:subject/>
  <dc:title>Snímek 1</dc:title>
</cp:coreProperties>
</file>