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8B74-964D-4DB1-AEBC-8224C639D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898-FD78-4C24-AB6F-D37059B0F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DDF0-2700-478D-81AC-AE96ACB5F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3011-991E-4E16-9509-ED3CE4D74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BDD-5978-4591-8168-F53B02AF6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3084-D80A-42C2-8388-C0B193CFF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D5A-8D5D-48BB-A0ED-6213D594D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1121-ADBE-4D89-BDB5-DB1BDFAE7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9F4-9F16-4A37-B0E5-9C84BC465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C8E-0BC9-4618-B3AB-1129FA8C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CB6D-9F17-4F42-B2FD-F83CEA660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96B-24CD-45D8-9798-9484590EE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CB1E-05C2-4664-8D60-70183E38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657-A364-4581-878F-E4AAF75F3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46F-1FFB-4E26-9664-956967B2E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9D35-AD0F-45DA-BEC0-CD8B81E79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920-D175-4506-BDB6-26BB989E3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7C80-6380-40D0-8F3F-FB44F9181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821-3CE7-4A63-B424-C4EDBDBF1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E860-A108-462A-A24F-08486ECA1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A7D1-A203-43B6-998B-0F1A503A0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11C-6546-49FF-AA9B-431F5C8F6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3FD9-590E-4EA2-AC43-C78EA0A63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596-D2AC-4274-B137-29E458E54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AC2-1ED6-4D18-B11A-6922C3A5B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7378-0857-42D5-9EF5-5ECC81893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13D-DAE4-4FF3-8635-921D7BFFD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AE2-B5F6-4403-9152-C4A6964C8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C2D-EC09-4059-B61E-B0F7AB823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CBF-AC0A-4BDF-880D-7304E39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D13-E44E-43EA-A703-8907B10F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BBB-BAE8-42E4-8EF4-12C5177A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8D5-A3F0-4AF9-BFA2-ECB17A3C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15F2-2C5B-4F17-980D-F86E51D4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4A3-8C48-4732-B51B-027F751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EA1-76E8-4D64-A99F-79C00B4F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946-D149-4190-AC5F-0CA07EC8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2A3-EBF2-4E98-9FFA-9347B6C5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A9FB-4867-4033-9F33-5456895A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E973-DBF9-421E-94B5-C95BCCAD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A85-6944-4A96-8158-BD14783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5DE5-20E0-43C2-9F27-EE6639E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30A7-9501-4267-88E9-3DDADB0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0180-ED5E-4090-A54C-C881869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B7F-9933-4835-B48F-CBA34378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5F89-5552-4B83-9571-EFC218A3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A44A-22EA-4902-84D4-AF55666D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B8D9-D598-434A-916A-BC1BF61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4954-1414-45AF-BB1D-C74ED7C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A09A-FDC8-4351-9935-092B591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5927-E73F-487F-9C22-C2632F2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E84-0A92-4AE4-B47E-CCCC2AD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443C-356D-47D4-AEF6-66C1884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1EF6-C897-4ED5-B795-7A2EB7B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8678-FCDF-4AE5-824D-066DF8A9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0CC2-546B-42AA-B4F4-7A230BD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7324-33A9-49D1-8724-97B5260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A1F2-F0D8-41EF-9123-FD43D40E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3CF2-6177-4DF3-BF95-91821036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AC01-D4B3-47AB-840C-DF99D8D7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FD3E-3A05-457A-A731-587EC91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572E-BA2F-4AC0-8F09-ED3AA4D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581-6A24-4D9A-945E-BCC7346E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0EB9-8EBD-49F3-BEE9-A471794E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1B74-E32A-4D05-8E88-EDBB536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959A-45CA-417A-B809-E2FC6320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F7A8-3491-4B75-A410-0793B18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D8FF-85E7-4A18-ACD3-8DF9B1D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1F92-E07B-4C3B-A80B-24F5B2C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3F8C-0AA7-46BB-BDAB-3B19129E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955E-6062-461D-B84D-3DE66249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E18C-4E31-447E-A6F9-C4D7422F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E7E5-37AC-4E0D-8066-6C76F382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7ED-981B-4602-A092-E2B4555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E9D1-613D-49FF-ADF1-469EC2F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4EE5F-DE91-4DF5-B05D-BB9D69F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5C57-060B-4E92-812D-976ED643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CCB9-1689-4993-A796-841E15F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A063-540F-447B-8E29-A69554FC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9E38-96EB-4067-B826-A50DCB9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C7A9-8585-4F8D-80CF-9793A95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1C9D5-4DA6-4CDA-A482-9249E51F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0D1B-AAE8-4001-B987-CCAC293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AB4C-9BBB-4988-B790-C137DB5C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0A-6ADF-4740-B6E0-CAF7E75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1510-EF1A-4F51-9E22-6668B713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289-EFB2-42E8-B477-A71F1D6D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ED4-1120-4975-92FF-447DEB7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A90-75CB-4459-921C-1066427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E182-1284-48AC-9385-E2E9EE6BD57E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Přímá spojovací čára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86D-9BE9-4143-B18E-306485DA8271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653-4903-4F85-839C-974B483B2541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élník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834-6EFF-41DC-B16A-880085B89C58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12D-7DB8-475D-B89F-85BCFEEAC19E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364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Jana Hrabcová  and Jana Musilov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Obrázek 1" descr="central_europe_1740.gif"/>
          <p:cNvPicPr/>
          <p:nvPr/>
        </p:nvPicPr>
        <p:blipFill>
          <a:blip r:embed="rId1"/>
          <a:stretch/>
        </p:blipFill>
        <p:spPr>
          <a:xfrm>
            <a:off x="395280" y="189000"/>
            <a:ext cx="76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Obrázek 1" descr="50s-cold-war-map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ultural concept of CE – till 1795 (disitengration of Poland)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burg Monarchy, Poland, Lithuania, part of Bavaria (this region had many common interests: politics, literature, architecture, fear of Russian Empire, Osman Empire, Swedes and Prussian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867 – emergence of Austr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 and CE as a cultural unit: Czech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ar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, Austria, Slovakia, part of Poland part of  Ukraine, Hungary, Transylvania, western Romania, Vojvodina, Croatia, Slovenia, South Tyrol and Bava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7242120" cy="90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World War I: German idea of “Mitteleurop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Obrázek 3" descr="mitteleuropa.png"/>
          <p:cNvPicPr/>
          <p:nvPr/>
        </p:nvPicPr>
        <p:blipFill>
          <a:blip r:embed="rId2"/>
          <a:stretch/>
        </p:blipFill>
        <p:spPr>
          <a:xfrm>
            <a:off x="900000" y="1125360"/>
            <a:ext cx="58546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904 in Berlin Central European Economic Associatio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ic integration of Germany and Austria–Hungary with eventual extension to Switzerland, Belgium and the Netherlan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. G. Masaryk – CE space between Germany and Russ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mmanuel de Martonn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(Germany, Switzerland, Austria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ungary and Roman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Obrázek 5" descr="Central_Europe_(Geographie_universelle,_1927).PNG"/>
          <p:cNvPicPr/>
          <p:nvPr/>
        </p:nvPicPr>
        <p:blipFill>
          <a:blip r:embed="rId2"/>
          <a:stretch/>
        </p:blipFill>
        <p:spPr>
          <a:xfrm>
            <a:off x="324000" y="1557360"/>
            <a:ext cx="7213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ittle Ent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Obrázek 3" descr="Little_Entente.png"/>
          <p:cNvPicPr/>
          <p:nvPr/>
        </p:nvPicPr>
        <p:blipFill>
          <a:blip r:embed="rId2"/>
          <a:stretch/>
        </p:blipFill>
        <p:spPr>
          <a:xfrm>
            <a:off x="1908000" y="1268280"/>
            <a:ext cx="467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980640"/>
            <a:ext cx="7238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 a part of the Eastern Bloc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st Germany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. Schen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50)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Obrázek 3" descr="shenk.PNG"/>
          <p:cNvPicPr/>
          <p:nvPr/>
        </p:nvPicPr>
        <p:blipFill>
          <a:blip r:embed="rId2"/>
          <a:stretch/>
        </p:blipFill>
        <p:spPr>
          <a:xfrm>
            <a:off x="3492360" y="1989000"/>
            <a:ext cx="398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764640"/>
            <a:ext cx="7238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. F. A. Mutton (196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Obrázek 3" descr="Central_Europe_(by_A.Mutton).PNG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691920"/>
            <a:ext cx="723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Meyers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ncycloped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Obrázek 3" descr="Central_Europe_(Mayers_Enzyklopaedisches_Lexikon).PNG"/>
          <p:cNvPicPr/>
          <p:nvPr/>
        </p:nvPicPr>
        <p:blipFill>
          <a:blip r:embed="rId2"/>
          <a:stretch/>
        </p:blipFill>
        <p:spPr>
          <a:xfrm>
            <a:off x="1116000" y="1413000"/>
            <a:ext cx="570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ganization of the cour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the concept of Central Europ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to the History of Central Europe in the Middle Ages and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ly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dern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ntral European Initiativ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cs-CZ" sz="1100" spc="-1" strike="noStrike">
                <a:solidFill>
                  <a:srgbClr val="000000"/>
                </a:solidFill>
                <a:latin typeface="Trebuchet MS"/>
              </a:rPr>
              <a:t>forum of regional cooperation  Albania, Austria, Belarus, Bosnia and Herzegovina, Bulgaria, Croatia, the Czech Republic, Hungary, Italy, Macedonia, Moldova, Montenegro, Poland, Romania, Serbia, Slovakia, Slovenia and Ukraine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;  founders  were Italy, Austria, Hungary and the Socialist Federal Republic of Yugoslavia (SFRY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Obrázek 3" descr="CEI_members.png"/>
          <p:cNvPicPr/>
          <p:nvPr/>
        </p:nvPicPr>
        <p:blipFill>
          <a:blip r:embed="rId2"/>
          <a:stretch/>
        </p:blipFill>
        <p:spPr>
          <a:xfrm>
            <a:off x="2484360" y="1773360"/>
            <a:ext cx="4470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ád Group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www.visegradgroup.eu/abo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Obrázek 3" descr="380px-Visegrad_group_countries.svg.png"/>
          <p:cNvPicPr/>
          <p:nvPr/>
        </p:nvPicPr>
        <p:blipFill>
          <a:blip r:embed="rId2"/>
          <a:stretch/>
        </p:blipFill>
        <p:spPr>
          <a:xfrm>
            <a:off x="1619280" y="2133720"/>
            <a:ext cx="446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F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mer parties are Bulgaria, Czech Republic, Hungary, Poland, Romania, Slovakia and Slovenia. Their CEFTA membership ended when they joined the EU. Croatia is set to join the EU in 201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1 May 2007, the parties of the CEFTA agreement are: Albania, Bosnia and Herzegovina, Croatia, Macedonia, Moldova, Montenegro, Serbia and UNMIK on behalf of Kosovo.[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dpis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0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onal Program 'Central Europe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 under the European territorial co-funded by European Regional Development Fund (ERDF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ch Republic, Germany, Italy, Hungary, Austria, Poland, Slovenia,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 –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ad group, in a broad sense -  Austria, Slovinia, Lithuania and sometimes Estonia + Latvia, +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ugh Seton-Watson, Ivan Bérend a György Ránki – CE: Czechoslovakia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and Balkan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– Eastern Eur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Oskar Halecki – 2 macro regions (west and east), region of 2 CEs – important transition zone between West and East x Friedrich Naumann´s Mitteleuropa – alliance between German Empire and Austria –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Nadpis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7242120" cy="1384200"/>
          </a:xfrm>
          <a:prstGeom prst="rect">
            <a:avLst/>
          </a:prstGeom>
          <a:ln w="0">
            <a:noFill/>
          </a:ln>
        </p:spPr>
      </p:pic>
      <p:pic>
        <p:nvPicPr>
          <p:cNvPr id="284" name="Zástupný symbol pro obsah 3" descr="Central_Europe_(Lonnie_R._Johnson).PNG"/>
          <p:cNvPicPr/>
          <p:nvPr/>
        </p:nvPicPr>
        <p:blipFill>
          <a:blip r:embed="rId2"/>
          <a:stretch/>
        </p:blipFill>
        <p:spPr>
          <a:xfrm>
            <a:off x="1187280" y="1484280"/>
            <a:ext cx="5472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Nadpis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467480" cy="1596960"/>
          </a:xfrm>
          <a:prstGeom prst="rect">
            <a:avLst/>
          </a:prstGeom>
          <a:ln w="0">
            <a:noFill/>
          </a:ln>
        </p:spPr>
      </p:pic>
      <p:pic>
        <p:nvPicPr>
          <p:cNvPr id="286" name="Zástupný symbol pro obsah 3" descr="800px-Central_Europe_Katzenstein.png"/>
          <p:cNvPicPr/>
          <p:nvPr/>
        </p:nvPicPr>
        <p:blipFill>
          <a:blip r:embed="rId2"/>
          <a:stretch/>
        </p:blipFill>
        <p:spPr>
          <a:xfrm>
            <a:off x="1187280" y="2205000"/>
            <a:ext cx="6012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274760"/>
          </a:xfrm>
          <a:prstGeom prst="rect">
            <a:avLst/>
          </a:prstGeom>
          <a:ln w="0">
            <a:noFill/>
          </a:ln>
        </p:spPr>
      </p:pic>
      <p:pic>
        <p:nvPicPr>
          <p:cNvPr id="288" name="Zástupný symbol pro obsah 3" descr="Visegrad_group_countries.png"/>
          <p:cNvPicPr/>
          <p:nvPr/>
        </p:nvPicPr>
        <p:blipFill>
          <a:blip r:embed="rId2"/>
          <a:stretch/>
        </p:blipFill>
        <p:spPr>
          <a:xfrm>
            <a:off x="1042920" y="981000"/>
            <a:ext cx="590544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Johnson, Lonnie (1996): Where is Central Europe. In.: Central Europe: Enemies, Neighbors, Friends. Oxford University Press, pp. 3 – 1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Tiersky, Ronald (2004). Europe today. Rowman &amp; Littlefie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na Hrabc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04456@mail.muni.cz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 Jana Musil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87562@mail.muni.c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ttendance – min. 7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dterm test (09/04/12)  and final test (14/05/12) 50 – 46 A; 45 – 41 B; 40 – 36 C; 35 – 31 – D; 30 – 25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-171360"/>
            <a:ext cx="7242120" cy="90972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5" descr="reading_aj.jpg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at is the definition of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ere is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Zástupný symbol pro obsah 3" descr="mapa_evropa.jpg"/>
          <p:cNvPicPr/>
          <p:nvPr/>
        </p:nvPicPr>
        <p:blipFill>
          <a:blip r:embed="rId1"/>
          <a:stretch/>
        </p:blipFill>
        <p:spPr>
          <a:xfrm>
            <a:off x="971640" y="333360"/>
            <a:ext cx="626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emarcation of the region – C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eographica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istorical and political development, CE as a cultural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litical and economical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Yearbook of Central European Culture characterizes Central Europe "as an abandoned West or a place where East and West col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rmany's Constant Committee for Geographical Names defines Central Europe both as a distinct cultural area and a political region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Schöpflin and others argue that Central Europe is defined by being "a part of Western Christianity", while Samuel P. Huntington places the region firmly within Western culture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728964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ermany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, Czech Republic, Slovakia, Austria, Switzerland, Liechtenstein (last 3 – Alpine countri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arlier publication – CE includes also Belgium, the Netherlands, Luxemburg and Romania (193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lovenia, Croatia (new concep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limate, water – shed, mountai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 – direct influence of „Germany“ (Holy Roman Empire,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burg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arch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vision of CE – capitalistic bloc x Soviet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59:45Z</dcterms:created>
  <dc:creator>Musilova</dc:creator>
  <dc:description/>
  <dc:language>en-US</dc:language>
  <cp:lastModifiedBy>jana.musilova</cp:lastModifiedBy>
  <dcterms:modified xsi:type="dcterms:W3CDTF">2013-02-25T18:43:22Z</dcterms:modified>
  <cp:revision>105</cp:revision>
  <dc:subject/>
  <dc:title>History of Central Europe</dc:title>
</cp:coreProperties>
</file>