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4.png" ContentType="image/png"/>
  <Override PartName="/ppt/media/image11.jpeg" ContentType="image/jpeg"/>
  <Override PartName="/ppt/media/image12.png" ContentType="image/png"/>
  <Override PartName="/ppt/media/image9.jpeg" ContentType="image/jpeg"/>
  <Override PartName="/ppt/media/image38.png" ContentType="image/png"/>
  <Override PartName="/ppt/media/image8.png" ContentType="image/png"/>
  <Override PartName="/ppt/media/image13.png" ContentType="image/png"/>
  <Override PartName="/ppt/media/image32.png" ContentType="image/png"/>
  <Override PartName="/ppt/media/image37.png" ContentType="image/png"/>
  <Override PartName="/ppt/media/image7.png" ContentType="image/png"/>
  <Override PartName="/ppt/media/image34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40.png" ContentType="image/png"/>
  <Override PartName="/ppt/media/image4.jpeg" ContentType="image/jpe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8FDEA-960A-448B-B0EE-B550D6A3B8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C88B1-5E7B-4003-B723-25C92BBC31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AEF20-FA55-4050-B785-686BF53EEE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861CD-2957-4587-95D7-520B3F2D91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597FC-387D-4CFF-B31B-205335C869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6CE5B-5566-4869-B777-91D4BD994F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D3490-BBA8-4B9F-BC16-3175A40E81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D7CAA-5268-4F2E-AF21-45FB483094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3591C-5294-41F6-B676-372424E577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D26F1-8830-4957-B538-0DEC4C5B5C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221DE-D475-4DF3-A74E-B4334F6CC5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25E1F-1E27-4ABE-BB6A-ACADE769BD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22151-4332-4348-B0C1-4CD98AD202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E6193-82C4-46BF-9EF1-5744949C1F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2872A-36F0-4D08-B90A-48BD23E3C7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4AEE0-9F97-4681-942F-DD4556393C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1EA52-1E5C-4BDE-A4A4-C3BDE5DA49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3CE49-4BA4-43B7-913D-24F366055F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D45BE-B7E9-407C-9F0B-03C1B26DFD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F80A2-3238-4D27-AB44-B730E69C40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F622B-4CB6-4710-A4B8-CD65D6A095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5E5AA-BA82-4A0B-AFA5-5132320542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B73A2-5F8C-4FF0-85D9-6C112DD904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705FB-0C74-4FC0-A625-ED68299BB4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BE04C-F8CD-4461-A5E2-FDE97DD134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D749A-A5CB-488E-B48E-E8448CAEB4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8E20F-9296-4244-80C4-E53A8BA621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2C269-9F21-4F0B-95DB-78BEEDE86B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2A1EF-2DFD-42FA-BFCD-78EC08D206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A9F7-E16F-41D8-8559-1D0DAFB5A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9DF9-F552-4F8F-9C55-2DB700B84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C1A0-75C2-42F5-85F2-1B1EE0B8E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B034-9972-4B73-B12F-BD0022B10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9B399-33CC-46C1-A45E-BCEC01AF7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90653-039F-4615-A649-45A89CC0D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11D90-AE2C-4165-8D9E-12EFD1606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3EA27-3A67-4442-8B83-D5C3057D6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75318-00FB-4715-9FC5-44B80BB69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45E86-D0EC-4CD8-907A-0CD8A6912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591E1-7A0C-43D8-879A-A83DBB8BA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C6C3-FB01-4B54-8BFE-F6236AB61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AD5D7-4925-40EC-83C5-6AB56EA56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89562-6C8C-4CEA-838A-7FA3A6187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6821A-C5AB-457B-AC8E-11368DA31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61C46-0BC7-4977-B132-684EFDE58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BE0E4-1856-4CE0-89D5-2ED62D08E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C5C7E-7099-4ED6-BF17-B8561F86F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6F63F-7898-4B85-9589-5DE173E35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CB6A5-7A1F-4C7D-B038-0D7BFA3BF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3F48F-D1F4-4744-8F91-45C9AA40F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3F6A6-726A-4A9E-BAF0-22DCDCDC9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810A-00F0-4362-A4DC-B8416AAFC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5EDAB-D755-473E-9B8A-7D44200F9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766DE-4964-4C5F-889B-AB5564EA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CC800-EB06-4509-9A84-74D20189C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DF36E-81A8-467D-87E5-EB6015B9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6B281-B975-418A-A0B1-A5B40DD45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7D33E-E223-43B7-8188-2DE7A30A2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E6952-77D2-46AD-8F1E-B4AE94228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FB90B-CC96-4A72-9038-642840D5F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65FBF-3E4B-423F-8D56-88B8DDE32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04424-65A9-4FBE-BF6F-706163C82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0482-4D65-4FEA-B37D-A2EDB25CA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840E3-10AA-4E95-9C27-D2F316027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DDD21-AB91-4243-8DF4-127489B50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0D10E-06DF-498C-8E05-71DD938FD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6C028-7C22-4DB9-998C-73F2CC10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84C4D-87FE-46DD-B558-E1E85FCD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54FD4-22F9-4BA0-9C5D-2FBD8282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1753E-6A5B-437E-B61C-9118AB6FD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D7EED-0B9F-4FB3-9ED5-2652BDDF4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B6806-F0CF-4495-B8DA-8C565BC7E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9A5BF-09BD-46DC-9407-872D48E40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5089-3AF4-413A-B96E-3B9435A25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EE8AC7-D741-40AD-81AF-A8C987686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F55324-FDE0-4A54-95F4-9074A29FE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A55FC1-1C1B-463D-837C-704635807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00DD24-3658-4ABB-B4DB-F3EE2C983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B828A2-E6EE-45FE-AFC5-7F66D8B16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5CEF1-591C-4B91-8ACB-40919D5C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E0DD5-B674-41A6-A75E-2FC3D6192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ABFDC0-4AB3-4680-9DF1-13C1A6C49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8E7B97-7E76-4A6D-9F2D-63F4D6769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6EF1C-E024-4D88-8075-6A0CE9153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9B38-EA0E-4F32-98BC-A6B61CA32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10B1CF-7878-464B-9070-FF740BB3A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BA16-24ED-4C4F-BF5B-D9CD6562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6147-31B9-4792-A156-39BD71BE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7132-8B6D-422C-B5F0-B0280B99F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Obdélník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Obdélník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E9BAA-3866-4FF5-BA08-46C0ED31CEBF}" type="slidenum">
              <a:rPr b="0" lang="cs-CZ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Obdélník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Obdélník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Přímá spojovací čára 8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B6E87-101F-4B44-ACB5-FE23259A45BB}" type="slidenum">
              <a:rPr b="0" lang="cs-CZ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Obdélník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Obdélník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BB3AD-D754-4AFE-A3E9-14A0CA093EEC}" type="slidenum">
              <a:rPr b="0" lang="cs-CZ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Obdélník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Obdélník 8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C2E2B-D3FD-44A3-9596-F34016CAFA66}" type="slidenum">
              <a:rPr b="0" lang="cs-CZ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Obdélník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Obdélník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CF5B5-1C1C-4834-AF08-1F3DE184ADE3}" type="slidenum">
              <a:rPr b="0" lang="cs-CZ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Nadpis 1" descr=""/>
          <p:cNvPicPr/>
          <p:nvPr/>
        </p:nvPicPr>
        <p:blipFill>
          <a:blip r:embed="rId1"/>
          <a:stretch/>
        </p:blipFill>
        <p:spPr>
          <a:xfrm>
            <a:off x="3365640" y="536400"/>
            <a:ext cx="5381640" cy="319428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3203640" y="3715920"/>
            <a:ext cx="5114880" cy="1101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rebuchet MS"/>
              </a:rPr>
              <a:t>Jana Hrabcová  and Jana Musilová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6" name="Obrázek 1" descr="central_europe_1740.gif"/>
          <p:cNvPicPr/>
          <p:nvPr/>
        </p:nvPicPr>
        <p:blipFill>
          <a:blip r:embed="rId1"/>
          <a:stretch/>
        </p:blipFill>
        <p:spPr>
          <a:xfrm>
            <a:off x="395280" y="189000"/>
            <a:ext cx="763272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8" name="Obrázek 1" descr="50s-cold-war-map.jpg"/>
          <p:cNvPicPr/>
          <p:nvPr/>
        </p:nvPicPr>
        <p:blipFill>
          <a:blip r:embed="rId1"/>
          <a:stretch/>
        </p:blipFill>
        <p:spPr>
          <a:xfrm>
            <a:off x="0" y="0"/>
            <a:ext cx="817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Nadpis 1" descr=""/>
          <p:cNvPicPr/>
          <p:nvPr/>
        </p:nvPicPr>
        <p:blipFill>
          <a:blip r:embed="rId1"/>
          <a:stretch/>
        </p:blipFill>
        <p:spPr>
          <a:xfrm>
            <a:off x="457200" y="-42840"/>
            <a:ext cx="7242120" cy="11700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Cultural concept of CE – till 1795 (disitengration of Poland) – 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The </a:t>
            </a: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Ha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b</a:t>
            </a: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sburg Monarchy, Poland, Lithuania, part of Bavaria (this region had many common interests: politics, literature, architecture, fear of Russian Empire, Osman Empire, Swedes and Prussians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1867 – emergence of Austria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 -</a:t>
            </a: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 Hung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a</a:t>
            </a: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ry  and CE as a cultural unit: Czech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 part</a:t>
            </a: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, Austria, Slovakia, part of Poland part of  Ukraine, Hungary, Transylvania, western Romania, Vojvodina, Croatia, Slovenia, South Tyrol and Bavari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Nadpis 1" descr=""/>
          <p:cNvPicPr/>
          <p:nvPr/>
        </p:nvPicPr>
        <p:blipFill>
          <a:blip r:embed="rId1"/>
          <a:stretch/>
        </p:blipFill>
        <p:spPr>
          <a:xfrm>
            <a:off x="457200" y="-30240"/>
            <a:ext cx="7242120" cy="9082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457200" y="549360"/>
            <a:ext cx="7238880" cy="59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Before</a:t>
            </a:r>
            <a:r>
              <a:rPr b="0" lang="cs-CZ" sz="1800" spc="-1" strike="noStrike">
                <a:solidFill>
                  <a:srgbClr val="000000"/>
                </a:solidFill>
                <a:latin typeface="Trebuchet MS"/>
              </a:rPr>
              <a:t> World War I: German idea of “Mitteleuropa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“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3" name="Obrázek 3" descr="mitteleuropa.png"/>
          <p:cNvPicPr/>
          <p:nvPr/>
        </p:nvPicPr>
        <p:blipFill>
          <a:blip r:embed="rId2"/>
          <a:stretch/>
        </p:blipFill>
        <p:spPr>
          <a:xfrm>
            <a:off x="900000" y="1125360"/>
            <a:ext cx="585468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Nadpis 1" descr=""/>
          <p:cNvPicPr/>
          <p:nvPr/>
        </p:nvPicPr>
        <p:blipFill>
          <a:blip r:embed="rId1"/>
          <a:stretch/>
        </p:blipFill>
        <p:spPr>
          <a:xfrm>
            <a:off x="457200" y="-96840"/>
            <a:ext cx="7242120" cy="101124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 txBox="1"/>
          <p:nvPr/>
        </p:nvSpPr>
        <p:spPr>
          <a:xfrm>
            <a:off x="457200" y="836640"/>
            <a:ext cx="723888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1904 in Berlin Central European Economic Association </a:t>
            </a:r>
            <a:r>
              <a:rPr b="0" lang="cs-CZ" sz="20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conomic integration of Germany and Austria–Hungary with eventual extension to Switzerland, Belgium and the Netherlands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. G. Masaryk – CE space between Germany and Russi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Nadpis 1" descr=""/>
          <p:cNvPicPr/>
          <p:nvPr/>
        </p:nvPicPr>
        <p:blipFill>
          <a:blip r:embed="rId1"/>
          <a:stretch/>
        </p:blipFill>
        <p:spPr>
          <a:xfrm>
            <a:off x="457200" y="-23760"/>
            <a:ext cx="7242120" cy="101124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 txBox="1"/>
          <p:nvPr/>
        </p:nvSpPr>
        <p:spPr>
          <a:xfrm>
            <a:off x="457200" y="691920"/>
            <a:ext cx="7238880" cy="57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Emmanuel de Martonne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Trebuchet MS"/>
              </a:rPr>
              <a:t>(Germany, Switzerland, Austria, Poland, Czechoslovakia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cs-CZ" sz="1400" spc="-1" strike="noStrike">
                <a:solidFill>
                  <a:srgbClr val="000000"/>
                </a:solidFill>
                <a:latin typeface="Trebuchet MS"/>
              </a:rPr>
              <a:t>Hungary and Romania)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8" name="Obrázek 5" descr="Central_Europe_(Geographie_universelle,_1927).PNG"/>
          <p:cNvPicPr/>
          <p:nvPr/>
        </p:nvPicPr>
        <p:blipFill>
          <a:blip r:embed="rId2"/>
          <a:stretch/>
        </p:blipFill>
        <p:spPr>
          <a:xfrm>
            <a:off x="324000" y="1557360"/>
            <a:ext cx="7213320" cy="49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Nadpis 1" descr=""/>
          <p:cNvPicPr/>
          <p:nvPr/>
        </p:nvPicPr>
        <p:blipFill>
          <a:blip r:embed="rId1"/>
          <a:stretch/>
        </p:blipFill>
        <p:spPr>
          <a:xfrm>
            <a:off x="457200" y="-96840"/>
            <a:ext cx="7242120" cy="9079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 txBox="1"/>
          <p:nvPr/>
        </p:nvSpPr>
        <p:spPr>
          <a:xfrm>
            <a:off x="457200" y="691920"/>
            <a:ext cx="7238880" cy="57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Little Entent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1" name="Obrázek 3" descr="Little_Entente.png"/>
          <p:cNvPicPr/>
          <p:nvPr/>
        </p:nvPicPr>
        <p:blipFill>
          <a:blip r:embed="rId2"/>
          <a:stretch/>
        </p:blipFill>
        <p:spPr>
          <a:xfrm>
            <a:off x="1908000" y="1268280"/>
            <a:ext cx="46706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Nadpis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7242120" cy="101124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 txBox="1"/>
          <p:nvPr/>
        </p:nvSpPr>
        <p:spPr>
          <a:xfrm>
            <a:off x="457200" y="980640"/>
            <a:ext cx="72388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As a part of the Eastern Bloc –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East Germany, Poland, Czechoslovakia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 and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ungar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E. Schenk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 (1950)</a:t>
            </a: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4" name="Obrázek 3" descr="shenk.PNG"/>
          <p:cNvPicPr/>
          <p:nvPr/>
        </p:nvPicPr>
        <p:blipFill>
          <a:blip r:embed="rId2"/>
          <a:stretch/>
        </p:blipFill>
        <p:spPr>
          <a:xfrm>
            <a:off x="3492360" y="1989000"/>
            <a:ext cx="398484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Nadpis 1" descr=""/>
          <p:cNvPicPr/>
          <p:nvPr/>
        </p:nvPicPr>
        <p:blipFill>
          <a:blip r:embed="rId1"/>
          <a:stretch/>
        </p:blipFill>
        <p:spPr>
          <a:xfrm>
            <a:off x="457200" y="-96840"/>
            <a:ext cx="7242120" cy="101124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 txBox="1"/>
          <p:nvPr/>
        </p:nvSpPr>
        <p:spPr>
          <a:xfrm>
            <a:off x="457200" y="764640"/>
            <a:ext cx="723888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A. F. A. Mutton (1961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7" name="Obrázek 3" descr="Central_Europe_(by_A.Mutton).PNG"/>
          <p:cNvPicPr/>
          <p:nvPr/>
        </p:nvPicPr>
        <p:blipFill>
          <a:blip r:embed="rId2"/>
          <a:stretch/>
        </p:blipFill>
        <p:spPr>
          <a:xfrm>
            <a:off x="1476360" y="1268280"/>
            <a:ext cx="568800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Nadpis 1" descr=""/>
          <p:cNvPicPr/>
          <p:nvPr/>
        </p:nvPicPr>
        <p:blipFill>
          <a:blip r:embed="rId1"/>
          <a:stretch/>
        </p:blipFill>
        <p:spPr>
          <a:xfrm>
            <a:off x="457200" y="0"/>
            <a:ext cx="7242120" cy="106056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 txBox="1"/>
          <p:nvPr/>
        </p:nvSpPr>
        <p:spPr>
          <a:xfrm>
            <a:off x="457200" y="691920"/>
            <a:ext cx="72388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Meyers 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E</a:t>
            </a: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ncyclopedia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 (1980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0" name="Obrázek 3" descr="Central_Europe_(Mayers_Enzyklopaedisches_Lexikon).PNG"/>
          <p:cNvPicPr/>
          <p:nvPr/>
        </p:nvPicPr>
        <p:blipFill>
          <a:blip r:embed="rId2"/>
          <a:stretch/>
        </p:blipFill>
        <p:spPr>
          <a:xfrm>
            <a:off x="1116000" y="1413000"/>
            <a:ext cx="570060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Nadpis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4317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Organization of the cours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Definition of the concept of Central Europe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 and the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ntroduction to the History of Central Europe in the Middle Ages and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 the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rly 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odern 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m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Nadpis 1" descr=""/>
          <p:cNvPicPr/>
          <p:nvPr/>
        </p:nvPicPr>
        <p:blipFill>
          <a:blip r:embed="rId1"/>
          <a:stretch/>
        </p:blipFill>
        <p:spPr>
          <a:xfrm>
            <a:off x="457200" y="-96840"/>
            <a:ext cx="7242120" cy="101124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 txBox="1"/>
          <p:nvPr/>
        </p:nvSpPr>
        <p:spPr>
          <a:xfrm>
            <a:off x="457200" y="691920"/>
            <a:ext cx="7238880" cy="57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Central European Initiative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rebuchet MS"/>
              </a:rPr>
              <a:t>-  </a:t>
            </a:r>
            <a:r>
              <a:rPr b="0" lang="cs-CZ" sz="1100" spc="-1" strike="noStrike">
                <a:solidFill>
                  <a:srgbClr val="000000"/>
                </a:solidFill>
                <a:latin typeface="Trebuchet MS"/>
              </a:rPr>
              <a:t>forum of regional cooperation  Albania, Austria, Belarus, Bosnia and Herzegovina, Bulgaria, Croatia, the Czech Republic, Hungary, Italy, Macedonia, Moldova, Montenegro, Poland, Romania, Serbia, Slovakia, Slovenia and Ukraine</a:t>
            </a:r>
            <a:r>
              <a:rPr b="0" lang="en-US" sz="1100" spc="-1" strike="noStrike">
                <a:solidFill>
                  <a:srgbClr val="000000"/>
                </a:solidFill>
                <a:latin typeface="Trebuchet MS"/>
              </a:rPr>
              <a:t>;  founders  were Italy, Austria, Hungary and the Socialist Federal Republic of Yugoslavia (SFRY).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3" name="Obrázek 3" descr="CEI_members.png"/>
          <p:cNvPicPr/>
          <p:nvPr/>
        </p:nvPicPr>
        <p:blipFill>
          <a:blip r:embed="rId2"/>
          <a:stretch/>
        </p:blipFill>
        <p:spPr>
          <a:xfrm>
            <a:off x="2484360" y="1773360"/>
            <a:ext cx="44704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Nadpis 1" descr=""/>
          <p:cNvPicPr/>
          <p:nvPr/>
        </p:nvPicPr>
        <p:blipFill>
          <a:blip r:embed="rId1"/>
          <a:stretch/>
        </p:blipFill>
        <p:spPr>
          <a:xfrm>
            <a:off x="457200" y="195120"/>
            <a:ext cx="7242120" cy="101124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 txBox="1"/>
          <p:nvPr/>
        </p:nvSpPr>
        <p:spPr>
          <a:xfrm>
            <a:off x="457200" y="1052640"/>
            <a:ext cx="723888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Visegrád Group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: </a:t>
            </a:r>
            <a:r>
              <a:rPr b="0" lang="cs-CZ" sz="1800" spc="-1" strike="noStrike">
                <a:solidFill>
                  <a:srgbClr val="000000"/>
                </a:solidFill>
                <a:latin typeface="Trebuchet MS"/>
              </a:rPr>
              <a:t>http://www.visegradgroup.eu/abou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6" name="Obrázek 3" descr="380px-Visegrad_group_countries.svg.png"/>
          <p:cNvPicPr/>
          <p:nvPr/>
        </p:nvPicPr>
        <p:blipFill>
          <a:blip r:embed="rId2"/>
          <a:stretch/>
        </p:blipFill>
        <p:spPr>
          <a:xfrm>
            <a:off x="1619280" y="2133720"/>
            <a:ext cx="446544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Nadpis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43172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CEFT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rmer parties are Bulgaria, Czech Republic, Hungary, Poland, Romania, Slovakia and Slovenia. Their CEFTA membership ended when they joined the EU. Croatia is set to join the EU in 2013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of 1 May 2007, the parties of the CEFTA agreement are: Albania, Bosnia and Herzegovina, Croatia, Macedonia, Moldova, Montenegro, Serbia and UNMIK on behalf of Kosovo.[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Nadpis 1" descr=""/>
          <p:cNvPicPr/>
          <p:nvPr/>
        </p:nvPicPr>
        <p:blipFill>
          <a:blip r:embed="rId1"/>
          <a:stretch/>
        </p:blipFill>
        <p:spPr>
          <a:xfrm>
            <a:off x="457200" y="237960"/>
            <a:ext cx="7242120" cy="150516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Operational Program 'Central Europe'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rogram under the European territorial co-funded by European Regional Development Fund (ERDF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Cz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ech Republic, Germany, Italy, Hungary, Austria, Poland, Slovenia, Slovaki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Nadpis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43172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CE –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Visegrad group, in a broad sense -  Austria, Slovinia, Lithuania and sometimes Estonia + Latvia, + German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Hugh Seton-Watson, Ivan Bérend a György Ránki – CE: Czechoslovakia, Poland, Hung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a</a:t>
            </a: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ry and Balkan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s</a:t>
            </a: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 – Eastern Europ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Oskar Halecki – 2 macro regions (west and east), region of 2 CEs – important transition zone between West and East x Friedrich Naumann´s Mitteleuropa – alliance between German Empire and Austria – Hung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a</a:t>
            </a: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ry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Nadpis 1" descr=""/>
          <p:cNvPicPr/>
          <p:nvPr/>
        </p:nvPicPr>
        <p:blipFill>
          <a:blip r:embed="rId1"/>
          <a:stretch/>
        </p:blipFill>
        <p:spPr>
          <a:xfrm>
            <a:off x="457200" y="66600"/>
            <a:ext cx="7242120" cy="1384200"/>
          </a:xfrm>
          <a:prstGeom prst="rect">
            <a:avLst/>
          </a:prstGeom>
          <a:ln w="0">
            <a:noFill/>
          </a:ln>
        </p:spPr>
      </p:pic>
      <p:pic>
        <p:nvPicPr>
          <p:cNvPr id="284" name="Zástupný symbol pro obsah 3" descr="Central_Europe_(Lonnie_R._Johnson).PNG"/>
          <p:cNvPicPr/>
          <p:nvPr/>
        </p:nvPicPr>
        <p:blipFill>
          <a:blip r:embed="rId2"/>
          <a:stretch/>
        </p:blipFill>
        <p:spPr>
          <a:xfrm>
            <a:off x="1187280" y="1484280"/>
            <a:ext cx="54723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Nadpis 1" descr=""/>
          <p:cNvPicPr/>
          <p:nvPr/>
        </p:nvPicPr>
        <p:blipFill>
          <a:blip r:embed="rId1"/>
          <a:stretch/>
        </p:blipFill>
        <p:spPr>
          <a:xfrm>
            <a:off x="371520" y="324000"/>
            <a:ext cx="7467480" cy="1596960"/>
          </a:xfrm>
          <a:prstGeom prst="rect">
            <a:avLst/>
          </a:prstGeom>
          <a:ln w="0">
            <a:noFill/>
          </a:ln>
        </p:spPr>
      </p:pic>
      <p:pic>
        <p:nvPicPr>
          <p:cNvPr id="286" name="Zástupný symbol pro obsah 3" descr="800px-Central_Europe_Katzenstein.png"/>
          <p:cNvPicPr/>
          <p:nvPr/>
        </p:nvPicPr>
        <p:blipFill>
          <a:blip r:embed="rId2"/>
          <a:stretch/>
        </p:blipFill>
        <p:spPr>
          <a:xfrm>
            <a:off x="1187280" y="2205000"/>
            <a:ext cx="601200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Nadpis 1" descr=""/>
          <p:cNvPicPr/>
          <p:nvPr/>
        </p:nvPicPr>
        <p:blipFill>
          <a:blip r:embed="rId1"/>
          <a:stretch/>
        </p:blipFill>
        <p:spPr>
          <a:xfrm>
            <a:off x="457200" y="0"/>
            <a:ext cx="7242120" cy="1274760"/>
          </a:xfrm>
          <a:prstGeom prst="rect">
            <a:avLst/>
          </a:prstGeom>
          <a:ln w="0">
            <a:noFill/>
          </a:ln>
        </p:spPr>
      </p:pic>
      <p:pic>
        <p:nvPicPr>
          <p:cNvPr id="288" name="Zástupný symbol pro obsah 3" descr="Visegrad_group_countries.png"/>
          <p:cNvPicPr/>
          <p:nvPr/>
        </p:nvPicPr>
        <p:blipFill>
          <a:blip r:embed="rId2"/>
          <a:stretch/>
        </p:blipFill>
        <p:spPr>
          <a:xfrm>
            <a:off x="1042920" y="981000"/>
            <a:ext cx="5905440" cy="52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Nadpis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43172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Trebuchet MS"/>
              </a:rPr>
              <a:t>Johnson, Lonnie (1996): Where is Central Europe. In.: Central Europe: Enemies, Neighbors, Friends. Oxford University Press, pp. 3 – 12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Trebuchet MS"/>
              </a:rPr>
              <a:t>Tiersky, Ronald (2004). Europe today. Rowman &amp; Littlefield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Nadpis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4317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Jana Hrabcová </a:t>
            </a:r>
            <a:r>
              <a:rPr b="0" lang="cs-CZ" sz="2000" spc="-1" strike="noStrike">
                <a:solidFill>
                  <a:srgbClr val="000000"/>
                </a:solidFill>
                <a:latin typeface="Trebuchet MS"/>
              </a:rPr>
              <a:t>104456@mail.muni.cz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 a Jana Musilová </a:t>
            </a:r>
            <a:r>
              <a:rPr b="0" lang="cs-CZ" sz="2000" spc="-1" strike="noStrike">
                <a:solidFill>
                  <a:srgbClr val="000000"/>
                </a:solidFill>
                <a:latin typeface="Trebuchet MS"/>
              </a:rPr>
              <a:t>87562@mail.muni.cz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attendance – min. 70%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midterm test (09/04/12)  and final test (14/05/12) 50 – 46 A; 45 – 41 B; 40 – 36 C; 35 – 31 – D; 30 – 25 - 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readin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Nadpis 1" descr=""/>
          <p:cNvPicPr/>
          <p:nvPr/>
        </p:nvPicPr>
        <p:blipFill>
          <a:blip r:embed="rId1"/>
          <a:stretch/>
        </p:blipFill>
        <p:spPr>
          <a:xfrm>
            <a:off x="457200" y="-171360"/>
            <a:ext cx="7242120" cy="909720"/>
          </a:xfrm>
          <a:prstGeom prst="rect">
            <a:avLst/>
          </a:prstGeom>
          <a:ln w="0">
            <a:noFill/>
          </a:ln>
        </p:spPr>
      </p:pic>
      <p:pic>
        <p:nvPicPr>
          <p:cNvPr id="234" name="Zástupný symbol pro obsah 5" descr="reading_aj.jpg"/>
          <p:cNvPicPr/>
          <p:nvPr/>
        </p:nvPicPr>
        <p:blipFill>
          <a:blip r:embed="rId2"/>
          <a:stretch/>
        </p:blipFill>
        <p:spPr>
          <a:xfrm>
            <a:off x="250920" y="549360"/>
            <a:ext cx="763416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Nadpis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4317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What is the definition of CENTRAL EUROPE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O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Where is CENTRAL EUROPE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8" name="Zástupný symbol pro obsah 3" descr="mapa_evropa.jpg"/>
          <p:cNvPicPr/>
          <p:nvPr/>
        </p:nvPicPr>
        <p:blipFill>
          <a:blip r:embed="rId1"/>
          <a:stretch/>
        </p:blipFill>
        <p:spPr>
          <a:xfrm>
            <a:off x="971640" y="333360"/>
            <a:ext cx="626436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Nadpis 1" descr=""/>
          <p:cNvPicPr/>
          <p:nvPr/>
        </p:nvPicPr>
        <p:blipFill>
          <a:blip r:embed="rId1"/>
          <a:stretch/>
        </p:blipFill>
        <p:spPr>
          <a:xfrm>
            <a:off x="457200" y="0"/>
            <a:ext cx="7242120" cy="106056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457200" y="836640"/>
            <a:ext cx="723888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Demarcation of the region – CE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Geographical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Historical and political development, CE as a cultural uni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Religi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Political and economical developmen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lnSpc>
                <a:spcPct val="90000"/>
              </a:lnSpc>
              <a:spcBef>
                <a:spcPts val="499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 Yearbook of Central European Culture characterizes Central Europe "as an abandoned West or a place where East and West collid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lnSpc>
                <a:spcPct val="90000"/>
              </a:lnSpc>
              <a:spcBef>
                <a:spcPts val="499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Germany's Constant Committee for Geographical Names defines Central Europe both as a distinct cultural area and a political region</a:t>
            </a:r>
            <a:r>
              <a:rPr b="0" lang="cs-CZ" sz="2000" spc="-1" strike="noStrike">
                <a:solidFill>
                  <a:srgbClr val="000000"/>
                </a:solidFill>
                <a:latin typeface="Trebuchet MS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George Schöpflin and others argue that Central Europe is defined by being "a part of Western Christianity", while Samuel P. Huntington places the region firmly within Western culture</a:t>
            </a:r>
            <a:r>
              <a:rPr b="0" lang="cs-CZ" sz="20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Nadpis 1" descr=""/>
          <p:cNvPicPr/>
          <p:nvPr/>
        </p:nvPicPr>
        <p:blipFill>
          <a:blip r:embed="rId1"/>
          <a:stretch/>
        </p:blipFill>
        <p:spPr>
          <a:xfrm>
            <a:off x="433440" y="298440"/>
            <a:ext cx="7289640" cy="14209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Germany, Poland, Hung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a</a:t>
            </a: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ry, Czech Republic, Slovakia, Austria, Switzerland, Liechtenstein (last 3 – Alpine countries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Earlier publication – CE includes also Belgium, the Netherlands, Luxemburg and Romania (1935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Slovenia, Croatia (new concept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climate, water – shed, mountains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Nadpis 1" descr=""/>
          <p:cNvPicPr/>
          <p:nvPr/>
        </p:nvPicPr>
        <p:blipFill>
          <a:blip r:embed="rId1"/>
          <a:stretch/>
        </p:blipFill>
        <p:spPr>
          <a:xfrm>
            <a:off x="457200" y="30240"/>
            <a:ext cx="7242120" cy="142704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E – direct influence of „Germany“ (Holy Roman Empire, 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The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a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burg 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onarchy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Division of CE – capitalistic bloc x Soviet 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loc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6T12:59:45Z</dcterms:created>
  <dc:creator>Musilova</dc:creator>
  <dc:description/>
  <dc:language>en-US</dc:language>
  <cp:lastModifiedBy>jana.musilova</cp:lastModifiedBy>
  <dcterms:modified xsi:type="dcterms:W3CDTF">2013-02-25T18:43:22Z</dcterms:modified>
  <cp:revision>105</cp:revision>
  <dc:subject/>
  <dc:title>History of Central Europe</dc:title>
</cp:coreProperties>
</file>