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2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3E7-AA6C-47CA-BCDA-7CDB39DA9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A50C-004D-464A-A963-2540FDEF2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9C7-3B31-43D7-9A46-B1666B6A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C574-2E05-420F-B5D4-3C1AF144D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977E-4E50-4B24-807E-4A839C1F0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D41C-DAAC-46EF-B7A8-602C06920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098-6335-4010-9CDE-9337731D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0C50-8496-4EC2-A484-FE306BE47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415-C9BB-4E72-B120-D1C741D6F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23A-B7A2-499C-B8AD-B7E251683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7B6F-9BE8-4CD4-A591-BF8548BC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D8F2-29A1-415B-B4F8-4B3B2D58F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F584-476F-4EDF-82F5-ADE1C910A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EB6C-41EE-4F74-A37C-383533EA2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636-A84D-4ACA-BA61-7E73A1BE6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8749-D1D6-4FB5-A4D9-043AB1453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257-9AF2-4206-B32F-52CDE2F04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7910-C8C3-4C42-927D-0350255A7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9471-E639-4F22-B002-433C1FBBD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A4C5-997D-4151-995F-22C2BBE61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81D-B96F-4455-B3C1-ADE16D009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23AE-7A35-49C2-B56C-A0AE797A7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AA9-A62D-4682-8307-48B775E26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149D-A371-4DCD-A1B5-315F9FCFD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2D0-AF2E-4A31-9B6A-FC309AF60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012-C974-4E14-AAB4-2798AEC99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116-EF87-4ABA-BB87-297173C6E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56B-74C6-4915-96FA-FAFA5FA50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08D5-5C90-4200-8996-94EB3482A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F39-F558-421C-93FA-0FD34247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4F0-B2B6-4352-882A-B78251EF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D3C-8B54-4652-81A1-420583AD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548-1403-4CEE-9B7F-76DA93E4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935A-951F-4788-AFAD-AF032591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B9ED-0008-4C18-8774-BFBE9C3A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30E8-5EBA-4055-8C37-99D439E6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5F55-CF19-4B21-87F0-21623B76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4568-F11B-47E7-8399-9254BDB3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6E5-7AC0-469D-BE89-9690262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4633-CF96-4DFC-BF2B-2225F221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F74-65E3-4FEB-BFDA-A12B216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5C34-512B-4920-98FB-022F7E57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1E4A-4743-46DC-A11A-C5AD0379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6168-8605-4E67-825D-89920CC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93BC-0E5E-4E5C-A476-E834BE22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910D-9608-4E14-A888-463CFE40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FA83-7D77-4521-A6B1-5543D1FD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4616-BF18-4D9E-B69F-0F170E45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DA8C-ECF3-4E27-B624-03EB863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FE56-A9B4-4FC1-9E09-C96A229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5917-2E60-49C2-B1CF-7BB60F8E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CBC-B2C6-4FE6-A1CF-89BD3CA5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1DB3-C91B-4DD1-B7B3-6ACB498E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42A3-9252-489C-BEC3-D43AFE4F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BF18-66D6-483E-A751-A9EE568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82C2-2B99-46FA-B916-DB1119A7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1B30-812C-4784-88FC-2014AEA9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90D6-7521-41A2-B10D-3E0FFD4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C5CC-C44F-463F-9251-E81CA104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BA5DD-DB6C-496F-838C-B3CA6B0E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8AF4-425C-404C-85EA-836A15D2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C896-468C-499A-8CE2-EA69EA23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806-F002-49D7-BEFF-C2142E5A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4B02-42B4-481A-A660-AF5E847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8B87-F4E1-4A0E-B7B7-6F0A7194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A5D3-A2C9-4D02-B399-3773001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79E6-E473-48CB-8126-50F1B0D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DF62-D521-43BD-99F0-5D0632A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025E-C6FD-401D-B80A-AFB2168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41301-03D7-4AE7-803C-CDE8BC31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05F4-9DB1-43AE-B22A-1E39EF62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EFB0-3401-4F2B-84F0-F14C8CD9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9B948-E133-439B-A078-ACF30411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A88-DAEA-466D-BBEF-42BE26BE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37D7C-135A-42D8-9FC7-4A380597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C9510-6C8F-4872-8C94-40A8B358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8A7A-8EAA-478E-A81D-15A79D10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097E-12A0-4701-88EB-A6E17DC1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EF1C0-862D-4DD4-B876-391810B9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A365-AEB9-4A59-BC02-32267310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9E29-3808-41F8-81B1-073B82B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B578D-8BCF-4319-9920-F8129C9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FFE1-DCAA-433D-8A77-42D8B175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0FEB-F929-4CD7-B5AA-6FC8F567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E98-96B0-4769-963F-286B418B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F3F79-8D22-4D1F-A11A-04BA8397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180-9F22-4E39-B151-636D4CA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AAC-B2A7-488F-AEEC-5CA96433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8C7-7D8C-4E41-B26D-C859D936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EB7B-E474-4CBC-85A6-65975AF0BA26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élní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Obdélní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Přímá spojovací čára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6F0-6373-4F51-9905-12DD9B1C6116}" type="slidenum"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14D1-34CE-4458-A126-B3047F601C11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élník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5D1-4150-4BAE-8A5E-FD0F5429EDC0}" type="slidenum">
              <a:rPr b="0" lang="cs-CZ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élní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Obdélní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799-4CEE-4D0C-8B37-F5FF3F3E2C2B}" type="slidenum">
              <a:rPr b="0" lang="cs-CZ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Nadpis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20364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rebuchet MS"/>
              </a:rPr>
              <a:t>Jana Hrabcová  and Jana Musilová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Obrázek 1" descr="central_europe_1740.gif"/>
          <p:cNvPicPr/>
          <p:nvPr/>
        </p:nvPicPr>
        <p:blipFill>
          <a:blip r:embed="rId1"/>
          <a:stretch/>
        </p:blipFill>
        <p:spPr>
          <a:xfrm>
            <a:off x="395280" y="189000"/>
            <a:ext cx="763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Obrázek 1" descr="50s-cold-war-map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Nadpis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724212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ultural concept of CE – till 1795 (disitengration of Poland) –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burg Monarchy, Poland, Lithuania, part of Bavaria (this region had many common interests: politics, literature, architecture, fear of Russian Empire, Osman Empire, Swedes and Prussian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1867 – emergence of Austr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-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 and CE as a cultural unit: Czech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part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, Austria, Slovakia, part of Poland part of  Ukraine, Hungary, Transylvania, western Romania, Vojvodina, Croatia, Slovenia, South Tyrol and Bavar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Nadpis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7242120" cy="908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efore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 World War I: German idea of “Mitteleurop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“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Obrázek 3" descr="mitteleuropa.png"/>
          <p:cNvPicPr/>
          <p:nvPr/>
        </p:nvPicPr>
        <p:blipFill>
          <a:blip r:embed="rId2"/>
          <a:stretch/>
        </p:blipFill>
        <p:spPr>
          <a:xfrm>
            <a:off x="900000" y="1125360"/>
            <a:ext cx="58546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1904 in Berlin Central European Economic Association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omic integration of Germany and Austria–Hungary with eventual extension to Switzerland, Belgium and the Netherland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. G. Masaryk – CE space between Germany and Russ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Nadpis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mmanuel de Martonn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(Germany, Switzerland, Austria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Hungary and Romania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Obrázek 5" descr="Central_Europe_(Geographie_universelle,_1927).PNG"/>
          <p:cNvPicPr/>
          <p:nvPr/>
        </p:nvPicPr>
        <p:blipFill>
          <a:blip r:embed="rId2"/>
          <a:stretch/>
        </p:blipFill>
        <p:spPr>
          <a:xfrm>
            <a:off x="324000" y="1557360"/>
            <a:ext cx="721332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907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ittle Enten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Obrázek 3" descr="Little_Entente.png"/>
          <p:cNvPicPr/>
          <p:nvPr/>
        </p:nvPicPr>
        <p:blipFill>
          <a:blip r:embed="rId2"/>
          <a:stretch/>
        </p:blipFill>
        <p:spPr>
          <a:xfrm>
            <a:off x="1908000" y="1268280"/>
            <a:ext cx="467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Nadpis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980640"/>
            <a:ext cx="7238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 a part of the Eastern Bloc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st Germany, Poland, Czechoslovak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. Schen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50)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Obrázek 3" descr="shenk.PNG"/>
          <p:cNvPicPr/>
          <p:nvPr/>
        </p:nvPicPr>
        <p:blipFill>
          <a:blip r:embed="rId2"/>
          <a:stretch/>
        </p:blipFill>
        <p:spPr>
          <a:xfrm>
            <a:off x="3492360" y="1989000"/>
            <a:ext cx="398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764640"/>
            <a:ext cx="7238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. F. A. Mutton (196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Obrázek 3" descr="Central_Europe_(by_A.Mutton).PNG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691920"/>
            <a:ext cx="7238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Meyers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ncyclopedi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(1980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Obrázek 3" descr="Central_Europe_(Mayers_Enzyklopaedisches_Lexikon).PNG"/>
          <p:cNvPicPr/>
          <p:nvPr/>
        </p:nvPicPr>
        <p:blipFill>
          <a:blip r:embed="rId2"/>
          <a:stretch/>
        </p:blipFill>
        <p:spPr>
          <a:xfrm>
            <a:off x="1116000" y="1413000"/>
            <a:ext cx="57006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ganization of the cour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ition of the concept of Central Europ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nd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to the History of Central Europe in the Middle Ages and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th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ly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dern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Nadpis 1" descr=""/>
          <p:cNvPicPr/>
          <p:nvPr/>
        </p:nvPicPr>
        <p:blipFill>
          <a:blip r:embed="rId1"/>
          <a:stretch/>
        </p:blipFill>
        <p:spPr>
          <a:xfrm>
            <a:off x="457200" y="-9684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691920"/>
            <a:ext cx="723888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ntral European Initiativ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-  </a:t>
            </a:r>
            <a:r>
              <a:rPr b="0" lang="cs-CZ" sz="1100" spc="-1" strike="noStrike">
                <a:solidFill>
                  <a:srgbClr val="000000"/>
                </a:solidFill>
                <a:latin typeface="Trebuchet MS"/>
              </a:rPr>
              <a:t>forum of regional cooperation  Albania, Austria, Belarus, Bosnia and Herzegovina, Bulgaria, Croatia, the Czech Republic, Hungary, Italy, Macedonia, Moldova, Montenegro, Poland, Romania, Serbia, Slovakia, Slovenia and Ukraine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;  founders  were Italy, Austria, Hungary and the Socialist Federal Republic of Yugoslavia (SFRY)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Obrázek 3" descr="CEI_members.png"/>
          <p:cNvPicPr/>
          <p:nvPr/>
        </p:nvPicPr>
        <p:blipFill>
          <a:blip r:embed="rId2"/>
          <a:stretch/>
        </p:blipFill>
        <p:spPr>
          <a:xfrm>
            <a:off x="2484360" y="1773360"/>
            <a:ext cx="4470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Nadpis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724212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05264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ád Group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http://www.visegradgroup.eu/abo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Obrázek 3" descr="380px-Visegrad_group_countries.svg.png"/>
          <p:cNvPicPr/>
          <p:nvPr/>
        </p:nvPicPr>
        <p:blipFill>
          <a:blip r:embed="rId2"/>
          <a:stretch/>
        </p:blipFill>
        <p:spPr>
          <a:xfrm>
            <a:off x="1619280" y="2133720"/>
            <a:ext cx="446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EF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mer parties are Bulgaria, Czech Republic, Hungary, Poland, Romania, Slovakia and Slovenia. Their CEFTA membership ended when they joined the EU. Croatia is set to join the EU in 2013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f 1 May 2007, the parties of the CEFTA agreement are: Albania, Bosnia and Herzegovina, Croatia, Macedonia, Moldova, Montenegro, Serbia and UNMIK on behalf of Kosovo.[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Nadpis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05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rational Program 'Central Europe'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gram under the European territorial co-funded by European Regional Development Fund (ERDF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C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ch Republic, Germany, Italy, Hungary, Austria, Poland, Slovenia,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E –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Visegrad group, in a broad sense -  Austria, Slovinia, Lithuania and sometimes Estonia + Latvia, +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Hugh Seton-Watson, Ivan Bérend a György Ránki – CE: Czechoslovakia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 and Balkan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 – Eastern Eur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Oskar Halecki – 2 macro regions (west and east), region of 2 CEs – important transition zone between West and East x Friedrich Naumann´s Mitteleuropa – alliance between German Empire and Austria –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Nadpis 1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7242120" cy="1384200"/>
          </a:xfrm>
          <a:prstGeom prst="rect">
            <a:avLst/>
          </a:prstGeom>
          <a:ln w="0">
            <a:noFill/>
          </a:ln>
        </p:spPr>
      </p:pic>
      <p:pic>
        <p:nvPicPr>
          <p:cNvPr id="284" name="Zástupný symbol pro obsah 3" descr="Central_Europe_(Lonnie_R._Johnson).PNG"/>
          <p:cNvPicPr/>
          <p:nvPr/>
        </p:nvPicPr>
        <p:blipFill>
          <a:blip r:embed="rId2"/>
          <a:stretch/>
        </p:blipFill>
        <p:spPr>
          <a:xfrm>
            <a:off x="1187280" y="1484280"/>
            <a:ext cx="5472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Nadpis 1" descr=""/>
          <p:cNvPicPr/>
          <p:nvPr/>
        </p:nvPicPr>
        <p:blipFill>
          <a:blip r:embed="rId1"/>
          <a:stretch/>
        </p:blipFill>
        <p:spPr>
          <a:xfrm>
            <a:off x="371520" y="324000"/>
            <a:ext cx="7467480" cy="1596960"/>
          </a:xfrm>
          <a:prstGeom prst="rect">
            <a:avLst/>
          </a:prstGeom>
          <a:ln w="0">
            <a:noFill/>
          </a:ln>
        </p:spPr>
      </p:pic>
      <p:pic>
        <p:nvPicPr>
          <p:cNvPr id="286" name="Zástupný symbol pro obsah 3" descr="800px-Central_Europe_Katzenstein.png"/>
          <p:cNvPicPr/>
          <p:nvPr/>
        </p:nvPicPr>
        <p:blipFill>
          <a:blip r:embed="rId2"/>
          <a:stretch/>
        </p:blipFill>
        <p:spPr>
          <a:xfrm>
            <a:off x="1187280" y="2205000"/>
            <a:ext cx="6012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274760"/>
          </a:xfrm>
          <a:prstGeom prst="rect">
            <a:avLst/>
          </a:prstGeom>
          <a:ln w="0">
            <a:noFill/>
          </a:ln>
        </p:spPr>
      </p:pic>
      <p:pic>
        <p:nvPicPr>
          <p:cNvPr id="288" name="Zástupný symbol pro obsah 3" descr="Visegrad_group_countries.png"/>
          <p:cNvPicPr/>
          <p:nvPr/>
        </p:nvPicPr>
        <p:blipFill>
          <a:blip r:embed="rId2"/>
          <a:stretch/>
        </p:blipFill>
        <p:spPr>
          <a:xfrm>
            <a:off x="1042920" y="981000"/>
            <a:ext cx="590544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Johnson, Lonnie (1996): Where is Central Europe. In.: Central Europe: Enemies, Neighbors, Friends. Oxford University Press, pp. 3 – 1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rebuchet MS"/>
              </a:rPr>
              <a:t>Tiersky, Ronald (2004). Europe today. Rowman &amp; Littlefiel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ana Hrabc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104456@mail.muni.cz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a Jana Musilová 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87562@mail.muni.cz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ttendance – min. 70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dterm test (09/04/12)  and final test (14/05/12) 50 – 46 A; 45 – 41 B; 40 – 36 C; 35 – 31 – D; 30 – 25 - 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ad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Nadpis 1" descr=""/>
          <p:cNvPicPr/>
          <p:nvPr/>
        </p:nvPicPr>
        <p:blipFill>
          <a:blip r:embed="rId1"/>
          <a:stretch/>
        </p:blipFill>
        <p:spPr>
          <a:xfrm>
            <a:off x="457200" y="-171360"/>
            <a:ext cx="7242120" cy="909720"/>
          </a:xfrm>
          <a:prstGeom prst="rect">
            <a:avLst/>
          </a:prstGeom>
          <a:ln w="0">
            <a:noFill/>
          </a:ln>
        </p:spPr>
      </p:pic>
      <p:pic>
        <p:nvPicPr>
          <p:cNvPr id="234" name="Zástupný symbol pro obsah 5" descr="reading_aj.jpg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Nadpis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at is the definition of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Where is CENTRAL EUROP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Zástupný symbol pro obsah 3" descr="mapa_evropa.jpg"/>
          <p:cNvPicPr/>
          <p:nvPr/>
        </p:nvPicPr>
        <p:blipFill>
          <a:blip r:embed="rId1"/>
          <a:stretch/>
        </p:blipFill>
        <p:spPr>
          <a:xfrm>
            <a:off x="971640" y="333360"/>
            <a:ext cx="6264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Nadpis 1" descr=""/>
          <p:cNvPicPr/>
          <p:nvPr/>
        </p:nvPicPr>
        <p:blipFill>
          <a:blip r:embed="rId1"/>
          <a:stretch/>
        </p:blipFill>
        <p:spPr>
          <a:xfrm>
            <a:off x="457200" y="0"/>
            <a:ext cx="7242120" cy="1060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Demarcation of the region – C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eographica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Historical and political development, CE as a cultural uni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olitical and economical develop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Yearbook of Central European Culture characterizes Central Europe "as an abandoned West or a place where East and West colli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rmany's Constant Committee for Geographical Names defines Central Europe both as a distinct cultural area and a political region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orge Schöpflin and others argue that Central Europe is defined by being "a part of Western Christianity", while Samuel P. Huntington places the region firmly within Western culture</a:t>
            </a:r>
            <a:r>
              <a:rPr b="0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Nadpis 1" descr=""/>
          <p:cNvPicPr/>
          <p:nvPr/>
        </p:nvPicPr>
        <p:blipFill>
          <a:blip r:embed="rId1"/>
          <a:stretch/>
        </p:blipFill>
        <p:spPr>
          <a:xfrm>
            <a:off x="433440" y="298440"/>
            <a:ext cx="728964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Germany, Poland, Hung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ry, Czech Republic, Slovakia, Austria, Switzerland, Liechtenstein (last 3 – Alpine countri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Earlier publication – CE includes also Belgium, the Netherlands, Luxemburg and Romania (1935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Slovenia, Croatia (new concep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climate, water – shed, mountain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adpis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 – direct influence of „Germany“ (Holy Roman Empire,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burg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archy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vision of CE – capitalistic bloc x Soviet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2:59:45Z</dcterms:created>
  <dc:creator>Musilova</dc:creator>
  <dc:description/>
  <dc:language>en-US</dc:language>
  <cp:lastModifiedBy>jana.musilova</cp:lastModifiedBy>
  <dcterms:modified xsi:type="dcterms:W3CDTF">2013-02-25T18:43:22Z</dcterms:modified>
  <cp:revision>105</cp:revision>
  <dc:subject/>
  <dc:title>History of Central Europe</dc:title>
</cp:coreProperties>
</file>