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2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CDD4-5DF4-450C-8858-AA1CFF762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6E76-78A7-48C9-8021-54AA3A99B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5015-BA80-46A0-B6DA-2EEBBE37B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3DF5-6CA2-49E3-AC63-ACECFBFBF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32DF-5F0F-4207-8871-84EE59CEB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4C94-3280-4C06-A3AC-C518B7004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7591-3705-4AC7-9DE0-E8D6008D1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BC6D-E8DF-41A9-8510-07CB4458F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327E-EB17-464C-B963-496EBC118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295B-FA4C-4F5A-8985-863514FB0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8BF0-7B8E-4576-83E3-63A5DF694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5541-139A-4411-817D-3DDC0FDEB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9F0F-5A47-4E36-B463-B09AA9AD4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90B1-7624-4559-AD67-E01C801DC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B80E-D693-449E-A52C-FE6970560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D03A-D7AD-4AB0-8225-F661F0F90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97A1-CF3A-4B7E-9FC4-97C321C7A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6F1B-970A-4835-8CE6-6BCF71EAD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6966-5DA6-4373-A415-1F685F001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CFAB-6AB5-447E-A00B-0C501C71C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BAA3-1F20-45BA-B207-AF3A63B53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0C62-4EB3-4639-B7A3-886CCAD5E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FECE-A278-49CB-8F09-F2D826A02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D1CE-4E80-49D6-9561-A1B281BDB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A762-94A3-45FB-80DF-B1CF86549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5D54-58A6-4302-A64E-F61F2A636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CD1C-2E24-4B46-9AB1-9A8ADC30B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C7F5-DE76-45E3-B915-A7AF6BEA8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5B7B-616A-4085-A203-95D04EBC1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EA7-5158-47EB-B029-EA1C06FF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B57-D240-461B-8DBC-6C4CAB52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053-A7E4-44AF-A9E6-4DDBD70E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0E2-3CC3-4745-AAEB-75C92648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EACB-F845-4D79-911A-45BE38A3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65DE-A510-46B0-882F-6A9199E6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6261-CC5C-47E6-A4BC-8130E39C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46DD-983B-49F6-A88F-DFA8F7ED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171A-95C6-49A0-AF9B-C156CE6A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C81-1066-419E-A09C-D8545746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4F09-5C9F-4BA1-87BF-6866026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38E-9543-4348-BA67-9E20E9AD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01EF-C4B3-4FA8-AA8D-E8A3C9E0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07A8-9A4F-4C4F-BF48-752B240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826E-1177-4838-923C-FDBAB8D3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A64D-8696-4CD5-A4AD-C2A4835F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E33B-3748-45FF-A22B-09CE15A3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DEC4-3DBC-45A0-994F-BE4F98BB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1307-75AC-4DCC-A1E8-50B0DC5D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90AF-A584-4830-9078-30BBAE98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895B-1AEE-4A7E-B4F4-FAADE46A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68132-1FA9-4C44-8F67-37EDF1A5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A41-B86D-4B6A-AD8B-F4F6558E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FA49-6467-4FBD-B00D-E20A3FE0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B2F0-2695-4AC4-B0DA-4EC480A1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5D78-2283-4EF2-9A37-0C140B6C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1AA2-D2AE-4270-B753-6300F246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3DCB-FDF9-4694-A510-1BE4E22F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05A0-10CF-45DF-98D7-DF6C5AC5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C5C6-0179-4410-83C5-B323E269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2DE4-6B85-426D-8665-06160053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47DF-0E6F-4123-8042-6E57C4B7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FB79-12C7-4665-99A1-E670B2A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2FD-7918-46BB-ACED-7EAF18CA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91B5-3512-4CD4-85CC-9E0F1491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979E-3461-4FD8-929E-E7494FD1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F291-70DD-492D-BAC1-FD0AABCD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C90A-CDE8-4B83-B132-9E03CAF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4396B-3387-4F49-ABC1-3675DFF9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009A-C8FA-45DE-A7E8-91875AA6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1AF1-1870-4B1D-8B7A-D812716B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84086-C2BD-4A3D-A93D-351950F9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2E0F5-AF57-48E1-B155-537B1707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2B138-5A81-4D4A-BF5E-91ACCD4B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880-7A8F-4D8D-B3C6-FA4AC915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2F80C-EE68-470D-94D2-A13A7E4A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E36E-7D61-4B87-B225-5E0DC821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FB5B-548A-4F0F-9BF0-8CA83E73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C6A0-606B-4DDE-AD69-61AAA08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7C90-5C6B-47C2-82D7-A3206684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BC52-8DC7-45DB-A581-D0E5543A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53C0B-7E44-42CF-9F0B-2F05DCD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2A617-97C6-4F2A-87E2-1459A52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30542-F704-472B-86A9-1EE4CC2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CD14-9851-4B2A-9247-811CAB23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40A-BEF0-4A37-B296-BE9051A5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CCAE1-DE54-490B-8C8E-F35C1BDC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F61-2E76-474D-A897-50849C7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D4B-F85B-4406-9B5B-3B338E5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B0D-9356-477C-AC88-B353779A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5547-A6ED-4F75-9E98-7E0A6CE1CB30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Obdélní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Přímá spojovací čára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9D6-1075-4FBE-BA32-188FB03DBD21}" type="slidenum"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3386-EF2D-4D86-A05E-5F1032B03EB3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Obdélník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929C-0E03-4B86-B030-FDD4E6535D33}" type="slidenum">
              <a:rPr b="0" lang="cs-CZ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0D8B-61A1-4C43-ABBC-62B856DC9E49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adpis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203640" y="3715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rebuchet MS"/>
              </a:rPr>
              <a:t>Jana Hrabcová  and Jana Musilová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Obrázek 1" descr="central_europe_1740.gif"/>
          <p:cNvPicPr/>
          <p:nvPr/>
        </p:nvPicPr>
        <p:blipFill>
          <a:blip r:embed="rId1"/>
          <a:stretch/>
        </p:blipFill>
        <p:spPr>
          <a:xfrm>
            <a:off x="395280" y="189000"/>
            <a:ext cx="763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Obrázek 1" descr="50s-cold-war-map.jpg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Nadpis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7242120" cy="117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ultural concept of CE – till 1795 (disitengration of Poland) –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burg Monarchy, Poland, Lithuania, part of Bavaria (this region had many common interests: politics, literature, architecture, fear of Russian Empire, Osman Empire, Swedes and Prussian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1867 – emergence of Austr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-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 and CE as a cultural unit: Czech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part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, Austria, Slovakia, part of Poland part of  Ukraine, Hungary, Transylvania, western Romania, Vojvodina, Croatia, Slovenia, South Tyrol and Bavar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Nadpis 1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7242120" cy="908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efore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 World War I: German idea of “Mitteleurop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“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Obrázek 3" descr="mitteleuropa.png"/>
          <p:cNvPicPr/>
          <p:nvPr/>
        </p:nvPicPr>
        <p:blipFill>
          <a:blip r:embed="rId2"/>
          <a:stretch/>
        </p:blipFill>
        <p:spPr>
          <a:xfrm>
            <a:off x="900000" y="1125360"/>
            <a:ext cx="58546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1904 in Berlin Central European Economic Association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omic integration of Germany and Austria–Hungary with eventual extension to Switzerland, Belgium and the Netherland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. G. Masaryk – CE space between Germany and Russ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Nadpis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mmanuel de Martonn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(Germany, Switzerland, Austria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Hungary and Romania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Obrázek 5" descr="Central_Europe_(Geographie_universelle,_1927).PNG"/>
          <p:cNvPicPr/>
          <p:nvPr/>
        </p:nvPicPr>
        <p:blipFill>
          <a:blip r:embed="rId2"/>
          <a:stretch/>
        </p:blipFill>
        <p:spPr>
          <a:xfrm>
            <a:off x="324000" y="1557360"/>
            <a:ext cx="72133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907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ittle Ent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Obrázek 3" descr="Little_Entente.png"/>
          <p:cNvPicPr/>
          <p:nvPr/>
        </p:nvPicPr>
        <p:blipFill>
          <a:blip r:embed="rId2"/>
          <a:stretch/>
        </p:blipFill>
        <p:spPr>
          <a:xfrm>
            <a:off x="1908000" y="1268280"/>
            <a:ext cx="4670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Nadpis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980640"/>
            <a:ext cx="7238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s a part of the Eastern Bloc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st Germany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. Schenk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50)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Obrázek 3" descr="shenk.PNG"/>
          <p:cNvPicPr/>
          <p:nvPr/>
        </p:nvPicPr>
        <p:blipFill>
          <a:blip r:embed="rId2"/>
          <a:stretch/>
        </p:blipFill>
        <p:spPr>
          <a:xfrm>
            <a:off x="3492360" y="1989000"/>
            <a:ext cx="3984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764640"/>
            <a:ext cx="7238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. F. A. Mutton (196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Obrázek 3" descr="Central_Europe_(by_A.Mutton).PNG"/>
          <p:cNvPicPr/>
          <p:nvPr/>
        </p:nvPicPr>
        <p:blipFill>
          <a:blip r:embed="rId2"/>
          <a:stretch/>
        </p:blipFill>
        <p:spPr>
          <a:xfrm>
            <a:off x="1476360" y="1268280"/>
            <a:ext cx="5688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691920"/>
            <a:ext cx="7238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Meyers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ncycloped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8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Obrázek 3" descr="Central_Europe_(Mayers_Enzyklopaedisches_Lexikon).PNG"/>
          <p:cNvPicPr/>
          <p:nvPr/>
        </p:nvPicPr>
        <p:blipFill>
          <a:blip r:embed="rId2"/>
          <a:stretch/>
        </p:blipFill>
        <p:spPr>
          <a:xfrm>
            <a:off x="1116000" y="1413000"/>
            <a:ext cx="5700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ganization of the cour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finition of the concept of Central Europ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roduction to the History of Central Europe in the Middle Ages and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th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ly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dern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m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ntral European Initiativ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-  </a:t>
            </a:r>
            <a:r>
              <a:rPr b="0" lang="cs-CZ" sz="1100" spc="-1" strike="noStrike">
                <a:solidFill>
                  <a:srgbClr val="000000"/>
                </a:solidFill>
                <a:latin typeface="Trebuchet MS"/>
              </a:rPr>
              <a:t>forum of regional cooperation  Albania, Austria, Belarus, Bosnia and Herzegovina, Bulgaria, Croatia, the Czech Republic, Hungary, Italy, Macedonia, Moldova, Montenegro, Poland, Romania, Serbia, Slovakia, Slovenia and Ukraine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;  founders  were Italy, Austria, Hungary and the Socialist Federal Republic of Yugoslavia (SFRY)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Obrázek 3" descr="CEI_members.png"/>
          <p:cNvPicPr/>
          <p:nvPr/>
        </p:nvPicPr>
        <p:blipFill>
          <a:blip r:embed="rId2"/>
          <a:stretch/>
        </p:blipFill>
        <p:spPr>
          <a:xfrm>
            <a:off x="2484360" y="1773360"/>
            <a:ext cx="4470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Nadpis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05264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ád Group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http://www.visegradgroup.eu/abo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Obrázek 3" descr="380px-Visegrad_group_countries.svg.png"/>
          <p:cNvPicPr/>
          <p:nvPr/>
        </p:nvPicPr>
        <p:blipFill>
          <a:blip r:embed="rId2"/>
          <a:stretch/>
        </p:blipFill>
        <p:spPr>
          <a:xfrm>
            <a:off x="1619280" y="2133720"/>
            <a:ext cx="4465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EF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mer parties are Bulgaria, Czech Republic, Hungary, Poland, Romania, Slovakia and Slovenia. Their CEFTA membership ended when they joined the EU. Croatia is set to join the EU in 2013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f 1 May 2007, the parties of the CEFTA agreement are: Albania, Bosnia and Herzegovina, Croatia, Macedonia, Moldova, Montenegro, Serbia and UNMIK on behalf of Kosovo.[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Nadpis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242120" cy="15051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erational Program 'Central Europe'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gram under the European territorial co-funded by European Regional Development Fund (ERDF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z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ch Republic, Germany, Italy, Hungary, Austria, Poland, Slovenia, Slovak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 –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ad group, in a broad sense -  Austria, Slovinia, Lithuania and sometimes Estonia + Latvia, + German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ugh Seton-Watson, Ivan Bérend a György Ránki – CE: Czechoslovakia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and Balkan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– Eastern Europ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Oskar Halecki – 2 macro regions (west and east), region of 2 CEs – important transition zone between West and East x Friedrich Naumann´s Mitteleuropa – alliance between German Empire and Austria –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Nadpis 1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7242120" cy="1384200"/>
          </a:xfrm>
          <a:prstGeom prst="rect">
            <a:avLst/>
          </a:prstGeom>
          <a:ln w="0">
            <a:noFill/>
          </a:ln>
        </p:spPr>
      </p:pic>
      <p:pic>
        <p:nvPicPr>
          <p:cNvPr id="284" name="Zástupný symbol pro obsah 3" descr="Central_Europe_(Lonnie_R._Johnson).PNG"/>
          <p:cNvPicPr/>
          <p:nvPr/>
        </p:nvPicPr>
        <p:blipFill>
          <a:blip r:embed="rId2"/>
          <a:stretch/>
        </p:blipFill>
        <p:spPr>
          <a:xfrm>
            <a:off x="1187280" y="1484280"/>
            <a:ext cx="5472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Nadpis 1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7467480" cy="1596960"/>
          </a:xfrm>
          <a:prstGeom prst="rect">
            <a:avLst/>
          </a:prstGeom>
          <a:ln w="0">
            <a:noFill/>
          </a:ln>
        </p:spPr>
      </p:pic>
      <p:pic>
        <p:nvPicPr>
          <p:cNvPr id="286" name="Zástupný symbol pro obsah 3" descr="800px-Central_Europe_Katzenstein.png"/>
          <p:cNvPicPr/>
          <p:nvPr/>
        </p:nvPicPr>
        <p:blipFill>
          <a:blip r:embed="rId2"/>
          <a:stretch/>
        </p:blipFill>
        <p:spPr>
          <a:xfrm>
            <a:off x="1187280" y="2205000"/>
            <a:ext cx="6012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274760"/>
          </a:xfrm>
          <a:prstGeom prst="rect">
            <a:avLst/>
          </a:prstGeom>
          <a:ln w="0">
            <a:noFill/>
          </a:ln>
        </p:spPr>
      </p:pic>
      <p:pic>
        <p:nvPicPr>
          <p:cNvPr id="288" name="Zástupný symbol pro obsah 3" descr="Visegrad_group_countries.png"/>
          <p:cNvPicPr/>
          <p:nvPr/>
        </p:nvPicPr>
        <p:blipFill>
          <a:blip r:embed="rId2"/>
          <a:stretch/>
        </p:blipFill>
        <p:spPr>
          <a:xfrm>
            <a:off x="1042920" y="981000"/>
            <a:ext cx="590544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Johnson, Lonnie (1996): Where is Central Europe. In.: Central Europe: Enemies, Neighbors, Friends. Oxford University Press, pp. 3 – 12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Tiersky, Ronald (2004). Europe today. Rowman &amp; Littlefiel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ana Hrabc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104456@mail.muni.cz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 Jana Musil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87562@mail.muni.cz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ttendance – min. 70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dterm test (09/04/12)  and final test (14/05/12) 50 – 46 A; 45 – 41 B; 40 – 36 C; 35 – 31 – D; 30 – 25 - 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ad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Nadpis 1" descr=""/>
          <p:cNvPicPr/>
          <p:nvPr/>
        </p:nvPicPr>
        <p:blipFill>
          <a:blip r:embed="rId1"/>
          <a:stretch/>
        </p:blipFill>
        <p:spPr>
          <a:xfrm>
            <a:off x="457200" y="-171360"/>
            <a:ext cx="7242120" cy="909720"/>
          </a:xfrm>
          <a:prstGeom prst="rect">
            <a:avLst/>
          </a:prstGeom>
          <a:ln w="0">
            <a:noFill/>
          </a:ln>
        </p:spPr>
      </p:pic>
      <p:pic>
        <p:nvPicPr>
          <p:cNvPr id="234" name="Zástupný symbol pro obsah 5" descr="reading_aj.jpg"/>
          <p:cNvPicPr/>
          <p:nvPr/>
        </p:nvPicPr>
        <p:blipFill>
          <a:blip r:embed="rId2"/>
          <a:stretch/>
        </p:blipFill>
        <p:spPr>
          <a:xfrm>
            <a:off x="250920" y="549360"/>
            <a:ext cx="7634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at is the definition of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ere is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Zástupný symbol pro obsah 3" descr="mapa_evropa.jpg"/>
          <p:cNvPicPr/>
          <p:nvPr/>
        </p:nvPicPr>
        <p:blipFill>
          <a:blip r:embed="rId1"/>
          <a:stretch/>
        </p:blipFill>
        <p:spPr>
          <a:xfrm>
            <a:off x="971640" y="333360"/>
            <a:ext cx="6264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Demarcation of the region – C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Geographica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Historical and political development, CE as a cultural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litical and economical develop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Yearbook of Central European Culture characterizes Central Europe "as an abandoned West or a place where East and West coll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rmany's Constant Committee for Geographical Names defines Central Europe both as a distinct cultural area and a political region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orge Schöpflin and others argue that Central Europe is defined by being "a part of Western Christianity", while Samuel P. Huntington places the region firmly within Western culture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Nadpis 1" descr=""/>
          <p:cNvPicPr/>
          <p:nvPr/>
        </p:nvPicPr>
        <p:blipFill>
          <a:blip r:embed="rId1"/>
          <a:stretch/>
        </p:blipFill>
        <p:spPr>
          <a:xfrm>
            <a:off x="433440" y="298440"/>
            <a:ext cx="728964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Germany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, Czech Republic, Slovakia, Austria, Switzerland, Liechtenstein (last 3 – Alpine countri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arlier publication – CE includes also Belgium, the Netherlands, Luxemburg and Romania (1935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lovenia, Croatia (new concep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limate, water – shed, mountain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Nadpis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E – direct influence of „Germany“ (Holy Roman Empire,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burg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archy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vision of CE – capitalistic bloc x Soviet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2:59:45Z</dcterms:created>
  <dc:creator>Musilova</dc:creator>
  <dc:description/>
  <dc:language>en-US</dc:language>
  <cp:lastModifiedBy>jana.musilova</cp:lastModifiedBy>
  <dcterms:modified xsi:type="dcterms:W3CDTF">2013-02-25T18:43:22Z</dcterms:modified>
  <cp:revision>105</cp:revision>
  <dc:subject/>
  <dc:title>History of Central Europe</dc:title>
</cp:coreProperties>
</file>