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7B2D-E138-44A6-A44D-351B7F0A2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B17-536D-411D-A351-6AFE57CAD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8B26-D0DE-4E70-93DF-C83BDDEB5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775-B3ED-4E76-9796-590C97D98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AFA-4E2C-4B28-B912-3B9306C8C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DC83-E3CC-4B76-B9E5-39A1B74C3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473-DBF4-48ED-A41D-DE45B7FB8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9AD-22FB-4D21-A9EE-30C9EAA45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5E1-3D3D-4456-93B9-D33ABF768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6F4-0B62-4C4F-AC57-158A7087D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4D2-83A1-48A9-8338-CD0D493B2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8BC-65F7-4BED-B347-837111327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18D-7B49-4E06-B490-5108E7A74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1DBC-D7F0-44D7-B112-A7AD447B0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276E-B590-4CB4-AB4F-3CDE11D82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A0E-46FE-44E4-9254-FE8907B2F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FBC-916F-4AC8-B9C7-617F7CB08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99A-5776-45B7-A5A8-08CE852EE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D14-0520-4734-A8D7-97CAE4318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68A-CE1E-4E4C-B821-D30DF6B3E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7B3D-DD44-41FC-8C43-4C57E6DD5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C72-6368-4CC9-A66B-D39D45C0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E1F-934A-44F0-A4B2-068EE8844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12D8-45F7-4E51-BB0C-F6820FF8D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BAC4-B462-4B6D-B19F-DB01CAC01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78C3-8B56-4A33-80D3-42A2EF86D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666D-C309-4E0D-B4FA-0D11C30A7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F88-ADF0-4CDB-BCBD-84BD37B44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1AF-80A0-4F55-AF42-FD8675412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89B-42CD-4740-A124-63D1FAE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1B8-634E-4EF4-9F88-84E4B60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6BD-2329-4C07-8DE9-6978AA43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E2B-4BB1-4FA5-A46D-F82DC51C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C93-B4EE-412F-8916-C642052A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86E5-671D-463E-AC87-2FAB99F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889-CFBB-49A6-9EA7-E269C34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1B2-3777-4997-856A-31218C39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1D6-8BEC-496D-BA98-452BBB8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CDE-4E6D-41A2-8199-B2DB55B5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B6B-32FC-4AB2-AA95-8886C8A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58E-991E-4CBD-A1E6-ED7CCB9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6141-AF35-481D-94FC-7EE7A23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52BA-525A-42D1-8B56-11FDB30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1C6E-354A-46DC-8736-60E16D6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4EA-F9FF-455C-96BC-3B81B8C2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488-F89E-492B-950F-A6C4F7D9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24A8-8CDF-4A48-A8DB-9F88CB85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BD98-E1BE-490B-B4B7-9F77F28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41FE-EC33-402B-ADA6-0B38C616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BA13-2E1F-400A-959D-45640DFE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E7C5-054B-4C03-B862-669FB389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6B-B7B6-4680-AAB6-8A0FF5D7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48D5-5A47-4E21-A18F-2F72F6C7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3E1E-0AF4-4913-A325-0414FEE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D4BE-993D-4057-9023-013C244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FE84-5E00-4979-B1FE-EE18843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D99A-0008-4A3C-9A17-795BADA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D18F-171E-4BF2-AE87-52B520D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581E-5CCE-416D-968A-976F329E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5382-9758-4B73-867F-9F222D37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B6B5-C2FB-4C6A-8700-C00CC85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ABFB-1DC5-4535-BCBA-241E2ED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004-5BF5-4489-AC8F-EF178A7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4132-D8AF-4E8E-9FF4-68345545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0D41-339E-4D17-AF94-04DEC478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21B6-0E06-46AC-8BF7-3E01894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FD36-4093-4A72-9525-E294567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1BF3-6964-4248-8165-9F7B16B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246F-A1D7-4FF5-9EB6-D98C6F9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0EC2-9117-4346-9F07-1DFC97CC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C9A5-86F5-4B14-A7AC-12D27F60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6400-F204-49FB-8182-3F900447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68E5-3F9E-4AA5-962E-7B0AB2A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C9B-D396-45BA-A8D0-8F7A5AD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5352A-5963-4F17-AB5B-BDE48FEE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80AD-426D-47B2-9673-CC71559D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908D-8572-46CE-AA22-67CE659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0288-B7FD-4AAE-9E18-03324B1D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F3DE-D526-4A20-A2C7-5B3EDAA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9CD0-598B-427C-8ACA-4C95C03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7F3F-F1F4-4E2C-BA02-F9F6166E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DEAB-3DDA-4F55-ABD7-961A042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7F84-2B92-457C-94EA-F16E43A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A218-5694-46BC-B03F-B0854FEE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3FC-11BC-4AE0-A81E-F290080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9C42-E9C3-4EFE-824D-EB6FC417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0BD-E1DC-4490-87F2-49AC1DC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363-D1F1-4F46-85E5-34C2FB3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F68-2FAC-4F42-9EE9-8C3E4FB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7EA9-C1BC-4D86-A2C3-AE3A7CFE1495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Přímá spojovací čára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A41A-B303-4550-B440-F8E806DA46EE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4B4-E60F-43DB-9AAD-FA0EAE38886B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élník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78C-BDC9-4293-81EC-C47B56B7C433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72D-300B-4481-A266-5AB1C362AB03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364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Jana Hrabcová  and Jana Musilov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Obrázek 1" descr="central_europe_1740.gif"/>
          <p:cNvPicPr/>
          <p:nvPr/>
        </p:nvPicPr>
        <p:blipFill>
          <a:blip r:embed="rId1"/>
          <a:stretch/>
        </p:blipFill>
        <p:spPr>
          <a:xfrm>
            <a:off x="395280" y="189000"/>
            <a:ext cx="76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Obrázek 1" descr="50s-cold-war-map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ultural concept of CE – till 1795 (disitengration of Poland)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burg Monarchy, Poland, Lithuania, part of Bavaria (this region had many common interests: politics, literature, architecture, fear of Russian Empire, Osman Empire, Swedes and Prussian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867 – emergence of Austr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 and CE as a cultural unit: Czech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ar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, Austria, Slovakia, part of Poland part of  Ukraine, Hungary, Transylvania, western Romania, Vojvodina, Croatia, Slovenia, South Tyrol and Bava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7242120" cy="90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World War I: German idea of “Mitteleurop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Obrázek 3" descr="mitteleuropa.png"/>
          <p:cNvPicPr/>
          <p:nvPr/>
        </p:nvPicPr>
        <p:blipFill>
          <a:blip r:embed="rId2"/>
          <a:stretch/>
        </p:blipFill>
        <p:spPr>
          <a:xfrm>
            <a:off x="900000" y="1125360"/>
            <a:ext cx="58546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904 in Berlin Central European Economic Associatio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ic integration of Germany and Austria–Hungary with eventual extension to Switzerland, Belgium and the Netherlan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. G. Masaryk – CE space between Germany and Russ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mmanuel de Martonn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(Germany, Switzerland, Austria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ungary and Roman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Obrázek 5" descr="Central_Europe_(Geographie_universelle,_1927).PNG"/>
          <p:cNvPicPr/>
          <p:nvPr/>
        </p:nvPicPr>
        <p:blipFill>
          <a:blip r:embed="rId2"/>
          <a:stretch/>
        </p:blipFill>
        <p:spPr>
          <a:xfrm>
            <a:off x="324000" y="1557360"/>
            <a:ext cx="7213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ittle Ent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Obrázek 3" descr="Little_Entente.png"/>
          <p:cNvPicPr/>
          <p:nvPr/>
        </p:nvPicPr>
        <p:blipFill>
          <a:blip r:embed="rId2"/>
          <a:stretch/>
        </p:blipFill>
        <p:spPr>
          <a:xfrm>
            <a:off x="1908000" y="1268280"/>
            <a:ext cx="467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980640"/>
            <a:ext cx="7238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 a part of the Eastern Bloc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st Germany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. Schen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50)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Obrázek 3" descr="shenk.PNG"/>
          <p:cNvPicPr/>
          <p:nvPr/>
        </p:nvPicPr>
        <p:blipFill>
          <a:blip r:embed="rId2"/>
          <a:stretch/>
        </p:blipFill>
        <p:spPr>
          <a:xfrm>
            <a:off x="3492360" y="1989000"/>
            <a:ext cx="398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764640"/>
            <a:ext cx="7238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. F. A. Mutton (196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Obrázek 3" descr="Central_Europe_(by_A.Mutton).PNG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691920"/>
            <a:ext cx="723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Meyers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ncycloped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Obrázek 3" descr="Central_Europe_(Mayers_Enzyklopaedisches_Lexikon).PNG"/>
          <p:cNvPicPr/>
          <p:nvPr/>
        </p:nvPicPr>
        <p:blipFill>
          <a:blip r:embed="rId2"/>
          <a:stretch/>
        </p:blipFill>
        <p:spPr>
          <a:xfrm>
            <a:off x="1116000" y="1413000"/>
            <a:ext cx="570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ganization of the cour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the concept of Central Europ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to the History of Central Europe in the Middle Ages and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ly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dern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ntral European Initiativ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cs-CZ" sz="1100" spc="-1" strike="noStrike">
                <a:solidFill>
                  <a:srgbClr val="000000"/>
                </a:solidFill>
                <a:latin typeface="Trebuchet MS"/>
              </a:rPr>
              <a:t>forum of regional cooperation  Albania, Austria, Belarus, Bosnia and Herzegovina, Bulgaria, Croatia, the Czech Republic, Hungary, Italy, Macedonia, Moldova, Montenegro, Poland, Romania, Serbia, Slovakia, Slovenia and Ukraine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;  founders  were Italy, Austria, Hungary and the Socialist Federal Republic of Yugoslavia (SFRY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Obrázek 3" descr="CEI_members.png"/>
          <p:cNvPicPr/>
          <p:nvPr/>
        </p:nvPicPr>
        <p:blipFill>
          <a:blip r:embed="rId2"/>
          <a:stretch/>
        </p:blipFill>
        <p:spPr>
          <a:xfrm>
            <a:off x="2484360" y="1773360"/>
            <a:ext cx="4470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ád Group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www.visegradgroup.eu/abo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Obrázek 3" descr="380px-Visegrad_group_countries.svg.png"/>
          <p:cNvPicPr/>
          <p:nvPr/>
        </p:nvPicPr>
        <p:blipFill>
          <a:blip r:embed="rId2"/>
          <a:stretch/>
        </p:blipFill>
        <p:spPr>
          <a:xfrm>
            <a:off x="1619280" y="2133720"/>
            <a:ext cx="446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F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mer parties are Bulgaria, Czech Republic, Hungary, Poland, Romania, Slovakia and Slovenia. Their CEFTA membership ended when they joined the EU. Croatia is set to join the EU in 201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1 May 2007, the parties of the CEFTA agreement are: Albania, Bosnia and Herzegovina, Croatia, Macedonia, Moldova, Montenegro, Serbia and UNMIK on behalf of Kosovo.[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dpis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0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onal Program 'Central Europe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 under the European territorial co-funded by European Regional Development Fund (ERDF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ch Republic, Germany, Italy, Hungary, Austria, Poland, Slovenia,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 –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ad group, in a broad sense -  Austria, Slovinia, Lithuania and sometimes Estonia + Latvia, +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ugh Seton-Watson, Ivan Bérend a György Ránki – CE: Czechoslovakia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and Balkan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– Eastern Eur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Oskar Halecki – 2 macro regions (west and east), region of 2 CEs – important transition zone between West and East x Friedrich Naumann´s Mitteleuropa – alliance between German Empire and Austria –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Nadpis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7242120" cy="1384200"/>
          </a:xfrm>
          <a:prstGeom prst="rect">
            <a:avLst/>
          </a:prstGeom>
          <a:ln w="0">
            <a:noFill/>
          </a:ln>
        </p:spPr>
      </p:pic>
      <p:pic>
        <p:nvPicPr>
          <p:cNvPr id="284" name="Zástupný symbol pro obsah 3" descr="Central_Europe_(Lonnie_R._Johnson).PNG"/>
          <p:cNvPicPr/>
          <p:nvPr/>
        </p:nvPicPr>
        <p:blipFill>
          <a:blip r:embed="rId2"/>
          <a:stretch/>
        </p:blipFill>
        <p:spPr>
          <a:xfrm>
            <a:off x="1187280" y="1484280"/>
            <a:ext cx="5472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Nadpis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467480" cy="1596960"/>
          </a:xfrm>
          <a:prstGeom prst="rect">
            <a:avLst/>
          </a:prstGeom>
          <a:ln w="0">
            <a:noFill/>
          </a:ln>
        </p:spPr>
      </p:pic>
      <p:pic>
        <p:nvPicPr>
          <p:cNvPr id="286" name="Zástupný symbol pro obsah 3" descr="800px-Central_Europe_Katzenstein.png"/>
          <p:cNvPicPr/>
          <p:nvPr/>
        </p:nvPicPr>
        <p:blipFill>
          <a:blip r:embed="rId2"/>
          <a:stretch/>
        </p:blipFill>
        <p:spPr>
          <a:xfrm>
            <a:off x="1187280" y="2205000"/>
            <a:ext cx="6012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274760"/>
          </a:xfrm>
          <a:prstGeom prst="rect">
            <a:avLst/>
          </a:prstGeom>
          <a:ln w="0">
            <a:noFill/>
          </a:ln>
        </p:spPr>
      </p:pic>
      <p:pic>
        <p:nvPicPr>
          <p:cNvPr id="288" name="Zástupný symbol pro obsah 3" descr="Visegrad_group_countries.png"/>
          <p:cNvPicPr/>
          <p:nvPr/>
        </p:nvPicPr>
        <p:blipFill>
          <a:blip r:embed="rId2"/>
          <a:stretch/>
        </p:blipFill>
        <p:spPr>
          <a:xfrm>
            <a:off x="1042920" y="981000"/>
            <a:ext cx="590544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Johnson, Lonnie (1996): Where is Central Europe. In.: Central Europe: Enemies, Neighbors, Friends. Oxford University Press, pp. 3 – 1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Tiersky, Ronald (2004). Europe today. Rowman &amp; Littlefie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na Hrabc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04456@mail.muni.cz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 Jana Musil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87562@mail.muni.c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ttendance – min. 7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dterm test (09/04/12)  and final test (14/05/12) 50 – 46 A; 45 – 41 B; 40 – 36 C; 35 – 31 – D; 30 – 25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-171360"/>
            <a:ext cx="7242120" cy="90972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5" descr="reading_aj.jpg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at is the definition of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ere is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Zástupný symbol pro obsah 3" descr="mapa_evropa.jpg"/>
          <p:cNvPicPr/>
          <p:nvPr/>
        </p:nvPicPr>
        <p:blipFill>
          <a:blip r:embed="rId1"/>
          <a:stretch/>
        </p:blipFill>
        <p:spPr>
          <a:xfrm>
            <a:off x="971640" y="333360"/>
            <a:ext cx="626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emarcation of the region – C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eographica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istorical and political development, CE as a cultural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litical and economical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Yearbook of Central European Culture characterizes Central Europe "as an abandoned West or a place where East and West col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rmany's Constant Committee for Geographical Names defines Central Europe both as a distinct cultural area and a political region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Schöpflin and others argue that Central Europe is defined by being "a part of Western Christianity", while Samuel P. Huntington places the region firmly within Western culture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728964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ermany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, Czech Republic, Slovakia, Austria, Switzerland, Liechtenstein (last 3 – Alpine countri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arlier publication – CE includes also Belgium, the Netherlands, Luxemburg and Romania (193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lovenia, Croatia (new concep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limate, water – shed, mountai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 – direct influence of „Germany“ (Holy Roman Empire,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burg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arch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vision of CE – capitalistic bloc x Soviet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59:45Z</dcterms:created>
  <dc:creator>Musilova</dc:creator>
  <dc:description/>
  <dc:language>en-US</dc:language>
  <cp:lastModifiedBy>jana.musilova</cp:lastModifiedBy>
  <dcterms:modified xsi:type="dcterms:W3CDTF">2013-02-25T18:43:22Z</dcterms:modified>
  <cp:revision>105</cp:revision>
  <dc:subject/>
  <dc:title>History of Central Europe</dc:title>
</cp:coreProperties>
</file>