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75C9F-3EB9-455D-8249-EE0F66E1C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753D7-70D2-4C79-AE7B-B1EEB8726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6EC3D-170E-4883-B798-5A330775D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2EBA0-7F44-4BE0-9020-8FC7FC368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0C382-A7C2-4A53-907D-3BFBE1B17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DF5C7-D278-45DD-A5E6-2A1D354BE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EC16C-E1EB-49B7-B112-A763B6322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6ACD6-C1FF-4E76-951B-701BB25AF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3982A-699F-4BEE-8EDE-4062552C7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CB15A-FAA5-4304-9EC7-F549248A4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7C777-EC5F-4734-83AE-25908F37E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FC507-FC8D-4924-BB58-94FDED923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082AA-6523-4DCD-8021-BC76F315A6DD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formační šumy v marketingové komunikac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ozpor mezi očekáváním klienta a vnímáním poskytovatele služ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048120" y="3124080"/>
            <a:ext cx="2819160" cy="685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čekávaná služb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066680" y="2286000"/>
            <a:ext cx="175284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ázory jiný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657600" y="2286000"/>
            <a:ext cx="1828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sobní potře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400800" y="2286000"/>
            <a:ext cx="1828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Zkušeno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962520" y="4114800"/>
            <a:ext cx="38862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nímání poskytnuté služ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62520" y="4724280"/>
            <a:ext cx="388620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kytnutí služ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5334120"/>
            <a:ext cx="38862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cifikace služ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95280" y="5943600"/>
            <a:ext cx="655344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nímání tohoto očekávání poskytovate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81080" y="2743200"/>
            <a:ext cx="12193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495680" y="2743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5714640" y="2743200"/>
            <a:ext cx="12193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495680" y="3809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95680" y="44956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523880" y="3505320"/>
            <a:ext cx="1524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523880" y="350532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5181480" y="57146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5181480" y="51051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5181480" y="4495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814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19120" y="3622680"/>
            <a:ext cx="107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zp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(R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653200" y="552780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424600" y="4917960"/>
            <a:ext cx="76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653200" y="430848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666880" y="3733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8T14:36:12Z</dcterms:created>
  <dc:creator>simona</dc:creator>
  <dc:description/>
  <dc:language>en-US</dc:language>
  <cp:lastModifiedBy>simona</cp:lastModifiedBy>
  <dcterms:modified xsi:type="dcterms:W3CDTF">2005-11-28T14:36:30Z</dcterms:modified>
  <cp:revision>1</cp:revision>
  <dc:subject/>
  <dc:title>Informační šumy v marketingové komunikaci</dc:title>
</cp:coreProperties>
</file>