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BE76-C8BB-4B68-98D7-3BD63A830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EBD8-FF70-44C0-B8AD-B31663186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0BC4-2FBE-4115-9745-EE40740C6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1DAD-FC82-4123-9734-9A43B5053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837F-AA1C-444D-B5C5-DF1F28CAC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13C8-5292-496D-BD86-D44BCC341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229D-2E49-4653-9A6B-7DEFB232E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5DE8-EBDA-40FA-BB33-FC419049E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8C37-937F-474C-BBC2-27D32DD10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1008-EDAD-4CFC-A537-B4B315027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5BE0-C880-4B94-ABCA-DF5E4F059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54F1-6730-45E4-9434-5213F3D28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FE5CC-47DC-4549-94BE-725003E598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34120" y="259092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95480" y="4114800"/>
            <a:ext cx="4953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3200400"/>
            <a:ext cx="175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mpo růstu trh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09680" y="6248520"/>
            <a:ext cx="886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lativní podíl organizace na trhu potř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2860560"/>
            <a:ext cx="128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ysok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45370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ízk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66880" y="2514600"/>
            <a:ext cx="243864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věz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írně pozitivní nebo negativní tok peněz. Rostoucí z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486400" y="2438280"/>
            <a:ext cx="32767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tazníky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blémové dě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ýrazně negativní tok peněz. Nízký z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66880" y="4191120"/>
            <a:ext cx="236232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Dojné) krá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ýrazně pozitivní tok peněz. Nejvyšší z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6400" y="4191120"/>
            <a:ext cx="33526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írně pozitivní nebo negativní tok peněz.Nejnižší z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575640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ysok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53080" y="5756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ízk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41760" y="5519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057040" y="5791320"/>
            <a:ext cx="6248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2880" y="590076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1828800" y="243828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38160" y="3767040"/>
            <a:ext cx="8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2:56:43Z</dcterms:created>
  <dc:creator>simona</dc:creator>
  <dc:description/>
  <dc:language>en-US</dc:language>
  <cp:lastModifiedBy>simona</cp:lastModifiedBy>
  <dcterms:modified xsi:type="dcterms:W3CDTF">2005-11-28T12:57:08Z</dcterms:modified>
  <cp:revision>1</cp:revision>
  <dc:subject/>
  <dc:title>.</dc:title>
</cp:coreProperties>
</file>