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9A07-C8D7-4DC3-90FD-F864C06ED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DEB3-F8E0-4B4C-B0D4-36DABFE7B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2C72-823A-4E3E-925C-3096E7A19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B6F3-3D3F-4747-A7DD-8E51AF17E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C9F5-B880-4E84-96EC-DD088CBC8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F6CC-7688-432A-8023-3CE1FCB5B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33C0-F21B-4DBF-A744-5A4FB11BA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F3FF-1E16-40EC-8BF1-4961188B0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92F1-C9A1-4A80-822A-F491787ED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641C-C932-4538-BE48-20312A7AA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B650-423D-4C84-A782-B118E4CE5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173D-E9E4-4E5B-977D-466DD5A75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C66F5-9453-44FA-8748-217E4C601B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90440" y="990720"/>
          <a:ext cx="8763120" cy="4876560"/>
        </p:xfrm>
        <a:graphic>
          <a:graphicData uri="http://schemas.openxmlformats.org/drawingml/2006/table">
            <a:tbl>
              <a:tblPr/>
              <a:tblGrid>
                <a:gridCol w="2921040"/>
                <a:gridCol w="2921040"/>
                <a:gridCol w="2921040"/>
              </a:tblGrid>
              <a:tr h="301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čekávané přínos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avy a omeze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k překonat obavy a omeze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604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působ, jakým chcete postupova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808080"/>
                        </a:buClr>
                        <a:buSzPct val="11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ahájit proces strategického plánová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808080"/>
                        </a:buClr>
                        <a:buSzPct val="11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čkat se strategickým plánováním a začít s ním za příhodnějších podmín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808080"/>
                        </a:buClr>
                        <a:buSzPct val="11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toupit od myšlenky strategického plánová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2T13:50:42Z</dcterms:created>
  <dc:creator>kozakova</dc:creator>
  <dc:description/>
  <dc:language>en-US</dc:language>
  <cp:lastModifiedBy>kozakova</cp:lastModifiedBy>
  <dcterms:modified xsi:type="dcterms:W3CDTF">2005-12-02T13:51:14Z</dcterms:modified>
  <cp:revision>1</cp:revision>
  <dc:subject/>
  <dc:title>Prezentace aplikace PowerPoint</dc:title>
</cp:coreProperties>
</file>