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C795-FFDD-44B4-9A81-25ECC6294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83CF-B3CA-4BE8-915A-CC470CBE3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84A5-7E2F-4B39-B284-CE4A059A8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C99A-C211-4C9C-ADA1-F5DA726CC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5F65-2AE2-4CA7-884E-DCF93D1DD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C034-5AD6-448C-90CA-5F6F11F06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D0A4-C88D-47FB-95F9-75A8244C3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D4F8-AC27-4F02-97B2-A2A55C740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57C9-BE9B-42B9-9DDB-0AA5C46AE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1AAF-FDE3-49A8-9A42-F64075C39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A860-5D12-4904-B8A8-2ACF88EBE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5001-F931-4389-9C81-ACE2B164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78E7A-7180-4361-9EB9-1920C0167B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. Poziční mapa hotelových služ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7400" y="2514600"/>
            <a:ext cx="601992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267080"/>
            <a:ext cx="13716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19720" y="3581280"/>
            <a:ext cx="129528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2971800"/>
            <a:ext cx="129528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6320" y="3614760"/>
            <a:ext cx="201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níman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úroveň ce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2280" y="247176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so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19280" y="47577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íz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66840" y="54435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íz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918480" y="5410080"/>
            <a:ext cx="16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so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80720" y="5748480"/>
            <a:ext cx="50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nímaná kvalita hotelových služ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33720" y="3767040"/>
            <a:ext cx="24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nzion Slav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9880" y="315756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tel Berán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2471760"/>
            <a:ext cx="333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tel Intercontin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3:07:55Z</dcterms:created>
  <dc:creator>simona</dc:creator>
  <dc:description/>
  <dc:language>en-US</dc:language>
  <cp:lastModifiedBy>simona</cp:lastModifiedBy>
  <dcterms:modified xsi:type="dcterms:W3CDTF">2005-11-28T13:08:10Z</dcterms:modified>
  <cp:revision>1</cp:revision>
  <dc:subject/>
  <dc:title>Př. Poziční mapa hotelových služeb</dc:title>
</cp:coreProperties>
</file>