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D434-B24C-412A-9DEA-47FE3FA8C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4AEB-E137-4A88-A7F7-21D9BA2FC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3F2B-A6B9-4C84-91D9-88D874472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0B06-4C9A-45D1-ADD5-2883EDA10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C757-511E-4172-8281-5D1932331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F783-E38A-4531-BE9A-46397D39D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12B1-6B16-4CF5-A299-1B7C72EA7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72C4-43D9-4D84-A4DD-A7FD14BF9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71DD-360E-4C3A-9345-81AC27003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24D1-1850-41CF-89F9-839A279A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0D0C-375D-4902-9792-DEF5FF7D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BD27-A3A1-4FC6-A452-06557717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72926-B73B-4698-B166-1B15110E7A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5800" y="876240"/>
          <a:ext cx="7772400" cy="5105520"/>
        </p:xfrm>
        <a:graphic>
          <a:graphicData uri="http://schemas.openxmlformats.org/drawingml/2006/table">
            <a:tbl>
              <a:tblPr/>
              <a:tblGrid>
                <a:gridCol w="2475000"/>
                <a:gridCol w="5297400"/>
              </a:tblGrid>
              <a:tr h="31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ysílatel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rob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upina výrobc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chod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užst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pad – hlavně 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děle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tivní – pouze informu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formační – mění posto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itucionální, vládní kampa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lektivní nebo obecně použitelné = podpora konkrétní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atické nebo zaměřené na druh, kategorii produktů =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landský sýr,belgické pralinky, jihoamerické hověz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jem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kaz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zipodnikové     prostřed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d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diovizuální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sk                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místa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má              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09:06Z</dcterms:created>
  <dc:creator>kozakova</dc:creator>
  <dc:description/>
  <dc:language>en-US</dc:language>
  <cp:lastModifiedBy>kozakova</cp:lastModifiedBy>
  <dcterms:modified xsi:type="dcterms:W3CDTF">2005-12-05T12:09:38Z</dcterms:modified>
  <cp:revision>1</cp:revision>
  <dc:subject/>
  <dc:title>Prezentace aplikace PowerPoint</dc:title>
</cp:coreProperties>
</file>