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C62B-BF98-417B-9857-25819756B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CF24-8E6B-435E-A854-8AD17F75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3251-FB25-4C13-BAE7-05E15F934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6C80-C2BD-46DC-9CF7-9FAD6ABE6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6455-58E5-4E8B-8F53-F6CB4C3A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092A-6C9B-469E-8D8F-74F64C89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A2E1-12B8-4E2B-885E-1158A1E7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5D32-22E8-4640-A2C0-F5737211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D92F-5566-42AB-8BB6-9433E696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C169-8D84-440F-9507-673F2F7C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E0B5-2A75-4348-920E-259EC577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CD81-B705-41ED-83FB-D45F9D99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2AA3-6FCC-481C-B6F2-F113D6A31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4114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 růstu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6248520"/>
            <a:ext cx="88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ní podíl organizace na trhu potř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60560"/>
            <a:ext cx="12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53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14600"/>
            <a:ext cx="243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vě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 Rostouc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438280"/>
            <a:ext cx="327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azník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émové dě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negativní tok peněz. Nízký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191120"/>
            <a:ext cx="2362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ojné) k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pozitivní tok peněz. Nejvyš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191120"/>
            <a:ext cx="3352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Nejniž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75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5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51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040" y="5791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5900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7670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2:56:43Z</dcterms:created>
  <dc:creator>simona</dc:creator>
  <dc:description/>
  <dc:language>en-US</dc:language>
  <cp:lastModifiedBy>simona</cp:lastModifiedBy>
  <dcterms:modified xsi:type="dcterms:W3CDTF">2005-11-28T12:57:08Z</dcterms:modified>
  <cp:revision>1</cp:revision>
  <dc:subject/>
  <dc:title>.</dc:title>
</cp:coreProperties>
</file>