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7C83-4F18-421E-A1C1-8F384BB5A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39C8-E2A8-4825-A284-057945496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9062-B51A-4E35-BDC6-6D9D82D19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FA60-0B8B-48F3-B802-CDC401C40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84BE-6534-43BB-8835-9A5152F3D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9C96-7AD8-485C-884A-FFFF13C76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902B-65EF-4134-A904-B53FD4BA7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3D0D-7000-4D2A-8E7F-C404FD1A0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0D4C-1D6D-4A9F-9ED8-C2B944EF6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50D9-7DE0-495E-A778-D3802D97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5DB5-3696-4C53-A833-ECEC5588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AA15-2AEA-4F57-B703-35740388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F2952-558F-4C8E-92E6-D2BBC72DA70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ční šumy v marketingové komunika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zpor mezi očekáváním klienta a vnímáním poskytovatele služ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8120" y="3124080"/>
            <a:ext cx="281916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čekávaná služ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2286000"/>
            <a:ext cx="17528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ázory jiný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obní potře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008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kuše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411480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poskytnuté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4724280"/>
            <a:ext cx="3886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kytnutí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533412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kace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5943600"/>
            <a:ext cx="65534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tohoto očekávání poskytovat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71464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568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35053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35053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181480" y="571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181480" y="5105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181480" y="449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9120" y="3622680"/>
            <a:ext cx="107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z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(R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53200" y="55278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24600" y="4917960"/>
            <a:ext cx="7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53200" y="43084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4:36:12Z</dcterms:created>
  <dc:creator>simona</dc:creator>
  <dc:description/>
  <dc:language>en-US</dc:language>
  <cp:lastModifiedBy>simona</cp:lastModifiedBy>
  <dcterms:modified xsi:type="dcterms:W3CDTF">2005-11-28T14:36:30Z</dcterms:modified>
  <cp:revision>1</cp:revision>
  <dc:subject/>
  <dc:title>Informační šumy v marketingové komunikaci</dc:title>
</cp:coreProperties>
</file>