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wmf" ContentType="image/x-wmf"/>
  <Override PartName="/ppt/media/image12.wmf" ContentType="image/x-wmf"/>
  <Override PartName="/ppt/media/image8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18.wmf" ContentType="image/x-wmf"/>
  <Override PartName="/ppt/media/image5.jpeg" ContentType="image/jpeg"/>
  <Override PartName="/ppt/media/image2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9D2-2BF4-4540-B6DC-EBC08E44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ED1-0D25-4546-81A2-227F1157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7B5-ABC6-4566-B219-92B8D36E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548-DE77-47B7-9E97-E43C445E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013-8C95-4D58-AF05-0EF42F6D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62E2-A9B8-40DC-B857-F4C547C1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F401-CBB5-49B6-8314-89353944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DE0-DE60-428F-940B-47FF07E3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75F-6FD3-4F7A-A225-2019DC04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202-E104-42A1-9702-FCF20E9C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DE8-64D2-4866-B593-F94D058B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68F-4235-4B84-9657-AC399BC4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40AA-FDFC-4045-ABEE-924676A64B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adoslav Šk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3880" y="2590920"/>
            <a:ext cx="608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tail in Czech Republi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37960"/>
            <a:ext cx="9144000" cy="637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754200"/>
            <a:ext cx="8229600" cy="5346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443640" y="3213000"/>
            <a:ext cx="21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hare of TOP 10 in quick turnover goods – 53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o further grow expected = consolidation in Czech ret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610200" y="1828800"/>
            <a:ext cx="7437600" cy="4116240"/>
            <a:chOff x="610200" y="1828800"/>
            <a:chExt cx="7437600" cy="4116240"/>
          </a:xfrm>
        </p:grpSpPr>
        <p:grpSp>
          <p:nvGrpSpPr>
            <p:cNvPr id="65" name=""/>
            <p:cNvGrpSpPr/>
            <p:nvPr/>
          </p:nvGrpSpPr>
          <p:grpSpPr>
            <a:xfrm>
              <a:off x="1086120" y="1913760"/>
              <a:ext cx="6961680" cy="3680280"/>
              <a:chOff x="1086120" y="1913760"/>
              <a:chExt cx="6961680" cy="3680280"/>
            </a:xfrm>
          </p:grpSpPr>
          <p:sp>
            <p:nvSpPr>
              <p:cNvPr id="66" name=""/>
              <p:cNvSpPr/>
              <p:nvPr/>
            </p:nvSpPr>
            <p:spPr>
              <a:xfrm>
                <a:off x="1106640" y="5519520"/>
                <a:ext cx="6941160" cy="64080"/>
              </a:xfrm>
              <a:custGeom>
                <a:avLst/>
                <a:gdLst/>
                <a:ahLst/>
                <a:rect l="l" t="t" r="r" b="b"/>
                <a:pathLst>
                  <a:path w="4019" h="36">
                    <a:moveTo>
                      <a:pt x="0" y="36"/>
                    </a:moveTo>
                    <a:lnTo>
                      <a:pt x="42" y="0"/>
                    </a:lnTo>
                    <a:lnTo>
                      <a:pt x="4019" y="0"/>
                    </a:lnTo>
                    <a:lnTo>
                      <a:pt x="3977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06640" y="1913760"/>
                <a:ext cx="72720" cy="3669840"/>
              </a:xfrm>
              <a:custGeom>
                <a:avLst/>
                <a:gdLst/>
                <a:ahLst/>
                <a:rect l="l" t="t" r="r" b="b"/>
                <a:pathLst>
                  <a:path w="42" h="2064">
                    <a:moveTo>
                      <a:pt x="0" y="2064"/>
                    </a:moveTo>
                    <a:lnTo>
                      <a:pt x="0" y="36"/>
                    </a:lnTo>
                    <a:lnTo>
                      <a:pt x="42" y="0"/>
                    </a:lnTo>
                    <a:lnTo>
                      <a:pt x="42" y="2028"/>
                    </a:lnTo>
                    <a:lnTo>
                      <a:pt x="0" y="206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79720" y="1913760"/>
                <a:ext cx="6868080" cy="360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086120" y="557280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37960" y="553032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20024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2621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3244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67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900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5109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5732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354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9776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7596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219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842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4652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084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0707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330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9492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568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3191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3814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44368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5056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678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6301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69244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7543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8166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8789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94120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031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654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276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18996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18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3141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764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3872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5006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5629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6252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68712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7490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8113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8736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88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9978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0600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1223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8464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2465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08840" y="5519520"/>
                <a:ext cx="1908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3693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4316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4938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558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177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6800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422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045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664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9287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910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0533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1152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775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398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3020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3640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262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885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5508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127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750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373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996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615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9238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857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0480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1099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1722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2344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2967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3586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4209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832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5455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6074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6697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320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7942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8562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184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9807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430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049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672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295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2918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537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160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779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5402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6021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6644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7266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889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8508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9131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754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037720" y="5519520"/>
                <a:ext cx="1008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86120" y="496476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37960" y="493272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20024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2621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244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3867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4900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109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5732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6354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69776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596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8219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8842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4652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084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0707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330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19492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2568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3191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3814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44368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056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678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6301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69244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543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8166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789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94120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0031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0654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276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8996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2518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141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3764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43872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006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5629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252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68712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490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8113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8736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3588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9978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0600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223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8464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2465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308840" y="4921920"/>
                <a:ext cx="1908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3693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4316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938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558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6177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800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422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045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664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287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9910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533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152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1775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398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3020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3640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262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4885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5508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6127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6750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373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7996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615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9238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9857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0480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1099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722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44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086120" y="3717000"/>
              <a:ext cx="6961680" cy="1215720"/>
              <a:chOff x="1086120" y="3717000"/>
              <a:chExt cx="6961680" cy="1215720"/>
            </a:xfrm>
          </p:grpSpPr>
          <p:sp>
            <p:nvSpPr>
              <p:cNvPr id="267" name=""/>
              <p:cNvSpPr/>
              <p:nvPr/>
            </p:nvSpPr>
            <p:spPr>
              <a:xfrm>
                <a:off x="62967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3586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4209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832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455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6074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6697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320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942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8562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9184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807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430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049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672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2295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2918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3537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160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779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02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021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644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7266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7889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8508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131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754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037720" y="4921920"/>
                <a:ext cx="1008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86120" y="436752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37960" y="433548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20024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2621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244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3867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44900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5109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5732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6354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69776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7596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8219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8842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4652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0084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0707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0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9492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2568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3191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3814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4368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5056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5678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6301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69244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543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8166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8789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94120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031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0654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276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8996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2518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3141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764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43872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5006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629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252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68712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490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8113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8736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93588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9978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0600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1223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8464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2465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308840" y="4324680"/>
                <a:ext cx="1908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693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316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938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558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177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6800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422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8045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664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9287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9910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0533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1152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1775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398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3020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3640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4262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4885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5508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6127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6750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7373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7996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615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238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857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480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099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1722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344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967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586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209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832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5455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6074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6697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7320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942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562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184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9807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0430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049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1672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295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2918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537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4160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4779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5402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021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6644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7266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7889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8508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9131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9754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037720" y="4324680"/>
                <a:ext cx="1008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086120" y="376992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37960" y="37274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20024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6216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2444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3867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44900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5109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5732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63548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9776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75968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82196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88424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94652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00844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0707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1330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19492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25684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3191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3814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4368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056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56788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63016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69244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75436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81664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8789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94120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0031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0654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2768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8996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25188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31416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37644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43872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0064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5629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6252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68712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4904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8113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8736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3588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9978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06008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12236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18464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24656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308840" y="3717000"/>
                <a:ext cx="1908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693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4316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49388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558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6177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1086120" y="2521800"/>
              <a:ext cx="6961680" cy="1205280"/>
              <a:chOff x="1086120" y="2521800"/>
              <a:chExt cx="6961680" cy="1205280"/>
            </a:xfrm>
          </p:grpSpPr>
          <p:sp>
            <p:nvSpPr>
              <p:cNvPr id="468" name=""/>
              <p:cNvSpPr/>
              <p:nvPr/>
            </p:nvSpPr>
            <p:spPr>
              <a:xfrm>
                <a:off x="46800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7422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8045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8664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9287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99104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533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1524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1775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398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3020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640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4262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4885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55084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6127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67504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7373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7996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8615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9238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9857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480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1099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1722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2344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2967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3586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209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48324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5455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60744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6697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7320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7942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8562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9184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807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04304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1049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16724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2295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2918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3537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4160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4779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5402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6021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6644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7266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7889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8508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9131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97544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37720" y="3716640"/>
                <a:ext cx="1008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086120" y="316188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137960" y="31298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20024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2621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244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867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44900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109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5732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6354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69776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7596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219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842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94652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084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0707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1330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19492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2568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191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3814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44368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056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5678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6301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69244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7543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166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8789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4120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031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0654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276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18996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2518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3141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3764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43872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5006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5629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6252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68712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7490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8113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8736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3588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9978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0600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1223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18464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2465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308840" y="3119040"/>
                <a:ext cx="1908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3693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4316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4938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5558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6177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6800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7422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8045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8664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287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9910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0533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152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1775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2398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3020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3640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4262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4885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508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127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6750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373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996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8615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9238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9857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480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1099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1722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344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967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3586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4209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4832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5455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6074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6697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7320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7942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8562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9184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807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0430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1049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1672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2295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918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537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4160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4779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5402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6021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6644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7266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7889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8508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9131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9754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037720" y="3119040"/>
                <a:ext cx="1008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086120" y="256428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37960" y="253260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20024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2621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244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867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44900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5109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5732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6354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69776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7596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8219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8842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94652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0084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0707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1330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19492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2568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191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3814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44368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056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5678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6301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69244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543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8166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8789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94120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0031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086120" y="1913760"/>
              <a:ext cx="6961680" cy="3669840"/>
              <a:chOff x="1086120" y="1913760"/>
              <a:chExt cx="6961680" cy="3669840"/>
            </a:xfrm>
          </p:grpSpPr>
          <p:sp>
            <p:nvSpPr>
              <p:cNvPr id="669" name=""/>
              <p:cNvSpPr/>
              <p:nvPr/>
            </p:nvSpPr>
            <p:spPr>
              <a:xfrm>
                <a:off x="30654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276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18996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2518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3141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3764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43872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06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29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6252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68712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7490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8113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8736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93588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9978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0600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1223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18464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2465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308840" y="2521800"/>
                <a:ext cx="1908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3693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316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38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5558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6177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6800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7422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8045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8664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287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9910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0533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1152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1775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398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3020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3640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262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4885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5508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6127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6750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7373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7996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8615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238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9857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0480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1099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1722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2344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2967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586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4209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832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5455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6074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6697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7320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7942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8562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84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807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0430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1049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672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295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2918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3537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4160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4779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5402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021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644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7266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7889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8508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9131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9754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037720" y="2521800"/>
                <a:ext cx="1008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086120" y="1967040"/>
                <a:ext cx="31320" cy="208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137960" y="192456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20024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2621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3244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3867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44900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109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5732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6354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69776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7596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8219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8842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94652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0084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0707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1330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19492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2568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3191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3814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44368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5056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5678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6301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69244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7543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8166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8789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94120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0031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0654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1276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18996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2518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3141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3764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43872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5006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5629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6252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8712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7490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113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8736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93588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9978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0600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1223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18464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2465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308840" y="1913760"/>
                <a:ext cx="1908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3693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4316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4938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5558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177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800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7422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8045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8664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9287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9910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0533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1152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775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2398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3020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3640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4262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4885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5508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6127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6750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7373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7996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8615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9238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9857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0480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1099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722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2344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2967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3586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209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4832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5455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6074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6697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7320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7942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8562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9184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9807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430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1049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1672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295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2918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3537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4160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4779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5402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6021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6644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7266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7889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8508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9131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9754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037720" y="1913760"/>
                <a:ext cx="1008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106640" y="5519520"/>
                <a:ext cx="6941160" cy="64080"/>
              </a:xfrm>
              <a:custGeom>
                <a:avLst/>
                <a:gdLst/>
                <a:ahLst/>
                <a:rect l="l" t="t" r="r" b="b"/>
                <a:pathLst>
                  <a:path w="4019" h="36">
                    <a:moveTo>
                      <a:pt x="4019" y="0"/>
                    </a:moveTo>
                    <a:lnTo>
                      <a:pt x="3977" y="36"/>
                    </a:lnTo>
                    <a:lnTo>
                      <a:pt x="0" y="36"/>
                    </a:lnTo>
                    <a:lnTo>
                      <a:pt x="42" y="0"/>
                    </a:lnTo>
                    <a:lnTo>
                      <a:pt x="4019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106640" y="1913760"/>
                <a:ext cx="72720" cy="3669840"/>
              </a:xfrm>
              <a:custGeom>
                <a:avLst/>
                <a:gdLst/>
                <a:ahLst/>
                <a:rect l="l" t="t" r="r" b="b"/>
                <a:pathLst>
                  <a:path w="42" h="2064">
                    <a:moveTo>
                      <a:pt x="0" y="2064"/>
                    </a:moveTo>
                    <a:lnTo>
                      <a:pt x="0" y="36"/>
                    </a:lnTo>
                    <a:lnTo>
                      <a:pt x="42" y="0"/>
                    </a:lnTo>
                    <a:lnTo>
                      <a:pt x="42" y="2028"/>
                    </a:lnTo>
                    <a:lnTo>
                      <a:pt x="0" y="206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179720" y="1913760"/>
                <a:ext cx="6868080" cy="3605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459080" y="2276640"/>
                <a:ext cx="72360" cy="3306960"/>
              </a:xfrm>
              <a:custGeom>
                <a:avLst/>
                <a:gdLst/>
                <a:ahLst/>
                <a:rect l="l" t="t" r="r" b="b"/>
                <a:pathLst>
                  <a:path w="42" h="1860">
                    <a:moveTo>
                      <a:pt x="0" y="1860"/>
                    </a:moveTo>
                    <a:lnTo>
                      <a:pt x="0" y="30"/>
                    </a:lnTo>
                    <a:lnTo>
                      <a:pt x="42" y="0"/>
                    </a:lnTo>
                    <a:lnTo>
                      <a:pt x="42" y="1824"/>
                    </a:lnTo>
                    <a:lnTo>
                      <a:pt x="0" y="1860"/>
                    </a:lnTo>
                    <a:close/>
                  </a:path>
                </a:pathLst>
              </a:custGeom>
              <a:solidFill>
                <a:srgbClr val="4d66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262160" y="2329560"/>
                <a:ext cx="196920" cy="32536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262160" y="2276640"/>
                <a:ext cx="269280" cy="52920"/>
              </a:xfrm>
              <a:custGeom>
                <a:avLst/>
                <a:gdLst/>
                <a:ahLst/>
                <a:rect l="l" t="t" r="r" b="b"/>
                <a:pathLst>
                  <a:path w="156" h="30">
                    <a:moveTo>
                      <a:pt x="114" y="30"/>
                    </a:moveTo>
                    <a:lnTo>
                      <a:pt x="156" y="0"/>
                    </a:lnTo>
                    <a:lnTo>
                      <a:pt x="42" y="0"/>
                    </a:lnTo>
                    <a:lnTo>
                      <a:pt x="0" y="30"/>
                    </a:lnTo>
                    <a:lnTo>
                      <a:pt x="114" y="30"/>
                    </a:lnTo>
                    <a:close/>
                  </a:path>
                </a:pathLst>
              </a:custGeom>
              <a:solidFill>
                <a:srgbClr val="7399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1666440" y="2489760"/>
              <a:ext cx="72360" cy="3093840"/>
            </a:xfrm>
            <a:custGeom>
              <a:avLst/>
              <a:gdLst/>
              <a:ahLst/>
              <a:rect l="l" t="t" r="r" b="b"/>
              <a:pathLst>
                <a:path w="42" h="1740">
                  <a:moveTo>
                    <a:pt x="0" y="1740"/>
                  </a:moveTo>
                  <a:lnTo>
                    <a:pt x="0" y="30"/>
                  </a:lnTo>
                  <a:lnTo>
                    <a:pt x="42" y="0"/>
                  </a:lnTo>
                  <a:lnTo>
                    <a:pt x="42" y="1704"/>
                  </a:lnTo>
                  <a:lnTo>
                    <a:pt x="0" y="1740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459080" y="2543040"/>
              <a:ext cx="207000" cy="3040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459080" y="2489760"/>
              <a:ext cx="279360" cy="52920"/>
            </a:xfrm>
            <a:custGeom>
              <a:avLst/>
              <a:gdLst/>
              <a:ahLst/>
              <a:rect l="l" t="t" r="r" b="b"/>
              <a:pathLst>
                <a:path w="162" h="30">
                  <a:moveTo>
                    <a:pt x="120" y="30"/>
                  </a:moveTo>
                  <a:lnTo>
                    <a:pt x="162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20" y="30"/>
                  </a:lnTo>
                  <a:close/>
                </a:path>
              </a:pathLst>
            </a:custGeom>
            <a:solidFill>
              <a:srgbClr val="00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863360" y="2372760"/>
              <a:ext cx="72360" cy="3211200"/>
            </a:xfrm>
            <a:custGeom>
              <a:avLst/>
              <a:gdLst/>
              <a:ahLst/>
              <a:rect l="l" t="t" r="r" b="b"/>
              <a:pathLst>
                <a:path w="42" h="1806">
                  <a:moveTo>
                    <a:pt x="0" y="1806"/>
                  </a:moveTo>
                  <a:lnTo>
                    <a:pt x="0" y="30"/>
                  </a:lnTo>
                  <a:lnTo>
                    <a:pt x="42" y="0"/>
                  </a:lnTo>
                  <a:lnTo>
                    <a:pt x="42" y="1770"/>
                  </a:lnTo>
                  <a:lnTo>
                    <a:pt x="0" y="1806"/>
                  </a:lnTo>
                  <a:close/>
                </a:path>
              </a:pathLst>
            </a:custGeom>
            <a:solidFill>
              <a:srgbClr val="1a33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66440" y="2425680"/>
              <a:ext cx="196920" cy="3157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66440" y="2372760"/>
              <a:ext cx="269280" cy="5292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14" y="30"/>
                  </a:moveTo>
                  <a:lnTo>
                    <a:pt x="156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14" y="30"/>
                  </a:lnTo>
                  <a:close/>
                </a:path>
              </a:pathLst>
            </a:custGeom>
            <a:solidFill>
              <a:srgbClr val="264d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070720" y="2190960"/>
              <a:ext cx="72360" cy="3392640"/>
            </a:xfrm>
            <a:custGeom>
              <a:avLst/>
              <a:gdLst/>
              <a:ahLst/>
              <a:rect l="l" t="t" r="r" b="b"/>
              <a:pathLst>
                <a:path w="42" h="1908">
                  <a:moveTo>
                    <a:pt x="0" y="1908"/>
                  </a:moveTo>
                  <a:lnTo>
                    <a:pt x="0" y="30"/>
                  </a:lnTo>
                  <a:lnTo>
                    <a:pt x="42" y="0"/>
                  </a:lnTo>
                  <a:lnTo>
                    <a:pt x="42" y="1872"/>
                  </a:lnTo>
                  <a:lnTo>
                    <a:pt x="0" y="1908"/>
                  </a:lnTo>
                  <a:close/>
                </a:path>
              </a:pathLst>
            </a:custGeom>
            <a:solidFill>
              <a:srgbClr val="0066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863360" y="2244240"/>
              <a:ext cx="207000" cy="33393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863360" y="2190960"/>
              <a:ext cx="279360" cy="52920"/>
            </a:xfrm>
            <a:custGeom>
              <a:avLst/>
              <a:gdLst/>
              <a:ahLst/>
              <a:rect l="l" t="t" r="r" b="b"/>
              <a:pathLst>
                <a:path w="162" h="30">
                  <a:moveTo>
                    <a:pt x="120" y="30"/>
                  </a:moveTo>
                  <a:lnTo>
                    <a:pt x="162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20" y="30"/>
                  </a:lnTo>
                  <a:close/>
                </a:path>
              </a:pathLst>
            </a:custGeom>
            <a:solidFill>
              <a:srgbClr val="0099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67640" y="2308320"/>
              <a:ext cx="72360" cy="3275280"/>
            </a:xfrm>
            <a:custGeom>
              <a:avLst/>
              <a:gdLst/>
              <a:ahLst/>
              <a:rect l="l" t="t" r="r" b="b"/>
              <a:pathLst>
                <a:path w="42" h="1842">
                  <a:moveTo>
                    <a:pt x="0" y="1842"/>
                  </a:moveTo>
                  <a:lnTo>
                    <a:pt x="0" y="30"/>
                  </a:lnTo>
                  <a:lnTo>
                    <a:pt x="42" y="0"/>
                  </a:lnTo>
                  <a:lnTo>
                    <a:pt x="42" y="1806"/>
                  </a:lnTo>
                  <a:lnTo>
                    <a:pt x="0" y="1842"/>
                  </a:lnTo>
                  <a:close/>
                </a:path>
              </a:pathLst>
            </a:custGeom>
            <a:solidFill>
              <a:srgbClr val="1a1a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70720" y="2361600"/>
              <a:ext cx="196920" cy="3222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70720" y="2308320"/>
              <a:ext cx="269280" cy="5292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14" y="30"/>
                  </a:moveTo>
                  <a:lnTo>
                    <a:pt x="156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14" y="30"/>
                  </a:lnTo>
                  <a:close/>
                </a:path>
              </a:pathLst>
            </a:custGeom>
            <a:solidFill>
              <a:srgbClr val="2626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79520" y="2639160"/>
              <a:ext cx="72360" cy="2944800"/>
            </a:xfrm>
            <a:custGeom>
              <a:avLst/>
              <a:gdLst/>
              <a:ahLst/>
              <a:rect l="l" t="t" r="r" b="b"/>
              <a:pathLst>
                <a:path w="42" h="1656">
                  <a:moveTo>
                    <a:pt x="0" y="1656"/>
                  </a:moveTo>
                  <a:lnTo>
                    <a:pt x="0" y="30"/>
                  </a:lnTo>
                  <a:lnTo>
                    <a:pt x="42" y="0"/>
                  </a:lnTo>
                  <a:lnTo>
                    <a:pt x="42" y="1620"/>
                  </a:lnTo>
                  <a:lnTo>
                    <a:pt x="0" y="1656"/>
                  </a:lnTo>
                  <a:close/>
                </a:path>
              </a:pathLst>
            </a:custGeom>
            <a:solidFill>
              <a:srgbClr val="006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982600" y="2692800"/>
              <a:ext cx="196920" cy="2891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982600" y="2639160"/>
              <a:ext cx="269280" cy="5328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14" y="30"/>
                  </a:moveTo>
                  <a:lnTo>
                    <a:pt x="156" y="0"/>
                  </a:lnTo>
                  <a:lnTo>
                    <a:pt x="36" y="0"/>
                  </a:lnTo>
                  <a:lnTo>
                    <a:pt x="0" y="30"/>
                  </a:lnTo>
                  <a:lnTo>
                    <a:pt x="114" y="30"/>
                  </a:lnTo>
                  <a:close/>
                </a:path>
              </a:pathLst>
            </a:custGeom>
            <a:solidFill>
              <a:srgbClr val="0099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386520" y="2554200"/>
              <a:ext cx="61920" cy="3029760"/>
            </a:xfrm>
            <a:custGeom>
              <a:avLst/>
              <a:gdLst/>
              <a:ahLst/>
              <a:rect l="l" t="t" r="r" b="b"/>
              <a:pathLst>
                <a:path w="36" h="1704">
                  <a:moveTo>
                    <a:pt x="0" y="1704"/>
                  </a:moveTo>
                  <a:lnTo>
                    <a:pt x="0" y="30"/>
                  </a:lnTo>
                  <a:lnTo>
                    <a:pt x="36" y="0"/>
                  </a:lnTo>
                  <a:lnTo>
                    <a:pt x="36" y="1668"/>
                  </a:lnTo>
                  <a:lnTo>
                    <a:pt x="0" y="1704"/>
                  </a:lnTo>
                  <a:close/>
                </a:path>
              </a:pathLst>
            </a:custGeom>
            <a:solidFill>
              <a:srgbClr val="1a4d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79520" y="2607120"/>
              <a:ext cx="207000" cy="29764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79520" y="2554200"/>
              <a:ext cx="269280" cy="5292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20" y="30"/>
                  </a:moveTo>
                  <a:lnTo>
                    <a:pt x="156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20" y="30"/>
                  </a:lnTo>
                  <a:close/>
                </a:path>
              </a:pathLst>
            </a:custGeom>
            <a:solidFill>
              <a:srgbClr val="2673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583800" y="2575440"/>
              <a:ext cx="72360" cy="3008160"/>
            </a:xfrm>
            <a:custGeom>
              <a:avLst/>
              <a:gdLst/>
              <a:ahLst/>
              <a:rect l="l" t="t" r="r" b="b"/>
              <a:pathLst>
                <a:path w="42" h="1692">
                  <a:moveTo>
                    <a:pt x="0" y="1692"/>
                  </a:moveTo>
                  <a:lnTo>
                    <a:pt x="0" y="36"/>
                  </a:lnTo>
                  <a:lnTo>
                    <a:pt x="42" y="0"/>
                  </a:lnTo>
                  <a:lnTo>
                    <a:pt x="42" y="1656"/>
                  </a:lnTo>
                  <a:lnTo>
                    <a:pt x="0" y="1692"/>
                  </a:lnTo>
                  <a:close/>
                </a:path>
              </a:pathLst>
            </a:custGeom>
            <a:solidFill>
              <a:srgbClr val="668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386520" y="2639160"/>
              <a:ext cx="196920" cy="2944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386520" y="2575440"/>
              <a:ext cx="269280" cy="63360"/>
            </a:xfrm>
            <a:custGeom>
              <a:avLst/>
              <a:gdLst/>
              <a:ahLst/>
              <a:rect l="l" t="t" r="r" b="b"/>
              <a:pathLst>
                <a:path w="156" h="36">
                  <a:moveTo>
                    <a:pt x="114" y="36"/>
                  </a:moveTo>
                  <a:lnTo>
                    <a:pt x="156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114" y="36"/>
                  </a:lnTo>
                  <a:close/>
                </a:path>
              </a:pathLst>
            </a:custGeom>
            <a:solidFill>
              <a:srgbClr val="99b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90800" y="2521800"/>
              <a:ext cx="61920" cy="3061800"/>
            </a:xfrm>
            <a:custGeom>
              <a:avLst/>
              <a:gdLst/>
              <a:ahLst/>
              <a:rect l="l" t="t" r="r" b="b"/>
              <a:pathLst>
                <a:path w="36" h="1722">
                  <a:moveTo>
                    <a:pt x="0" y="1722"/>
                  </a:moveTo>
                  <a:lnTo>
                    <a:pt x="0" y="30"/>
                  </a:lnTo>
                  <a:lnTo>
                    <a:pt x="36" y="0"/>
                  </a:lnTo>
                  <a:lnTo>
                    <a:pt x="36" y="1686"/>
                  </a:lnTo>
                  <a:lnTo>
                    <a:pt x="0" y="1722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83800" y="2575440"/>
              <a:ext cx="207000" cy="3008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583800" y="2521800"/>
              <a:ext cx="269280" cy="5328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20" y="30"/>
                  </a:moveTo>
                  <a:lnTo>
                    <a:pt x="156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20" y="30"/>
                  </a:lnTo>
                  <a:close/>
                </a:path>
              </a:pathLst>
            </a:custGeom>
            <a:solidFill>
              <a:srgbClr val="006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987720" y="2575440"/>
              <a:ext cx="72360" cy="3008160"/>
            </a:xfrm>
            <a:custGeom>
              <a:avLst/>
              <a:gdLst/>
              <a:ahLst/>
              <a:rect l="l" t="t" r="r" b="b"/>
              <a:pathLst>
                <a:path w="42" h="1692">
                  <a:moveTo>
                    <a:pt x="0" y="1692"/>
                  </a:moveTo>
                  <a:lnTo>
                    <a:pt x="0" y="36"/>
                  </a:lnTo>
                  <a:lnTo>
                    <a:pt x="42" y="0"/>
                  </a:lnTo>
                  <a:lnTo>
                    <a:pt x="42" y="1656"/>
                  </a:lnTo>
                  <a:lnTo>
                    <a:pt x="0" y="1692"/>
                  </a:lnTo>
                  <a:close/>
                </a:path>
              </a:pathLst>
            </a:custGeom>
            <a:solidFill>
              <a:srgbClr val="001a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790800" y="2639160"/>
              <a:ext cx="196920" cy="29448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790800" y="2575440"/>
              <a:ext cx="269280" cy="63360"/>
            </a:xfrm>
            <a:custGeom>
              <a:avLst/>
              <a:gdLst/>
              <a:ahLst/>
              <a:rect l="l" t="t" r="r" b="b"/>
              <a:pathLst>
                <a:path w="156" h="36">
                  <a:moveTo>
                    <a:pt x="114" y="36"/>
                  </a:moveTo>
                  <a:lnTo>
                    <a:pt x="156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114" y="36"/>
                  </a:lnTo>
                  <a:close/>
                </a:path>
              </a:pathLst>
            </a:custGeom>
            <a:solidFill>
              <a:srgbClr val="002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195080" y="2425680"/>
              <a:ext cx="61920" cy="3157920"/>
            </a:xfrm>
            <a:custGeom>
              <a:avLst/>
              <a:gdLst/>
              <a:ahLst/>
              <a:rect l="l" t="t" r="r" b="b"/>
              <a:pathLst>
                <a:path w="36" h="1776">
                  <a:moveTo>
                    <a:pt x="0" y="1776"/>
                  </a:moveTo>
                  <a:lnTo>
                    <a:pt x="0" y="30"/>
                  </a:lnTo>
                  <a:lnTo>
                    <a:pt x="36" y="0"/>
                  </a:lnTo>
                  <a:lnTo>
                    <a:pt x="36" y="1740"/>
                  </a:lnTo>
                  <a:lnTo>
                    <a:pt x="0" y="1776"/>
                  </a:lnTo>
                  <a:close/>
                </a:path>
              </a:pathLst>
            </a:custGeom>
            <a:solidFill>
              <a:srgbClr val="4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987720" y="2479320"/>
              <a:ext cx="207000" cy="310428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87720" y="2425680"/>
              <a:ext cx="269280" cy="5328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20" y="30"/>
                  </a:moveTo>
                  <a:lnTo>
                    <a:pt x="156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20" y="30"/>
                  </a:lnTo>
                  <a:close/>
                </a:path>
              </a:pathLst>
            </a:custGeom>
            <a:solidFill>
              <a:srgbClr val="606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390200" y="2489760"/>
              <a:ext cx="72360" cy="3093840"/>
            </a:xfrm>
            <a:custGeom>
              <a:avLst/>
              <a:gdLst/>
              <a:ahLst/>
              <a:rect l="l" t="t" r="r" b="b"/>
              <a:pathLst>
                <a:path w="42" h="1740">
                  <a:moveTo>
                    <a:pt x="0" y="1740"/>
                  </a:moveTo>
                  <a:lnTo>
                    <a:pt x="0" y="30"/>
                  </a:lnTo>
                  <a:lnTo>
                    <a:pt x="42" y="0"/>
                  </a:lnTo>
                  <a:lnTo>
                    <a:pt x="42" y="1704"/>
                  </a:lnTo>
                  <a:lnTo>
                    <a:pt x="0" y="17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95080" y="2543040"/>
              <a:ext cx="194760" cy="30405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195080" y="2489760"/>
              <a:ext cx="267480" cy="52920"/>
            </a:xfrm>
            <a:custGeom>
              <a:avLst/>
              <a:gdLst/>
              <a:ahLst/>
              <a:rect l="l" t="t" r="r" b="b"/>
              <a:pathLst>
                <a:path w="155" h="30">
                  <a:moveTo>
                    <a:pt x="113" y="30"/>
                  </a:moveTo>
                  <a:lnTo>
                    <a:pt x="155" y="0"/>
                  </a:lnTo>
                  <a:lnTo>
                    <a:pt x="36" y="0"/>
                  </a:lnTo>
                  <a:lnTo>
                    <a:pt x="0" y="30"/>
                  </a:lnTo>
                  <a:lnTo>
                    <a:pt x="113" y="30"/>
                  </a:lnTo>
                  <a:close/>
                </a:path>
              </a:pathLst>
            </a:custGeom>
            <a:solidFill>
              <a:srgbClr val="00b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98160" y="2735640"/>
              <a:ext cx="61560" cy="2848320"/>
            </a:xfrm>
            <a:custGeom>
              <a:avLst/>
              <a:gdLst/>
              <a:ahLst/>
              <a:rect l="l" t="t" r="r" b="b"/>
              <a:pathLst>
                <a:path w="36" h="1602">
                  <a:moveTo>
                    <a:pt x="0" y="1602"/>
                  </a:moveTo>
                  <a:lnTo>
                    <a:pt x="0" y="30"/>
                  </a:lnTo>
                  <a:lnTo>
                    <a:pt x="36" y="0"/>
                  </a:lnTo>
                  <a:lnTo>
                    <a:pt x="36" y="1566"/>
                  </a:lnTo>
                  <a:lnTo>
                    <a:pt x="0" y="1602"/>
                  </a:lnTo>
                  <a:close/>
                </a:path>
              </a:pathLst>
            </a:custGeom>
            <a:solidFill>
              <a:srgbClr val="806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90800" y="2788560"/>
              <a:ext cx="207000" cy="2795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90800" y="2735640"/>
              <a:ext cx="268920" cy="5292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20" y="30"/>
                  </a:moveTo>
                  <a:lnTo>
                    <a:pt x="156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20" y="30"/>
                  </a:lnTo>
                  <a:close/>
                </a:path>
              </a:pathLst>
            </a:custGeom>
            <a:solidFill>
              <a:srgbClr val="bf99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094720" y="2735640"/>
              <a:ext cx="72720" cy="2848320"/>
            </a:xfrm>
            <a:custGeom>
              <a:avLst/>
              <a:gdLst/>
              <a:ahLst/>
              <a:rect l="l" t="t" r="r" b="b"/>
              <a:pathLst>
                <a:path w="42" h="1602">
                  <a:moveTo>
                    <a:pt x="0" y="1602"/>
                  </a:moveTo>
                  <a:lnTo>
                    <a:pt x="0" y="30"/>
                  </a:lnTo>
                  <a:lnTo>
                    <a:pt x="42" y="0"/>
                  </a:lnTo>
                  <a:lnTo>
                    <a:pt x="42" y="1566"/>
                  </a:lnTo>
                  <a:lnTo>
                    <a:pt x="0" y="1602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898160" y="2788560"/>
              <a:ext cx="196560" cy="2795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898160" y="2735640"/>
              <a:ext cx="269280" cy="5292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14" y="30"/>
                  </a:moveTo>
                  <a:lnTo>
                    <a:pt x="156" y="0"/>
                  </a:lnTo>
                  <a:lnTo>
                    <a:pt x="36" y="0"/>
                  </a:lnTo>
                  <a:lnTo>
                    <a:pt x="0" y="30"/>
                  </a:lnTo>
                  <a:lnTo>
                    <a:pt x="114" y="30"/>
                  </a:lnTo>
                  <a:close/>
                </a:path>
              </a:pathLst>
            </a:custGeom>
            <a:solidFill>
              <a:srgbClr val="bfb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302440" y="2639160"/>
              <a:ext cx="61560" cy="2944800"/>
            </a:xfrm>
            <a:custGeom>
              <a:avLst/>
              <a:gdLst/>
              <a:ahLst/>
              <a:rect l="l" t="t" r="r" b="b"/>
              <a:pathLst>
                <a:path w="36" h="1656">
                  <a:moveTo>
                    <a:pt x="0" y="1656"/>
                  </a:moveTo>
                  <a:lnTo>
                    <a:pt x="0" y="30"/>
                  </a:lnTo>
                  <a:lnTo>
                    <a:pt x="36" y="0"/>
                  </a:lnTo>
                  <a:lnTo>
                    <a:pt x="36" y="1620"/>
                  </a:lnTo>
                  <a:lnTo>
                    <a:pt x="0" y="1656"/>
                  </a:lnTo>
                  <a:close/>
                </a:path>
              </a:pathLst>
            </a:custGeom>
            <a:solidFill>
              <a:srgbClr val="8080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94720" y="2692800"/>
              <a:ext cx="207360" cy="2891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94720" y="2639160"/>
              <a:ext cx="269280" cy="5328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20" y="30"/>
                  </a:moveTo>
                  <a:lnTo>
                    <a:pt x="156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20" y="30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607800" y="2884680"/>
              <a:ext cx="72720" cy="2698920"/>
            </a:xfrm>
            <a:custGeom>
              <a:avLst/>
              <a:gdLst/>
              <a:ahLst/>
              <a:rect l="l" t="t" r="r" b="b"/>
              <a:pathLst>
                <a:path w="42" h="1518">
                  <a:moveTo>
                    <a:pt x="0" y="1518"/>
                  </a:moveTo>
                  <a:lnTo>
                    <a:pt x="0" y="30"/>
                  </a:lnTo>
                  <a:lnTo>
                    <a:pt x="42" y="0"/>
                  </a:lnTo>
                  <a:lnTo>
                    <a:pt x="42" y="1482"/>
                  </a:lnTo>
                  <a:lnTo>
                    <a:pt x="0" y="151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411240" y="2937960"/>
              <a:ext cx="196560" cy="264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411240" y="2884680"/>
              <a:ext cx="269280" cy="5292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14" y="30"/>
                  </a:moveTo>
                  <a:lnTo>
                    <a:pt x="156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14" y="30"/>
                  </a:lnTo>
                  <a:close/>
                </a:path>
              </a:pathLst>
            </a:custGeom>
            <a:solidFill>
              <a:srgbClr val="b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1106640" y="1977840"/>
              <a:ext cx="1800" cy="360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1054800" y="5583960"/>
              <a:ext cx="5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1054800" y="4975920"/>
              <a:ext cx="5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1054800" y="4378320"/>
              <a:ext cx="5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1054800" y="3780720"/>
              <a:ext cx="51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1054800" y="3172680"/>
              <a:ext cx="51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1054800" y="2575440"/>
              <a:ext cx="5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1054800" y="1977840"/>
              <a:ext cx="5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79120" y="5434200"/>
              <a:ext cx="329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44840" y="4826160"/>
              <a:ext cx="45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44840" y="4228920"/>
              <a:ext cx="45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44840" y="3631320"/>
              <a:ext cx="45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4840" y="3023280"/>
              <a:ext cx="45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0200" y="242568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0200" y="182880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106640" y="5583960"/>
              <a:ext cx="686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106640" y="5583960"/>
              <a:ext cx="1800" cy="5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27080" y="5583960"/>
              <a:ext cx="1800" cy="5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545720" y="5583960"/>
              <a:ext cx="1800" cy="5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255720" y="5583960"/>
              <a:ext cx="1440" cy="5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975800" y="5583960"/>
              <a:ext cx="1440" cy="5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294920" y="5701320"/>
              <a:ext cx="141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upermar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025800" y="5701320"/>
              <a:ext cx="141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Hypermar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13000" y="570132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isko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888240" y="5701320"/>
              <a:ext cx="61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&amp;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3352680" y="76212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ice differ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43640" y="3141720"/>
            <a:ext cx="31435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Times New Roman"/>
              </a:rPr>
              <a:t>Targe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685800" y="1117440"/>
            <a:ext cx="8077320" cy="502128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2357280" y="99072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verage time spent in shopping 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684360" y="611280"/>
            <a:ext cx="777384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3889440" cy="3801960"/>
          </a:xfrm>
          <a:prstGeom prst="rect">
            <a:avLst/>
          </a:prstGeom>
          <a:ln w="0">
            <a:noFill/>
          </a:ln>
        </p:spPr>
      </p:pic>
      <p:pic>
        <p:nvPicPr>
          <p:cNvPr id="945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3889440" cy="380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>
            <a:off x="735120" y="71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78200" y="404640"/>
            <a:ext cx="531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elling time rest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116000" y="148428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hops open during red-letter da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50520" y="5829480"/>
            <a:ext cx="100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n-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518520" y="5827680"/>
            <a:ext cx="1828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en untill 22:00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5880" y="630720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fK Praha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195640" y="29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300720" y="29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96720" y="366696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301800" y="364500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196720" y="458136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301800" y="458136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182080" cy="508608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1676520" y="762120"/>
            <a:ext cx="64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spend more time in the hypermarket if it improved its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304920" y="447840"/>
            <a:ext cx="815004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304920" y="1868400"/>
            <a:ext cx="8531280" cy="311796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179280" y="2060640"/>
            <a:ext cx="89647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800" spc="-1" strike="noStrike">
                <a:solidFill>
                  <a:srgbClr val="000000"/>
                </a:solidFill>
                <a:latin typeface="Times New Roman"/>
              </a:rPr>
              <a:t>Loyalty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" descr=""/>
          <p:cNvPicPr/>
          <p:nvPr/>
        </p:nvPicPr>
        <p:blipFill>
          <a:blip r:embed="rId1"/>
          <a:stretch/>
        </p:blipFill>
        <p:spPr>
          <a:xfrm>
            <a:off x="2014560" y="1071720"/>
            <a:ext cx="51148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41160" y="380880"/>
            <a:ext cx="61016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Retail in Czech Republ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(overvie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90512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 market of consumer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al development in the past 1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ier’s dominance transformed into customer’s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m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national supply companies established new, m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and modern distribution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rket proportion of hypermarkets, supermarke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ount stores is fully comparable to the Wes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an countrie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ual tendenc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 new contradictious tendenc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trade channe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ccordance with PriceWaterhouse Coopers, more than 50% of food will be traded outside classical retail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at is, in independent convenience stores, stalls, in marketplace or multiplex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sav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-centered not technology-cen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 rot="1816800">
            <a:off x="4932360" y="765000"/>
            <a:ext cx="4032360" cy="3600720"/>
          </a:xfrm>
          <a:prstGeom prst="irregularSeal2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wo-way sh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T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ing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parent families, singles, one child 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ime for sho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C in Czech r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over 5-10 mdl. CZK per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 of grow: 10 – 20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contradictious tendency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ER CAPITA PURCHASING PARITY LEVEL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CENTRAL EUROPE RELATED TO EU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921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3534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0" y="519120"/>
            <a:ext cx="91440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4" name=""/>
          <p:cNvGraphicFramePr/>
          <p:nvPr/>
        </p:nvGraphicFramePr>
        <p:xfrm>
          <a:off x="380880" y="990720"/>
          <a:ext cx="8382240" cy="495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38224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6" name=""/>
          <p:cNvGrpSpPr/>
          <p:nvPr/>
        </p:nvGrpSpPr>
        <p:grpSpPr>
          <a:xfrm>
            <a:off x="252360" y="304920"/>
            <a:ext cx="8686800" cy="6159240"/>
            <a:chOff x="252360" y="304920"/>
            <a:chExt cx="8686800" cy="6159240"/>
          </a:xfrm>
        </p:grpSpPr>
        <p:sp>
          <p:nvSpPr>
            <p:cNvPr id="977" name=""/>
            <p:cNvSpPr/>
            <p:nvPr/>
          </p:nvSpPr>
          <p:spPr>
            <a:xfrm>
              <a:off x="4881600" y="1630440"/>
              <a:ext cx="1440" cy="436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827600" y="5991120"/>
              <a:ext cx="5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827600" y="4900680"/>
              <a:ext cx="5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827600" y="3811680"/>
              <a:ext cx="5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827600" y="2719440"/>
              <a:ext cx="5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27600" y="1630440"/>
              <a:ext cx="5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57280" y="3811680"/>
              <a:ext cx="6921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557280" y="3811320"/>
              <a:ext cx="1440" cy="6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1425600" y="3811320"/>
              <a:ext cx="1440" cy="6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2284560" y="3811320"/>
              <a:ext cx="1440" cy="6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3152880" y="3811320"/>
              <a:ext cx="1440" cy="6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4022640" y="3811320"/>
              <a:ext cx="1800" cy="6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4881600" y="3811320"/>
              <a:ext cx="1440" cy="6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749920" y="3811320"/>
              <a:ext cx="1440" cy="6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6610320" y="3811320"/>
              <a:ext cx="1440" cy="6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7478640" y="3811320"/>
              <a:ext cx="1800" cy="6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316640" y="3341520"/>
              <a:ext cx="63720" cy="7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 flipV="1">
              <a:off x="7316640" y="3341160"/>
              <a:ext cx="28800" cy="320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345440" y="3373560"/>
              <a:ext cx="270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316640" y="3373560"/>
              <a:ext cx="288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7345440" y="3341160"/>
              <a:ext cx="27000" cy="320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7345440" y="3341160"/>
              <a:ext cx="1440" cy="320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345440" y="3373560"/>
              <a:ext cx="14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265720" y="3249720"/>
              <a:ext cx="65160" cy="7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5265360" y="3249720"/>
              <a:ext cx="284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294160" y="3281400"/>
              <a:ext cx="270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5265360" y="3281400"/>
              <a:ext cx="284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5294160" y="3249720"/>
              <a:ext cx="270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5294160" y="3249720"/>
              <a:ext cx="18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94160" y="3281400"/>
              <a:ext cx="18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174680" y="3830760"/>
              <a:ext cx="61920" cy="7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flipV="1">
              <a:off x="1174320" y="3830760"/>
              <a:ext cx="2556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00240" y="3862440"/>
              <a:ext cx="284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1174320" y="3862440"/>
              <a:ext cx="2556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1200240" y="3830760"/>
              <a:ext cx="284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1200240" y="3830760"/>
              <a:ext cx="14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00240" y="3862440"/>
              <a:ext cx="14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82960" y="4370400"/>
              <a:ext cx="61920" cy="7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 flipV="1">
              <a:off x="2982600" y="4370400"/>
              <a:ext cx="270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009960" y="4402080"/>
              <a:ext cx="270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2982600" y="4402080"/>
              <a:ext cx="270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009960" y="4370400"/>
              <a:ext cx="270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3009960" y="4370400"/>
              <a:ext cx="32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009960" y="4402080"/>
              <a:ext cx="32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108840" y="2128680"/>
              <a:ext cx="61920" cy="7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 flipV="1">
              <a:off x="6108480" y="2128680"/>
              <a:ext cx="2700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135840" y="2158920"/>
              <a:ext cx="270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6108480" y="2158920"/>
              <a:ext cx="270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6135840" y="2128680"/>
              <a:ext cx="2700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6135840" y="2128680"/>
              <a:ext cx="144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135840" y="2158920"/>
              <a:ext cx="14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43520" y="5794200"/>
              <a:ext cx="63360" cy="71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flipV="1">
              <a:off x="4943160" y="5794200"/>
              <a:ext cx="2844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971960" y="5824440"/>
              <a:ext cx="2556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4943160" y="5824440"/>
              <a:ext cx="2844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4971960" y="5794200"/>
              <a:ext cx="2556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4971960" y="5794200"/>
              <a:ext cx="180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971960" y="5824440"/>
              <a:ext cx="180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275440" y="4443480"/>
              <a:ext cx="61560" cy="7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flipV="1">
              <a:off x="5275440" y="4443480"/>
              <a:ext cx="266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302080" y="4475160"/>
              <a:ext cx="2880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5275440" y="4475160"/>
              <a:ext cx="2664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5302080" y="4443480"/>
              <a:ext cx="288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5302080" y="4443480"/>
              <a:ext cx="32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302080" y="4475160"/>
              <a:ext cx="324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9960" y="4224240"/>
              <a:ext cx="959040" cy="603360"/>
            </a:xfrm>
            <a:prstGeom prst="rect">
              <a:avLst/>
            </a:prstGeom>
            <a:solidFill>
              <a:srgbClr val="e0ffe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39680" y="4287960"/>
              <a:ext cx="279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cc0099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cc0099"/>
                  </a:solidFill>
                  <a:latin typeface="FuturTEE"/>
                </a:rPr>
                <a:t>Unpretentious stoic</a:t>
              </a:r>
              <a:r>
                <a:rPr b="1" lang="cs-CZ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703760" y="5595840"/>
              <a:ext cx="652320" cy="354240"/>
            </a:xfrm>
            <a:prstGeom prst="rect">
              <a:avLst/>
            </a:prstGeom>
            <a:solidFill>
              <a:srgbClr val="e0ffe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588560" y="5657760"/>
              <a:ext cx="2283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d60093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d60093"/>
                  </a:solidFill>
                  <a:latin typeface="FuturTEE"/>
                </a:rPr>
                <a:t>Loyal housewi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88000" y="1859040"/>
              <a:ext cx="895320" cy="601560"/>
            </a:xfrm>
            <a:prstGeom prst="rect">
              <a:avLst/>
            </a:prstGeom>
            <a:solidFill>
              <a:srgbClr val="e0ffe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840280" y="1920960"/>
              <a:ext cx="1398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d60093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d60093"/>
                  </a:solidFill>
                  <a:latin typeface="FuturTEE"/>
                </a:rPr>
                <a:t>Mobile prag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401920" y="4100400"/>
              <a:ext cx="1225440" cy="603360"/>
            </a:xfrm>
            <a:prstGeom prst="rect">
              <a:avLst/>
            </a:prstGeom>
            <a:solidFill>
              <a:srgbClr val="e0ffe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95680" y="4164120"/>
              <a:ext cx="15238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d60093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d60093"/>
                  </a:solidFill>
                  <a:latin typeface="FuturTEE"/>
                </a:rPr>
                <a:t>Cautious Conservat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51040" y="3706920"/>
              <a:ext cx="626760" cy="352440"/>
            </a:xfrm>
            <a:prstGeom prst="rect">
              <a:avLst/>
            </a:prstGeom>
            <a:solidFill>
              <a:srgbClr val="e0ffe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87400" y="3767040"/>
              <a:ext cx="919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d60093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d60093"/>
                  </a:solidFill>
                  <a:latin typeface="Arial"/>
                </a:rPr>
                <a:t>Sa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881600" y="3103560"/>
              <a:ext cx="752400" cy="352440"/>
            </a:xfrm>
            <a:prstGeom prst="rect">
              <a:avLst/>
            </a:prstGeom>
            <a:solidFill>
              <a:srgbClr val="e0ffe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830480" y="3166920"/>
              <a:ext cx="152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d60093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d60093"/>
                  </a:solidFill>
                  <a:latin typeface="FuturTEE"/>
                </a:rPr>
                <a:t>Ambiti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797520" y="3198960"/>
              <a:ext cx="1013040" cy="352440"/>
            </a:xfrm>
            <a:prstGeom prst="rect">
              <a:avLst/>
            </a:prstGeom>
            <a:solidFill>
              <a:srgbClr val="e0ffe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689520" y="325908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d60093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d60093"/>
                  </a:solidFill>
                  <a:latin typeface="FuturTEE"/>
                </a:rPr>
                <a:t>Influence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538520" y="5886360"/>
              <a:ext cx="33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538520" y="4795920"/>
              <a:ext cx="33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434120" y="3706920"/>
              <a:ext cx="42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434120" y="2616120"/>
              <a:ext cx="42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1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434120" y="1527120"/>
              <a:ext cx="42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1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46040" y="4017960"/>
              <a:ext cx="33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314360" y="4017960"/>
              <a:ext cx="33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174760" y="4017960"/>
              <a:ext cx="33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7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043080" y="4017960"/>
              <a:ext cx="33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911400" y="4017960"/>
              <a:ext cx="33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9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21400" y="4017960"/>
              <a:ext cx="42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89720" y="4017960"/>
              <a:ext cx="42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1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50120" y="4017960"/>
              <a:ext cx="42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1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318440" y="4017960"/>
              <a:ext cx="42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13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504960" y="6095880"/>
              <a:ext cx="206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refer smaller st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657600" y="11430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refer hypermark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52360" y="4573440"/>
              <a:ext cx="16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uy necessary thing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415280" y="449748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Buy avoidable things as w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047040" y="304920"/>
              <a:ext cx="30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hopping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havio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474747"/>
                </a:solidFill>
                <a:latin typeface="Arial CE"/>
              </a:rPr>
              <a:t>Trademarks of retail chains</a:t>
            </a:r>
            <a:br>
              <a:rPr sz="1600"/>
            </a:br>
            <a:r>
              <a:rPr b="1" lang="cs-CZ" sz="1600" spc="-1" strike="noStrike">
                <a:solidFill>
                  <a:srgbClr val="474747"/>
                </a:solidFill>
                <a:latin typeface="Arial CE"/>
              </a:rPr>
              <a:t>economical (best price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Clever (Billa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Euro Shopper (Albert, Hypernova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Mince (J. Meinl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Tesco výhodný nákup (Tesco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1 (Carrefour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365 (Delvita)</a:t>
            </a:r>
            <a:br>
              <a:rPr sz="1600"/>
            </a:br>
            <a:r>
              <a:rPr b="1" lang="cs-CZ" sz="1600" spc="-1" strike="noStrike">
                <a:solidFill>
                  <a:srgbClr val="474747"/>
                </a:solidFill>
                <a:latin typeface="Arial CE"/>
              </a:rPr>
              <a:t>standard quality for better price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Albert (Albert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Carrefour (Carrefour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Delvita (Delvita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Hypernova (Hypernova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Spar (Interspar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Tesco (Tesco)</a:t>
            </a:r>
            <a:br>
              <a:rPr sz="1600"/>
            </a:br>
            <a:r>
              <a:rPr b="1" lang="cs-CZ" sz="1600" spc="-1" strike="noStrike">
                <a:solidFill>
                  <a:srgbClr val="474747"/>
                </a:solidFill>
                <a:latin typeface="Arial CE"/>
              </a:rPr>
              <a:t>special (selected range of products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Best farm (Kaufland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Selský dvůr (Hypernova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Chef Menü (Billa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Extra kvalita (Delvita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Quality first (Billa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Julius Meinl (J. Meinl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9556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001" descr=""/>
          <p:cNvPicPr/>
          <p:nvPr/>
        </p:nvPicPr>
        <p:blipFill>
          <a:blip r:embed="rId1"/>
          <a:stretch/>
        </p:blipFill>
        <p:spPr>
          <a:xfrm>
            <a:off x="609480" y="351000"/>
            <a:ext cx="7620120" cy="5919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25360" y="552600"/>
            <a:ext cx="6324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hare of turnover per proprietor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1447920"/>
            <a:ext cx="18288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o-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0040" y="1447920"/>
            <a:ext cx="206676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62040"/>
            <a:ext cx="914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00000" y="333360"/>
            <a:ext cx="70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mulative number of hyper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941400"/>
            <a:ext cx="914400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8640" y="189000"/>
            <a:ext cx="8314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oor space of hypermarkets in squere meters per 1000 inhabi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differences in per capita purchasing power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the Czech regions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058160" cy="4622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5160" y="6040440"/>
            <a:ext cx="78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ource: Purchasing power in the Czech districts and municipalities 2005 (GfK + INCOM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ech Re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rchasing parity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or space in square meters per inhabitn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68880" y="533520"/>
            <a:ext cx="790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 chains attendance during the past six mon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2:15:06Z</dcterms:created>
  <dc:creator>dodo</dc:creator>
  <dc:description/>
  <dc:language>en-US</dc:language>
  <cp:lastModifiedBy>Škapa</cp:lastModifiedBy>
  <dcterms:modified xsi:type="dcterms:W3CDTF">2006-04-02T16:38:22Z</dcterms:modified>
  <cp:revision>94</cp:revision>
  <dc:subject/>
  <dc:title>Prezentace aplikace PowerPoint</dc:title>
</cp:coreProperties>
</file>