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7F4-7B9F-483E-8187-623E1525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FED-03A0-4ED4-9688-7B4BC59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BF6-4EA5-48BB-AE25-46187EDC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DD5-A56B-40E9-B9D8-1B432E8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354-29B9-4CD2-8002-49188E0C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EDA-B66E-41B0-903C-212B9C9F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4B6-81D7-4FAB-A699-F83C819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60F-CF57-4D39-A3E4-83FDD84F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B2C-9FF2-4AA6-B85D-1FAA427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177-DEBD-4D42-BAE9-99D9CE9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A6F-1E03-4C9A-9535-F32F453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36C-DF7B-4D3A-A494-BB5FF8F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AE3E-4872-4740-B385-788A532B1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adoslav Šk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2590920"/>
            <a:ext cx="60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tail in Czech Republi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754200"/>
            <a:ext cx="8229600" cy="534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43640" y="3213000"/>
            <a:ext cx="21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hare of TOP 10 in quick turnover goods – 53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o further grow expected = consolidation in Czech r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10200" y="1828800"/>
            <a:ext cx="7437600" cy="4116240"/>
            <a:chOff x="610200" y="1828800"/>
            <a:chExt cx="7437600" cy="4116240"/>
          </a:xfrm>
        </p:grpSpPr>
        <p:grpSp>
          <p:nvGrpSpPr>
            <p:cNvPr id="65" name=""/>
            <p:cNvGrpSpPr/>
            <p:nvPr/>
          </p:nvGrpSpPr>
          <p:grpSpPr>
            <a:xfrm>
              <a:off x="1086120" y="1913760"/>
              <a:ext cx="6961680" cy="3680280"/>
              <a:chOff x="1086120" y="1913760"/>
              <a:chExt cx="6961680" cy="3680280"/>
            </a:xfrm>
          </p:grpSpPr>
          <p:sp>
            <p:nvSpPr>
              <p:cNvPr id="66" name=""/>
              <p:cNvSpPr/>
              <p:nvPr/>
            </p:nvSpPr>
            <p:spPr>
              <a:xfrm>
                <a:off x="1106640" y="5519520"/>
                <a:ext cx="6941160" cy="64080"/>
              </a:xfrm>
              <a:custGeom>
                <a:avLst/>
                <a:gdLst/>
                <a:ahLst/>
                <a:rect l="l" t="t" r="r" b="b"/>
                <a:pathLst>
                  <a:path w="4019" h="36">
                    <a:moveTo>
                      <a:pt x="0" y="36"/>
                    </a:moveTo>
                    <a:lnTo>
                      <a:pt x="42" y="0"/>
                    </a:lnTo>
                    <a:lnTo>
                      <a:pt x="4019" y="0"/>
                    </a:lnTo>
                    <a:lnTo>
                      <a:pt x="3977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06640" y="1913760"/>
                <a:ext cx="72720" cy="3669840"/>
              </a:xfrm>
              <a:custGeom>
                <a:avLst/>
                <a:gdLst/>
                <a:ahLst/>
                <a:rect l="l" t="t" r="r" b="b"/>
                <a:pathLst>
                  <a:path w="42" h="2064">
                    <a:moveTo>
                      <a:pt x="0" y="2064"/>
                    </a:moveTo>
                    <a:lnTo>
                      <a:pt x="0" y="36"/>
                    </a:lnTo>
                    <a:lnTo>
                      <a:pt x="42" y="0"/>
                    </a:lnTo>
                    <a:lnTo>
                      <a:pt x="42" y="2028"/>
                    </a:lnTo>
                    <a:lnTo>
                      <a:pt x="0" y="206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79720" y="1913760"/>
                <a:ext cx="6868080" cy="360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86120" y="557280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37960" y="553032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002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62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24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6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900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10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73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35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9776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59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21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84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465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08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70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33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949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568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19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381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44368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505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67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630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24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543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166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78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94120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03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65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27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18996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1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314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76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387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006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62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25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68712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49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811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73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88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97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0600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223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84640" y="55195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46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08840" y="551952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69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1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93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55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17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80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42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04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66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28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91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53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15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177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39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020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4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26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885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508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12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75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373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996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1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923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85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048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109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72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34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96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58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20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83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45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07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669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32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942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56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184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9807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430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04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672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295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918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537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160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779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402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0212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6440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266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889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5088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1316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75440" y="55195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7720" y="551952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86120" y="49647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37960" y="493272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2002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62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324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386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4900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10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73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35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69776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59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21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84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465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008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070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33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949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568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19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81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44368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05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67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0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924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543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166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78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4120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03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65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27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8996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51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14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76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387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006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62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25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712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49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11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73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3588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97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600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223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84640" y="492192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6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08840" y="492192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69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31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93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55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17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0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42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04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66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928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991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53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15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77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9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020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64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26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885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5508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612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75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373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7996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1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23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85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48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09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72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4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086120" y="3717000"/>
              <a:ext cx="6961680" cy="1215720"/>
              <a:chOff x="1086120" y="3717000"/>
              <a:chExt cx="6961680" cy="1215720"/>
            </a:xfrm>
          </p:grpSpPr>
          <p:sp>
            <p:nvSpPr>
              <p:cNvPr id="267" name=""/>
              <p:cNvSpPr/>
              <p:nvPr/>
            </p:nvSpPr>
            <p:spPr>
              <a:xfrm>
                <a:off x="6296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58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20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83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45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607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69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32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42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56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84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807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0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4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672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295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918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537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160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779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02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0212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6440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266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889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85088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1316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75440" y="492192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37720" y="492192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86120" y="43675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37960" y="433548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2002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262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24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386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4900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10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73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35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9776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59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1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884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465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008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070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949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568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319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81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4368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05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567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30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924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543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166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78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4120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03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65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27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8996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1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14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76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387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006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62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25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8712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49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11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73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3588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97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0600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223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84640" y="432468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46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08840" y="432468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69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31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3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55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17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0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42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04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66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928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991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53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115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177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39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020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64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426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885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5508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12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75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373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996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61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3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5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48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09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72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34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96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58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420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83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45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07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69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32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942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56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184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807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430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04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1672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2295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2918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537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160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779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402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0212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6440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7266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7889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85088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91316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75440" y="432468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37720" y="432468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86120" y="37699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37960" y="37274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02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62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24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86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4900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510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5732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354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9776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7596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219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8842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465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008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70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330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1949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568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3191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814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4368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05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67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630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924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543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166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78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4120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0031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0654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76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8996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51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141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3764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387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006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5629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6252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8712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4904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113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73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3588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978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0600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23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84640" y="371700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4656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08840" y="371700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93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316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9388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5580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17720" y="371700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1086120" y="2521800"/>
              <a:ext cx="6961680" cy="1205280"/>
              <a:chOff x="1086120" y="2521800"/>
              <a:chExt cx="6961680" cy="1205280"/>
            </a:xfrm>
          </p:grpSpPr>
          <p:sp>
            <p:nvSpPr>
              <p:cNvPr id="468" name=""/>
              <p:cNvSpPr/>
              <p:nvPr/>
            </p:nvSpPr>
            <p:spPr>
              <a:xfrm>
                <a:off x="4680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42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8045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866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28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91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533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15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177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39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020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64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26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4885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08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12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675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373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7996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1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23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85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48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099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72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34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96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3586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20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483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45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074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732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942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856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184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807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430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104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672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295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2918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537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4160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779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402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0212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66440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266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7889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5088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91316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75440" y="37166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37720" y="371664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86120" y="31618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37960" y="312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002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262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24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86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4900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10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573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35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9776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59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21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84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9465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08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70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133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949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568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19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381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44368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05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67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30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924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7543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8166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878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4120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03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65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27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8996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51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14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376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4387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006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562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25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8712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749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811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73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3588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97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600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1223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84640" y="3119040"/>
                <a:ext cx="2016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46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08840" y="3119040"/>
                <a:ext cx="19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69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431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93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55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17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80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42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804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66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28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91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53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15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77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239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020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64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426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4885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08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12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75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373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96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1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23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985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48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109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172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4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96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58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420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483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45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07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669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32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7942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6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184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807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430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104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1672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295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918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537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160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779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402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0212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6440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266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889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5088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1316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75440" y="3119040"/>
                <a:ext cx="2052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037720" y="3119040"/>
                <a:ext cx="10080" cy="10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86120" y="25642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37960" y="253260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2002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262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24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86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900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10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73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35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69776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759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821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884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9465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08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70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33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949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568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319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381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44368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05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67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30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924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7543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166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78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94120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03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086120" y="1913760"/>
              <a:ext cx="6961680" cy="3669840"/>
              <a:chOff x="1086120" y="1913760"/>
              <a:chExt cx="6961680" cy="3669840"/>
            </a:xfrm>
          </p:grpSpPr>
          <p:sp>
            <p:nvSpPr>
              <p:cNvPr id="669" name=""/>
              <p:cNvSpPr/>
              <p:nvPr/>
            </p:nvSpPr>
            <p:spPr>
              <a:xfrm>
                <a:off x="3065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27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8996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51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314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376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387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06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2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25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8712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49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11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73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3588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997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600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223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184640" y="252180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246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308840" y="252180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69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31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3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55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17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680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2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04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66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28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91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53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15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77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39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020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364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26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4885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5508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612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675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373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996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1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23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85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48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09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172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234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296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58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420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83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545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07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669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732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942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856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84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807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430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4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72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295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918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537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4160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4779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5402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0212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6440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266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7889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5088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1316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75440" y="252180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037720" y="252180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086120" y="1967040"/>
                <a:ext cx="31320" cy="208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137960" y="19245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2002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262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24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86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4900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10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73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35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69776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759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821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884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9465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08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070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33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1949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568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319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381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44368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505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67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30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924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7543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8166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78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94120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3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65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127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8996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51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14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76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387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006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562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625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8712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49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11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73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93588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997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0600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1223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84640" y="1913760"/>
                <a:ext cx="2016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246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308840" y="1913760"/>
                <a:ext cx="19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369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431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493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555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17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80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742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804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66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28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991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53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115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77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39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3020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364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26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4885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5508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12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675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7373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7996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1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923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85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48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109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72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234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296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58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20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83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545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07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69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32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7942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56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184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9807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430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04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1672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295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918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537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4160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4779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5402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60212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6440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266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889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85088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91316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75440" y="1913760"/>
                <a:ext cx="2052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037720" y="1913760"/>
                <a:ext cx="10080" cy="10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106640" y="5519520"/>
                <a:ext cx="6941160" cy="64080"/>
              </a:xfrm>
              <a:custGeom>
                <a:avLst/>
                <a:gdLst/>
                <a:ahLst/>
                <a:rect l="l" t="t" r="r" b="b"/>
                <a:pathLst>
                  <a:path w="4019" h="36">
                    <a:moveTo>
                      <a:pt x="4019" y="0"/>
                    </a:moveTo>
                    <a:lnTo>
                      <a:pt x="3977" y="36"/>
                    </a:lnTo>
                    <a:lnTo>
                      <a:pt x="0" y="36"/>
                    </a:lnTo>
                    <a:lnTo>
                      <a:pt x="42" y="0"/>
                    </a:lnTo>
                    <a:lnTo>
                      <a:pt x="4019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106640" y="1913760"/>
                <a:ext cx="72720" cy="3669840"/>
              </a:xfrm>
              <a:custGeom>
                <a:avLst/>
                <a:gdLst/>
                <a:ahLst/>
                <a:rect l="l" t="t" r="r" b="b"/>
                <a:pathLst>
                  <a:path w="42" h="2064">
                    <a:moveTo>
                      <a:pt x="0" y="2064"/>
                    </a:moveTo>
                    <a:lnTo>
                      <a:pt x="0" y="36"/>
                    </a:lnTo>
                    <a:lnTo>
                      <a:pt x="42" y="0"/>
                    </a:lnTo>
                    <a:lnTo>
                      <a:pt x="42" y="2028"/>
                    </a:lnTo>
                    <a:lnTo>
                      <a:pt x="0" y="2064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179720" y="1913760"/>
                <a:ext cx="6868080" cy="3605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59080" y="2276640"/>
                <a:ext cx="72360" cy="3306960"/>
              </a:xfrm>
              <a:custGeom>
                <a:avLst/>
                <a:gdLst/>
                <a:ahLst/>
                <a:rect l="l" t="t" r="r" b="b"/>
                <a:pathLst>
                  <a:path w="42" h="1860">
                    <a:moveTo>
                      <a:pt x="0" y="1860"/>
                    </a:moveTo>
                    <a:lnTo>
                      <a:pt x="0" y="30"/>
                    </a:lnTo>
                    <a:lnTo>
                      <a:pt x="42" y="0"/>
                    </a:lnTo>
                    <a:lnTo>
                      <a:pt x="42" y="1824"/>
                    </a:lnTo>
                    <a:lnTo>
                      <a:pt x="0" y="1860"/>
                    </a:lnTo>
                    <a:close/>
                  </a:path>
                </a:pathLst>
              </a:custGeom>
              <a:solidFill>
                <a:srgbClr val="4d66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62160" y="2329560"/>
                <a:ext cx="196920" cy="3253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262160" y="2276640"/>
                <a:ext cx="269280" cy="52920"/>
              </a:xfrm>
              <a:custGeom>
                <a:avLst/>
                <a:gdLst/>
                <a:ahLst/>
                <a:rect l="l" t="t" r="r" b="b"/>
                <a:pathLst>
                  <a:path w="156" h="30">
                    <a:moveTo>
                      <a:pt x="114" y="30"/>
                    </a:moveTo>
                    <a:lnTo>
                      <a:pt x="156" y="0"/>
                    </a:lnTo>
                    <a:lnTo>
                      <a:pt x="42" y="0"/>
                    </a:lnTo>
                    <a:lnTo>
                      <a:pt x="0" y="30"/>
                    </a:lnTo>
                    <a:lnTo>
                      <a:pt x="114" y="30"/>
                    </a:lnTo>
                    <a:close/>
                  </a:path>
                </a:pathLst>
              </a:custGeom>
              <a:solidFill>
                <a:srgbClr val="7399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666440" y="2489760"/>
              <a:ext cx="72360" cy="3093840"/>
            </a:xfrm>
            <a:custGeom>
              <a:avLst/>
              <a:gdLst/>
              <a:ahLst/>
              <a:rect l="l" t="t" r="r" b="b"/>
              <a:pathLst>
                <a:path w="42" h="1740">
                  <a:moveTo>
                    <a:pt x="0" y="1740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04"/>
                  </a:lnTo>
                  <a:lnTo>
                    <a:pt x="0" y="1740"/>
                  </a:lnTo>
                  <a:close/>
                </a:path>
              </a:pathLst>
            </a:custGeom>
            <a:solidFill>
              <a:srgbClr val="0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59080" y="2543040"/>
              <a:ext cx="207000" cy="3040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59080" y="2489760"/>
              <a:ext cx="279360" cy="52920"/>
            </a:xfrm>
            <a:custGeom>
              <a:avLst/>
              <a:gdLst/>
              <a:ahLst/>
              <a:rect l="l" t="t" r="r" b="b"/>
              <a:pathLst>
                <a:path w="162" h="30">
                  <a:moveTo>
                    <a:pt x="120" y="30"/>
                  </a:moveTo>
                  <a:lnTo>
                    <a:pt x="162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b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863360" y="2372760"/>
              <a:ext cx="72360" cy="3211200"/>
            </a:xfrm>
            <a:custGeom>
              <a:avLst/>
              <a:gdLst/>
              <a:ahLst/>
              <a:rect l="l" t="t" r="r" b="b"/>
              <a:pathLst>
                <a:path w="42" h="1806">
                  <a:moveTo>
                    <a:pt x="0" y="1806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70"/>
                  </a:lnTo>
                  <a:lnTo>
                    <a:pt x="0" y="1806"/>
                  </a:lnTo>
                  <a:close/>
                </a:path>
              </a:pathLst>
            </a:custGeom>
            <a:solidFill>
              <a:srgbClr val="1a33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66440" y="2425680"/>
              <a:ext cx="196920" cy="3157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66440" y="237276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264d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70720" y="2190960"/>
              <a:ext cx="72360" cy="3392640"/>
            </a:xfrm>
            <a:custGeom>
              <a:avLst/>
              <a:gdLst/>
              <a:ahLst/>
              <a:rect l="l" t="t" r="r" b="b"/>
              <a:pathLst>
                <a:path w="42" h="1908">
                  <a:moveTo>
                    <a:pt x="0" y="1908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872"/>
                  </a:lnTo>
                  <a:lnTo>
                    <a:pt x="0" y="1908"/>
                  </a:lnTo>
                  <a:close/>
                </a:path>
              </a:pathLst>
            </a:custGeom>
            <a:solidFill>
              <a:srgbClr val="0066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63360" y="2244240"/>
              <a:ext cx="207000" cy="33393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63360" y="2190960"/>
              <a:ext cx="279360" cy="52920"/>
            </a:xfrm>
            <a:custGeom>
              <a:avLst/>
              <a:gdLst/>
              <a:ahLst/>
              <a:rect l="l" t="t" r="r" b="b"/>
              <a:pathLst>
                <a:path w="162" h="30">
                  <a:moveTo>
                    <a:pt x="120" y="30"/>
                  </a:moveTo>
                  <a:lnTo>
                    <a:pt x="162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99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67640" y="2308320"/>
              <a:ext cx="72360" cy="3275280"/>
            </a:xfrm>
            <a:custGeom>
              <a:avLst/>
              <a:gdLst/>
              <a:ahLst/>
              <a:rect l="l" t="t" r="r" b="b"/>
              <a:pathLst>
                <a:path w="42" h="1842">
                  <a:moveTo>
                    <a:pt x="0" y="1842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806"/>
                  </a:lnTo>
                  <a:lnTo>
                    <a:pt x="0" y="1842"/>
                  </a:lnTo>
                  <a:close/>
                </a:path>
              </a:pathLst>
            </a:custGeom>
            <a:solidFill>
              <a:srgbClr val="1a1a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0720" y="2361600"/>
              <a:ext cx="196920" cy="3222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70720" y="230832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2626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79520" y="2639160"/>
              <a:ext cx="72360" cy="2944800"/>
            </a:xfrm>
            <a:custGeom>
              <a:avLst/>
              <a:gdLst/>
              <a:ahLst/>
              <a:rect l="l" t="t" r="r" b="b"/>
              <a:pathLst>
                <a:path w="42" h="1656">
                  <a:moveTo>
                    <a:pt x="0" y="1656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620"/>
                  </a:lnTo>
                  <a:lnTo>
                    <a:pt x="0" y="1656"/>
                  </a:lnTo>
                  <a:close/>
                </a:path>
              </a:pathLst>
            </a:custGeom>
            <a:solidFill>
              <a:srgbClr val="006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982600" y="2692800"/>
              <a:ext cx="196920" cy="2891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82600" y="263916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0099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86520" y="2554200"/>
              <a:ext cx="61920" cy="3029760"/>
            </a:xfrm>
            <a:custGeom>
              <a:avLst/>
              <a:gdLst/>
              <a:ahLst/>
              <a:rect l="l" t="t" r="r" b="b"/>
              <a:pathLst>
                <a:path w="36" h="1704">
                  <a:moveTo>
                    <a:pt x="0" y="1704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68"/>
                  </a:lnTo>
                  <a:lnTo>
                    <a:pt x="0" y="1704"/>
                  </a:lnTo>
                  <a:close/>
                </a:path>
              </a:pathLst>
            </a:custGeom>
            <a:solidFill>
              <a:srgbClr val="1a4d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9520" y="2607120"/>
              <a:ext cx="207000" cy="297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79520" y="255420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2673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583800" y="2575440"/>
              <a:ext cx="72360" cy="3008160"/>
            </a:xfrm>
            <a:custGeom>
              <a:avLst/>
              <a:gdLst/>
              <a:ahLst/>
              <a:rect l="l" t="t" r="r" b="b"/>
              <a:pathLst>
                <a:path w="42" h="1692">
                  <a:moveTo>
                    <a:pt x="0" y="1692"/>
                  </a:moveTo>
                  <a:lnTo>
                    <a:pt x="0" y="36"/>
                  </a:lnTo>
                  <a:lnTo>
                    <a:pt x="42" y="0"/>
                  </a:lnTo>
                  <a:lnTo>
                    <a:pt x="42" y="1656"/>
                  </a:lnTo>
                  <a:lnTo>
                    <a:pt x="0" y="1692"/>
                  </a:lnTo>
                  <a:close/>
                </a:path>
              </a:pathLst>
            </a:custGeom>
            <a:solidFill>
              <a:srgbClr val="66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86520" y="2639160"/>
              <a:ext cx="196920" cy="2944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86520" y="2575440"/>
              <a:ext cx="269280" cy="6336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114" y="36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99b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90800" y="2521800"/>
              <a:ext cx="61920" cy="3061800"/>
            </a:xfrm>
            <a:custGeom>
              <a:avLst/>
              <a:gdLst/>
              <a:ahLst/>
              <a:rect l="l" t="t" r="r" b="b"/>
              <a:pathLst>
                <a:path w="36" h="1722">
                  <a:moveTo>
                    <a:pt x="0" y="1722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86"/>
                  </a:lnTo>
                  <a:lnTo>
                    <a:pt x="0" y="1722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83800" y="2575440"/>
              <a:ext cx="207000" cy="3008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83800" y="252180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006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87720" y="2575440"/>
              <a:ext cx="72360" cy="3008160"/>
            </a:xfrm>
            <a:custGeom>
              <a:avLst/>
              <a:gdLst/>
              <a:ahLst/>
              <a:rect l="l" t="t" r="r" b="b"/>
              <a:pathLst>
                <a:path w="42" h="1692">
                  <a:moveTo>
                    <a:pt x="0" y="1692"/>
                  </a:moveTo>
                  <a:lnTo>
                    <a:pt x="0" y="36"/>
                  </a:lnTo>
                  <a:lnTo>
                    <a:pt x="42" y="0"/>
                  </a:lnTo>
                  <a:lnTo>
                    <a:pt x="42" y="1656"/>
                  </a:lnTo>
                  <a:lnTo>
                    <a:pt x="0" y="1692"/>
                  </a:lnTo>
                  <a:close/>
                </a:path>
              </a:pathLst>
            </a:custGeom>
            <a:solidFill>
              <a:srgbClr val="001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790800" y="2639160"/>
              <a:ext cx="196920" cy="294480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790800" y="2575440"/>
              <a:ext cx="269280" cy="63360"/>
            </a:xfrm>
            <a:custGeom>
              <a:avLst/>
              <a:gdLst/>
              <a:ahLst/>
              <a:rect l="l" t="t" r="r" b="b"/>
              <a:pathLst>
                <a:path w="156" h="36">
                  <a:moveTo>
                    <a:pt x="114" y="36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114" y="36"/>
                  </a:lnTo>
                  <a:close/>
                </a:path>
              </a:pathLst>
            </a:custGeom>
            <a:solidFill>
              <a:srgbClr val="002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95080" y="2425680"/>
              <a:ext cx="61920" cy="3157920"/>
            </a:xfrm>
            <a:custGeom>
              <a:avLst/>
              <a:gdLst/>
              <a:ahLst/>
              <a:rect l="l" t="t" r="r" b="b"/>
              <a:pathLst>
                <a:path w="36" h="1776">
                  <a:moveTo>
                    <a:pt x="0" y="1776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740"/>
                  </a:lnTo>
                  <a:lnTo>
                    <a:pt x="0" y="1776"/>
                  </a:lnTo>
                  <a:close/>
                </a:path>
              </a:pathLst>
            </a:custGeom>
            <a:solidFill>
              <a:srgbClr val="4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87720" y="2479320"/>
              <a:ext cx="207000" cy="310428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87720" y="242568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606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390200" y="2489760"/>
              <a:ext cx="72360" cy="3093840"/>
            </a:xfrm>
            <a:custGeom>
              <a:avLst/>
              <a:gdLst/>
              <a:ahLst/>
              <a:rect l="l" t="t" r="r" b="b"/>
              <a:pathLst>
                <a:path w="42" h="1740">
                  <a:moveTo>
                    <a:pt x="0" y="1740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704"/>
                  </a:lnTo>
                  <a:lnTo>
                    <a:pt x="0" y="174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95080" y="2543040"/>
              <a:ext cx="194760" cy="3040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95080" y="2489760"/>
              <a:ext cx="267480" cy="52920"/>
            </a:xfrm>
            <a:custGeom>
              <a:avLst/>
              <a:gdLst/>
              <a:ahLst/>
              <a:rect l="l" t="t" r="r" b="b"/>
              <a:pathLst>
                <a:path w="155" h="30">
                  <a:moveTo>
                    <a:pt x="113" y="30"/>
                  </a:moveTo>
                  <a:lnTo>
                    <a:pt x="155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3" y="30"/>
                  </a:lnTo>
                  <a:close/>
                </a:path>
              </a:pathLst>
            </a:custGeom>
            <a:solidFill>
              <a:srgbClr val="00b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98160" y="2735640"/>
              <a:ext cx="61560" cy="2848320"/>
            </a:xfrm>
            <a:custGeom>
              <a:avLst/>
              <a:gdLst/>
              <a:ahLst/>
              <a:rect l="l" t="t" r="r" b="b"/>
              <a:pathLst>
                <a:path w="36" h="1602">
                  <a:moveTo>
                    <a:pt x="0" y="1602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566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806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0800" y="2788560"/>
              <a:ext cx="207000" cy="2795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90800" y="2735640"/>
              <a:ext cx="26892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bf99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94720" y="2735640"/>
              <a:ext cx="72720" cy="2848320"/>
            </a:xfrm>
            <a:custGeom>
              <a:avLst/>
              <a:gdLst/>
              <a:ahLst/>
              <a:rect l="l" t="t" r="r" b="b"/>
              <a:pathLst>
                <a:path w="42" h="1602">
                  <a:moveTo>
                    <a:pt x="0" y="1602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566"/>
                  </a:lnTo>
                  <a:lnTo>
                    <a:pt x="0" y="1602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98160" y="2788560"/>
              <a:ext cx="196560" cy="2795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98160" y="273564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36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bfb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02440" y="2639160"/>
              <a:ext cx="61560" cy="2944800"/>
            </a:xfrm>
            <a:custGeom>
              <a:avLst/>
              <a:gdLst/>
              <a:ahLst/>
              <a:rect l="l" t="t" r="r" b="b"/>
              <a:pathLst>
                <a:path w="36" h="1656">
                  <a:moveTo>
                    <a:pt x="0" y="1656"/>
                  </a:moveTo>
                  <a:lnTo>
                    <a:pt x="0" y="30"/>
                  </a:lnTo>
                  <a:lnTo>
                    <a:pt x="36" y="0"/>
                  </a:lnTo>
                  <a:lnTo>
                    <a:pt x="36" y="1620"/>
                  </a:lnTo>
                  <a:lnTo>
                    <a:pt x="0" y="1656"/>
                  </a:lnTo>
                  <a:close/>
                </a:path>
              </a:pathLst>
            </a:custGeom>
            <a:solidFill>
              <a:srgbClr val="8080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94720" y="2692800"/>
              <a:ext cx="207360" cy="2891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94720" y="2639160"/>
              <a:ext cx="269280" cy="5328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20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20" y="30"/>
                  </a:lnTo>
                  <a:close/>
                </a:path>
              </a:pathLst>
            </a:custGeom>
            <a:solidFill>
              <a:srgbClr val="bfbf7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07800" y="2884680"/>
              <a:ext cx="72720" cy="2698920"/>
            </a:xfrm>
            <a:custGeom>
              <a:avLst/>
              <a:gdLst/>
              <a:ahLst/>
              <a:rect l="l" t="t" r="r" b="b"/>
              <a:pathLst>
                <a:path w="42" h="1518">
                  <a:moveTo>
                    <a:pt x="0" y="1518"/>
                  </a:moveTo>
                  <a:lnTo>
                    <a:pt x="0" y="30"/>
                  </a:lnTo>
                  <a:lnTo>
                    <a:pt x="42" y="0"/>
                  </a:lnTo>
                  <a:lnTo>
                    <a:pt x="42" y="1482"/>
                  </a:lnTo>
                  <a:lnTo>
                    <a:pt x="0" y="151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411240" y="2937960"/>
              <a:ext cx="196560" cy="264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1240" y="2884680"/>
              <a:ext cx="269280" cy="52920"/>
            </a:xfrm>
            <a:custGeom>
              <a:avLst/>
              <a:gdLst/>
              <a:ahLst/>
              <a:rect l="l" t="t" r="r" b="b"/>
              <a:pathLst>
                <a:path w="156" h="30">
                  <a:moveTo>
                    <a:pt x="114" y="30"/>
                  </a:moveTo>
                  <a:lnTo>
                    <a:pt x="156" y="0"/>
                  </a:lnTo>
                  <a:lnTo>
                    <a:pt x="42" y="0"/>
                  </a:lnTo>
                  <a:lnTo>
                    <a:pt x="0" y="30"/>
                  </a:lnTo>
                  <a:lnTo>
                    <a:pt x="114" y="30"/>
                  </a:lnTo>
                  <a:close/>
                </a:path>
              </a:pathLst>
            </a:custGeom>
            <a:solidFill>
              <a:srgbClr val="b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1106640" y="1977840"/>
              <a:ext cx="1800" cy="360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1054800" y="558396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1054800" y="497592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1054800" y="437832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1054800" y="3780720"/>
              <a:ext cx="51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1054800" y="3172680"/>
              <a:ext cx="51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1054800" y="257544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1054800" y="1977840"/>
              <a:ext cx="5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79120" y="5434200"/>
              <a:ext cx="32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44840" y="482616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44840" y="422892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4840" y="363132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840" y="3023280"/>
              <a:ext cx="45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0200" y="242568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0200" y="182880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106640" y="5583960"/>
              <a:ext cx="686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0664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2708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45720" y="5583960"/>
              <a:ext cx="180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55720" y="5583960"/>
              <a:ext cx="144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75800" y="5583960"/>
              <a:ext cx="144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94920" y="5701320"/>
              <a:ext cx="141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uper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25800" y="5701320"/>
              <a:ext cx="141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ypermar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13000" y="570132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isko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888240" y="5701320"/>
              <a:ext cx="61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352680" y="7621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e differ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43640" y="3141720"/>
            <a:ext cx="31435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85800" y="1117440"/>
            <a:ext cx="8077320" cy="50212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2357280" y="990720"/>
            <a:ext cx="48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erage time spent in shopping 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684360" y="611280"/>
            <a:ext cx="777384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889440" cy="380196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889440" cy="380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73512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78200" y="404640"/>
            <a:ext cx="531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elling time rest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116000" y="1484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hops open during red-letter da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50520" y="5829480"/>
            <a:ext cx="100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n-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518520" y="5827680"/>
            <a:ext cx="1828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untill 22:00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5880" y="63072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fK Praha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9564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00720" y="292428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96720" y="36669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01800" y="364500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96720" y="45813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01800" y="4581360"/>
            <a:ext cx="6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182080" cy="508608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1676520" y="762120"/>
            <a:ext cx="64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spend more time in the hypermarket if it improved its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304920" y="447840"/>
            <a:ext cx="8150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304920" y="1868400"/>
            <a:ext cx="8531280" cy="311796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179280" y="2060640"/>
            <a:ext cx="8964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800" spc="-1" strike="noStrike">
                <a:solidFill>
                  <a:srgbClr val="000000"/>
                </a:solidFill>
                <a:latin typeface="Times New Roman"/>
              </a:rPr>
              <a:t>Loyalty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2014560" y="1071720"/>
            <a:ext cx="51148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1160" y="380880"/>
            <a:ext cx="61016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Retail in Czech Repub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(over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90512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 market of consume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al development in the past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’s dominance transformed into customer’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national supply companies established new,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modern distribution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 proportion of hypermarkets, supermarke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unt stores is fully comparable to the Wes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countrie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ual tendenc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new contradictious tend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rade cha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cordance with PriceWaterhouse Coopers, more than 50% of food will be traded outside classical retai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at is, in independent convenience stores, stalls, in marketplace or multiplex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s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-centered not technology-ce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 rot="1816800">
            <a:off x="4932360" y="765000"/>
            <a:ext cx="4032360" cy="3600720"/>
          </a:xfrm>
          <a:prstGeom prst="irregularSeal2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wo-way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T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ing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parent families, singles, one child 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ime for s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C in Czech r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over 5-10 mdl. CZK per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grow: 10 – 20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contradictious tendency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 CAPITA PURCHASING PARITY LEVEL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CENTRAL EUROPE RELATED TO EU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921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353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4" name=""/>
          <p:cNvGraphicFramePr/>
          <p:nvPr/>
        </p:nvGraphicFramePr>
        <p:xfrm>
          <a:off x="380880" y="990720"/>
          <a:ext cx="838224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3822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252360" y="304920"/>
            <a:ext cx="8686800" cy="6159240"/>
            <a:chOff x="252360" y="304920"/>
            <a:chExt cx="8686800" cy="6159240"/>
          </a:xfrm>
        </p:grpSpPr>
        <p:sp>
          <p:nvSpPr>
            <p:cNvPr id="977" name=""/>
            <p:cNvSpPr/>
            <p:nvPr/>
          </p:nvSpPr>
          <p:spPr>
            <a:xfrm>
              <a:off x="4881600" y="1630440"/>
              <a:ext cx="1440" cy="4360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27600" y="5991120"/>
              <a:ext cx="54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27600" y="490068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827600" y="381168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827600" y="271944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7600" y="1630440"/>
              <a:ext cx="54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7280" y="3811680"/>
              <a:ext cx="69213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5728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142560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228456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15288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4022640" y="3811320"/>
              <a:ext cx="180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88160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4992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610320" y="3811320"/>
              <a:ext cx="144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7478640" y="3811320"/>
              <a:ext cx="1800" cy="60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316640" y="3341520"/>
              <a:ext cx="637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7316640" y="3341160"/>
              <a:ext cx="2880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345440" y="337356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316640" y="3373560"/>
              <a:ext cx="28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345440" y="3341160"/>
              <a:ext cx="2700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345440" y="3341160"/>
              <a:ext cx="1440" cy="320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45440" y="337356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265720" y="3249720"/>
              <a:ext cx="6516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5265360" y="324972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94160" y="3281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5265360" y="328140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5294160" y="32497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294160" y="3249720"/>
              <a:ext cx="1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94160" y="3281400"/>
              <a:ext cx="1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74680" y="383076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1174320" y="3830760"/>
              <a:ext cx="2556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0240" y="386244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1174320" y="3862440"/>
              <a:ext cx="2556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1200240" y="3830760"/>
              <a:ext cx="28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1200240" y="383076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00240" y="386244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82960" y="437040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2982600" y="4370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09960" y="440208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2982600" y="440208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009960" y="437040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009960" y="437040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009960" y="440208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08840" y="2128680"/>
              <a:ext cx="6192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6108480" y="2128680"/>
              <a:ext cx="270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35840" y="21589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108480" y="2158920"/>
              <a:ext cx="270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135840" y="2128680"/>
              <a:ext cx="270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135840" y="2128680"/>
              <a:ext cx="1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35840" y="2158920"/>
              <a:ext cx="14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43520" y="5794200"/>
              <a:ext cx="63360" cy="7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4943160" y="5794200"/>
              <a:ext cx="28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71960" y="5824440"/>
              <a:ext cx="2556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943160" y="5824440"/>
              <a:ext cx="284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4971960" y="5794200"/>
              <a:ext cx="2556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4971960" y="5794200"/>
              <a:ext cx="1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971960" y="5824440"/>
              <a:ext cx="1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275440" y="4443480"/>
              <a:ext cx="61560" cy="73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275440" y="4443480"/>
              <a:ext cx="266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02080" y="4475160"/>
              <a:ext cx="2880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5275440" y="4475160"/>
              <a:ext cx="266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5302080" y="4443480"/>
              <a:ext cx="2880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302080" y="4443480"/>
              <a:ext cx="3240" cy="3168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02080" y="4475160"/>
              <a:ext cx="3240" cy="30240"/>
            </a:xfrm>
            <a:prstGeom prst="line">
              <a:avLst/>
            </a:prstGeom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09960" y="4224240"/>
              <a:ext cx="959040" cy="6033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39680" y="4287960"/>
              <a:ext cx="279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cc0099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cc0099"/>
                  </a:solidFill>
                  <a:latin typeface="FuturTEE"/>
                </a:rPr>
                <a:t>Unpretentious stoic</a:t>
              </a:r>
              <a:r>
                <a:rPr b="1" lang="cs-CZ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703760" y="5595840"/>
              <a:ext cx="652320" cy="3542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88560" y="5657760"/>
              <a:ext cx="228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Loyal housewi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8000" y="1859040"/>
              <a:ext cx="895320" cy="6015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40280" y="1920960"/>
              <a:ext cx="139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Mobile prag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401920" y="4100400"/>
              <a:ext cx="1225440" cy="60336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95680" y="4164120"/>
              <a:ext cx="15238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Cautious Conservat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1040" y="3706920"/>
              <a:ext cx="62676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87400" y="3767040"/>
              <a:ext cx="919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Arial"/>
                </a:rPr>
                <a:t>Sa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881600" y="3103560"/>
              <a:ext cx="75240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30480" y="3166920"/>
              <a:ext cx="152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Ambit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97520" y="3198960"/>
              <a:ext cx="1013040" cy="352440"/>
            </a:xfrm>
            <a:prstGeom prst="rect">
              <a:avLst/>
            </a:prstGeom>
            <a:solidFill>
              <a:srgbClr val="e0ffe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689520" y="325908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d60093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0093"/>
                  </a:solidFill>
                  <a:latin typeface="FuturTEE"/>
                </a:rPr>
                <a:t>Influence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538520" y="58863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38520" y="479592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34120" y="37069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434120" y="26161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34120" y="152712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604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5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1436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7476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7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04308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11400" y="4017960"/>
              <a:ext cx="33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2140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8972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5012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318440" y="4017960"/>
              <a:ext cx="42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Wingdings" charset="2"/>
                <a:buChar char="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FuturTEE"/>
                </a:rPr>
                <a:t>13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04960" y="6095880"/>
              <a:ext cx="20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efer smaller s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57600" y="11430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efer hypermark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2360" y="457344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uy necessary thing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415280" y="44974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Buy avoidable things as w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47040" y="304920"/>
              <a:ext cx="30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Shopping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behavi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474747"/>
                </a:solidFill>
                <a:latin typeface="Arial CE"/>
              </a:rPr>
              <a:t>Trademarks of retail chains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economical (best price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lever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Euro Shopper (Albert, 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Mince (J. Meinl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Tesco výhodný nákup (Tesco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1 (Carrefou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365 (Delvita)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standard quality for better price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Albert (Albert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arrefour (Carrefou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Delvita (Delvit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Hypernova (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Spar (Interspar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Tesco (Tesco)</a:t>
            </a:r>
            <a:br>
              <a:rPr sz="1600"/>
            </a:br>
            <a:r>
              <a:rPr b="1" lang="cs-CZ" sz="1600" spc="-1" strike="noStrike">
                <a:solidFill>
                  <a:srgbClr val="474747"/>
                </a:solidFill>
                <a:latin typeface="Arial CE"/>
              </a:rPr>
              <a:t>special (selected range of products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Best farm (Kaufland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Selský dvůr (Hypernov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Chef Menü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Extra kvalita (Delvit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Quality first (Billa)</a:t>
            </a:r>
            <a:br>
              <a:rPr sz="1600"/>
            </a:br>
            <a:r>
              <a:rPr b="0" lang="cs-CZ" sz="1600" spc="-1" strike="noStrike">
                <a:solidFill>
                  <a:srgbClr val="474747"/>
                </a:solidFill>
                <a:latin typeface="Arial CE"/>
              </a:rPr>
              <a:t>Julius Meinl (J. Meinl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95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001" descr=""/>
          <p:cNvPicPr/>
          <p:nvPr/>
        </p:nvPicPr>
        <p:blipFill>
          <a:blip r:embed="rId1"/>
          <a:stretch/>
        </p:blipFill>
        <p:spPr>
          <a:xfrm>
            <a:off x="609480" y="351000"/>
            <a:ext cx="7620120" cy="591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25360" y="552600"/>
            <a:ext cx="632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hare of turnover per proprietor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1447920"/>
            <a:ext cx="1828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0040" y="1447920"/>
            <a:ext cx="206676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333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mulative number of hyper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941400"/>
            <a:ext cx="91440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8640" y="189000"/>
            <a:ext cx="8314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oor space of hypermarkets in squere meters per 1000 inhabi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he differences in per capita purchasing power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the Czech regions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058160" cy="4622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25160" y="604044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rce: Purchasing power in the Czech districts and municipalities 2005 (GfK + INCOM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zech Re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ing parity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r space in square meters per inhabitn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68880" y="533520"/>
            <a:ext cx="790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chains attendance during the past six mon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2:15:06Z</dcterms:created>
  <dc:creator>dodo</dc:creator>
  <dc:description/>
  <dc:language>en-US</dc:language>
  <cp:lastModifiedBy>Škapa</cp:lastModifiedBy>
  <dcterms:modified xsi:type="dcterms:W3CDTF">2006-04-02T16:38:22Z</dcterms:modified>
  <cp:revision>94</cp:revision>
  <dc:subject/>
  <dc:title>Prezentace aplikace PowerPoint</dc:title>
</cp:coreProperties>
</file>