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308-9EAD-4F90-9176-268DADD5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503-A142-4D63-BE64-A8367111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7F5-6D82-47C0-9E8E-96BF9856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3B8-8487-47EB-8210-75255946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DF7-C038-4ECA-AE25-2A762F6F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A1F-DB04-494D-BBAD-3089BE0C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977-D6A3-4896-9D18-41DB719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D1F-AE3F-49DF-B718-7FC81C1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D32-C82F-4180-87F1-5992708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A9D-40FF-49CB-AF8A-FCA47BAF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034-5790-4F13-A205-7917BE70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650-7A07-4186-9C8E-EDB985B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800D-CDBC-4E61-8823-09BD50254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MARKETING RESEAR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Times New Roman"/>
              </a:rPr>
              <a:t>?     </a:t>
            </a:r>
            <a:r>
              <a:rPr b="1" lang="cs-CZ" sz="4000" spc="-1" strike="noStrike">
                <a:solidFill>
                  <a:srgbClr val="0033cc"/>
                </a:solidFill>
                <a:latin typeface="Times New Roman"/>
              </a:rPr>
              <a:t>?    </a:t>
            </a:r>
            <a:r>
              <a:rPr b="1" lang="cs-CZ" sz="4000" spc="-1" strike="noStrike">
                <a:solidFill>
                  <a:srgbClr val="08822e"/>
                </a:solidFill>
                <a:latin typeface="Times New Roman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5c402e"/>
                </a:solidFill>
                <a:latin typeface="Times New Roman"/>
              </a:rPr>
              <a:t>? </a:t>
            </a:r>
            <a:r>
              <a:rPr b="1" lang="cs-CZ" sz="4000" spc="-1" strike="noStrike">
                <a:solidFill>
                  <a:srgbClr val="ff9933"/>
                </a:solidFill>
                <a:latin typeface="Times New Roman"/>
              </a:rPr>
              <a:t>   ?   </a:t>
            </a:r>
            <a:r>
              <a:rPr b="1" lang="cs-CZ" sz="4000" spc="-1" strike="noStrike">
                <a:solidFill>
                  <a:srgbClr val="3399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D04924_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525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every management about?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do managers need for these activit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D06663_" descr=""/>
          <p:cNvPicPr/>
          <p:nvPr/>
        </p:nvPicPr>
        <p:blipFill>
          <a:blip r:embed="rId1"/>
          <a:stretch/>
        </p:blipFill>
        <p:spPr>
          <a:xfrm>
            <a:off x="6858000" y="762120"/>
            <a:ext cx="1928880" cy="1673280"/>
          </a:xfrm>
          <a:prstGeom prst="rect">
            <a:avLst/>
          </a:prstGeom>
          <a:ln w="0">
            <a:noFill/>
          </a:ln>
        </p:spPr>
      </p:pic>
      <p:pic>
        <p:nvPicPr>
          <p:cNvPr id="47" name="PE01616_" descr=""/>
          <p:cNvPicPr/>
          <p:nvPr/>
        </p:nvPicPr>
        <p:blipFill>
          <a:blip r:embed="rId2"/>
          <a:stretch/>
        </p:blipFill>
        <p:spPr>
          <a:xfrm>
            <a:off x="6781680" y="251460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41148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What is marketing management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S02064_" descr=""/>
          <p:cNvPicPr/>
          <p:nvPr/>
        </p:nvPicPr>
        <p:blipFill>
          <a:blip r:embed="rId3"/>
          <a:stretch/>
        </p:blipFill>
        <p:spPr>
          <a:xfrm>
            <a:off x="1371600" y="4724280"/>
            <a:ext cx="1720800" cy="1524240"/>
          </a:xfrm>
          <a:prstGeom prst="rect">
            <a:avLst/>
          </a:prstGeom>
          <a:ln w="0">
            <a:noFill/>
          </a:ln>
        </p:spPr>
      </p:pic>
      <p:pic>
        <p:nvPicPr>
          <p:cNvPr id="50" name="BD04897_" descr=""/>
          <p:cNvPicPr/>
          <p:nvPr/>
        </p:nvPicPr>
        <p:blipFill>
          <a:blip r:embed="rId4"/>
          <a:stretch/>
        </p:blipFill>
        <p:spPr>
          <a:xfrm>
            <a:off x="3733920" y="4648320"/>
            <a:ext cx="1981080" cy="1676160"/>
          </a:xfrm>
          <a:prstGeom prst="rect">
            <a:avLst/>
          </a:prstGeom>
          <a:ln w="0">
            <a:noFill/>
          </a:ln>
        </p:spPr>
      </p:pic>
      <p:pic>
        <p:nvPicPr>
          <p:cNvPr id="51" name="BD05584_" descr=""/>
          <p:cNvPicPr/>
          <p:nvPr/>
        </p:nvPicPr>
        <p:blipFill>
          <a:blip r:embed="rId5"/>
          <a:stretch/>
        </p:blipFill>
        <p:spPr>
          <a:xfrm>
            <a:off x="6324480" y="47242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nformation -processing behavior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1. information 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2. information acquisition  +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3. information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4. information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5. (marketing)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 consumer, customer and public to the marketer through the information – information used to identify and define marketing opportunities and problems; generate, refine, and evaluate marketing actions; monitor marketing performance; and improve our understanding of marketing as a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RESEARCH – definition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arketing research is the function which link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onsumer, customer and public to the markete</a:t>
            </a: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rough the information – information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dentify and define marketing opportunitie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blems; generate, refine, and evaluate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ons; monitor marketing performanc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improve our understanding of marketing 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MARKETING INFORMATION SYSTEM</a:t>
            </a:r>
            <a:br>
              <a:rPr sz="2800"/>
            </a:b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(or Marketing decision support system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=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cc3300"/>
                </a:solidFill>
                <a:latin typeface="Times New Roman"/>
              </a:rPr>
              <a:t>internal databases + marketing research + information analysis + gathering and asssortment of marke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E01460_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19520" y="39625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BD06670_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1981080" cy="2209680"/>
          </a:xfrm>
          <a:prstGeom prst="rect">
            <a:avLst/>
          </a:prstGeom>
          <a:ln w="0">
            <a:noFill/>
          </a:ln>
        </p:spPr>
      </p:pic>
      <p:pic>
        <p:nvPicPr>
          <p:cNvPr id="60" name="PE01561_" descr=""/>
          <p:cNvPicPr/>
          <p:nvPr/>
        </p:nvPicPr>
        <p:blipFill>
          <a:blip r:embed="rId3"/>
          <a:stretch/>
        </p:blipFill>
        <p:spPr>
          <a:xfrm>
            <a:off x="5410080" y="3581280"/>
            <a:ext cx="2667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TAGES IN THE RESEARCH PROCESS</a:t>
            </a: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81080"/>
            <a:ext cx="2743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ate problem and research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388620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research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5181480"/>
            <a:ext cx="2743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ermine data collec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25146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data collection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3886200"/>
            <a:ext cx="28195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sign sample and colle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181480"/>
            <a:ext cx="2971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yze and interprete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33920" y="2971800"/>
            <a:ext cx="10666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4724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Formulate problem and research 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nitial decis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2. redefined as research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3. redefined as research hypo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4. research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3300"/>
                </a:solidFill>
                <a:latin typeface="Times New Roman"/>
              </a:rPr>
              <a:t>II. </a:t>
            </a: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research desig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methods, procedures – sampling, schedule, budget, per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cs-CZ" sz="2800" spc="-1" strike="noStrike">
                <a:solidFill>
                  <a:srgbClr val="cc3300"/>
                </a:solidFill>
                <a:latin typeface="Times New Roman"/>
              </a:rPr>
              <a:t>exploratory, descriptive, casu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II. and  IV. Data collection models and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imary and seconda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hods and techniques for collecting the data: survey, observation and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 sampling and collec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ng the target population – census or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I. Analyzing and interpreting th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6:42:22Z</dcterms:created>
  <dc:creator>PC</dc:creator>
  <dc:description/>
  <dc:language>en-US</dc:language>
  <cp:lastModifiedBy>PC</cp:lastModifiedBy>
  <dcterms:modified xsi:type="dcterms:W3CDTF">2006-04-02T17:05:39Z</dcterms:modified>
  <cp:revision>9</cp:revision>
  <dc:subject/>
  <dc:title>MARKETING RESEARCH</dc:title>
</cp:coreProperties>
</file>