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wmf" ContentType="image/x-wmf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A326B-6872-41F6-B856-96C34C1B4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E5515-F79B-4C32-9C5D-4FB548DB6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1D3A7-F005-40CE-88AF-BF33D1D4C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5B6F7-1108-4D51-96D6-B5A9E92B9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76C03-6DEB-4A63-A571-269870B07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2EC9F-7F14-4ABE-AE54-E0A51BC61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F3FCE-621E-4094-81D6-CDE0B23A3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69E5C-307D-4368-BD55-42FFF93FD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47B60-30EC-498A-8F3C-3C71D39B5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DB984-EC0C-41CF-AB9E-BDAAC49E8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1206D-CD27-43FD-B032-CDD696481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C102D-69C5-445A-AB61-702247795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326FA-1403-419B-B7D9-97D8AA5EB1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0880" y="-152280"/>
            <a:ext cx="8534520" cy="39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Times New Roman"/>
              </a:rPr>
              <a:t>Marketing Mix 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52280" y="5486400"/>
            <a:ext cx="8839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Ing. Martin Krištof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  spring 2006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143000" y="1905120"/>
            <a:ext cx="68580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Franklin Gothic Medium"/>
              </a:rPr>
              <a:t>PRODUCT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Franklin Gothic Medium"/>
              <a:ea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duct Mix Wid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38800" y="1677960"/>
            <a:ext cx="5464440" cy="6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71680" indent="-571680">
              <a:lnSpc>
                <a:spcPct val="90000"/>
              </a:lnSpc>
              <a:buClr>
                <a:srgbClr val="b2b2b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versifies ris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90000"/>
              </a:lnSpc>
              <a:buClr>
                <a:srgbClr val="b2b2b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pitalizes on established reputa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990720"/>
            <a:ext cx="85345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20000"/>
              </a:lnSpc>
              <a:spcBef>
                <a:spcPts val="700"/>
              </a:spcBef>
              <a:buClr>
                <a:srgbClr val="b2b2b2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number of product lines an organization off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2666880"/>
            <a:ext cx="8915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duct Line Dep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752480" y="3581280"/>
            <a:ext cx="7239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20000"/>
              </a:lnSpc>
              <a:spcBef>
                <a:spcPts val="700"/>
              </a:spcBef>
              <a:buClr>
                <a:srgbClr val="b2b2b2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number of product items in a product li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983960" y="4251240"/>
            <a:ext cx="5606280" cy="23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825"/>
              </a:spcBef>
              <a:buClr>
                <a:srgbClr val="b2b2b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ttracts buyers with different preferenc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buClr>
                <a:srgbClr val="b2b2b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creases sales/profits by further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rket segmentatio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buClr>
                <a:srgbClr val="b2b2b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pitalizes on economies of sca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buClr>
                <a:srgbClr val="b2b2b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ens out seasonal sales patter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buClr>
                <a:srgbClr val="b2b2b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1" dur="1" fill="hold"/>
                                  <p:tgtEl>
                                    <p:spTgt spid="181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-152280" y="0"/>
            <a:ext cx="9296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Gillette’s Product Lines and Mix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-228600" y="1066680"/>
            <a:ext cx="9219960" cy="4768560"/>
            <a:chOff x="-228600" y="1066680"/>
            <a:chExt cx="9219960" cy="4768560"/>
          </a:xfrm>
        </p:grpSpPr>
        <p:sp>
          <p:nvSpPr>
            <p:cNvPr id="184" name=""/>
            <p:cNvSpPr/>
            <p:nvPr/>
          </p:nvSpPr>
          <p:spPr>
            <a:xfrm>
              <a:off x="804600" y="1576800"/>
              <a:ext cx="8186760" cy="10206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804600" y="2597760"/>
              <a:ext cx="8145000" cy="3147480"/>
            </a:xfrm>
            <a:prstGeom prst="rect">
              <a:avLst/>
            </a:prstGeom>
            <a:solidFill>
              <a:srgbClr val="ff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-228600" y="1917000"/>
              <a:ext cx="9172080" cy="38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Blades and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Writ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Aft>
                  <a:spcPts val="125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razors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oiletries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instruments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Lighte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ach 3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eries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aper Mate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rick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ensor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dorn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Flair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.T. Dupon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rac II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oni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tra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ight Guar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wivel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ilkience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ouble-Edge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oft and Dri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Lady Gillette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Foamy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uper Speed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ry Loo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win Injector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ry Idea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chmatic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Brush Plus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567520" y="1066680"/>
              <a:ext cx="4078440" cy="44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Width of the product mix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04600" y="2597760"/>
              <a:ext cx="8151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H="1" rot="16200000">
              <a:off x="-1585080" y="3471120"/>
              <a:ext cx="4282560" cy="44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Depth of the product line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1828800" y="1600200"/>
            <a:ext cx="5943600" cy="304920"/>
          </a:xfrm>
          <a:prstGeom prst="leftRightArrow">
            <a:avLst>
              <a:gd name="adj1" fmla="val 50000"/>
              <a:gd name="adj2" fmla="val 388042"/>
            </a:avLst>
          </a:prstGeom>
          <a:gradFill rotWithShape="0">
            <a:gsLst>
              <a:gs pos="0">
                <a:srgbClr val="ccffff"/>
              </a:gs>
              <a:gs pos="50000">
                <a:srgbClr val="6699ff"/>
              </a:gs>
              <a:gs pos="100000">
                <a:srgbClr val="ccffff"/>
              </a:gs>
            </a:gsLst>
            <a:lin ang="108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 rot="16200000">
            <a:off x="-800640" y="3543120"/>
            <a:ext cx="4191120" cy="304920"/>
          </a:xfrm>
          <a:prstGeom prst="leftRightArrow">
            <a:avLst>
              <a:gd name="adj1" fmla="val 50000"/>
              <a:gd name="adj2" fmla="val 273627"/>
            </a:avLst>
          </a:prstGeom>
          <a:gradFill rotWithShape="0">
            <a:gsLst>
              <a:gs pos="0">
                <a:srgbClr val="ccffff"/>
              </a:gs>
              <a:gs pos="50000">
                <a:srgbClr val="6699ff"/>
              </a:gs>
              <a:gs pos="100000">
                <a:srgbClr val="cc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0"/>
            <a:ext cx="8915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cter &amp; Gamble Product Mi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228600" y="1295280"/>
            <a:ext cx="8534520" cy="51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76320"/>
            <a:ext cx="9144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Product Portfolio - </a:t>
            </a: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Boston (BCG) Matri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1600200" y="1066680"/>
          <a:ext cx="6095880" cy="4063680"/>
        </p:xfrm>
        <a:graphic>
          <a:graphicData uri="http://schemas.openxmlformats.org/drawingml/2006/table">
            <a:tbl>
              <a:tblPr/>
              <a:tblGrid>
                <a:gridCol w="3047760"/>
                <a:gridCol w="3048120"/>
              </a:tblGrid>
              <a:tr h="20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blem Child/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h Cow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g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6" name=""/>
          <p:cNvSpPr/>
          <p:nvPr/>
        </p:nvSpPr>
        <p:spPr>
          <a:xfrm>
            <a:off x="609480" y="152388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HIG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85800" y="350532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L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971800" y="502920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HIG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91320" y="502920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L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85800" y="2666880"/>
            <a:ext cx="914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914400" y="4800600"/>
            <a:ext cx="7621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295280" y="5029200"/>
            <a:ext cx="914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10.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267080" y="4952880"/>
            <a:ext cx="914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1.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315200" y="5029200"/>
            <a:ext cx="914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0.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952880" y="2286000"/>
            <a:ext cx="457200" cy="457200"/>
          </a:xfrm>
          <a:prstGeom prst="donut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172200" y="4267080"/>
            <a:ext cx="762120" cy="762120"/>
          </a:xfrm>
          <a:prstGeom prst="donut">
            <a:avLst>
              <a:gd name="adj" fmla="val 25000"/>
            </a:avLst>
          </a:prstGeom>
          <a:solidFill>
            <a:srgbClr val="96969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971800" y="1523880"/>
            <a:ext cx="990720" cy="990720"/>
          </a:xfrm>
          <a:prstGeom prst="donut">
            <a:avLst>
              <a:gd name="adj" fmla="val 25000"/>
            </a:avLst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133720" y="3809880"/>
            <a:ext cx="698400" cy="698760"/>
          </a:xfrm>
          <a:prstGeom prst="donut">
            <a:avLst>
              <a:gd name="adj" fmla="val 25000"/>
            </a:avLst>
          </a:prstGeom>
          <a:solidFill>
            <a:srgbClr val="ff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477120" y="1752480"/>
            <a:ext cx="306360" cy="304920"/>
          </a:xfrm>
          <a:prstGeom prst="donut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124080" y="3962520"/>
            <a:ext cx="1094040" cy="1093680"/>
          </a:xfrm>
          <a:prstGeom prst="donut">
            <a:avLst>
              <a:gd name="adj" fmla="val 25000"/>
            </a:avLst>
          </a:prstGeom>
          <a:solidFill>
            <a:srgbClr val="00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029200" y="3581280"/>
            <a:ext cx="878040" cy="878040"/>
          </a:xfrm>
          <a:prstGeom prst="donut">
            <a:avLst>
              <a:gd name="adj" fmla="val 25000"/>
            </a:avLst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752480" y="2209680"/>
            <a:ext cx="582840" cy="582840"/>
          </a:xfrm>
          <a:prstGeom prst="donut">
            <a:avLst>
              <a:gd name="adj" fmla="val 25000"/>
            </a:avLst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038480" y="54100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lat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arket Sha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0" y="251460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ark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Grow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505320" y="2666880"/>
            <a:ext cx="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095880" y="274320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952200" y="6232680"/>
            <a:ext cx="728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ircle Size = proportion of total revenue business contributes to cor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52280" y="146160"/>
            <a:ext cx="8686800" cy="608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ach product/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Strategic Business Unit (SBU)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assigned to a cel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500"/>
              </a:spcBef>
              <a:buClr>
                <a:srgbClr val="cccc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xe Y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Annual 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rket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growth rat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High = 10% +</a:t>
            </a: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Low = &lt;10%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500"/>
              </a:spcBef>
              <a:buClr>
                <a:srgbClr val="cccc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xe X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lative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market shar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atio of compan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marker share to the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argest competitor’s sh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spcBef>
                <a:spcPts val="1250"/>
              </a:spcBef>
              <a:buClr>
                <a:srgbClr val="b2b2b2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High = 1.0-10.0    Low = 0.01-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0000"/>
              </a:lnSpc>
              <a:spcBef>
                <a:spcPts val="1125"/>
              </a:spcBef>
              <a:buClr>
                <a:srgbClr val="3333cc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Competitor share 20%, share of own company 5% </a:t>
            </a:r>
            <a:r>
              <a:rPr b="0" lang="en-GB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ratio = 0.25 (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0000"/>
              </a:lnSpc>
              <a:spcBef>
                <a:spcPts val="1125"/>
              </a:spcBef>
              <a:buClr>
                <a:srgbClr val="3333cc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Competitor share 5%, share of own company 20% </a:t>
            </a:r>
            <a:r>
              <a:rPr b="0" lang="en-GB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ratio = 4.0 (High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7200" y="624852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Intervals highly dependable on type of market, etc.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304920" y="-76320"/>
            <a:ext cx="8534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General Electric’s Industry Attractiveness-Business  Strength  Matrix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rot="5400000">
            <a:off x="4224240" y="2854440"/>
            <a:ext cx="1098720" cy="1720800"/>
          </a:xfrm>
          <a:prstGeom prst="cube">
            <a:avLst>
              <a:gd name="adj" fmla="val 11583"/>
            </a:avLst>
          </a:prstGeom>
          <a:solidFill>
            <a:srgbClr val="04b304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rot="5400000">
            <a:off x="5792760" y="2854440"/>
            <a:ext cx="1098720" cy="1720800"/>
          </a:xfrm>
          <a:prstGeom prst="cube">
            <a:avLst>
              <a:gd name="adj" fmla="val 11583"/>
            </a:avLst>
          </a:prstGeom>
          <a:solidFill>
            <a:srgbClr val="04b304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rot="5400000">
            <a:off x="7353360" y="2857320"/>
            <a:ext cx="1098360" cy="1720800"/>
          </a:xfrm>
          <a:prstGeom prst="cube">
            <a:avLst>
              <a:gd name="adj" fmla="val 11583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rot="5400000">
            <a:off x="4224240" y="3843360"/>
            <a:ext cx="1098720" cy="1720800"/>
          </a:xfrm>
          <a:prstGeom prst="cube">
            <a:avLst>
              <a:gd name="adj" fmla="val 11583"/>
            </a:avLst>
          </a:prstGeom>
          <a:solidFill>
            <a:srgbClr val="04b304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rot="5400000">
            <a:off x="5792760" y="3843360"/>
            <a:ext cx="1098720" cy="1720800"/>
          </a:xfrm>
          <a:prstGeom prst="cube">
            <a:avLst>
              <a:gd name="adj" fmla="val 11583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rot="5400000">
            <a:off x="7359480" y="3843360"/>
            <a:ext cx="1098720" cy="1720800"/>
          </a:xfrm>
          <a:prstGeom prst="cube">
            <a:avLst>
              <a:gd name="adj" fmla="val 11583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rot="5400000">
            <a:off x="4228920" y="4838760"/>
            <a:ext cx="1098720" cy="1720800"/>
          </a:xfrm>
          <a:prstGeom prst="cube">
            <a:avLst>
              <a:gd name="adj" fmla="val 11583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rot="5400000">
            <a:off x="5792760" y="4830840"/>
            <a:ext cx="1098720" cy="1720800"/>
          </a:xfrm>
          <a:prstGeom prst="cube">
            <a:avLst>
              <a:gd name="adj" fmla="val 11583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rot="5400000">
            <a:off x="7359480" y="4830840"/>
            <a:ext cx="1098720" cy="1720800"/>
          </a:xfrm>
          <a:prstGeom prst="cube">
            <a:avLst>
              <a:gd name="adj" fmla="val 11583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105000" y="5456160"/>
            <a:ext cx="876600" cy="270000"/>
          </a:xfrm>
          <a:prstGeom prst="cube">
            <a:avLst>
              <a:gd name="adj" fmla="val 1823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9840" rIns="69840" tIns="34920" bIns="34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105000" y="3513240"/>
            <a:ext cx="876600" cy="269640"/>
          </a:xfrm>
          <a:prstGeom prst="cube">
            <a:avLst>
              <a:gd name="adj" fmla="val 1823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9840" rIns="69840" tIns="34920" bIns="34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105000" y="4451400"/>
            <a:ext cx="876600" cy="270000"/>
          </a:xfrm>
          <a:prstGeom prst="cube">
            <a:avLst>
              <a:gd name="adj" fmla="val 1823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9840" rIns="69840" tIns="34920" bIns="34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796000" y="2843280"/>
            <a:ext cx="876240" cy="269640"/>
          </a:xfrm>
          <a:prstGeom prst="cube">
            <a:avLst>
              <a:gd name="adj" fmla="val 1823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9840" rIns="69840" tIns="34920" bIns="34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verag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197240" y="2843280"/>
            <a:ext cx="878040" cy="269640"/>
          </a:xfrm>
          <a:prstGeom prst="cube">
            <a:avLst>
              <a:gd name="adj" fmla="val 1823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9840" rIns="69840" tIns="34920" bIns="34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Strong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421400" y="2843280"/>
            <a:ext cx="878040" cy="269640"/>
          </a:xfrm>
          <a:prstGeom prst="cube">
            <a:avLst>
              <a:gd name="adj" fmla="val 1823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9840" rIns="69840" tIns="34920" bIns="34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12120" y="2949480"/>
            <a:ext cx="2680560" cy="30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ket Siz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rowth R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fit Marg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nsity of  Compet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asonal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yclical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source Require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cial Impa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viron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pportunities &amp; Threa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002040" y="1601640"/>
            <a:ext cx="614196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lative Market Sha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utation/ Im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rgaining 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bility to Match Quality/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505560" y="1601640"/>
            <a:ext cx="192744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lative Cos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fit  Margi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t with KS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07800" y="2057400"/>
            <a:ext cx="228168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ndus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ttractiv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462560" y="1147680"/>
            <a:ext cx="28728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Business Streng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495680" y="6324480"/>
            <a:ext cx="4343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ating Scale:  1 = Weak ; 10 = Stro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24320" y="399096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424320" y="4995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424320" y="283356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424320" y="5958000"/>
            <a:ext cx="4572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8431200" y="283356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826320" y="283356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245200" y="283356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9" name=""/>
          <p:cNvGrpSpPr/>
          <p:nvPr/>
        </p:nvGrpSpPr>
        <p:grpSpPr>
          <a:xfrm>
            <a:off x="4114800" y="3594240"/>
            <a:ext cx="4270320" cy="2120760"/>
            <a:chOff x="4114800" y="3594240"/>
            <a:chExt cx="4270320" cy="2120760"/>
          </a:xfrm>
        </p:grpSpPr>
        <p:grpSp>
          <p:nvGrpSpPr>
            <p:cNvPr id="250" name=""/>
            <p:cNvGrpSpPr/>
            <p:nvPr/>
          </p:nvGrpSpPr>
          <p:grpSpPr>
            <a:xfrm>
              <a:off x="4114800" y="3594240"/>
              <a:ext cx="520560" cy="520560"/>
              <a:chOff x="4114800" y="3594240"/>
              <a:chExt cx="520560" cy="520560"/>
            </a:xfrm>
          </p:grpSpPr>
          <p:sp>
            <p:nvSpPr>
              <p:cNvPr id="251" name=""/>
              <p:cNvSpPr/>
              <p:nvPr/>
            </p:nvSpPr>
            <p:spPr>
              <a:xfrm>
                <a:off x="4114800" y="3594240"/>
                <a:ext cx="520560" cy="520560"/>
              </a:xfrm>
              <a:prstGeom prst="ellipse">
                <a:avLst/>
              </a:prstGeom>
              <a:solidFill>
                <a:srgbClr val="00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4379760" y="3613320"/>
                <a:ext cx="0" cy="2235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4394160" y="3846600"/>
                <a:ext cx="2318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4" name=""/>
            <p:cNvGrpSpPr/>
            <p:nvPr/>
          </p:nvGrpSpPr>
          <p:grpSpPr>
            <a:xfrm>
              <a:off x="4767120" y="4046400"/>
              <a:ext cx="414360" cy="414360"/>
              <a:chOff x="4767120" y="4046400"/>
              <a:chExt cx="414360" cy="414360"/>
            </a:xfrm>
          </p:grpSpPr>
          <p:sp>
            <p:nvSpPr>
              <p:cNvPr id="255" name=""/>
              <p:cNvSpPr/>
              <p:nvPr/>
            </p:nvSpPr>
            <p:spPr>
              <a:xfrm>
                <a:off x="4767120" y="4046400"/>
                <a:ext cx="414360" cy="414360"/>
              </a:xfrm>
              <a:prstGeom prst="ellipse">
                <a:avLst/>
              </a:prstGeom>
              <a:solidFill>
                <a:srgbClr val="00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4978440" y="4064040"/>
                <a:ext cx="0" cy="1731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flipV="1">
                <a:off x="4991040" y="4119480"/>
                <a:ext cx="138240" cy="147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8" name=""/>
            <p:cNvGrpSpPr/>
            <p:nvPr/>
          </p:nvGrpSpPr>
          <p:grpSpPr>
            <a:xfrm>
              <a:off x="4324320" y="4518000"/>
              <a:ext cx="600120" cy="600120"/>
              <a:chOff x="4324320" y="4518000"/>
              <a:chExt cx="600120" cy="600120"/>
            </a:xfrm>
          </p:grpSpPr>
          <p:sp>
            <p:nvSpPr>
              <p:cNvPr id="259" name=""/>
              <p:cNvSpPr/>
              <p:nvPr/>
            </p:nvSpPr>
            <p:spPr>
              <a:xfrm>
                <a:off x="4324320" y="4518000"/>
                <a:ext cx="600120" cy="600120"/>
              </a:xfrm>
              <a:prstGeom prst="ellipse">
                <a:avLst/>
              </a:prstGeom>
              <a:solidFill>
                <a:srgbClr val="00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4629240" y="4538520"/>
                <a:ext cx="0" cy="262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4640400" y="4830840"/>
                <a:ext cx="249120" cy="84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2" name=""/>
            <p:cNvGrpSpPr/>
            <p:nvPr/>
          </p:nvGrpSpPr>
          <p:grpSpPr>
            <a:xfrm>
              <a:off x="5238720" y="5292720"/>
              <a:ext cx="308160" cy="308160"/>
              <a:chOff x="5238720" y="5292720"/>
              <a:chExt cx="308160" cy="308160"/>
            </a:xfrm>
          </p:grpSpPr>
          <p:sp>
            <p:nvSpPr>
              <p:cNvPr id="263" name=""/>
              <p:cNvSpPr/>
              <p:nvPr/>
            </p:nvSpPr>
            <p:spPr>
              <a:xfrm>
                <a:off x="5238720" y="5292720"/>
                <a:ext cx="308160" cy="308160"/>
              </a:xfrm>
              <a:prstGeom prst="ellipse">
                <a:avLst/>
              </a:prstGeom>
              <a:solidFill>
                <a:srgbClr val="00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5396040" y="5308560"/>
                <a:ext cx="0" cy="122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5410080" y="5442120"/>
                <a:ext cx="128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5962680" y="3753000"/>
              <a:ext cx="253800" cy="253800"/>
              <a:chOff x="5962680" y="3753000"/>
              <a:chExt cx="253800" cy="253800"/>
            </a:xfrm>
          </p:grpSpPr>
          <p:sp>
            <p:nvSpPr>
              <p:cNvPr id="267" name=""/>
              <p:cNvSpPr/>
              <p:nvPr/>
            </p:nvSpPr>
            <p:spPr>
              <a:xfrm>
                <a:off x="5962680" y="3753000"/>
                <a:ext cx="253800" cy="253800"/>
              </a:xfrm>
              <a:prstGeom prst="ellipse">
                <a:avLst/>
              </a:prstGeom>
              <a:solidFill>
                <a:srgbClr val="00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6093000" y="3767040"/>
                <a:ext cx="0" cy="986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6100920" y="3887640"/>
                <a:ext cx="88920" cy="320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0" name=""/>
            <p:cNvGrpSpPr/>
            <p:nvPr/>
          </p:nvGrpSpPr>
          <p:grpSpPr>
            <a:xfrm>
              <a:off x="6959520" y="5194440"/>
              <a:ext cx="520920" cy="520560"/>
              <a:chOff x="6959520" y="5194440"/>
              <a:chExt cx="520920" cy="520560"/>
            </a:xfrm>
          </p:grpSpPr>
          <p:sp>
            <p:nvSpPr>
              <p:cNvPr id="271" name=""/>
              <p:cNvSpPr/>
              <p:nvPr/>
            </p:nvSpPr>
            <p:spPr>
              <a:xfrm>
                <a:off x="6959520" y="5194440"/>
                <a:ext cx="520920" cy="520560"/>
              </a:xfrm>
              <a:prstGeom prst="ellipse">
                <a:avLst/>
              </a:prstGeom>
              <a:solidFill>
                <a:srgbClr val="00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7224840" y="5213520"/>
                <a:ext cx="0" cy="2235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flipV="1">
                <a:off x="7236000" y="5214960"/>
                <a:ext cx="101520" cy="247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7491240" y="3909960"/>
              <a:ext cx="308160" cy="308160"/>
              <a:chOff x="7491240" y="3909960"/>
              <a:chExt cx="308160" cy="308160"/>
            </a:xfrm>
          </p:grpSpPr>
          <p:sp>
            <p:nvSpPr>
              <p:cNvPr id="275" name=""/>
              <p:cNvSpPr/>
              <p:nvPr/>
            </p:nvSpPr>
            <p:spPr>
              <a:xfrm>
                <a:off x="7491240" y="3909960"/>
                <a:ext cx="308160" cy="308160"/>
              </a:xfrm>
              <a:prstGeom prst="ellipse">
                <a:avLst/>
              </a:prstGeom>
              <a:solidFill>
                <a:srgbClr val="00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7648560" y="3925800"/>
                <a:ext cx="0" cy="122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7662960" y="4059360"/>
                <a:ext cx="1285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8" name=""/>
            <p:cNvGrpSpPr/>
            <p:nvPr/>
          </p:nvGrpSpPr>
          <p:grpSpPr>
            <a:xfrm>
              <a:off x="7731000" y="4518000"/>
              <a:ext cx="654120" cy="654120"/>
              <a:chOff x="7731000" y="4518000"/>
              <a:chExt cx="654120" cy="654120"/>
            </a:xfrm>
          </p:grpSpPr>
          <p:sp>
            <p:nvSpPr>
              <p:cNvPr id="279" name=""/>
              <p:cNvSpPr/>
              <p:nvPr/>
            </p:nvSpPr>
            <p:spPr>
              <a:xfrm>
                <a:off x="7731000" y="4518000"/>
                <a:ext cx="654120" cy="654120"/>
              </a:xfrm>
              <a:prstGeom prst="ellipse">
                <a:avLst/>
              </a:prstGeom>
              <a:solidFill>
                <a:srgbClr val="00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8064360" y="4540320"/>
                <a:ext cx="0" cy="285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flipV="1">
                <a:off x="8075520" y="4627080"/>
                <a:ext cx="225360" cy="219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2" name=""/>
            <p:cNvGrpSpPr/>
            <p:nvPr/>
          </p:nvGrpSpPr>
          <p:grpSpPr>
            <a:xfrm>
              <a:off x="6035760" y="4346640"/>
              <a:ext cx="681120" cy="681120"/>
              <a:chOff x="6035760" y="4346640"/>
              <a:chExt cx="681120" cy="681120"/>
            </a:xfrm>
          </p:grpSpPr>
          <p:sp>
            <p:nvSpPr>
              <p:cNvPr id="283" name=""/>
              <p:cNvSpPr/>
              <p:nvPr/>
            </p:nvSpPr>
            <p:spPr>
              <a:xfrm>
                <a:off x="6035760" y="4346640"/>
                <a:ext cx="681120" cy="681120"/>
              </a:xfrm>
              <a:prstGeom prst="ellipse">
                <a:avLst/>
              </a:prstGeom>
              <a:solidFill>
                <a:srgbClr val="00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6375240" y="4371840"/>
                <a:ext cx="0" cy="3146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6383160" y="4702320"/>
                <a:ext cx="214560" cy="214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86" name=""/>
          <p:cNvSpPr/>
          <p:nvPr/>
        </p:nvSpPr>
        <p:spPr>
          <a:xfrm>
            <a:off x="3733920" y="1066680"/>
            <a:ext cx="5181480" cy="152640"/>
          </a:xfrm>
          <a:prstGeom prst="leftRightArrow">
            <a:avLst>
              <a:gd name="adj1" fmla="val 50000"/>
              <a:gd name="adj2" fmla="val 675772"/>
            </a:avLst>
          </a:prstGeom>
          <a:gradFill rotWithShape="0">
            <a:gsLst>
              <a:gs pos="0">
                <a:srgbClr val="ccffff"/>
              </a:gs>
              <a:gs pos="50000">
                <a:srgbClr val="6699ff"/>
              </a:gs>
              <a:gs pos="100000">
                <a:srgbClr val="ccffff"/>
              </a:gs>
            </a:gsLst>
            <a:lin ang="108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 flipV="1" rot="16200000">
            <a:off x="-1943640" y="4000320"/>
            <a:ext cx="4191120" cy="152280"/>
          </a:xfrm>
          <a:prstGeom prst="leftRightArrow">
            <a:avLst>
              <a:gd name="adj1" fmla="val 50000"/>
              <a:gd name="adj2" fmla="val 547900"/>
            </a:avLst>
          </a:prstGeom>
          <a:gradFill rotWithShape="0">
            <a:gsLst>
              <a:gs pos="0">
                <a:srgbClr val="ccffff"/>
              </a:gs>
              <a:gs pos="50000">
                <a:srgbClr val="6699ff"/>
              </a:gs>
              <a:gs pos="100000">
                <a:srgbClr val="cc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380880" y="228600"/>
            <a:ext cx="8610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duct Life Cyc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066680" y="2336760"/>
            <a:ext cx="0" cy="3200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066680" y="5537160"/>
            <a:ext cx="6477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066680" y="2666880"/>
            <a:ext cx="6553440" cy="2870280"/>
          </a:xfrm>
          <a:custGeom>
            <a:avLst/>
            <a:gdLst/>
            <a:ahLst/>
            <a:rect l="l" t="t" r="r" b="b"/>
            <a:pathLst>
              <a:path w="4128" h="1808">
                <a:moveTo>
                  <a:pt x="0" y="1808"/>
                </a:moveTo>
                <a:cubicBezTo>
                  <a:pt x="244" y="1804"/>
                  <a:pt x="488" y="1800"/>
                  <a:pt x="672" y="1712"/>
                </a:cubicBezTo>
                <a:cubicBezTo>
                  <a:pt x="856" y="1624"/>
                  <a:pt x="960" y="1504"/>
                  <a:pt x="1104" y="1280"/>
                </a:cubicBezTo>
                <a:cubicBezTo>
                  <a:pt x="1248" y="1056"/>
                  <a:pt x="1376" y="576"/>
                  <a:pt x="1536" y="368"/>
                </a:cubicBezTo>
                <a:cubicBezTo>
                  <a:pt x="1696" y="160"/>
                  <a:pt x="1872" y="64"/>
                  <a:pt x="2064" y="32"/>
                </a:cubicBezTo>
                <a:cubicBezTo>
                  <a:pt x="2256" y="0"/>
                  <a:pt x="2512" y="32"/>
                  <a:pt x="2688" y="176"/>
                </a:cubicBezTo>
                <a:cubicBezTo>
                  <a:pt x="2864" y="320"/>
                  <a:pt x="3016" y="712"/>
                  <a:pt x="3120" y="896"/>
                </a:cubicBezTo>
                <a:cubicBezTo>
                  <a:pt x="3224" y="1080"/>
                  <a:pt x="3232" y="1168"/>
                  <a:pt x="3312" y="1280"/>
                </a:cubicBezTo>
                <a:cubicBezTo>
                  <a:pt x="3392" y="1392"/>
                  <a:pt x="3504" y="1488"/>
                  <a:pt x="3600" y="1568"/>
                </a:cubicBezTo>
                <a:cubicBezTo>
                  <a:pt x="3696" y="1648"/>
                  <a:pt x="3800" y="1720"/>
                  <a:pt x="3888" y="1760"/>
                </a:cubicBezTo>
                <a:cubicBezTo>
                  <a:pt x="3976" y="1800"/>
                  <a:pt x="4052" y="1804"/>
                  <a:pt x="4128" y="1808"/>
                </a:cubicBezTo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rot="60000">
            <a:off x="1066680" y="4648320"/>
            <a:ext cx="7162920" cy="1257120"/>
          </a:xfrm>
          <a:custGeom>
            <a:avLst/>
            <a:gdLst/>
            <a:ahLst/>
            <a:rect l="l" t="t" r="r" b="b"/>
            <a:pathLst>
              <a:path w="4512" h="792">
                <a:moveTo>
                  <a:pt x="0" y="576"/>
                </a:moveTo>
                <a:cubicBezTo>
                  <a:pt x="64" y="660"/>
                  <a:pt x="128" y="744"/>
                  <a:pt x="240" y="768"/>
                </a:cubicBezTo>
                <a:cubicBezTo>
                  <a:pt x="352" y="792"/>
                  <a:pt x="552" y="760"/>
                  <a:pt x="672" y="720"/>
                </a:cubicBezTo>
                <a:cubicBezTo>
                  <a:pt x="792" y="680"/>
                  <a:pt x="864" y="616"/>
                  <a:pt x="960" y="528"/>
                </a:cubicBezTo>
                <a:cubicBezTo>
                  <a:pt x="1056" y="440"/>
                  <a:pt x="1144" y="272"/>
                  <a:pt x="1248" y="192"/>
                </a:cubicBezTo>
                <a:cubicBezTo>
                  <a:pt x="1352" y="112"/>
                  <a:pt x="1456" y="80"/>
                  <a:pt x="1584" y="48"/>
                </a:cubicBezTo>
                <a:cubicBezTo>
                  <a:pt x="1712" y="16"/>
                  <a:pt x="1880" y="0"/>
                  <a:pt x="2016" y="0"/>
                </a:cubicBezTo>
                <a:cubicBezTo>
                  <a:pt x="2152" y="0"/>
                  <a:pt x="2264" y="8"/>
                  <a:pt x="2400" y="48"/>
                </a:cubicBezTo>
                <a:cubicBezTo>
                  <a:pt x="2536" y="88"/>
                  <a:pt x="2696" y="160"/>
                  <a:pt x="2832" y="240"/>
                </a:cubicBezTo>
                <a:cubicBezTo>
                  <a:pt x="2968" y="320"/>
                  <a:pt x="3096" y="464"/>
                  <a:pt x="3216" y="528"/>
                </a:cubicBezTo>
                <a:cubicBezTo>
                  <a:pt x="3336" y="592"/>
                  <a:pt x="3448" y="592"/>
                  <a:pt x="3552" y="624"/>
                </a:cubicBezTo>
                <a:cubicBezTo>
                  <a:pt x="3656" y="656"/>
                  <a:pt x="3728" y="712"/>
                  <a:pt x="3840" y="720"/>
                </a:cubicBezTo>
                <a:cubicBezTo>
                  <a:pt x="3952" y="728"/>
                  <a:pt x="4112" y="704"/>
                  <a:pt x="4224" y="672"/>
                </a:cubicBezTo>
                <a:cubicBezTo>
                  <a:pt x="4336" y="640"/>
                  <a:pt x="4424" y="584"/>
                  <a:pt x="4512" y="528"/>
                </a:cubicBezTo>
              </a:path>
            </a:pathLst>
          </a:cu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590920" y="2336760"/>
            <a:ext cx="0" cy="3200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581280" y="2336760"/>
            <a:ext cx="0" cy="3200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562720" y="2336760"/>
            <a:ext cx="0" cy="3200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238880" y="2336760"/>
            <a:ext cx="0" cy="3200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001880" y="1981080"/>
            <a:ext cx="166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590560" y="1981080"/>
            <a:ext cx="107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row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961800" y="1981080"/>
            <a:ext cx="117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791680" y="1981080"/>
            <a:ext cx="108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c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7162920" y="1676520"/>
            <a:ext cx="109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r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514600" y="5791320"/>
            <a:ext cx="149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ss/prof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 flipH="1" flipV="1">
            <a:off x="1676520" y="5714640"/>
            <a:ext cx="76176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697520" y="4952880"/>
            <a:ext cx="77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116960" y="3276720"/>
            <a:ext cx="97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886920" y="4876920"/>
            <a:ext cx="97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f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1295280" y="380880"/>
            <a:ext cx="6624720" cy="559080"/>
          </a:xfrm>
          <a:prstGeom prst="rect">
            <a:avLst/>
          </a:prstGeom>
          <a:gradFill rotWithShape="0">
            <a:gsLst>
              <a:gs pos="0">
                <a:srgbClr val="0099cc"/>
              </a:gs>
              <a:gs pos="100000">
                <a:srgbClr val="00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verlapping Life Cycles for Two Produ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8" name=""/>
          <p:cNvGrpSpPr/>
          <p:nvPr/>
        </p:nvGrpSpPr>
        <p:grpSpPr>
          <a:xfrm>
            <a:off x="379440" y="1295280"/>
            <a:ext cx="7846920" cy="3766680"/>
            <a:chOff x="379440" y="1295280"/>
            <a:chExt cx="7846920" cy="3766680"/>
          </a:xfrm>
        </p:grpSpPr>
        <p:sp>
          <p:nvSpPr>
            <p:cNvPr id="309" name=""/>
            <p:cNvSpPr/>
            <p:nvPr/>
          </p:nvSpPr>
          <p:spPr>
            <a:xfrm>
              <a:off x="814320" y="2611440"/>
              <a:ext cx="7324920" cy="1992600"/>
            </a:xfrm>
            <a:custGeom>
              <a:avLst/>
              <a:gdLst/>
              <a:ahLst/>
              <a:rect l="l" t="t" r="r" b="b"/>
              <a:pathLst>
                <a:path w="3770" h="1173">
                  <a:moveTo>
                    <a:pt x="0" y="1173"/>
                  </a:moveTo>
                  <a:cubicBezTo>
                    <a:pt x="100" y="1161"/>
                    <a:pt x="200" y="1129"/>
                    <a:pt x="300" y="1118"/>
                  </a:cubicBezTo>
                  <a:cubicBezTo>
                    <a:pt x="467" y="1063"/>
                    <a:pt x="640" y="1016"/>
                    <a:pt x="811" y="973"/>
                  </a:cubicBezTo>
                  <a:cubicBezTo>
                    <a:pt x="886" y="954"/>
                    <a:pt x="980" y="926"/>
                    <a:pt x="1056" y="907"/>
                  </a:cubicBezTo>
                  <a:cubicBezTo>
                    <a:pt x="1151" y="884"/>
                    <a:pt x="1207" y="870"/>
                    <a:pt x="1300" y="840"/>
                  </a:cubicBezTo>
                  <a:cubicBezTo>
                    <a:pt x="1362" y="799"/>
                    <a:pt x="1449" y="744"/>
                    <a:pt x="1518" y="708"/>
                  </a:cubicBezTo>
                  <a:cubicBezTo>
                    <a:pt x="1564" y="662"/>
                    <a:pt x="1602" y="631"/>
                    <a:pt x="1656" y="595"/>
                  </a:cubicBezTo>
                  <a:cubicBezTo>
                    <a:pt x="1681" y="557"/>
                    <a:pt x="1690" y="566"/>
                    <a:pt x="1723" y="540"/>
                  </a:cubicBezTo>
                  <a:cubicBezTo>
                    <a:pt x="1764" y="508"/>
                    <a:pt x="1751" y="519"/>
                    <a:pt x="1789" y="462"/>
                  </a:cubicBezTo>
                  <a:cubicBezTo>
                    <a:pt x="1808" y="438"/>
                    <a:pt x="1825" y="411"/>
                    <a:pt x="1839" y="396"/>
                  </a:cubicBezTo>
                  <a:cubicBezTo>
                    <a:pt x="1853" y="381"/>
                    <a:pt x="1849" y="389"/>
                    <a:pt x="1872" y="369"/>
                  </a:cubicBezTo>
                  <a:cubicBezTo>
                    <a:pt x="1905" y="342"/>
                    <a:pt x="1942" y="304"/>
                    <a:pt x="1978" y="273"/>
                  </a:cubicBezTo>
                  <a:cubicBezTo>
                    <a:pt x="2014" y="242"/>
                    <a:pt x="2052" y="210"/>
                    <a:pt x="2089" y="184"/>
                  </a:cubicBezTo>
                  <a:cubicBezTo>
                    <a:pt x="2125" y="149"/>
                    <a:pt x="2153" y="132"/>
                    <a:pt x="2201" y="118"/>
                  </a:cubicBezTo>
                  <a:cubicBezTo>
                    <a:pt x="2223" y="111"/>
                    <a:pt x="2127" y="144"/>
                    <a:pt x="2250" y="93"/>
                  </a:cubicBezTo>
                  <a:cubicBezTo>
                    <a:pt x="2280" y="85"/>
                    <a:pt x="2239" y="90"/>
                    <a:pt x="2271" y="81"/>
                  </a:cubicBezTo>
                  <a:cubicBezTo>
                    <a:pt x="2284" y="74"/>
                    <a:pt x="2311" y="59"/>
                    <a:pt x="2328" y="51"/>
                  </a:cubicBezTo>
                  <a:cubicBezTo>
                    <a:pt x="2345" y="43"/>
                    <a:pt x="2360" y="38"/>
                    <a:pt x="2373" y="33"/>
                  </a:cubicBezTo>
                  <a:cubicBezTo>
                    <a:pt x="2386" y="28"/>
                    <a:pt x="2397" y="24"/>
                    <a:pt x="2409" y="21"/>
                  </a:cubicBezTo>
                  <a:cubicBezTo>
                    <a:pt x="2421" y="18"/>
                    <a:pt x="2428" y="15"/>
                    <a:pt x="2445" y="12"/>
                  </a:cubicBezTo>
                  <a:cubicBezTo>
                    <a:pt x="2462" y="9"/>
                    <a:pt x="2480" y="1"/>
                    <a:pt x="2514" y="3"/>
                  </a:cubicBezTo>
                  <a:cubicBezTo>
                    <a:pt x="2548" y="5"/>
                    <a:pt x="2594" y="0"/>
                    <a:pt x="2649" y="21"/>
                  </a:cubicBezTo>
                  <a:cubicBezTo>
                    <a:pt x="2704" y="42"/>
                    <a:pt x="2787" y="97"/>
                    <a:pt x="2845" y="129"/>
                  </a:cubicBezTo>
                  <a:cubicBezTo>
                    <a:pt x="2873" y="131"/>
                    <a:pt x="2970" y="205"/>
                    <a:pt x="2997" y="213"/>
                  </a:cubicBezTo>
                  <a:cubicBezTo>
                    <a:pt x="3019" y="220"/>
                    <a:pt x="3102" y="294"/>
                    <a:pt x="3102" y="294"/>
                  </a:cubicBezTo>
                  <a:cubicBezTo>
                    <a:pt x="3139" y="319"/>
                    <a:pt x="3108" y="297"/>
                    <a:pt x="3147" y="327"/>
                  </a:cubicBezTo>
                  <a:cubicBezTo>
                    <a:pt x="3172" y="345"/>
                    <a:pt x="3215" y="377"/>
                    <a:pt x="3234" y="393"/>
                  </a:cubicBezTo>
                  <a:cubicBezTo>
                    <a:pt x="3258" y="409"/>
                    <a:pt x="3272" y="413"/>
                    <a:pt x="3288" y="423"/>
                  </a:cubicBezTo>
                  <a:cubicBezTo>
                    <a:pt x="3296" y="430"/>
                    <a:pt x="3320" y="448"/>
                    <a:pt x="3330" y="453"/>
                  </a:cubicBezTo>
                  <a:cubicBezTo>
                    <a:pt x="3360" y="462"/>
                    <a:pt x="3369" y="480"/>
                    <a:pt x="3369" y="480"/>
                  </a:cubicBezTo>
                  <a:cubicBezTo>
                    <a:pt x="3453" y="513"/>
                    <a:pt x="3424" y="506"/>
                    <a:pt x="3480" y="534"/>
                  </a:cubicBezTo>
                  <a:cubicBezTo>
                    <a:pt x="3514" y="551"/>
                    <a:pt x="3486" y="534"/>
                    <a:pt x="3513" y="561"/>
                  </a:cubicBezTo>
                  <a:cubicBezTo>
                    <a:pt x="3502" y="541"/>
                    <a:pt x="3579" y="594"/>
                    <a:pt x="3606" y="609"/>
                  </a:cubicBezTo>
                  <a:cubicBezTo>
                    <a:pt x="3633" y="624"/>
                    <a:pt x="3657" y="637"/>
                    <a:pt x="3678" y="651"/>
                  </a:cubicBezTo>
                  <a:cubicBezTo>
                    <a:pt x="3756" y="699"/>
                    <a:pt x="3709" y="686"/>
                    <a:pt x="3734" y="695"/>
                  </a:cubicBezTo>
                  <a:cubicBezTo>
                    <a:pt x="3770" y="708"/>
                    <a:pt x="3767" y="695"/>
                    <a:pt x="3767" y="718"/>
                  </a:cubicBezTo>
                  <a:lnTo>
                    <a:pt x="3767" y="1173"/>
                  </a:lnTo>
                  <a:lnTo>
                    <a:pt x="0" y="1173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938160" y="1295280"/>
              <a:ext cx="1665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Introduc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3477960" y="1296720"/>
              <a:ext cx="1072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Grow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903200" y="1296720"/>
              <a:ext cx="1171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Maturi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630120" y="1296720"/>
              <a:ext cx="1086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eclin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927760" y="4909320"/>
              <a:ext cx="1550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7480080" y="4663080"/>
              <a:ext cx="746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rot="16200000">
              <a:off x="203040" y="3179160"/>
              <a:ext cx="689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al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4830840" y="2850840"/>
              <a:ext cx="3305160" cy="1753200"/>
            </a:xfrm>
            <a:custGeom>
              <a:avLst/>
              <a:gdLst/>
              <a:ahLst/>
              <a:rect l="l" t="t" r="r" b="b"/>
              <a:pathLst>
                <a:path w="1701" h="1032">
                  <a:moveTo>
                    <a:pt x="0" y="1032"/>
                  </a:moveTo>
                  <a:cubicBezTo>
                    <a:pt x="125" y="1017"/>
                    <a:pt x="243" y="981"/>
                    <a:pt x="367" y="966"/>
                  </a:cubicBezTo>
                  <a:cubicBezTo>
                    <a:pt x="449" y="944"/>
                    <a:pt x="529" y="919"/>
                    <a:pt x="611" y="899"/>
                  </a:cubicBezTo>
                  <a:cubicBezTo>
                    <a:pt x="626" y="895"/>
                    <a:pt x="641" y="892"/>
                    <a:pt x="656" y="888"/>
                  </a:cubicBezTo>
                  <a:cubicBezTo>
                    <a:pt x="679" y="882"/>
                    <a:pt x="722" y="866"/>
                    <a:pt x="722" y="866"/>
                  </a:cubicBezTo>
                  <a:cubicBezTo>
                    <a:pt x="764" y="838"/>
                    <a:pt x="808" y="826"/>
                    <a:pt x="856" y="810"/>
                  </a:cubicBezTo>
                  <a:cubicBezTo>
                    <a:pt x="911" y="792"/>
                    <a:pt x="927" y="749"/>
                    <a:pt x="978" y="732"/>
                  </a:cubicBezTo>
                  <a:cubicBezTo>
                    <a:pt x="989" y="721"/>
                    <a:pt x="999" y="709"/>
                    <a:pt x="1011" y="699"/>
                  </a:cubicBezTo>
                  <a:cubicBezTo>
                    <a:pt x="1021" y="690"/>
                    <a:pt x="1035" y="686"/>
                    <a:pt x="1045" y="677"/>
                  </a:cubicBezTo>
                  <a:cubicBezTo>
                    <a:pt x="1102" y="627"/>
                    <a:pt x="1148" y="574"/>
                    <a:pt x="1211" y="532"/>
                  </a:cubicBezTo>
                  <a:cubicBezTo>
                    <a:pt x="1249" y="478"/>
                    <a:pt x="1225" y="509"/>
                    <a:pt x="1289" y="443"/>
                  </a:cubicBezTo>
                  <a:cubicBezTo>
                    <a:pt x="1326" y="406"/>
                    <a:pt x="1344" y="362"/>
                    <a:pt x="1389" y="332"/>
                  </a:cubicBezTo>
                  <a:cubicBezTo>
                    <a:pt x="1426" y="276"/>
                    <a:pt x="1474" y="242"/>
                    <a:pt x="1523" y="199"/>
                  </a:cubicBezTo>
                  <a:cubicBezTo>
                    <a:pt x="1573" y="155"/>
                    <a:pt x="1599" y="78"/>
                    <a:pt x="1665" y="54"/>
                  </a:cubicBezTo>
                  <a:cubicBezTo>
                    <a:pt x="1692" y="21"/>
                    <a:pt x="1687" y="0"/>
                    <a:pt x="1692" y="3"/>
                  </a:cubicBezTo>
                  <a:cubicBezTo>
                    <a:pt x="1697" y="6"/>
                    <a:pt x="1697" y="51"/>
                    <a:pt x="1698" y="72"/>
                  </a:cubicBezTo>
                  <a:lnTo>
                    <a:pt x="1698" y="132"/>
                  </a:lnTo>
                  <a:lnTo>
                    <a:pt x="1701" y="513"/>
                  </a:lnTo>
                  <a:lnTo>
                    <a:pt x="1700" y="1032"/>
                  </a:lnTo>
                  <a:lnTo>
                    <a:pt x="0" y="1032"/>
                  </a:ln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449760" y="2589480"/>
              <a:ext cx="1148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duct 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6744960" y="4033440"/>
              <a:ext cx="1148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duct 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814320" y="1716480"/>
              <a:ext cx="2635200" cy="2887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3449520" y="1716480"/>
              <a:ext cx="1359000" cy="2887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4808520" y="1716480"/>
              <a:ext cx="1663560" cy="2887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6464160" y="1708920"/>
              <a:ext cx="1663920" cy="2887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4" name=""/>
          <p:cNvSpPr/>
          <p:nvPr/>
        </p:nvSpPr>
        <p:spPr>
          <a:xfrm>
            <a:off x="304920" y="5181480"/>
            <a:ext cx="4572000" cy="146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Life cycle extension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cc99"/>
              </a:buClr>
              <a:buSzPct val="75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ashions and f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cc99"/>
              </a:buClr>
              <a:buSzPct val="75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echnological life cyc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cc99"/>
              </a:buClr>
              <a:buSzPct val="75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ternational product life cyc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2362320" y="304920"/>
            <a:ext cx="4646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roduct Life Cyc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>
            <a:off x="417600" y="1600200"/>
            <a:ext cx="830880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685800" y="-763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Life Cycle and the Marketing Mix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2"/>
          <a:stretch/>
        </p:blipFill>
        <p:spPr>
          <a:xfrm>
            <a:off x="228600" y="914400"/>
            <a:ext cx="861048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90720" y="2514600"/>
            <a:ext cx="6933960" cy="114300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cfdf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A bundle of physical, service, and symbolic attributes designed to enhance buyers want satisfa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960" y="152280"/>
            <a:ext cx="4638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 - defini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04920" y="1143000"/>
            <a:ext cx="6324480" cy="91440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cfdf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rything, both favorable and unfavorable, that a person receives in an exchang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for price pai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371600" y="4191120"/>
            <a:ext cx="7315200" cy="198108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cfdf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969696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A product is a set of tangible and intangible attributes including packaging, colour, price, quality and brand, plus the services and reputation of the sell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685800" y="457200"/>
            <a:ext cx="7772400" cy="1066680"/>
          </a:xfrm>
          <a:prstGeom prst="rect">
            <a:avLst/>
          </a:prstGeom>
          <a:solidFill>
            <a:srgbClr val="0066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Service Marketing versus Goods Marketing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586400" y="4971960"/>
            <a:ext cx="2601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643280" y="5862600"/>
            <a:ext cx="23353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567320" y="4083120"/>
            <a:ext cx="22971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548240" y="3095640"/>
            <a:ext cx="2239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30360" y="1663560"/>
            <a:ext cx="1996920" cy="717840"/>
          </a:xfrm>
          <a:prstGeom prst="rect">
            <a:avLst/>
          </a:prstGeom>
          <a:solidFill>
            <a:srgbClr val="666699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00120" y="1835280"/>
            <a:ext cx="2066760" cy="39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120000"/>
              </a:lnSpc>
              <a:spcAft>
                <a:spcPts val="4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  <a:ea typeface="Arial"/>
              </a:rPr>
              <a:t>Characteris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774880" y="1676520"/>
            <a:ext cx="5942160" cy="717480"/>
          </a:xfrm>
          <a:prstGeom prst="rect">
            <a:avLst/>
          </a:prstGeom>
          <a:gradFill rotWithShape="0">
            <a:gsLst>
              <a:gs pos="0">
                <a:srgbClr val="e8d966"/>
              </a:gs>
              <a:gs pos="100000">
                <a:srgbClr val="cc6600"/>
              </a:gs>
            </a:gsLst>
            <a:lin ang="10800000"/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744640" y="1687680"/>
            <a:ext cx="2067120" cy="698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ure Service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Marke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858000" y="1695600"/>
            <a:ext cx="1860480" cy="698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ure Good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Marke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20640" y="2646360"/>
            <a:ext cx="2003400" cy="3633840"/>
          </a:xfrm>
          <a:prstGeom prst="rect">
            <a:avLst/>
          </a:prstGeom>
          <a:solidFill>
            <a:srgbClr val="666699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6960" y="2654280"/>
            <a:ext cx="1874880" cy="3621240"/>
          </a:xfrm>
          <a:prstGeom prst="rect">
            <a:avLst/>
          </a:prstGeom>
          <a:gradFill rotWithShape="0">
            <a:gsLst>
              <a:gs pos="0">
                <a:srgbClr val="e08500"/>
              </a:gs>
              <a:gs pos="100000">
                <a:srgbClr val="875000"/>
              </a:gs>
            </a:gsLst>
            <a:lin ang="10800000"/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875120" y="2662200"/>
            <a:ext cx="1555920" cy="3621240"/>
          </a:xfrm>
          <a:prstGeom prst="rect">
            <a:avLst/>
          </a:prstGeom>
          <a:gradFill rotWithShape="0">
            <a:gsLst>
              <a:gs pos="0">
                <a:srgbClr val="e8d966"/>
              </a:gs>
              <a:gs pos="100000">
                <a:srgbClr val="cc6600"/>
              </a:gs>
            </a:gsLst>
            <a:lin ang="10800000"/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705720" y="2666880"/>
            <a:ext cx="1989000" cy="3621240"/>
          </a:xfrm>
          <a:prstGeom prst="rect">
            <a:avLst/>
          </a:prstGeom>
          <a:solidFill>
            <a:srgbClr val="e0cb32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90400" y="2819520"/>
            <a:ext cx="2067120" cy="3240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120000"/>
              </a:lnSpc>
              <a:spcAft>
                <a:spcPts val="4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  <a:ea typeface="Arial"/>
              </a:rPr>
              <a:t>Tangibility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spcAft>
                <a:spcPts val="4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  <a:ea typeface="Arial"/>
              </a:rPr>
              <a:t>Production/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Tahoma"/>
                <a:ea typeface="Arial"/>
              </a:rPr>
              <a:t>Consumptio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spcAft>
                <a:spcPts val="4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  <a:ea typeface="Arial"/>
              </a:rPr>
              <a:t>Standardizatio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spcAft>
                <a:spcPts val="4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  <a:ea typeface="Arial"/>
              </a:rPr>
              <a:t>Perishability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35040" y="3470400"/>
            <a:ext cx="1982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644400" y="4575240"/>
            <a:ext cx="1973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36480" y="5487840"/>
            <a:ext cx="19749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751120" y="2666880"/>
            <a:ext cx="1897200" cy="381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6800" bIns="44280" anchor="t">
            <a:noAutofit/>
          </a:bodyPr>
          <a:p>
            <a:pPr algn="ctr">
              <a:lnSpc>
                <a:spcPct val="130000"/>
              </a:lnSpc>
              <a:spcBef>
                <a:spcPts val="1125"/>
              </a:spcBef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ntangible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goo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1125"/>
              </a:spcBef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Occur at the same 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1125"/>
              </a:spcBef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Less standard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1125"/>
              </a:spcBef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Greater perish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736720" y="3478320"/>
            <a:ext cx="1898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766960" y="4572000"/>
            <a:ext cx="1868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744640" y="5486400"/>
            <a:ext cx="1890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673680" y="2565360"/>
            <a:ext cx="2067120" cy="3733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137160" bIns="44280" anchor="t">
            <a:noAutofit/>
          </a:bodyPr>
          <a:p>
            <a:pPr algn="ctr">
              <a:lnSpc>
                <a:spcPct val="130000"/>
              </a:lnSpc>
              <a:spcBef>
                <a:spcPts val="1125"/>
              </a:spcBef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angible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goo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1125"/>
              </a:spcBef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Occur at different tim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1125"/>
              </a:spcBef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More standard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1125"/>
              </a:spcBef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Less perish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718320" y="3486240"/>
            <a:ext cx="19684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727680" y="4572000"/>
            <a:ext cx="19497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719760" y="5486400"/>
            <a:ext cx="19670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881600" y="3654360"/>
            <a:ext cx="1519200" cy="1186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Hybrid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Services/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Goods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Marke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0" y="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Times New Roman"/>
              </a:rPr>
              <a:t>Management Perspectives on “New” Product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52280" y="1219320"/>
            <a:ext cx="60199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w-to-the-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 category exten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 line exten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 mod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4568760" y="6097680"/>
            <a:ext cx="19796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609480" y="3124080"/>
            <a:ext cx="8229600" cy="11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onsumers’ Perspectives </a:t>
            </a: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   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on “New” Product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62120" y="4495680"/>
            <a:ext cx="2598480" cy="70236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scontin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nov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85800" y="5311800"/>
            <a:ext cx="4108320" cy="1317600"/>
          </a:xfrm>
          <a:prstGeom prst="leftArrow">
            <a:avLst>
              <a:gd name="adj1" fmla="val 50000"/>
              <a:gd name="adj2" fmla="val 155887"/>
            </a:avLst>
          </a:prstGeom>
          <a:gradFill rotWithShape="0">
            <a:gsLst>
              <a:gs pos="0">
                <a:srgbClr val="fc0128"/>
              </a:gs>
              <a:gs pos="100000">
                <a:srgbClr val="960017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578480" y="5311800"/>
            <a:ext cx="4108320" cy="1317600"/>
          </a:xfrm>
          <a:prstGeom prst="rightArrow">
            <a:avLst>
              <a:gd name="adj1" fmla="val 50000"/>
              <a:gd name="adj2" fmla="val 155916"/>
            </a:avLst>
          </a:prstGeom>
          <a:gradFill rotWithShape="0">
            <a:gsLst>
              <a:gs pos="0">
                <a:srgbClr val="fb1a3d"/>
              </a:gs>
              <a:gs pos="100000">
                <a:srgbClr val="fc0128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181520" y="5769000"/>
            <a:ext cx="2181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reakthroug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195440" y="4419720"/>
            <a:ext cx="1669320" cy="10072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ynamical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nov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656160" y="5791320"/>
            <a:ext cx="2149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jor 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6558120" y="4419720"/>
            <a:ext cx="1599480" cy="70236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nov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628320" y="5562720"/>
            <a:ext cx="1558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go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562720" y="914400"/>
            <a:ext cx="2971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Times New Roman"/>
              </a:rPr>
              <a:t>VS.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-76320" y="-304920"/>
            <a:ext cx="9220320" cy="11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5 Characteristics of New Product Succ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76320" y="685800"/>
            <a:ext cx="436068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marL="335880" indent="-335880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300" spc="-1" strike="noStrike">
                <a:solidFill>
                  <a:srgbClr val="000000"/>
                </a:solidFill>
                <a:latin typeface="Times New Roman"/>
              </a:rPr>
              <a:t>Relative advantage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66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Lower co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66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Fas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66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Eas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66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Additional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66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More fun</a:t>
            </a:r>
            <a:r>
              <a:rPr b="0" lang="cs-CZ" sz="2800" spc="-1" strike="noStrike">
                <a:solidFill>
                  <a:srgbClr val="006600"/>
                </a:solidFill>
                <a:latin typeface="Times New Roman"/>
              </a:rPr>
              <a:t>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-76320" y="3962520"/>
            <a:ext cx="5562720" cy="14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2000"/>
          </a:bodyPr>
          <a:p>
            <a:pPr marL="490680" indent="-490680">
              <a:spcBef>
                <a:spcPts val="825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Times New Roman"/>
              </a:rPr>
              <a:t>Compatibility with 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490680" indent="-490680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300" spc="-1" strike="noStrike">
                <a:solidFill>
                  <a:srgbClr val="000000"/>
                </a:solidFill>
                <a:latin typeface="Times New Roman"/>
              </a:rPr>
              <a:t>existing habits and behaviors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4343400" y="685800"/>
            <a:ext cx="48769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300" spc="-1" strike="noStrike">
                <a:solidFill>
                  <a:srgbClr val="000000"/>
                </a:solidFill>
                <a:latin typeface="Times New Roman"/>
              </a:rPr>
              <a:t>Trial-ability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Easily tes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Low ris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Inexpens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No special equip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Free samples or coup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114800" y="3962520"/>
            <a:ext cx="57150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.  </a:t>
            </a:r>
            <a:r>
              <a:rPr b="1" lang="en-US" sz="3300" spc="-1" strike="noStrike">
                <a:solidFill>
                  <a:srgbClr val="000000"/>
                </a:solidFill>
                <a:latin typeface="Times New Roman"/>
              </a:rPr>
              <a:t>Observability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66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6600"/>
                </a:solidFill>
                <a:latin typeface="Times New Roman"/>
              </a:rPr>
              <a:t>Visible cu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66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6600"/>
                </a:solidFill>
                <a:latin typeface="Times New Roman"/>
              </a:rPr>
              <a:t>Communicate hidden qualiti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0" y="5638680"/>
            <a:ext cx="8915400" cy="45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Times New Roman"/>
              </a:rPr>
              <a:t>5.  Simplicity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User friendly</a:t>
            </a:r>
            <a:r>
              <a:rPr b="0" lang="cs-CZ" sz="2800" spc="-1" strike="noStrike">
                <a:solidFill>
                  <a:srgbClr val="0066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Understandable</a:t>
            </a:r>
            <a:r>
              <a:rPr b="0" lang="cs-CZ" sz="2800" spc="-1" strike="noStrike">
                <a:solidFill>
                  <a:srgbClr val="006600"/>
                </a:solidFill>
                <a:latin typeface="Times New Roman"/>
              </a:rPr>
              <a:t>,  E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asy to grasp</a:t>
            </a:r>
            <a:r>
              <a:rPr b="0" lang="cs-CZ" sz="2800" spc="-1" strike="noStrike">
                <a:solidFill>
                  <a:srgbClr val="006600"/>
                </a:solidFill>
                <a:latin typeface="Times New Roman"/>
              </a:rPr>
              <a:t>/use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152280" y="76320"/>
            <a:ext cx="7772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Bran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04920" y="914400"/>
            <a:ext cx="845820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RA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A name, term, symbol, design, or combination thereof that identifies a seller’s products and differentiates them from competitors’ produc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09480" y="2362320"/>
            <a:ext cx="7772400" cy="8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80880" y="2666880"/>
            <a:ext cx="8229600" cy="3961800"/>
            <a:chOff x="380880" y="2666880"/>
            <a:chExt cx="8229600" cy="3961800"/>
          </a:xfrm>
        </p:grpSpPr>
        <p:grpSp>
          <p:nvGrpSpPr>
            <p:cNvPr id="379" name=""/>
            <p:cNvGrpSpPr/>
            <p:nvPr/>
          </p:nvGrpSpPr>
          <p:grpSpPr>
            <a:xfrm>
              <a:off x="380880" y="2666880"/>
              <a:ext cx="1932120" cy="3961800"/>
              <a:chOff x="380880" y="2666880"/>
              <a:chExt cx="1932120" cy="3961800"/>
            </a:xfrm>
          </p:grpSpPr>
          <p:sp>
            <p:nvSpPr>
              <p:cNvPr id="380" name=""/>
              <p:cNvSpPr/>
              <p:nvPr/>
            </p:nvSpPr>
            <p:spPr>
              <a:xfrm>
                <a:off x="380880" y="2666880"/>
                <a:ext cx="1932120" cy="985320"/>
              </a:xfrm>
              <a:prstGeom prst="rect">
                <a:avLst/>
              </a:prstGeom>
              <a:solidFill>
                <a:srgbClr val="fcb2d3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71785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 anchorCtr="1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Brand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Nam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380880" y="3663720"/>
                <a:ext cx="1932120" cy="986400"/>
              </a:xfrm>
              <a:prstGeom prst="rect">
                <a:avLst/>
              </a:prstGeom>
              <a:solidFill>
                <a:srgbClr val="fcb2d3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71785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Bran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Mark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380880" y="4660920"/>
                <a:ext cx="1932120" cy="982080"/>
              </a:xfrm>
              <a:prstGeom prst="rect">
                <a:avLst/>
              </a:prstGeom>
              <a:solidFill>
                <a:srgbClr val="fcb2d3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71785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Brand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Equity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380880" y="5643360"/>
                <a:ext cx="1932120" cy="985320"/>
              </a:xfrm>
              <a:prstGeom prst="rect">
                <a:avLst/>
              </a:prstGeom>
              <a:solidFill>
                <a:srgbClr val="fcb2d3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71785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Maste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Bran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4" name=""/>
            <p:cNvSpPr/>
            <p:nvPr/>
          </p:nvSpPr>
          <p:spPr>
            <a:xfrm>
              <a:off x="2292480" y="2666880"/>
              <a:ext cx="6318000" cy="984600"/>
            </a:xfrm>
            <a:prstGeom prst="rect">
              <a:avLst/>
            </a:prstGeom>
            <a:solidFill>
              <a:srgbClr val="c1ceff"/>
            </a:solidFill>
            <a:ln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 anchorCtr="1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at part of a brand that can be spoken, including letters, words, and numbers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292480" y="3663720"/>
              <a:ext cx="6318000" cy="986040"/>
            </a:xfrm>
            <a:prstGeom prst="rect">
              <a:avLst/>
            </a:prstGeom>
            <a:solidFill>
              <a:srgbClr val="c1ceff"/>
            </a:solidFill>
            <a:ln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 anchorCtr="1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 elements of a brand that 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cannot be spoke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292480" y="4662000"/>
              <a:ext cx="6318000" cy="982800"/>
            </a:xfrm>
            <a:prstGeom prst="rect">
              <a:avLst/>
            </a:prstGeom>
            <a:solidFill>
              <a:srgbClr val="c1ceff"/>
            </a:solidFill>
            <a:ln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 anchorCtr="1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 value of company and brand names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292480" y="5644800"/>
              <a:ext cx="6318000" cy="983880"/>
            </a:xfrm>
            <a:prstGeom prst="rect">
              <a:avLst/>
            </a:prstGeom>
            <a:solidFill>
              <a:srgbClr val="c1ceff"/>
            </a:solidFill>
            <a:ln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 anchorCtr="1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A brand so dominant that it comes to 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mind immediately when a product category, use, attribute, or benefit is mentioned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-76320" y="22860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 Effective Brand Na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0" y="713160"/>
            <a:ext cx="8153280" cy="46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90000"/>
              </a:lnSpc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1576"/>
              </a:spcBef>
              <a:buClr>
                <a:srgbClr val="b2b2b2"/>
              </a:buClr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Arial"/>
              </a:rPr>
              <a:t>Is easy to pronou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1576"/>
              </a:spcBef>
              <a:buClr>
                <a:srgbClr val="b2b2b2"/>
              </a:buClr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Arial"/>
              </a:rPr>
              <a:t>Is easy to recognize and rememb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1576"/>
              </a:spcBef>
              <a:buClr>
                <a:srgbClr val="b2b2b2"/>
              </a:buClr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Arial"/>
              </a:rPr>
              <a:t>Is short, distinctive, and uni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1576"/>
              </a:spcBef>
              <a:buClr>
                <a:srgbClr val="b2b2b2"/>
              </a:buClr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Arial"/>
              </a:rPr>
              <a:t>Describes the product, use, and benef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1576"/>
              </a:spcBef>
              <a:buClr>
                <a:srgbClr val="b2b2b2"/>
              </a:buClr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Arial"/>
              </a:rPr>
              <a:t>Has a positive conno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1576"/>
              </a:spcBef>
              <a:buClr>
                <a:srgbClr val="b2b2b2"/>
              </a:buClr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Arial"/>
              </a:rPr>
              <a:t>Reinforces the product im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1576"/>
              </a:spcBef>
              <a:buClr>
                <a:srgbClr val="b2b2b2"/>
              </a:buClr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Arial"/>
              </a:rPr>
              <a:t>Is legally protec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8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8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8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8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89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89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16" dur="1" fill="hold"/>
                                  <p:tgtEl>
                                    <p:spTgt spid="389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anufacturers’ Brands Versu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ivate Bran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285840" y="1933560"/>
            <a:ext cx="2837880" cy="2333520"/>
            <a:chOff x="285840" y="1933560"/>
            <a:chExt cx="2837880" cy="2333520"/>
          </a:xfrm>
        </p:grpSpPr>
        <p:sp>
          <p:nvSpPr>
            <p:cNvPr id="392" name=""/>
            <p:cNvSpPr/>
            <p:nvPr/>
          </p:nvSpPr>
          <p:spPr>
            <a:xfrm>
              <a:off x="285840" y="1933560"/>
              <a:ext cx="2837880" cy="1157400"/>
            </a:xfrm>
            <a:prstGeom prst="rect">
              <a:avLst/>
            </a:prstGeom>
            <a:solidFill>
              <a:srgbClr val="fcb2d3"/>
            </a:solidFill>
            <a:ln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 anchorCtr="1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Manufacturers’ 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Brand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285840" y="3107520"/>
              <a:ext cx="2837880" cy="1159560"/>
            </a:xfrm>
            <a:prstGeom prst="rect">
              <a:avLst/>
            </a:prstGeom>
            <a:solidFill>
              <a:srgbClr val="fcb2d3"/>
            </a:solidFill>
            <a:ln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 anchorCtr="1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Private 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Brand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4" name=""/>
          <p:cNvGrpSpPr/>
          <p:nvPr/>
        </p:nvGrpSpPr>
        <p:grpSpPr>
          <a:xfrm>
            <a:off x="3124080" y="1933560"/>
            <a:ext cx="5695920" cy="2333520"/>
            <a:chOff x="3124080" y="1933560"/>
            <a:chExt cx="5695920" cy="2333520"/>
          </a:xfrm>
        </p:grpSpPr>
        <p:sp>
          <p:nvSpPr>
            <p:cNvPr id="395" name=""/>
            <p:cNvSpPr/>
            <p:nvPr/>
          </p:nvSpPr>
          <p:spPr>
            <a:xfrm>
              <a:off x="3124080" y="1933560"/>
              <a:ext cx="5695920" cy="1157400"/>
            </a:xfrm>
            <a:prstGeom prst="rect">
              <a:avLst/>
            </a:prstGeom>
            <a:solidFill>
              <a:srgbClr val="c1ceff"/>
            </a:solidFill>
            <a:ln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 anchorCtr="1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brand name of a manufacturer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124080" y="3107520"/>
              <a:ext cx="5695920" cy="1159560"/>
            </a:xfrm>
            <a:prstGeom prst="rect">
              <a:avLst/>
            </a:prstGeom>
            <a:solidFill>
              <a:srgbClr val="c1ceff"/>
            </a:solidFill>
            <a:ln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 anchorCtr="1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 brand name owned by a  wholesaler or a retailer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/>
          <p:nvPr/>
        </p:nvSpPr>
        <p:spPr>
          <a:xfrm>
            <a:off x="0" y="5029200"/>
            <a:ext cx="2971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eneric Bra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3124080" y="4495680"/>
            <a:ext cx="571500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o-frills, no-brand-name, low-cost product that is simply identified by its product catego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0" y="-228600"/>
            <a:ext cx="9220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vantages of  Manufacturers’ Bran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152280" y="6858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velop customer loyal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ttract new custom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hance presti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fer rapid delivery, can carry less inven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sure dealer loyal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-380880" y="2895480"/>
            <a:ext cx="9296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Advantages of  Private Bran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981080" y="3886200"/>
            <a:ext cx="77724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71680" indent="-57168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cc"/>
                </a:solidFill>
                <a:latin typeface="Arial"/>
              </a:rPr>
              <a:t>Earn higher prof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cc"/>
                </a:solidFill>
                <a:latin typeface="Arial"/>
              </a:rPr>
              <a:t>Less pressure to mark down pri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cc"/>
                </a:solidFill>
                <a:latin typeface="Arial"/>
              </a:rPr>
              <a:t>Manufacturer may drop a brand or become a direct competitor to deal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cc"/>
                </a:solidFill>
                <a:latin typeface="Arial"/>
              </a:rPr>
              <a:t>Ties to wholesaler or retail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cc"/>
                </a:solidFill>
                <a:latin typeface="Arial"/>
              </a:rPr>
              <a:t>No control over distribution of manufacturers’ bran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2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0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3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0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0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0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00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5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0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0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0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0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70" dur="1" fill="hold"/>
                                  <p:tgtEl>
                                    <p:spTgt spid="40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152280" y="838080"/>
            <a:ext cx="8839440" cy="518184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/>
          <p:nvPr/>
        </p:nvSpPr>
        <p:spPr>
          <a:xfrm>
            <a:off x="304920" y="624852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urce: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brand Group, August 200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533520" y="152280"/>
            <a:ext cx="80769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Global Brand Scorecar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ckag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470480" y="2036880"/>
            <a:ext cx="2706480" cy="1041120"/>
          </a:xfrm>
          <a:custGeom>
            <a:avLst/>
            <a:gdLst/>
            <a:ahLst/>
            <a:rect l="l" t="t" r="r" b="b"/>
            <a:pathLst>
              <a:path w="1705" h="745">
                <a:moveTo>
                  <a:pt x="0" y="0"/>
                </a:moveTo>
                <a:lnTo>
                  <a:pt x="960" y="0"/>
                </a:lnTo>
                <a:lnTo>
                  <a:pt x="1704" y="744"/>
                </a:lnTo>
              </a:path>
            </a:pathLst>
          </a:custGeom>
          <a:noFill/>
          <a:ln cap="rnd" w="1260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 flipH="1">
            <a:off x="342360" y="1657440"/>
            <a:ext cx="4120920" cy="928440"/>
          </a:xfrm>
          <a:prstGeom prst="rect">
            <a:avLst/>
          </a:prstGeom>
          <a:solidFill>
            <a:srgbClr val="f6bf69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ain and Prot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470480" y="4621320"/>
            <a:ext cx="2706480" cy="1041120"/>
          </a:xfrm>
          <a:custGeom>
            <a:avLst/>
            <a:gdLst/>
            <a:ahLst/>
            <a:rect l="l" t="t" r="r" b="b"/>
            <a:pathLst>
              <a:path w="1705" h="745">
                <a:moveTo>
                  <a:pt x="0" y="744"/>
                </a:moveTo>
                <a:lnTo>
                  <a:pt x="960" y="744"/>
                </a:lnTo>
                <a:lnTo>
                  <a:pt x="1704" y="0"/>
                </a:lnTo>
              </a:path>
            </a:pathLst>
          </a:custGeom>
          <a:noFill/>
          <a:ln cap="rnd" w="1260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 flipH="1">
            <a:off x="5867280" y="2597040"/>
            <a:ext cx="2959200" cy="2571840"/>
          </a:xfrm>
          <a:prstGeom prst="ellipse">
            <a:avLst/>
          </a:prstGeom>
          <a:gradFill rotWithShape="0">
            <a:gsLst>
              <a:gs pos="0">
                <a:srgbClr val="00cc99"/>
              </a:gs>
              <a:gs pos="100000">
                <a:srgbClr val="009a73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ckag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342360" y="2832120"/>
            <a:ext cx="4120920" cy="927000"/>
          </a:xfrm>
          <a:prstGeom prst="rect">
            <a:avLst/>
          </a:prstGeom>
          <a:solidFill>
            <a:srgbClr val="cc99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mo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342360" y="4005360"/>
            <a:ext cx="4120920" cy="928440"/>
          </a:xfrm>
          <a:prstGeom prst="rect">
            <a:avLst/>
          </a:prstGeom>
          <a:solidFill>
            <a:srgbClr val="ffcc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cilitate Storage, Use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 Conveni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 flipH="1">
            <a:off x="342360" y="5180040"/>
            <a:ext cx="4120920" cy="927000"/>
          </a:xfrm>
          <a:prstGeom prst="rect">
            <a:avLst/>
          </a:prstGeom>
          <a:solidFill>
            <a:srgbClr val="c1ce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cilitate Recyc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470480" y="3262320"/>
            <a:ext cx="1449360" cy="369720"/>
          </a:xfrm>
          <a:custGeom>
            <a:avLst/>
            <a:gdLst/>
            <a:ahLst/>
            <a:rect l="l" t="t" r="r" b="b"/>
            <a:pathLst>
              <a:path w="913" h="265">
                <a:moveTo>
                  <a:pt x="0" y="0"/>
                </a:moveTo>
                <a:lnTo>
                  <a:pt x="516" y="0"/>
                </a:lnTo>
                <a:lnTo>
                  <a:pt x="912" y="264"/>
                </a:lnTo>
              </a:path>
            </a:pathLst>
          </a:custGeom>
          <a:noFill/>
          <a:ln cap="rnd" w="1260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470480" y="4084560"/>
            <a:ext cx="1449360" cy="370080"/>
          </a:xfrm>
          <a:custGeom>
            <a:avLst/>
            <a:gdLst/>
            <a:ahLst/>
            <a:rect l="l" t="t" r="r" b="b"/>
            <a:pathLst>
              <a:path w="913" h="265">
                <a:moveTo>
                  <a:pt x="0" y="264"/>
                </a:moveTo>
                <a:lnTo>
                  <a:pt x="516" y="264"/>
                </a:lnTo>
                <a:lnTo>
                  <a:pt x="912" y="0"/>
                </a:lnTo>
              </a:path>
            </a:pathLst>
          </a:custGeom>
          <a:noFill/>
          <a:ln cap="rnd" w="1260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76212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abel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7" name=""/>
          <p:cNvGrpSpPr/>
          <p:nvPr/>
        </p:nvGrpSpPr>
        <p:grpSpPr>
          <a:xfrm>
            <a:off x="609480" y="1752480"/>
            <a:ext cx="3581640" cy="3724560"/>
            <a:chOff x="609480" y="1752480"/>
            <a:chExt cx="3581640" cy="3724560"/>
          </a:xfrm>
        </p:grpSpPr>
        <p:sp>
          <p:nvSpPr>
            <p:cNvPr id="418" name=""/>
            <p:cNvSpPr/>
            <p:nvPr/>
          </p:nvSpPr>
          <p:spPr>
            <a:xfrm>
              <a:off x="685800" y="1752480"/>
              <a:ext cx="3505320" cy="93996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  <a:effectLst>
              <a:outerShdw dist="89604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Persuasiv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609480" y="2751120"/>
              <a:ext cx="3200400" cy="272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457200" indent="-45720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90000"/>
                </a:lnSpc>
                <a:buClr>
                  <a:srgbClr val="b2b2b2"/>
                </a:buClr>
                <a:buFont typeface="Wingdings" charset="2"/>
                <a:buChar char="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Arial"/>
                </a:rPr>
                <a:t>Focuses on promotional theme</a:t>
              </a:r>
              <a:br>
                <a:rPr sz="2700"/>
              </a:br>
              <a:r>
                <a:rPr b="1" lang="en-US" sz="2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90000"/>
                </a:lnSpc>
                <a:buClr>
                  <a:srgbClr val="b2b2b2"/>
                </a:buClr>
                <a:buFont typeface="Wingdings" charset="2"/>
                <a:buChar char="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Arial"/>
                </a:rPr>
                <a:t>Information is secondary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"/>
          <p:cNvGrpSpPr/>
          <p:nvPr/>
        </p:nvGrpSpPr>
        <p:grpSpPr>
          <a:xfrm>
            <a:off x="5029200" y="1752480"/>
            <a:ext cx="3809880" cy="4046760"/>
            <a:chOff x="5029200" y="1752480"/>
            <a:chExt cx="3809880" cy="4046760"/>
          </a:xfrm>
        </p:grpSpPr>
        <p:sp>
          <p:nvSpPr>
            <p:cNvPr id="421" name=""/>
            <p:cNvSpPr/>
            <p:nvPr/>
          </p:nvSpPr>
          <p:spPr>
            <a:xfrm>
              <a:off x="5029200" y="1752480"/>
              <a:ext cx="3505320" cy="939960"/>
            </a:xfrm>
            <a:prstGeom prst="rect">
              <a:avLst/>
            </a:prstGeom>
            <a:solidFill>
              <a:srgbClr val="c1ceff"/>
            </a:solidFill>
            <a:ln w="12600">
              <a:solidFill>
                <a:srgbClr val="000000"/>
              </a:solidFill>
              <a:miter/>
            </a:ln>
            <a:effectLst>
              <a:outerShdw dist="89604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Informational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5029200" y="2703240"/>
              <a:ext cx="3809880" cy="309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457200" indent="-45720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90000"/>
                </a:lnSpc>
                <a:buClr>
                  <a:srgbClr val="b2b2b2"/>
                </a:buClr>
                <a:buFont typeface="Wingdings" charset="2"/>
                <a:buChar char="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Arial"/>
                </a:rPr>
                <a:t>Helps make proper selections</a:t>
              </a:r>
              <a:br>
                <a:rPr sz="2700"/>
              </a:br>
              <a:r>
                <a:rPr b="1" lang="en-US" sz="2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90000"/>
                </a:lnSpc>
                <a:buClr>
                  <a:srgbClr val="b2b2b2"/>
                </a:buClr>
                <a:buFont typeface="Wingdings" charset="2"/>
                <a:buChar char="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Arial"/>
                </a:rPr>
                <a:t>Lowers cognitive dissonance</a:t>
              </a:r>
              <a:br>
                <a:rPr sz="2700"/>
              </a:br>
              <a:r>
                <a:rPr b="1" lang="en-US" sz="2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90000"/>
                </a:lnSpc>
                <a:buClr>
                  <a:srgbClr val="b2b2b2"/>
                </a:buClr>
                <a:buFont typeface="Wingdings" charset="2"/>
                <a:buChar char="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Arial"/>
                </a:rPr>
                <a:t>Includes use/care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576600" y="2557440"/>
            <a:ext cx="2209680" cy="220968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d9319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052720" y="1490760"/>
            <a:ext cx="1600200" cy="8380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Times New Roman"/>
              </a:rPr>
              <a:t>Seller’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Times New Roman"/>
              </a:rPr>
              <a:t>ser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81520" y="957240"/>
            <a:ext cx="1600200" cy="8380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Times New Roman"/>
              </a:rPr>
              <a:t>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167520" y="1143000"/>
            <a:ext cx="1985760" cy="11764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Times New Roman"/>
              </a:rPr>
              <a:t>Phys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Times New Roman"/>
              </a:rPr>
              <a:t>characte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Times New Roman"/>
              </a:rPr>
              <a:t>of go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624720" y="2633760"/>
            <a:ext cx="1600200" cy="8380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Times New Roman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777000" y="3852720"/>
            <a:ext cx="1600200" cy="8384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Times New Roman"/>
              </a:rPr>
              <a:t>Br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881520" y="5605560"/>
            <a:ext cx="1600200" cy="8380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Times New Roman"/>
              </a:rPr>
              <a:t>De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119640" y="5068800"/>
            <a:ext cx="1600200" cy="8384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Times New Roman"/>
              </a:rPr>
              <a:t>Packag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47800" y="4919760"/>
            <a:ext cx="1600200" cy="8380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Times New Roman"/>
              </a:rPr>
              <a:t>warran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219320" y="2633760"/>
            <a:ext cx="1442880" cy="8380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Times New Roman"/>
              </a:rPr>
              <a:t>Seller’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Times New Roman"/>
              </a:rPr>
              <a:t>repu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440000" y="3854520"/>
            <a:ext cx="1245960" cy="8380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Times New Roman"/>
              </a:rPr>
              <a:t>Colo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3860640" y="3090960"/>
          <a:ext cx="1773360" cy="1224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60640" y="3090960"/>
                    <a:ext cx="1773360" cy="12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"/>
          <p:cNvSpPr/>
          <p:nvPr/>
        </p:nvSpPr>
        <p:spPr>
          <a:xfrm rot="16200000">
            <a:off x="4186080" y="2100240"/>
            <a:ext cx="990720" cy="380880"/>
          </a:xfrm>
          <a:prstGeom prst="rightArrow">
            <a:avLst>
              <a:gd name="adj1" fmla="val 50000"/>
              <a:gd name="adj2" fmla="val 130069"/>
            </a:avLst>
          </a:prstGeom>
          <a:solidFill>
            <a:srgbClr val="b2a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rot="16200000">
            <a:off x="4186080" y="4995720"/>
            <a:ext cx="990360" cy="380880"/>
          </a:xfrm>
          <a:prstGeom prst="rightArrow">
            <a:avLst>
              <a:gd name="adj1" fmla="val 50000"/>
              <a:gd name="adj2" fmla="val 130021"/>
            </a:avLst>
          </a:prstGeom>
          <a:solidFill>
            <a:srgbClr val="b2a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 rot="13320000">
            <a:off x="5252040" y="4538160"/>
            <a:ext cx="990360" cy="381240"/>
          </a:xfrm>
          <a:prstGeom prst="rightArrow">
            <a:avLst>
              <a:gd name="adj1" fmla="val 50000"/>
              <a:gd name="adj2" fmla="val 129899"/>
            </a:avLst>
          </a:prstGeom>
          <a:solidFill>
            <a:srgbClr val="b2a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 rot="18720000">
            <a:off x="3150720" y="4608360"/>
            <a:ext cx="990360" cy="380880"/>
          </a:xfrm>
          <a:prstGeom prst="rightArrow">
            <a:avLst>
              <a:gd name="adj1" fmla="val 50000"/>
              <a:gd name="adj2" fmla="val 130021"/>
            </a:avLst>
          </a:prstGeom>
          <a:solidFill>
            <a:srgbClr val="b2a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rot="19080000">
            <a:off x="5252760" y="2404800"/>
            <a:ext cx="990360" cy="380880"/>
          </a:xfrm>
          <a:prstGeom prst="rightArrow">
            <a:avLst>
              <a:gd name="adj1" fmla="val 50000"/>
              <a:gd name="adj2" fmla="val 130021"/>
            </a:avLst>
          </a:prstGeom>
          <a:solidFill>
            <a:srgbClr val="b2a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rot="13680000">
            <a:off x="3195360" y="2404800"/>
            <a:ext cx="990720" cy="381240"/>
          </a:xfrm>
          <a:prstGeom prst="rightArrow">
            <a:avLst>
              <a:gd name="adj1" fmla="val 50000"/>
              <a:gd name="adj2" fmla="val 129946"/>
            </a:avLst>
          </a:prstGeom>
          <a:solidFill>
            <a:srgbClr val="b2a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rot="20700000">
            <a:off x="5688000" y="2968200"/>
            <a:ext cx="990720" cy="381240"/>
          </a:xfrm>
          <a:prstGeom prst="rightArrow">
            <a:avLst>
              <a:gd name="adj1" fmla="val 50000"/>
              <a:gd name="adj2" fmla="val 129946"/>
            </a:avLst>
          </a:prstGeom>
          <a:solidFill>
            <a:srgbClr val="b2a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rot="11160000">
            <a:off x="2661840" y="3090960"/>
            <a:ext cx="990720" cy="380880"/>
          </a:xfrm>
          <a:prstGeom prst="rightArrow">
            <a:avLst>
              <a:gd name="adj1" fmla="val 50000"/>
              <a:gd name="adj2" fmla="val 130069"/>
            </a:avLst>
          </a:prstGeom>
          <a:solidFill>
            <a:srgbClr val="b2a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H="1" rot="20220000">
            <a:off x="2738160" y="3929040"/>
            <a:ext cx="990360" cy="380880"/>
          </a:xfrm>
          <a:prstGeom prst="rightArrow">
            <a:avLst>
              <a:gd name="adj1" fmla="val 50000"/>
              <a:gd name="adj2" fmla="val 130021"/>
            </a:avLst>
          </a:prstGeom>
          <a:solidFill>
            <a:srgbClr val="b2a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 rot="11640000">
            <a:off x="5633640" y="3928680"/>
            <a:ext cx="990720" cy="380880"/>
          </a:xfrm>
          <a:prstGeom prst="rightArrow">
            <a:avLst>
              <a:gd name="adj1" fmla="val 50000"/>
              <a:gd name="adj2" fmla="val 130069"/>
            </a:avLst>
          </a:prstGeom>
          <a:solidFill>
            <a:srgbClr val="b2a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0"/>
            <a:ext cx="7620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Attributes / B</a:t>
            </a:r>
            <a:r>
              <a:rPr b="1" lang="en-AU" sz="4000" spc="-1" strike="noStrike">
                <a:solidFill>
                  <a:srgbClr val="000000"/>
                </a:solidFill>
                <a:latin typeface="Times New Roman"/>
              </a:rPr>
              <a:t>enefits of </a:t>
            </a: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AU" sz="40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duct Warran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2406240" y="3651120"/>
            <a:ext cx="336600" cy="0"/>
          </a:xfrm>
          <a:prstGeom prst="line">
            <a:avLst/>
          </a:prstGeom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457200" y="2558880"/>
            <a:ext cx="2133720" cy="2184480"/>
          </a:xfrm>
          <a:prstGeom prst="ellipse">
            <a:avLst/>
          </a:prstGeom>
          <a:solidFill>
            <a:srgbClr val="f9fbcd"/>
          </a:solidFill>
          <a:ln w="38160">
            <a:solidFill>
              <a:srgbClr val="5f5f5f"/>
            </a:solidFill>
            <a:miter/>
          </a:ln>
          <a:effectLst>
            <a:outerShdw dist="64600" dir="67483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arranti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048120" y="4840200"/>
            <a:ext cx="253800" cy="27324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743200" y="2230560"/>
            <a:ext cx="515880" cy="3049560"/>
          </a:xfrm>
          <a:custGeom>
            <a:avLst/>
            <a:gdLst/>
            <a:ahLst/>
            <a:rect l="l" t="t" r="r" b="b"/>
            <a:pathLst>
              <a:path w="325" h="1781">
                <a:moveTo>
                  <a:pt x="324" y="0"/>
                </a:moveTo>
                <a:lnTo>
                  <a:pt x="0" y="0"/>
                </a:lnTo>
                <a:lnTo>
                  <a:pt x="0" y="1780"/>
                </a:lnTo>
                <a:lnTo>
                  <a:pt x="314" y="1780"/>
                </a:lnTo>
              </a:path>
            </a:pathLst>
          </a:custGeom>
          <a:noFill/>
          <a:ln cap="rnd" w="3816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410080" y="1860480"/>
            <a:ext cx="3505320" cy="738360"/>
          </a:xfrm>
          <a:prstGeom prst="rect">
            <a:avLst/>
          </a:prstGeom>
          <a:solidFill>
            <a:srgbClr val="fecae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Written Guarante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3009960" y="4675320"/>
            <a:ext cx="2101680" cy="1116000"/>
          </a:xfrm>
          <a:prstGeom prst="rect">
            <a:avLst/>
          </a:prstGeom>
          <a:solidFill>
            <a:srgbClr val="9999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Implied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Warranty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009960" y="1676520"/>
            <a:ext cx="2101680" cy="111600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Express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Warranty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10080" y="4900680"/>
            <a:ext cx="3505320" cy="738000"/>
          </a:xfrm>
          <a:prstGeom prst="rect">
            <a:avLst/>
          </a:prstGeom>
          <a:solidFill>
            <a:srgbClr val="fecae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Unwritten Guarante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5029200" y="2251080"/>
            <a:ext cx="533520" cy="0"/>
          </a:xfrm>
          <a:prstGeom prst="line">
            <a:avLst/>
          </a:prstGeom>
          <a:ln w="38160">
            <a:solidFill>
              <a:srgbClr val="6600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 flipH="1">
            <a:off x="5029200" y="5291280"/>
            <a:ext cx="533520" cy="0"/>
          </a:xfrm>
          <a:prstGeom prst="line">
            <a:avLst/>
          </a:prstGeom>
          <a:ln w="38160">
            <a:solidFill>
              <a:srgbClr val="6600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0" y="0"/>
            <a:ext cx="8991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ypes of Produ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03040" y="1569960"/>
            <a:ext cx="8788680" cy="4457880"/>
            <a:chOff x="203040" y="1569960"/>
            <a:chExt cx="8788680" cy="4457880"/>
          </a:xfrm>
        </p:grpSpPr>
        <p:sp>
          <p:nvSpPr>
            <p:cNvPr id="74" name=""/>
            <p:cNvSpPr/>
            <p:nvPr/>
          </p:nvSpPr>
          <p:spPr>
            <a:xfrm>
              <a:off x="3471840" y="4776840"/>
              <a:ext cx="0" cy="431640"/>
            </a:xfrm>
            <a:prstGeom prst="line">
              <a:avLst/>
            </a:prstGeom>
            <a:ln w="284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266920" y="4205160"/>
              <a:ext cx="0" cy="546120"/>
            </a:xfrm>
            <a:prstGeom prst="line">
              <a:avLst/>
            </a:prstGeom>
            <a:ln w="284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683320" y="4789440"/>
              <a:ext cx="0" cy="43200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160640" y="4770360"/>
              <a:ext cx="6875280" cy="344520"/>
            </a:xfrm>
            <a:custGeom>
              <a:avLst/>
              <a:gdLst/>
              <a:ahLst/>
              <a:rect l="l" t="t" r="r" b="b"/>
              <a:pathLst>
                <a:path w="4105" h="217">
                  <a:moveTo>
                    <a:pt x="0" y="216"/>
                  </a:moveTo>
                  <a:lnTo>
                    <a:pt x="0" y="0"/>
                  </a:lnTo>
                  <a:lnTo>
                    <a:pt x="4104" y="0"/>
                  </a:lnTo>
                  <a:lnTo>
                    <a:pt x="4104" y="199"/>
                  </a:lnTo>
                </a:path>
              </a:pathLst>
            </a:custGeom>
            <a:noFill/>
            <a:ln cap="rnd" w="284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286000" y="2967120"/>
              <a:ext cx="4603680" cy="344520"/>
            </a:xfrm>
            <a:custGeom>
              <a:avLst/>
              <a:gdLst/>
              <a:ahLst/>
              <a:rect l="l" t="t" r="r" b="b"/>
              <a:pathLst>
                <a:path w="2749" h="217">
                  <a:moveTo>
                    <a:pt x="0" y="216"/>
                  </a:moveTo>
                  <a:lnTo>
                    <a:pt x="0" y="0"/>
                  </a:lnTo>
                  <a:lnTo>
                    <a:pt x="2748" y="0"/>
                  </a:lnTo>
                  <a:lnTo>
                    <a:pt x="2748" y="199"/>
                  </a:lnTo>
                </a:path>
              </a:pathLst>
            </a:custGeom>
            <a:noFill/>
            <a:ln cap="rnd" w="284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7015320" y="5087880"/>
              <a:ext cx="1976400" cy="939960"/>
            </a:xfrm>
            <a:prstGeom prst="rect">
              <a:avLst/>
            </a:prstGeom>
            <a:solidFill>
              <a:srgbClr val="ffcc99"/>
            </a:solidFill>
            <a:ln w="12600">
              <a:solidFill>
                <a:srgbClr val="000000"/>
              </a:solidFill>
              <a:miter/>
            </a:ln>
            <a:effectLst>
              <a:outerShdw dist="89604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Unsough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roduc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745160" y="5087880"/>
              <a:ext cx="1976400" cy="939960"/>
            </a:xfrm>
            <a:prstGeom prst="rect">
              <a:avLst/>
            </a:prstGeom>
            <a:solidFill>
              <a:srgbClr val="ffcc99"/>
            </a:solidFill>
            <a:ln w="12600">
              <a:solidFill>
                <a:srgbClr val="000000"/>
              </a:solidFill>
              <a:miter/>
            </a:ln>
            <a:effectLst>
              <a:outerShdw dist="89604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pecialt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roduc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473200" y="5087880"/>
              <a:ext cx="1976400" cy="939960"/>
            </a:xfrm>
            <a:prstGeom prst="rect">
              <a:avLst/>
            </a:prstGeom>
            <a:solidFill>
              <a:srgbClr val="ffcc99"/>
            </a:solidFill>
            <a:ln w="12600">
              <a:solidFill>
                <a:srgbClr val="000000"/>
              </a:solidFill>
              <a:miter/>
            </a:ln>
            <a:effectLst>
              <a:outerShdw dist="89604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hopp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roduc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03040" y="5087880"/>
              <a:ext cx="1976760" cy="939960"/>
            </a:xfrm>
            <a:prstGeom prst="rect">
              <a:avLst/>
            </a:prstGeom>
            <a:solidFill>
              <a:srgbClr val="ffcc99"/>
            </a:solidFill>
            <a:ln w="12600">
              <a:solidFill>
                <a:srgbClr val="000000"/>
              </a:solidFill>
              <a:miter/>
            </a:ln>
            <a:effectLst>
              <a:outerShdw dist="89604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onvenien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roduc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308240" y="3220920"/>
              <a:ext cx="1976400" cy="93996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  <a:effectLst>
              <a:outerShdw dist="89604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onsum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roduc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89600" y="3220920"/>
              <a:ext cx="1976400" cy="939960"/>
            </a:xfrm>
            <a:prstGeom prst="rect">
              <a:avLst/>
            </a:prstGeom>
            <a:solidFill>
              <a:srgbClr val="c1ceff"/>
            </a:solidFill>
            <a:ln w="12600">
              <a:solidFill>
                <a:srgbClr val="000000"/>
              </a:solidFill>
              <a:miter/>
            </a:ln>
            <a:effectLst>
              <a:outerShdw dist="89604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Busines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roduc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597560" y="2529000"/>
              <a:ext cx="0" cy="431640"/>
            </a:xfrm>
            <a:prstGeom prst="line">
              <a:avLst/>
            </a:prstGeom>
            <a:ln w="284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579840" y="1569960"/>
              <a:ext cx="1974960" cy="939960"/>
            </a:xfrm>
            <a:prstGeom prst="rect">
              <a:avLst/>
            </a:prstGeom>
            <a:solidFill>
              <a:srgbClr val="cc99ff"/>
            </a:solidFill>
            <a:ln w="12600">
              <a:solidFill>
                <a:srgbClr val="000000"/>
              </a:solidFill>
              <a:miter/>
            </a:ln>
            <a:effectLst>
              <a:outerShdw dist="89604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RODUC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"/>
          <p:cNvSpPr/>
          <p:nvPr/>
        </p:nvSpPr>
        <p:spPr>
          <a:xfrm>
            <a:off x="8077320" y="3352680"/>
            <a:ext cx="990360" cy="304920"/>
          </a:xfrm>
          <a:custGeom>
            <a:avLst/>
            <a:gdLst>
              <a:gd name="textAreaLeft" fmla="*/ 154800 w 990360"/>
              <a:gd name="textAreaRight" fmla="*/ 866880 w 99036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440" rIns="8244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52280" y="152280"/>
            <a:ext cx="8991720" cy="559080"/>
          </a:xfrm>
          <a:prstGeom prst="rect">
            <a:avLst/>
          </a:prstGeom>
          <a:gradFill rotWithShape="0">
            <a:gsLst>
              <a:gs pos="0">
                <a:srgbClr val="0099cc"/>
              </a:gs>
              <a:gs pos="100000">
                <a:srgbClr val="00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Times New Roman"/>
              </a:rPr>
              <a:t>Classification of Consumer Product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1295280" y="1352520"/>
          <a:ext cx="6477120" cy="4934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95280" y="1352520"/>
                    <a:ext cx="6477120" cy="493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" name=""/>
          <p:cNvSpPr/>
          <p:nvPr/>
        </p:nvSpPr>
        <p:spPr>
          <a:xfrm>
            <a:off x="4496400" y="1752480"/>
            <a:ext cx="124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nsough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du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422240" y="4473720"/>
            <a:ext cx="2133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Homogeneous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as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chine, Portable F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Heterogeneou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hysical Fitn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in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435760" y="2378160"/>
            <a:ext cx="164844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uxury Cars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esigner Clothing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ealth Foo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322360" y="4498920"/>
            <a:ext cx="224316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Impulse Items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gazi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taples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as, B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Emergency Item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ndages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nd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733920" y="3124080"/>
            <a:ext cx="1438200" cy="1349640"/>
          </a:xfrm>
          <a:prstGeom prst="ellipse">
            <a:avLst/>
          </a:prstGeom>
          <a:gradFill rotWithShape="0">
            <a:gsLst>
              <a:gs pos="0">
                <a:srgbClr val="fefeb1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sum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duc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105520" y="2590920"/>
            <a:ext cx="2133360" cy="11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ife Insurance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elf-Improvement</a:t>
            </a: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ur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emetery Plo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048120" y="1752480"/>
            <a:ext cx="201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pecialt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du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133720" y="38098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veni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257440" y="3835440"/>
            <a:ext cx="130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hopping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500"/>
                            </p:stCondLst>
                            <p:childTnLst>
                              <p:par>
                                <p:cTn id="19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442800" y="4746600"/>
            <a:ext cx="3606840" cy="5396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dba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rison of price and qual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049640" y="4746600"/>
            <a:ext cx="1619280" cy="5396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dba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ery litt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668920" y="4746600"/>
            <a:ext cx="1440000" cy="5396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dba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nsider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108920" y="4746600"/>
            <a:ext cx="1366920" cy="5396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dba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ery litt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2800" y="4226040"/>
            <a:ext cx="3606840" cy="5205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dba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mportance of convenient lo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42800" y="3668760"/>
            <a:ext cx="3606840" cy="5572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dba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urchase frequenc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42800" y="3094200"/>
            <a:ext cx="3606840" cy="5745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dba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lanning time involved in purch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049640" y="4226040"/>
            <a:ext cx="1619280" cy="5205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dba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ritic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668920" y="4226040"/>
            <a:ext cx="1440000" cy="5205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dba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mporta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8920" y="4226040"/>
            <a:ext cx="1366920" cy="5205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dba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Unimporta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049640" y="3668760"/>
            <a:ext cx="1619280" cy="5572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dba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equ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049640" y="3094200"/>
            <a:ext cx="1619280" cy="5745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dba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ery litt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668920" y="3668760"/>
            <a:ext cx="1440000" cy="5572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dba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ess frequ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668920" y="3094200"/>
            <a:ext cx="1440000" cy="5745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dba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nsider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108920" y="3668760"/>
            <a:ext cx="1366920" cy="5572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dba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frequ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108920" y="3094200"/>
            <a:ext cx="1366920" cy="5745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dba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xtens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42800" y="2617920"/>
            <a:ext cx="8033040" cy="4762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dba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NSUMER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42800" y="1814400"/>
            <a:ext cx="3606840" cy="803520"/>
          </a:xfrm>
          <a:prstGeom prst="rect">
            <a:avLst/>
          </a:prstGeom>
          <a:gradFill rotWithShape="0">
            <a:gsLst>
              <a:gs pos="0">
                <a:srgbClr val="fedfdf"/>
              </a:gs>
              <a:gs pos="100000">
                <a:srgbClr val="ff99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a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049640" y="1814400"/>
            <a:ext cx="1619280" cy="803520"/>
          </a:xfrm>
          <a:prstGeom prst="rect">
            <a:avLst/>
          </a:prstGeom>
          <a:gradFill rotWithShape="0">
            <a:gsLst>
              <a:gs pos="0">
                <a:srgbClr val="fedfdf"/>
              </a:gs>
              <a:gs pos="100000">
                <a:srgbClr val="ff99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nvenience Produ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668920" y="1814400"/>
            <a:ext cx="1440000" cy="803520"/>
          </a:xfrm>
          <a:prstGeom prst="rect">
            <a:avLst/>
          </a:prstGeom>
          <a:gradFill rotWithShape="0">
            <a:gsLst>
              <a:gs pos="0">
                <a:srgbClr val="fedfdf"/>
              </a:gs>
              <a:gs pos="100000">
                <a:srgbClr val="ff99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hopping Produ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108920" y="1814400"/>
            <a:ext cx="1384200" cy="803520"/>
          </a:xfrm>
          <a:prstGeom prst="rect">
            <a:avLst/>
          </a:prstGeom>
          <a:gradFill rotWithShape="0">
            <a:gsLst>
              <a:gs pos="0">
                <a:srgbClr val="fedfdf"/>
              </a:gs>
              <a:gs pos="100000">
                <a:srgbClr val="ff99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pecialty Produ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228600"/>
            <a:ext cx="9144000" cy="777960"/>
          </a:xfrm>
          <a:prstGeom prst="rect">
            <a:avLst/>
          </a:prstGeom>
          <a:gradFill rotWithShape="0">
            <a:gsLst>
              <a:gs pos="0">
                <a:srgbClr val="0099cc"/>
              </a:gs>
              <a:gs pos="100000">
                <a:srgbClr val="66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rketing Impact of the Consumer Products Classification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333360" y="5678640"/>
            <a:ext cx="3151080" cy="5745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dba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mportance of store im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463920" y="5678640"/>
            <a:ext cx="1620720" cy="5745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dba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Unimporta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084640" y="5678640"/>
            <a:ext cx="1762200" cy="5745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dba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ery importa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846840" y="5678640"/>
            <a:ext cx="1625760" cy="5745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dba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mporta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33360" y="4803840"/>
            <a:ext cx="3151080" cy="8748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dba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umber of retail outl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463920" y="4803840"/>
            <a:ext cx="1620720" cy="8748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dba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084640" y="4803840"/>
            <a:ext cx="1762200" cy="8748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dba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846840" y="4803840"/>
            <a:ext cx="1625760" cy="8748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dba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ery few; often one per market are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33360" y="4248000"/>
            <a:ext cx="3151080" cy="5558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dba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istribution channel leng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33360" y="3192480"/>
            <a:ext cx="3151080" cy="1055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dba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romo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33360" y="2789280"/>
            <a:ext cx="3151080" cy="403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dba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r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463920" y="4248000"/>
            <a:ext cx="1620720" cy="5558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dba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o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084640" y="4248000"/>
            <a:ext cx="1762200" cy="5558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dba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latively sh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846840" y="4248000"/>
            <a:ext cx="1625760" cy="5558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dba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ery sh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484440" y="3192480"/>
            <a:ext cx="1621080" cy="1055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dba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dvertising and promotion by produc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484440" y="2789280"/>
            <a:ext cx="1621080" cy="403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dba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105520" y="3192480"/>
            <a:ext cx="1761840" cy="1055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dba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sonal selling and advertising by both producer and retai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105520" y="2789280"/>
            <a:ext cx="1761840" cy="403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dba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latively hig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867360" y="3192480"/>
            <a:ext cx="1625760" cy="1055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dba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sonal selling and advertising by producer and retai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867360" y="2789280"/>
            <a:ext cx="1625760" cy="403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dba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ig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33360" y="2313000"/>
            <a:ext cx="8159760" cy="4762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dba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ARKETING MIX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3360" y="1509840"/>
            <a:ext cx="3151080" cy="803160"/>
          </a:xfrm>
          <a:prstGeom prst="rect">
            <a:avLst/>
          </a:prstGeom>
          <a:gradFill rotWithShape="0">
            <a:gsLst>
              <a:gs pos="0">
                <a:srgbClr val="fedfdf"/>
              </a:gs>
              <a:gs pos="100000">
                <a:srgbClr val="ff99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a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484440" y="1509840"/>
            <a:ext cx="1621080" cy="803160"/>
          </a:xfrm>
          <a:prstGeom prst="rect">
            <a:avLst/>
          </a:prstGeom>
          <a:gradFill rotWithShape="0">
            <a:gsLst>
              <a:gs pos="0">
                <a:srgbClr val="fedfdf"/>
              </a:gs>
              <a:gs pos="100000">
                <a:srgbClr val="ff99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nvenience Produ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105520" y="1509840"/>
            <a:ext cx="1761840" cy="803160"/>
          </a:xfrm>
          <a:prstGeom prst="rect">
            <a:avLst/>
          </a:prstGeom>
          <a:gradFill rotWithShape="0">
            <a:gsLst>
              <a:gs pos="0">
                <a:srgbClr val="fedfdf"/>
              </a:gs>
              <a:gs pos="100000">
                <a:srgbClr val="ff99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hopping Produ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846840" y="1509840"/>
            <a:ext cx="1646280" cy="803160"/>
          </a:xfrm>
          <a:prstGeom prst="rect">
            <a:avLst/>
          </a:prstGeom>
          <a:gradFill rotWithShape="0">
            <a:gsLst>
              <a:gs pos="0">
                <a:srgbClr val="fedfdf"/>
              </a:gs>
              <a:gs pos="100000">
                <a:srgbClr val="ff99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pecialty Produ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152280"/>
            <a:ext cx="9144000" cy="777960"/>
          </a:xfrm>
          <a:prstGeom prst="rect">
            <a:avLst/>
          </a:prstGeom>
          <a:gradFill rotWithShape="0">
            <a:gsLst>
              <a:gs pos="0">
                <a:srgbClr val="0099cc"/>
              </a:gs>
              <a:gs pos="100000">
                <a:srgbClr val="66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rketing Impact of the Consumer Products Classification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152280" y="0"/>
            <a:ext cx="8839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duct Items, Lines, and Mix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304920" y="1295280"/>
            <a:ext cx="2590200" cy="4647960"/>
            <a:chOff x="304920" y="1295280"/>
            <a:chExt cx="2590200" cy="4647960"/>
          </a:xfrm>
        </p:grpSpPr>
        <p:sp>
          <p:nvSpPr>
            <p:cNvPr id="150" name=""/>
            <p:cNvSpPr/>
            <p:nvPr/>
          </p:nvSpPr>
          <p:spPr>
            <a:xfrm>
              <a:off x="304920" y="1295280"/>
              <a:ext cx="2590200" cy="1535040"/>
            </a:xfrm>
            <a:prstGeom prst="rect">
              <a:avLst/>
            </a:prstGeom>
            <a:solidFill>
              <a:srgbClr val="fcb2d3"/>
            </a:solidFill>
            <a:ln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 anchorCtr="1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Product Item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04920" y="2851920"/>
              <a:ext cx="2590200" cy="1538640"/>
            </a:xfrm>
            <a:prstGeom prst="rect">
              <a:avLst/>
            </a:prstGeom>
            <a:solidFill>
              <a:srgbClr val="fcb2d3"/>
            </a:solidFill>
            <a:ln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 anchorCtr="1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Product Lin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04920" y="4408560"/>
              <a:ext cx="2590200" cy="1534680"/>
            </a:xfrm>
            <a:prstGeom prst="rect">
              <a:avLst/>
            </a:prstGeom>
            <a:solidFill>
              <a:srgbClr val="fcb2d3"/>
            </a:solidFill>
            <a:ln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 anchorCtr="1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Product Mix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2895480" y="1295280"/>
            <a:ext cx="5867640" cy="4647960"/>
            <a:chOff x="2895480" y="1295280"/>
            <a:chExt cx="5867640" cy="4647960"/>
          </a:xfrm>
        </p:grpSpPr>
        <p:sp>
          <p:nvSpPr>
            <p:cNvPr id="154" name=""/>
            <p:cNvSpPr/>
            <p:nvPr/>
          </p:nvSpPr>
          <p:spPr>
            <a:xfrm>
              <a:off x="2895480" y="1295280"/>
              <a:ext cx="5867640" cy="1535040"/>
            </a:xfrm>
            <a:prstGeom prst="rect">
              <a:avLst/>
            </a:prstGeom>
            <a:solidFill>
              <a:srgbClr val="c1ceff"/>
            </a:solidFill>
            <a:ln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 anchorCtr="1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Arial"/>
                </a:rPr>
                <a:t>A specific version of a product </a:t>
              </a:r>
              <a:br>
                <a:rPr sz="2500"/>
              </a:br>
              <a:r>
                <a:rPr b="1" lang="en-US" sz="2500" spc="-1" strike="noStrike">
                  <a:solidFill>
                    <a:srgbClr val="000000"/>
                  </a:solidFill>
                  <a:latin typeface="Arial"/>
                </a:rPr>
                <a:t>that can be designated as a </a:t>
              </a:r>
              <a:br>
                <a:rPr sz="2500"/>
              </a:br>
              <a:r>
                <a:rPr b="1" lang="en-US" sz="2500" spc="-1" strike="noStrike">
                  <a:solidFill>
                    <a:srgbClr val="000000"/>
                  </a:solidFill>
                  <a:latin typeface="Arial"/>
                </a:rPr>
                <a:t>distinct offering among an organization’s products.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895480" y="2851920"/>
              <a:ext cx="5867640" cy="1538640"/>
            </a:xfrm>
            <a:prstGeom prst="rect">
              <a:avLst/>
            </a:prstGeom>
            <a:solidFill>
              <a:srgbClr val="c1ceff"/>
            </a:solidFill>
            <a:ln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 anchorCtr="1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Arial"/>
                </a:rPr>
                <a:t>A group of closely-related </a:t>
              </a:r>
              <a:br>
                <a:rPr sz="2500"/>
              </a:br>
              <a:r>
                <a:rPr b="1" lang="en-US" sz="2500" spc="-1" strike="noStrike">
                  <a:solidFill>
                    <a:srgbClr val="000000"/>
                  </a:solidFill>
                  <a:latin typeface="Arial"/>
                </a:rPr>
                <a:t>product items.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895480" y="4408560"/>
              <a:ext cx="5867640" cy="1534680"/>
            </a:xfrm>
            <a:prstGeom prst="rect">
              <a:avLst/>
            </a:prstGeom>
            <a:solidFill>
              <a:srgbClr val="c1ceff"/>
            </a:solidFill>
            <a:ln w="1260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 anchorCtr="1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Arial"/>
                </a:rPr>
                <a:t>All products that an </a:t>
              </a:r>
              <a:br>
                <a:rPr sz="2500"/>
              </a:br>
              <a:r>
                <a:rPr b="1" lang="en-US" sz="2500" spc="-1" strike="noStrike">
                  <a:solidFill>
                    <a:srgbClr val="000000"/>
                  </a:solidFill>
                  <a:latin typeface="Arial"/>
                </a:rPr>
                <a:t>organization sells.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60948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Benefits of Product Li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457200" y="1447920"/>
            <a:ext cx="8305560" cy="4978080"/>
            <a:chOff x="457200" y="1447920"/>
            <a:chExt cx="8305560" cy="4978080"/>
          </a:xfrm>
        </p:grpSpPr>
        <p:sp>
          <p:nvSpPr>
            <p:cNvPr id="159" name=""/>
            <p:cNvSpPr/>
            <p:nvPr/>
          </p:nvSpPr>
          <p:spPr>
            <a:xfrm>
              <a:off x="4722840" y="5576760"/>
              <a:ext cx="4039920" cy="849240"/>
            </a:xfrm>
            <a:prstGeom prst="rect">
              <a:avLst/>
            </a:prstGeom>
            <a:solidFill>
              <a:srgbClr val="fecaed"/>
            </a:solidFill>
            <a:ln w="12600">
              <a:solidFill>
                <a:srgbClr val="000000"/>
              </a:solidFill>
              <a:miter/>
            </a:ln>
            <a:effectLst>
              <a:outerShdw dist="89604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Equivalent Quality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722840" y="4544280"/>
              <a:ext cx="4039920" cy="849240"/>
            </a:xfrm>
            <a:prstGeom prst="rect">
              <a:avLst/>
            </a:prstGeom>
            <a:solidFill>
              <a:srgbClr val="ba7df1"/>
            </a:solidFill>
            <a:ln w="12600">
              <a:solidFill>
                <a:srgbClr val="000000"/>
              </a:solidFill>
              <a:miter/>
            </a:ln>
            <a:effectLst>
              <a:outerShdw dist="89604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Efficient Sales and</a:t>
              </a:r>
              <a:br>
                <a:rPr sz="2200"/>
              </a:b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Distrib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722840" y="3512160"/>
              <a:ext cx="4039920" cy="84924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  <a:effectLst>
              <a:outerShdw dist="89604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tandardized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Component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722840" y="2479680"/>
              <a:ext cx="4039920" cy="849240"/>
            </a:xfrm>
            <a:prstGeom prst="rect">
              <a:avLst/>
            </a:prstGeom>
            <a:solidFill>
              <a:srgbClr val="cc99ff"/>
            </a:solidFill>
            <a:ln w="12600">
              <a:solidFill>
                <a:srgbClr val="000000"/>
              </a:solidFill>
              <a:miter/>
            </a:ln>
            <a:effectLst>
              <a:outerShdw dist="89604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Package Uniformity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722840" y="1447920"/>
              <a:ext cx="4039920" cy="84924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  <a:effectLst>
              <a:outerShdw dist="89604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Advertising Economie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368440" y="3918960"/>
              <a:ext cx="2583720" cy="0"/>
            </a:xfrm>
            <a:prstGeom prst="line">
              <a:avLst/>
            </a:prstGeom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306880" y="2853000"/>
              <a:ext cx="2653200" cy="1067760"/>
            </a:xfrm>
            <a:custGeom>
              <a:avLst/>
              <a:gdLst/>
              <a:ahLst/>
              <a:rect l="l" t="t" r="r" b="b"/>
              <a:pathLst>
                <a:path w="1705" h="745">
                  <a:moveTo>
                    <a:pt x="1704" y="0"/>
                  </a:moveTo>
                  <a:lnTo>
                    <a:pt x="744" y="0"/>
                  </a:lnTo>
                  <a:lnTo>
                    <a:pt x="0" y="744"/>
                  </a:lnTo>
                </a:path>
              </a:pathLst>
            </a:custGeom>
            <a:noFill/>
            <a:ln cap="rnd" w="1260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306880" y="3918960"/>
              <a:ext cx="2653200" cy="1068840"/>
            </a:xfrm>
            <a:custGeom>
              <a:avLst/>
              <a:gdLst/>
              <a:ahLst/>
              <a:rect l="l" t="t" r="r" b="b"/>
              <a:pathLst>
                <a:path w="1705" h="745">
                  <a:moveTo>
                    <a:pt x="1704" y="744"/>
                  </a:moveTo>
                  <a:lnTo>
                    <a:pt x="744" y="744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306880" y="1837080"/>
              <a:ext cx="2653200" cy="1068840"/>
            </a:xfrm>
            <a:custGeom>
              <a:avLst/>
              <a:gdLst/>
              <a:ahLst/>
              <a:rect l="l" t="t" r="r" b="b"/>
              <a:pathLst>
                <a:path w="1705" h="745">
                  <a:moveTo>
                    <a:pt x="1704" y="0"/>
                  </a:moveTo>
                  <a:lnTo>
                    <a:pt x="744" y="0"/>
                  </a:lnTo>
                  <a:lnTo>
                    <a:pt x="0" y="744"/>
                  </a:lnTo>
                </a:path>
              </a:pathLst>
            </a:custGeom>
            <a:noFill/>
            <a:ln cap="rnd" w="1260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306880" y="4951440"/>
              <a:ext cx="2653200" cy="1068840"/>
            </a:xfrm>
            <a:custGeom>
              <a:avLst/>
              <a:gdLst/>
              <a:ahLst/>
              <a:rect l="l" t="t" r="r" b="b"/>
              <a:pathLst>
                <a:path w="1705" h="745">
                  <a:moveTo>
                    <a:pt x="1704" y="744"/>
                  </a:moveTo>
                  <a:lnTo>
                    <a:pt x="744" y="744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57200" y="2491920"/>
              <a:ext cx="3151080" cy="2816280"/>
            </a:xfrm>
            <a:prstGeom prst="ellipse">
              <a:avLst/>
            </a:prstGeom>
            <a:gradFill rotWithShape="0">
              <a:gsLst>
                <a:gs pos="0">
                  <a:srgbClr val="cc99ff"/>
                </a:gs>
                <a:gs pos="100000">
                  <a:srgbClr val="af83db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  <a:effectLst>
              <a:outerShdw dist="89604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Why Form </a:t>
              </a:r>
              <a:br>
                <a:rPr sz="2400"/>
              </a:b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Product Lines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833360" y="1739520"/>
              <a:ext cx="250200" cy="2300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833360" y="2755800"/>
              <a:ext cx="250200" cy="228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833360" y="3805560"/>
              <a:ext cx="250200" cy="2282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833360" y="4854240"/>
              <a:ext cx="250200" cy="2300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833360" y="5904360"/>
              <a:ext cx="250200" cy="2300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5" name=""/>
          <p:cNvSpPr/>
          <p:nvPr/>
        </p:nvSpPr>
        <p:spPr>
          <a:xfrm flipH="1" flipV="1" rot="16200000">
            <a:off x="-1410120" y="3846960"/>
            <a:ext cx="4343400" cy="304920"/>
          </a:xfrm>
          <a:prstGeom prst="leftRightArrow">
            <a:avLst>
              <a:gd name="adj1" fmla="val 50000"/>
              <a:gd name="adj2" fmla="val 283569"/>
            </a:avLst>
          </a:prstGeom>
          <a:gradFill rotWithShape="0">
            <a:gsLst>
              <a:gs pos="0">
                <a:srgbClr val="ccffff"/>
              </a:gs>
              <a:gs pos="50000">
                <a:srgbClr val="6699ff"/>
              </a:gs>
              <a:gs pos="100000">
                <a:srgbClr val="cc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9T11:06:47Z</dcterms:created>
  <dc:creator>kristof</dc:creator>
  <dc:description/>
  <dc:language>en-US</dc:language>
  <cp:lastModifiedBy>Martin Krištof</cp:lastModifiedBy>
  <dcterms:modified xsi:type="dcterms:W3CDTF">2007-04-01T22:03:09Z</dcterms:modified>
  <cp:revision>11</cp:revision>
  <dc:subject/>
  <dc:title>Prezentace aplikace PowerPoint</dc:title>
</cp:coreProperties>
</file>