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3370320" y="98280"/>
            <a:ext cx="3409920" cy="25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9440" y="351000"/>
            <a:ext cx="356868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76720" y="9468000"/>
            <a:ext cx="28018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tes for LHM 16-</a:t>
            </a:r>
            <a:fld id="{09534530-11B4-4B18-B2C4-CBB3A0EA2178}" type="slidenum">
              <a:rPr b="1" lang="en-GB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9526680"/>
            <a:ext cx="212724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 marL="301680" indent="-301680">
              <a:lnSpc>
                <a:spcPct val="115000"/>
              </a:lnSpc>
              <a:spcAft>
                <a:spcPts val="561"/>
              </a:spcAft>
              <a:tabLst>
                <a:tab algn="l" pos="0"/>
                <a:tab algn="l" pos="40176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1997 South-Western College Publish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7480" y="142920"/>
            <a:ext cx="3236760" cy="249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7480" y="2919240"/>
            <a:ext cx="6486480" cy="647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9080" y="235080"/>
            <a:ext cx="1914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ctor’s N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66360" y="4669920"/>
            <a:ext cx="5330520" cy="442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3370320" y="98280"/>
            <a:ext cx="3409920" cy="2557440"/>
          </a:xfrm>
          <a:prstGeom prst="rect">
            <a:avLst/>
          </a:prstGeom>
          <a:ln w="0">
            <a:noFill/>
          </a:ln>
        </p:spPr>
      </p:sp>
      <p:sp>
        <p:nvSpPr>
          <p:cNvPr id="514" name=""/>
          <p:cNvSpPr/>
          <p:nvPr/>
        </p:nvSpPr>
        <p:spPr>
          <a:xfrm>
            <a:off x="103320" y="560520"/>
            <a:ext cx="32274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03320" y="3005280"/>
            <a:ext cx="64548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3370320" y="98280"/>
            <a:ext cx="3409920" cy="2557440"/>
          </a:xfrm>
          <a:prstGeom prst="rect">
            <a:avLst/>
          </a:prstGeom>
          <a:ln w="0">
            <a:noFill/>
          </a:ln>
        </p:spPr>
      </p:sp>
      <p:sp>
        <p:nvSpPr>
          <p:cNvPr id="519" name=""/>
          <p:cNvSpPr/>
          <p:nvPr/>
        </p:nvSpPr>
        <p:spPr>
          <a:xfrm>
            <a:off x="103320" y="3005280"/>
            <a:ext cx="64548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3370320" y="98280"/>
            <a:ext cx="3409920" cy="2557440"/>
          </a:xfrm>
          <a:prstGeom prst="rect">
            <a:avLst/>
          </a:prstGeom>
          <a:ln w="0">
            <a:noFill/>
          </a:ln>
        </p:spPr>
      </p:sp>
      <p:sp>
        <p:nvSpPr>
          <p:cNvPr id="521" name=""/>
          <p:cNvSpPr/>
          <p:nvPr/>
        </p:nvSpPr>
        <p:spPr>
          <a:xfrm>
            <a:off x="103320" y="3005280"/>
            <a:ext cx="64548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3370320" y="98280"/>
            <a:ext cx="3409920" cy="2557440"/>
          </a:xfrm>
          <a:prstGeom prst="rect">
            <a:avLst/>
          </a:prstGeom>
          <a:ln w="0">
            <a:noFill/>
          </a:ln>
        </p:spPr>
      </p:sp>
      <p:sp>
        <p:nvSpPr>
          <p:cNvPr id="517" name=""/>
          <p:cNvSpPr/>
          <p:nvPr/>
        </p:nvSpPr>
        <p:spPr>
          <a:xfrm>
            <a:off x="103320" y="3005280"/>
            <a:ext cx="64548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8360" y="2434680"/>
            <a:ext cx="9288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480" y="63360"/>
            <a:ext cx="9023040" cy="6731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928800" cy="39380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1176480" y="755280"/>
            <a:ext cx="71611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95280" y="228600"/>
            <a:ext cx="68072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05120"/>
            <a:ext cx="8153280" cy="28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b7a5"/>
                  </a:solidFill>
                  <a:miter/>
                </a:ln>
                <a:solidFill>
                  <a:srgbClr val="00b7a5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 Antiqua"/>
              </a:rPr>
              <a:t>PROMOTION</a:t>
            </a:r>
            <a:endParaRPr b="0" lang="en-US" sz="2400" spc="1" strike="noStrike">
              <a:ln w="12600">
                <a:solidFill>
                  <a:srgbClr val="00b7a5"/>
                </a:solidFill>
                <a:miter/>
              </a:ln>
              <a:solidFill>
                <a:srgbClr val="00b7a5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5335560"/>
            <a:ext cx="35053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Martin Krišto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ring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306360" y="1231920"/>
            <a:ext cx="8613720" cy="4930920"/>
            <a:chOff x="306360" y="1231920"/>
            <a:chExt cx="8613720" cy="4930920"/>
          </a:xfrm>
        </p:grpSpPr>
        <p:grpSp>
          <p:nvGrpSpPr>
            <p:cNvPr id="201" name=""/>
            <p:cNvGrpSpPr/>
            <p:nvPr/>
          </p:nvGrpSpPr>
          <p:grpSpPr>
            <a:xfrm>
              <a:off x="6402240" y="1231920"/>
              <a:ext cx="2517840" cy="4930920"/>
              <a:chOff x="6402240" y="1231920"/>
              <a:chExt cx="2517840" cy="4930920"/>
            </a:xfrm>
          </p:grpSpPr>
          <p:sp>
            <p:nvSpPr>
              <p:cNvPr id="202" name=""/>
              <p:cNvSpPr/>
              <p:nvPr/>
            </p:nvSpPr>
            <p:spPr>
              <a:xfrm>
                <a:off x="6402240" y="1231920"/>
                <a:ext cx="2511720" cy="5443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19327e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Yellow Pag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402240" y="4156200"/>
                <a:ext cx="2511720" cy="5443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1e3c9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Outdo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08720" y="5618160"/>
                <a:ext cx="2511360" cy="5446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1e3c9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Inter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402240" y="2693880"/>
                <a:ext cx="2511720" cy="5446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19327e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Magaz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306360" y="1231920"/>
              <a:ext cx="2517840" cy="4930920"/>
              <a:chOff x="306360" y="1231920"/>
              <a:chExt cx="2517840" cy="4930920"/>
            </a:xfrm>
          </p:grpSpPr>
          <p:sp>
            <p:nvSpPr>
              <p:cNvPr id="207" name=""/>
              <p:cNvSpPr/>
              <p:nvPr/>
            </p:nvSpPr>
            <p:spPr>
              <a:xfrm>
                <a:off x="306360" y="1231920"/>
                <a:ext cx="2511360" cy="544320"/>
              </a:xfrm>
              <a:prstGeom prst="rect">
                <a:avLst/>
              </a:prstGeom>
              <a:gradFill rotWithShape="0">
                <a:gsLst>
                  <a:gs pos="0">
                    <a:srgbClr val="19327e"/>
                  </a:gs>
                  <a:gs pos="100000">
                    <a:srgbClr val="3366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Televis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6360" y="4156200"/>
                <a:ext cx="2511360" cy="544320"/>
              </a:xfrm>
              <a:prstGeom prst="rect">
                <a:avLst/>
              </a:prstGeom>
              <a:gradFill rotWithShape="0">
                <a:gsLst>
                  <a:gs pos="0">
                    <a:srgbClr val="19327e"/>
                  </a:gs>
                  <a:gs pos="100000">
                    <a:srgbClr val="3366ff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Direct Ma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12840" y="5618160"/>
                <a:ext cx="2511360" cy="544680"/>
              </a:xfrm>
              <a:prstGeom prst="rect">
                <a:avLst/>
              </a:prstGeom>
              <a:gradFill rotWithShape="0">
                <a:gsLst>
                  <a:gs pos="0">
                    <a:srgbClr val="19327e"/>
                  </a:gs>
                  <a:gs pos="100000">
                    <a:srgbClr val="3366ff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Rad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06360" y="2693880"/>
                <a:ext cx="2511360" cy="544680"/>
              </a:xfrm>
              <a:prstGeom prst="rect">
                <a:avLst/>
              </a:prstGeom>
              <a:gradFill rotWithShape="0">
                <a:gsLst>
                  <a:gs pos="0">
                    <a:srgbClr val="19327e"/>
                  </a:gs>
                  <a:gs pos="100000">
                    <a:srgbClr val="3366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fde3ba"/>
                    </a:solidFill>
                    <a:latin typeface="Arial"/>
                  </a:rPr>
                  <a:t>Newspap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768320" y="1504800"/>
              <a:ext cx="2129040" cy="4370040"/>
              <a:chOff x="1768320" y="1504800"/>
              <a:chExt cx="2129040" cy="4370040"/>
            </a:xfrm>
          </p:grpSpPr>
          <p:sp>
            <p:nvSpPr>
              <p:cNvPr id="212" name=""/>
              <p:cNvSpPr/>
              <p:nvPr/>
            </p:nvSpPr>
            <p:spPr>
              <a:xfrm>
                <a:off x="1768320" y="1504800"/>
                <a:ext cx="2120760" cy="43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9498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94988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0800000">
                <a:off x="1776600" y="1513080"/>
                <a:ext cx="2120760" cy="43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68320" y="2990880"/>
                <a:ext cx="2120760" cy="159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931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93142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0800000">
                <a:off x="1776600" y="2826360"/>
                <a:ext cx="2120760" cy="159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40000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5331240" y="1506600"/>
              <a:ext cx="2128320" cy="4368240"/>
              <a:chOff x="5331240" y="1506600"/>
              <a:chExt cx="2128320" cy="4368240"/>
            </a:xfrm>
          </p:grpSpPr>
          <p:sp>
            <p:nvSpPr>
              <p:cNvPr id="217" name=""/>
              <p:cNvSpPr/>
              <p:nvPr/>
            </p:nvSpPr>
            <p:spPr>
              <a:xfrm>
                <a:off x="5338800" y="1506600"/>
                <a:ext cx="2120760" cy="43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4"/>
                    </a:moveTo>
                    <a:arcTo wR="10800" hR="10800" stAng="-10794996" swAng="53898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4"/>
                    </a:moveTo>
                    <a:arcTo wR="10800" hR="10800" stAng="-10794996" swAng="538985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0800000">
                <a:off x="5331240" y="1513080"/>
                <a:ext cx="2120400" cy="436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146" swAng="54051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146" swAng="5405146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338800" y="2990880"/>
                <a:ext cx="2120760" cy="159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78"/>
                    </a:moveTo>
                    <a:arcTo wR="10800" hR="10800" stAng="-10793152" swAng="538800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78"/>
                    </a:moveTo>
                    <a:arcTo wR="10800" hR="10800" stAng="-10793152" swAng="5388006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0800000">
                <a:off x="5331240" y="2826000"/>
                <a:ext cx="2120400" cy="159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146" swAng="54051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146" swAng="5405146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421080" y="2838600"/>
              <a:ext cx="23796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1" lang="cs-CZ" sz="2800" spc="-1" strike="noStrike">
                  <a:solidFill>
                    <a:srgbClr val="edc246"/>
                  </a:solidFill>
                  <a:latin typeface="Arial"/>
                </a:rPr>
                <a:t>Major Kinds of Med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hoosing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706320" y="1165320"/>
            <a:ext cx="7721280" cy="4997520"/>
            <a:chOff x="706320" y="1165320"/>
            <a:chExt cx="7721280" cy="4997520"/>
          </a:xfrm>
        </p:grpSpPr>
        <p:grpSp>
          <p:nvGrpSpPr>
            <p:cNvPr id="224" name=""/>
            <p:cNvGrpSpPr/>
            <p:nvPr/>
          </p:nvGrpSpPr>
          <p:grpSpPr>
            <a:xfrm>
              <a:off x="4839840" y="1165320"/>
              <a:ext cx="3587760" cy="4997520"/>
              <a:chOff x="4839840" y="1165320"/>
              <a:chExt cx="3587760" cy="4997520"/>
            </a:xfrm>
          </p:grpSpPr>
          <p:sp>
            <p:nvSpPr>
              <p:cNvPr id="225" name=""/>
              <p:cNvSpPr/>
              <p:nvPr/>
            </p:nvSpPr>
            <p:spPr>
              <a:xfrm flipH="1">
                <a:off x="4858560" y="1165320"/>
                <a:ext cx="3568680" cy="47916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Many Form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4858560" y="2062080"/>
                <a:ext cx="3568680" cy="49392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Seek Direct Respon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4858560" y="2975040"/>
                <a:ext cx="3568680" cy="49356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More Expos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4858560" y="3886200"/>
                <a:ext cx="3568680" cy="47952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Better Targe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4839480" y="4784760"/>
                <a:ext cx="3568680" cy="47952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Context Ads/Pointcas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849200" y="5683320"/>
                <a:ext cx="3568680" cy="479520"/>
              </a:xfrm>
              <a:prstGeom prst="rect">
                <a:avLst/>
              </a:prstGeom>
              <a:gradFill rotWithShape="0">
                <a:gsLst>
                  <a:gs pos="0">
                    <a:srgbClr val="5b84fe"/>
                  </a:gs>
                  <a:gs pos="100000">
                    <a:srgbClr val="33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3600" rIns="936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27000"/>
                    <a:tab algn="l" pos="1854360"/>
                    <a:tab algn="l" pos="2781360"/>
                    <a:tab algn="l" pos="3708360"/>
                    <a:tab algn="l" pos="4635360"/>
                    <a:tab algn="l" pos="5562720"/>
                    <a:tab algn="l" pos="6489720"/>
                    <a:tab algn="l" pos="7416720"/>
                    <a:tab algn="l" pos="8344080"/>
                    <a:tab algn="l" pos="9271080"/>
                    <a:tab algn="l" pos="1019808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Pay for Resul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273480" y="1398600"/>
              <a:ext cx="3117600" cy="4522680"/>
              <a:chOff x="3273480" y="1398600"/>
              <a:chExt cx="3117600" cy="4522680"/>
            </a:xfrm>
          </p:grpSpPr>
          <p:sp>
            <p:nvSpPr>
              <p:cNvPr id="232" name=""/>
              <p:cNvSpPr/>
              <p:nvPr/>
            </p:nvSpPr>
            <p:spPr>
              <a:xfrm>
                <a:off x="3279600" y="1398600"/>
                <a:ext cx="3111480" cy="451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5"/>
                    </a:moveTo>
                    <a:arcTo wR="10800" hR="10800" stAng="-10795165" swAng="53916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5"/>
                    </a:moveTo>
                    <a:arcTo wR="10800" hR="10800" stAng="-10795165" swAng="5391657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0800000">
                <a:off x="3273480" y="1407240"/>
                <a:ext cx="3110400" cy="451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273480" y="2309760"/>
              <a:ext cx="3118680" cy="2730600"/>
              <a:chOff x="3273480" y="2309760"/>
              <a:chExt cx="3118680" cy="2730600"/>
            </a:xfrm>
          </p:grpSpPr>
          <p:sp>
            <p:nvSpPr>
              <p:cNvPr id="235" name=""/>
              <p:cNvSpPr/>
              <p:nvPr/>
            </p:nvSpPr>
            <p:spPr>
              <a:xfrm>
                <a:off x="3281400" y="2309760"/>
                <a:ext cx="3110760" cy="272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7"/>
                    </a:moveTo>
                    <a:arcTo wR="10800" hR="10800" stAng="-10795994" swAng="53924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7"/>
                    </a:moveTo>
                    <a:arcTo wR="10800" hR="10800" stAng="-10795994" swAng="5392485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0800000">
                <a:off x="3273480" y="2315880"/>
                <a:ext cx="3110400" cy="272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273480" y="3224160"/>
              <a:ext cx="3118680" cy="901800"/>
              <a:chOff x="3273480" y="3224160"/>
              <a:chExt cx="3118680" cy="901800"/>
            </a:xfrm>
          </p:grpSpPr>
          <p:sp>
            <p:nvSpPr>
              <p:cNvPr id="238" name=""/>
              <p:cNvSpPr/>
              <p:nvPr/>
            </p:nvSpPr>
            <p:spPr>
              <a:xfrm>
                <a:off x="3281400" y="3224160"/>
                <a:ext cx="3110760" cy="89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62"/>
                    </a:moveTo>
                    <a:arcTo wR="10800" hR="10800" stAng="-10787810" swAng="53843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62"/>
                    </a:moveTo>
                    <a:arcTo wR="10800" hR="10800" stAng="-10787810" swAng="5384301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0800000">
                <a:off x="3273480" y="3230640"/>
                <a:ext cx="3110400" cy="89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706320" y="1273320"/>
              <a:ext cx="2489400" cy="4311360"/>
              <a:chOff x="706320" y="1273320"/>
              <a:chExt cx="2489400" cy="4311360"/>
            </a:xfrm>
          </p:grpSpPr>
          <p:sp>
            <p:nvSpPr>
              <p:cNvPr id="241" name=""/>
              <p:cNvSpPr/>
              <p:nvPr/>
            </p:nvSpPr>
            <p:spPr>
              <a:xfrm>
                <a:off x="706320" y="1273320"/>
                <a:ext cx="2489400" cy="4311360"/>
              </a:xfrm>
              <a:prstGeom prst="rect">
                <a:avLst/>
              </a:prstGeom>
              <a:gradFill rotWithShape="0">
                <a:gsLst>
                  <a:gs pos="0">
                    <a:srgbClr val="84df84"/>
                  </a:gs>
                  <a:gs pos="100000">
                    <a:srgbClr val="33cc3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6000" spc="-1" strike="noStrike">
                    <a:solidFill>
                      <a:srgbClr val="33cc33"/>
                    </a:solidFill>
                    <a:latin typeface="Times New Roman"/>
                  </a:rPr>
                  <a:t>?????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6000" spc="-1" strike="noStrike">
                    <a:solidFill>
                      <a:srgbClr val="33cc33"/>
                    </a:solidFill>
                    <a:latin typeface="Times New Roman"/>
                  </a:rPr>
                  <a:t>?????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6000" spc="-1" strike="noStrike">
                    <a:solidFill>
                      <a:srgbClr val="33cc33"/>
                    </a:solidFill>
                    <a:latin typeface="Times New Roman"/>
                  </a:rPr>
                  <a:t>?????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6000" spc="-1" strike="noStrike">
                    <a:solidFill>
                      <a:srgbClr val="33cc33"/>
                    </a:solidFill>
                    <a:latin typeface="Times New Roman"/>
                  </a:rPr>
                  <a:t>?????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6000" spc="-1" strike="noStrike">
                    <a:solidFill>
                      <a:srgbClr val="33cc33"/>
                    </a:solidFill>
                    <a:latin typeface="Times New Roman"/>
                  </a:rPr>
                  <a:t>??????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1595520" y="2786040"/>
                <a:ext cx="1520640" cy="1063800"/>
                <a:chOff x="1595520" y="2786040"/>
                <a:chExt cx="1520640" cy="106380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1941480" y="2786040"/>
                  <a:ext cx="1174680" cy="963720"/>
                  <a:chOff x="1941480" y="2786040"/>
                  <a:chExt cx="1174680" cy="963720"/>
                </a:xfrm>
              </p:grpSpPr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1941480" y="2786040"/>
                    <a:ext cx="1174680" cy="963720"/>
                    <a:chOff x="1941480" y="2786040"/>
                    <a:chExt cx="1174680" cy="963720"/>
                  </a:xfrm>
                </p:grpSpPr>
                <p:grpSp>
                  <p:nvGrpSpPr>
                    <p:cNvPr id="245" name=""/>
                    <p:cNvGrpSpPr/>
                    <p:nvPr/>
                  </p:nvGrpSpPr>
                  <p:grpSpPr>
                    <a:xfrm>
                      <a:off x="1941480" y="3327480"/>
                      <a:ext cx="1174680" cy="422280"/>
                      <a:chOff x="1941480" y="3327480"/>
                      <a:chExt cx="1174680" cy="422280"/>
                    </a:xfrm>
                  </p:grpSpPr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1941480" y="3327480"/>
                        <a:ext cx="673200" cy="422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4" h="266">
                            <a:moveTo>
                              <a:pt x="423" y="82"/>
                            </a:moveTo>
                            <a:lnTo>
                              <a:pt x="423" y="265"/>
                            </a:lnTo>
                            <a:lnTo>
                              <a:pt x="0" y="130"/>
                            </a:lnTo>
                            <a:lnTo>
                              <a:pt x="0" y="0"/>
                            </a:lnTo>
                            <a:lnTo>
                              <a:pt x="423" y="82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2612880" y="3429000"/>
                        <a:ext cx="503280" cy="32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7" h="202">
                            <a:moveTo>
                              <a:pt x="0" y="18"/>
                            </a:moveTo>
                            <a:lnTo>
                              <a:pt x="0" y="201"/>
                            </a:lnTo>
                            <a:lnTo>
                              <a:pt x="316" y="156"/>
                            </a:lnTo>
                            <a:lnTo>
                              <a:pt x="316" y="0"/>
                            </a:lnTo>
                            <a:lnTo>
                              <a:pt x="0" y="18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>
                        <a:off x="1941480" y="3327480"/>
                        <a:ext cx="117468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0" h="83">
                            <a:moveTo>
                              <a:pt x="739" y="64"/>
                            </a:moveTo>
                            <a:lnTo>
                              <a:pt x="420" y="82"/>
                            </a:lnTo>
                            <a:lnTo>
                              <a:pt x="0" y="0"/>
                            </a:lnTo>
                            <a:lnTo>
                              <a:pt x="309" y="0"/>
                            </a:lnTo>
                            <a:lnTo>
                              <a:pt x="739" y="6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306520" y="3294000"/>
                      <a:ext cx="4273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" h="76">
                          <a:moveTo>
                            <a:pt x="268" y="42"/>
                          </a:moveTo>
                          <a:lnTo>
                            <a:pt x="268" y="67"/>
                          </a:lnTo>
                          <a:lnTo>
                            <a:pt x="144" y="75"/>
                          </a:lnTo>
                          <a:lnTo>
                            <a:pt x="0" y="48"/>
                          </a:lnTo>
                          <a:lnTo>
                            <a:pt x="0" y="0"/>
                          </a:lnTo>
                          <a:lnTo>
                            <a:pt x="268" y="4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0" name=""/>
                    <p:cNvGrpSpPr/>
                    <p:nvPr/>
                  </p:nvGrpSpPr>
                  <p:grpSpPr>
                    <a:xfrm>
                      <a:off x="2075040" y="2786040"/>
                      <a:ext cx="949320" cy="601560"/>
                      <a:chOff x="2075040" y="2786040"/>
                      <a:chExt cx="949320" cy="601560"/>
                    </a:xfrm>
                  </p:grpSpPr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2075040" y="2786040"/>
                        <a:ext cx="544320" cy="58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3" h="370">
                            <a:moveTo>
                              <a:pt x="294" y="369"/>
                            </a:moveTo>
                            <a:lnTo>
                              <a:pt x="342" y="12"/>
                            </a:lnTo>
                            <a:lnTo>
                              <a:pt x="48" y="0"/>
                            </a:lnTo>
                            <a:lnTo>
                              <a:pt x="0" y="318"/>
                            </a:lnTo>
                            <a:lnTo>
                              <a:pt x="294" y="369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2541600" y="2803680"/>
                        <a:ext cx="482760" cy="58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4" h="368">
                            <a:moveTo>
                              <a:pt x="48" y="0"/>
                            </a:moveTo>
                            <a:lnTo>
                              <a:pt x="303" y="82"/>
                            </a:lnTo>
                            <a:lnTo>
                              <a:pt x="267" y="367"/>
                            </a:lnTo>
                            <a:lnTo>
                              <a:pt x="0" y="358"/>
                            </a:lnTo>
                            <a:lnTo>
                              <a:pt x="48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2138400" y="2843280"/>
                        <a:ext cx="390600" cy="442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279">
                            <a:moveTo>
                              <a:pt x="245" y="13"/>
                            </a:moveTo>
                            <a:lnTo>
                              <a:pt x="210" y="278"/>
                            </a:lnTo>
                            <a:lnTo>
                              <a:pt x="0" y="247"/>
                            </a:lnTo>
                            <a:lnTo>
                              <a:pt x="35" y="0"/>
                            </a:lnTo>
                            <a:lnTo>
                              <a:pt x="245" y="1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1983960" y="3373560"/>
                    <a:ext cx="389520" cy="274680"/>
                    <a:chOff x="1983960" y="3373560"/>
                    <a:chExt cx="389520" cy="27468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1989000" y="3373560"/>
                      <a:ext cx="384480" cy="27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2" h="173">
                          <a:moveTo>
                            <a:pt x="0" y="0"/>
                          </a:moveTo>
                          <a:lnTo>
                            <a:pt x="241" y="51"/>
                          </a:lnTo>
                          <a:lnTo>
                            <a:pt x="241" y="172"/>
                          </a:lnTo>
                          <a:lnTo>
                            <a:pt x="0" y="9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flipV="1">
                      <a:off x="2011320" y="3427560"/>
                      <a:ext cx="125280" cy="4896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2190600" y="3490920"/>
                      <a:ext cx="106560" cy="32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2149560" y="3414600"/>
                      <a:ext cx="0" cy="1620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2333520" y="3456000"/>
                      <a:ext cx="0" cy="177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1998720" y="3451320"/>
                      <a:ext cx="333360" cy="759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 flipH="1" flipV="1">
                      <a:off x="1983960" y="3409920"/>
                      <a:ext cx="360360" cy="936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1595520" y="3379680"/>
                  <a:ext cx="917640" cy="470160"/>
                  <a:chOff x="1595520" y="3379680"/>
                  <a:chExt cx="917640" cy="470160"/>
                </a:xfrm>
              </p:grpSpPr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303640" y="3633840"/>
                    <a:ext cx="150480" cy="112680"/>
                    <a:chOff x="2303640" y="3633840"/>
                    <a:chExt cx="150480" cy="11268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2409840" y="3633840"/>
                      <a:ext cx="4428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1">
                          <a:moveTo>
                            <a:pt x="19" y="0"/>
                          </a:moveTo>
                          <a:lnTo>
                            <a:pt x="27" y="66"/>
                          </a:lnTo>
                          <a:lnTo>
                            <a:pt x="7" y="70"/>
                          </a:lnTo>
                          <a:lnTo>
                            <a:pt x="0" y="4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2303640" y="3648240"/>
                      <a:ext cx="11880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62">
                          <a:moveTo>
                            <a:pt x="68" y="3"/>
                          </a:moveTo>
                          <a:lnTo>
                            <a:pt x="74" y="61"/>
                          </a:lnTo>
                          <a:lnTo>
                            <a:pt x="0" y="31"/>
                          </a:lnTo>
                          <a:lnTo>
                            <a:pt x="29" y="22"/>
                          </a:lnTo>
                          <a:lnTo>
                            <a:pt x="55" y="35"/>
                          </a:lnTo>
                          <a:lnTo>
                            <a:pt x="47" y="0"/>
                          </a:lnTo>
                          <a:lnTo>
                            <a:pt x="68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1595520" y="3379680"/>
                    <a:ext cx="917640" cy="470160"/>
                    <a:chOff x="1595520" y="3379680"/>
                    <a:chExt cx="917640" cy="47016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1598760" y="3379680"/>
                      <a:ext cx="8967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5" h="262">
                          <a:moveTo>
                            <a:pt x="564" y="111"/>
                          </a:moveTo>
                          <a:lnTo>
                            <a:pt x="294" y="261"/>
                          </a:lnTo>
                          <a:lnTo>
                            <a:pt x="0" y="114"/>
                          </a:lnTo>
                          <a:lnTo>
                            <a:pt x="225" y="0"/>
                          </a:lnTo>
                          <a:lnTo>
                            <a:pt x="564" y="111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2062080" y="3554280"/>
                      <a:ext cx="451080" cy="29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4" h="185">
                          <a:moveTo>
                            <a:pt x="273" y="0"/>
                          </a:moveTo>
                          <a:lnTo>
                            <a:pt x="0" y="153"/>
                          </a:lnTo>
                          <a:lnTo>
                            <a:pt x="8" y="184"/>
                          </a:lnTo>
                          <a:lnTo>
                            <a:pt x="283" y="28"/>
                          </a:lnTo>
                          <a:lnTo>
                            <a:pt x="273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1595520" y="3560760"/>
                      <a:ext cx="48096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3" h="182">
                          <a:moveTo>
                            <a:pt x="302" y="181"/>
                          </a:moveTo>
                          <a:lnTo>
                            <a:pt x="293" y="147"/>
                          </a:lnTo>
                          <a:lnTo>
                            <a:pt x="0" y="0"/>
                          </a:lnTo>
                          <a:lnTo>
                            <a:pt x="10" y="27"/>
                          </a:lnTo>
                          <a:lnTo>
                            <a:pt x="302" y="181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1959120" y="3575160"/>
                      <a:ext cx="347400" cy="17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" h="108">
                          <a:moveTo>
                            <a:pt x="218" y="28"/>
                          </a:moveTo>
                          <a:lnTo>
                            <a:pt x="143" y="0"/>
                          </a:lnTo>
                          <a:lnTo>
                            <a:pt x="0" y="74"/>
                          </a:lnTo>
                          <a:lnTo>
                            <a:pt x="72" y="107"/>
                          </a:lnTo>
                          <a:lnTo>
                            <a:pt x="218" y="28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1639800" y="3446640"/>
                      <a:ext cx="520920" cy="23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8" h="147">
                          <a:moveTo>
                            <a:pt x="327" y="71"/>
                          </a:moveTo>
                          <a:lnTo>
                            <a:pt x="184" y="146"/>
                          </a:lnTo>
                          <a:lnTo>
                            <a:pt x="0" y="63"/>
                          </a:lnTo>
                          <a:lnTo>
                            <a:pt x="134" y="0"/>
                          </a:lnTo>
                          <a:lnTo>
                            <a:pt x="327" y="71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1865160" y="3392640"/>
                      <a:ext cx="574920" cy="21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2" h="134">
                          <a:moveTo>
                            <a:pt x="286" y="133"/>
                          </a:moveTo>
                          <a:lnTo>
                            <a:pt x="361" y="96"/>
                          </a:lnTo>
                          <a:lnTo>
                            <a:pt x="59" y="0"/>
                          </a:lnTo>
                          <a:lnTo>
                            <a:pt x="0" y="27"/>
                          </a:lnTo>
                          <a:lnTo>
                            <a:pt x="286" y="13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flipH="1" flipV="1">
                      <a:off x="1928520" y="3395160"/>
                      <a:ext cx="517320" cy="1875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flipV="1">
                      <a:off x="1902960" y="3408480"/>
                      <a:ext cx="500040" cy="18864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flipH="1" flipV="1">
                      <a:off x="1882800" y="3422520"/>
                      <a:ext cx="488880" cy="1936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flipH="1" flipV="1">
                      <a:off x="1821960" y="3452760"/>
                      <a:ext cx="481320" cy="2001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flipV="1">
                      <a:off x="1785600" y="3473280"/>
                      <a:ext cx="476280" cy="2001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flipH="1" flipV="1">
                      <a:off x="1765080" y="3495240"/>
                      <a:ext cx="447480" cy="1983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flipH="1" flipV="1">
                      <a:off x="1736280" y="3511440"/>
                      <a:ext cx="436680" cy="2001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flipV="1">
                      <a:off x="1698120" y="3534840"/>
                      <a:ext cx="422280" cy="1969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flipH="1">
                      <a:off x="2036880" y="3614760"/>
                      <a:ext cx="247680" cy="1206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flipH="1">
                      <a:off x="1988640" y="3597120"/>
                      <a:ext cx="243000" cy="1144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>
                      <a:off x="1890720" y="3556080"/>
                      <a:ext cx="241200" cy="10944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 flipH="1">
                      <a:off x="1837800" y="3535200"/>
                      <a:ext cx="235080" cy="1065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flipH="1">
                      <a:off x="1789200" y="3514680"/>
                      <a:ext cx="231840" cy="1080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flipH="1">
                      <a:off x="1744200" y="3495600"/>
                      <a:ext cx="227160" cy="10332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 flipH="1">
                      <a:off x="1696680" y="3475080"/>
                      <a:ext cx="230040" cy="982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flipH="1">
                      <a:off x="2260080" y="3538440"/>
                      <a:ext cx="127080" cy="460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flipH="1">
                      <a:off x="2192040" y="3513240"/>
                      <a:ext cx="119160" cy="4608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flipH="1">
                      <a:off x="2124000" y="3492360"/>
                      <a:ext cx="115920" cy="3996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H="1">
                      <a:off x="2057040" y="3468600"/>
                      <a:ext cx="120600" cy="414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 flipH="1">
                      <a:off x="1995120" y="3444840"/>
                      <a:ext cx="111240" cy="396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 flipH="1">
                      <a:off x="1920600" y="3419640"/>
                      <a:ext cx="112680" cy="3960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844560" y="2548080"/>
                <a:ext cx="1217520" cy="1763640"/>
                <a:chOff x="844560" y="2548080"/>
                <a:chExt cx="1217520" cy="176364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966960" y="2548080"/>
                  <a:ext cx="1095120" cy="1763640"/>
                  <a:chOff x="966960" y="2548080"/>
                  <a:chExt cx="1095120" cy="1763640"/>
                </a:xfrm>
              </p:grpSpPr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1069920" y="2585880"/>
                    <a:ext cx="407880" cy="474840"/>
                    <a:chOff x="1069920" y="2585880"/>
                    <a:chExt cx="407880" cy="474840"/>
                  </a:xfrm>
                </p:grpSpPr>
                <p:grpSp>
                  <p:nvGrpSpPr>
                    <p:cNvPr id="297" name=""/>
                    <p:cNvGrpSpPr/>
                    <p:nvPr/>
                  </p:nvGrpSpPr>
                  <p:grpSpPr>
                    <a:xfrm>
                      <a:off x="1069920" y="2585880"/>
                      <a:ext cx="407880" cy="474840"/>
                      <a:chOff x="1069920" y="2585880"/>
                      <a:chExt cx="407880" cy="474840"/>
                    </a:xfrm>
                  </p:grpSpPr>
                  <p:sp>
                    <p:nvSpPr>
                      <p:cNvPr id="298" name=""/>
                      <p:cNvSpPr/>
                      <p:nvPr/>
                    </p:nvSpPr>
                    <p:spPr>
                      <a:xfrm>
                        <a:off x="1069920" y="2585880"/>
                        <a:ext cx="407880" cy="47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7" h="299">
                            <a:moveTo>
                              <a:pt x="178" y="9"/>
                            </a:moveTo>
                            <a:lnTo>
                              <a:pt x="211" y="21"/>
                            </a:lnTo>
                            <a:lnTo>
                              <a:pt x="223" y="46"/>
                            </a:lnTo>
                            <a:lnTo>
                              <a:pt x="233" y="79"/>
                            </a:lnTo>
                            <a:lnTo>
                              <a:pt x="235" y="93"/>
                            </a:lnTo>
                            <a:lnTo>
                              <a:pt x="233" y="106"/>
                            </a:lnTo>
                            <a:lnTo>
                              <a:pt x="229" y="116"/>
                            </a:lnTo>
                            <a:lnTo>
                              <a:pt x="236" y="134"/>
                            </a:lnTo>
                            <a:lnTo>
                              <a:pt x="244" y="151"/>
                            </a:lnTo>
                            <a:lnTo>
                              <a:pt x="248" y="157"/>
                            </a:lnTo>
                            <a:lnTo>
                              <a:pt x="252" y="161"/>
                            </a:lnTo>
                            <a:lnTo>
                              <a:pt x="255" y="165"/>
                            </a:lnTo>
                            <a:lnTo>
                              <a:pt x="256" y="171"/>
                            </a:lnTo>
                            <a:lnTo>
                              <a:pt x="254" y="176"/>
                            </a:lnTo>
                            <a:lnTo>
                              <a:pt x="251" y="178"/>
                            </a:lnTo>
                            <a:lnTo>
                              <a:pt x="241" y="180"/>
                            </a:lnTo>
                            <a:lnTo>
                              <a:pt x="236" y="183"/>
                            </a:lnTo>
                            <a:lnTo>
                              <a:pt x="234" y="189"/>
                            </a:lnTo>
                            <a:lnTo>
                              <a:pt x="236" y="196"/>
                            </a:lnTo>
                            <a:lnTo>
                              <a:pt x="240" y="208"/>
                            </a:lnTo>
                            <a:lnTo>
                              <a:pt x="238" y="213"/>
                            </a:lnTo>
                            <a:lnTo>
                              <a:pt x="233" y="218"/>
                            </a:lnTo>
                            <a:lnTo>
                              <a:pt x="235" y="222"/>
                            </a:lnTo>
                            <a:lnTo>
                              <a:pt x="236" y="226"/>
                            </a:lnTo>
                            <a:lnTo>
                              <a:pt x="233" y="230"/>
                            </a:lnTo>
                            <a:lnTo>
                              <a:pt x="229" y="232"/>
                            </a:lnTo>
                            <a:lnTo>
                              <a:pt x="226" y="238"/>
                            </a:lnTo>
                            <a:lnTo>
                              <a:pt x="226" y="247"/>
                            </a:lnTo>
                            <a:lnTo>
                              <a:pt x="224" y="252"/>
                            </a:lnTo>
                            <a:lnTo>
                              <a:pt x="219" y="257"/>
                            </a:lnTo>
                            <a:lnTo>
                              <a:pt x="215" y="260"/>
                            </a:lnTo>
                            <a:lnTo>
                              <a:pt x="208" y="262"/>
                            </a:lnTo>
                            <a:lnTo>
                              <a:pt x="200" y="263"/>
                            </a:lnTo>
                            <a:lnTo>
                              <a:pt x="181" y="262"/>
                            </a:lnTo>
                            <a:lnTo>
                              <a:pt x="164" y="260"/>
                            </a:lnTo>
                            <a:lnTo>
                              <a:pt x="139" y="298"/>
                            </a:lnTo>
                            <a:lnTo>
                              <a:pt x="34" y="252"/>
                            </a:lnTo>
                            <a:lnTo>
                              <a:pt x="44" y="236"/>
                            </a:lnTo>
                            <a:lnTo>
                              <a:pt x="50" y="222"/>
                            </a:lnTo>
                            <a:lnTo>
                              <a:pt x="50" y="201"/>
                            </a:lnTo>
                            <a:lnTo>
                              <a:pt x="0" y="158"/>
                            </a:lnTo>
                            <a:lnTo>
                              <a:pt x="0" y="56"/>
                            </a:lnTo>
                            <a:lnTo>
                              <a:pt x="26" y="28"/>
                            </a:lnTo>
                            <a:lnTo>
                              <a:pt x="59" y="13"/>
                            </a:lnTo>
                            <a:lnTo>
                              <a:pt x="92" y="0"/>
                            </a:lnTo>
                            <a:lnTo>
                              <a:pt x="137" y="6"/>
                            </a:lnTo>
                            <a:lnTo>
                              <a:pt x="178" y="9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9" name=""/>
                      <p:cNvSpPr/>
                      <p:nvPr/>
                    </p:nvSpPr>
                    <p:spPr>
                      <a:xfrm>
                        <a:off x="1241280" y="2884320"/>
                        <a:ext cx="36720" cy="6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39">
                            <a:moveTo>
                              <a:pt x="0" y="0"/>
                            </a:moveTo>
                            <a:lnTo>
                              <a:pt x="7" y="18"/>
                            </a:lnTo>
                            <a:lnTo>
                              <a:pt x="12" y="27"/>
                            </a:lnTo>
                            <a:lnTo>
                              <a:pt x="22" y="38"/>
                            </a:lnTo>
                            <a:lnTo>
                              <a:pt x="9" y="29"/>
                            </a:lnTo>
                            <a:lnTo>
                              <a:pt x="3" y="1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1335240" y="2739960"/>
                      <a:ext cx="107640" cy="208080"/>
                      <a:chOff x="1335240" y="2739960"/>
                      <a:chExt cx="107640" cy="20808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1362240" y="2773440"/>
                        <a:ext cx="3780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2">
                            <a:moveTo>
                              <a:pt x="21" y="0"/>
                            </a:moveTo>
                            <a:lnTo>
                              <a:pt x="19" y="2"/>
                            </a:lnTo>
                            <a:lnTo>
                              <a:pt x="23" y="3"/>
                            </a:lnTo>
                            <a:lnTo>
                              <a:pt x="19" y="2"/>
                            </a:lnTo>
                            <a:lnTo>
                              <a:pt x="17" y="6"/>
                            </a:lnTo>
                            <a:lnTo>
                              <a:pt x="19" y="8"/>
                            </a:lnTo>
                            <a:lnTo>
                              <a:pt x="17" y="8"/>
                            </a:lnTo>
                            <a:lnTo>
                              <a:pt x="19" y="11"/>
                            </a:lnTo>
                            <a:lnTo>
                              <a:pt x="16" y="8"/>
                            </a:lnTo>
                            <a:lnTo>
                              <a:pt x="11" y="8"/>
                            </a:lnTo>
                            <a:lnTo>
                              <a:pt x="7" y="6"/>
                            </a:lnTo>
                            <a:lnTo>
                              <a:pt x="0" y="6"/>
                            </a:lnTo>
                            <a:lnTo>
                              <a:pt x="7" y="2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1335240" y="2739960"/>
                        <a:ext cx="759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5">
                            <a:moveTo>
                              <a:pt x="47" y="2"/>
                            </a:moveTo>
                            <a:lnTo>
                              <a:pt x="44" y="4"/>
                            </a:lnTo>
                            <a:lnTo>
                              <a:pt x="39" y="4"/>
                            </a:lnTo>
                            <a:lnTo>
                              <a:pt x="32" y="3"/>
                            </a:lnTo>
                            <a:lnTo>
                              <a:pt x="23" y="2"/>
                            </a:lnTo>
                            <a:lnTo>
                              <a:pt x="7" y="2"/>
                            </a:lnTo>
                            <a:lnTo>
                              <a:pt x="0" y="2"/>
                            </a:lnTo>
                            <a:lnTo>
                              <a:pt x="12" y="1"/>
                            </a:lnTo>
                            <a:lnTo>
                              <a:pt x="21" y="1"/>
                            </a:lnTo>
                            <a:lnTo>
                              <a:pt x="19" y="0"/>
                            </a:lnTo>
                            <a:lnTo>
                              <a:pt x="27" y="1"/>
                            </a:lnTo>
                            <a:lnTo>
                              <a:pt x="26" y="0"/>
                            </a:lnTo>
                            <a:lnTo>
                              <a:pt x="33" y="1"/>
                            </a:lnTo>
                            <a:lnTo>
                              <a:pt x="39" y="1"/>
                            </a:lnTo>
                            <a:lnTo>
                              <a:pt x="47" y="2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1409760" y="2913120"/>
                        <a:ext cx="284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3">
                            <a:moveTo>
                              <a:pt x="17" y="2"/>
                            </a:moveTo>
                            <a:lnTo>
                              <a:pt x="14" y="1"/>
                            </a:lnTo>
                            <a:lnTo>
                              <a:pt x="12" y="0"/>
                            </a:lnTo>
                            <a:lnTo>
                              <a:pt x="10" y="2"/>
                            </a:lnTo>
                            <a:lnTo>
                              <a:pt x="7" y="3"/>
                            </a:lnTo>
                            <a:lnTo>
                              <a:pt x="4" y="5"/>
                            </a:lnTo>
                            <a:lnTo>
                              <a:pt x="1" y="5"/>
                            </a:lnTo>
                            <a:lnTo>
                              <a:pt x="1" y="4"/>
                            </a:lnTo>
                            <a:lnTo>
                              <a:pt x="0" y="7"/>
                            </a:lnTo>
                            <a:lnTo>
                              <a:pt x="0" y="9"/>
                            </a:lnTo>
                            <a:lnTo>
                              <a:pt x="0" y="11"/>
                            </a:lnTo>
                            <a:lnTo>
                              <a:pt x="1" y="12"/>
                            </a:lnTo>
                            <a:lnTo>
                              <a:pt x="1" y="10"/>
                            </a:lnTo>
                            <a:lnTo>
                              <a:pt x="1" y="7"/>
                            </a:lnTo>
                            <a:lnTo>
                              <a:pt x="7" y="5"/>
                            </a:lnTo>
                            <a:lnTo>
                              <a:pt x="10" y="7"/>
                            </a:lnTo>
                            <a:lnTo>
                              <a:pt x="13" y="7"/>
                            </a:lnTo>
                            <a:lnTo>
                              <a:pt x="16" y="4"/>
                            </a:lnTo>
                            <a:lnTo>
                              <a:pt x="17" y="2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1425600" y="2940120"/>
                        <a:ext cx="324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5">
                            <a:moveTo>
                              <a:pt x="1" y="3"/>
                            </a:moveTo>
                            <a:lnTo>
                              <a:pt x="0" y="4"/>
                            </a:lnTo>
                            <a:lnTo>
                              <a:pt x="0" y="3"/>
                            </a:lnTo>
                            <a:lnTo>
                              <a:pt x="0" y="0"/>
                            </a:lnTo>
                            <a:lnTo>
                              <a:pt x="1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1438200" y="285588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2" y="4"/>
                            </a:moveTo>
                            <a:lnTo>
                              <a:pt x="1" y="4"/>
                            </a:lnTo>
                            <a:lnTo>
                              <a:pt x="0" y="3"/>
                            </a:lnTo>
                            <a:lnTo>
                              <a:pt x="0" y="0"/>
                            </a:lnTo>
                            <a:lnTo>
                              <a:pt x="1" y="1"/>
                            </a:lnTo>
                            <a:lnTo>
                              <a:pt x="2" y="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1417680" y="2855880"/>
                        <a:ext cx="64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2">
                            <a:moveTo>
                              <a:pt x="2" y="0"/>
                            </a:moveTo>
                            <a:lnTo>
                              <a:pt x="1" y="1"/>
                            </a:lnTo>
                            <a:lnTo>
                              <a:pt x="0" y="1"/>
                            </a:lnTo>
                            <a:lnTo>
                              <a:pt x="2" y="1"/>
                            </a:lnTo>
                            <a:lnTo>
                              <a:pt x="3" y="1"/>
                            </a:lnTo>
                            <a:lnTo>
                              <a:pt x="3" y="0"/>
                            </a:lnTo>
                            <a:lnTo>
                              <a:pt x="2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1374840" y="2776680"/>
                        <a:ext cx="324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" h="5">
                            <a:moveTo>
                              <a:pt x="0" y="4"/>
                            </a:moveTo>
                            <a:lnTo>
                              <a:pt x="0" y="0"/>
                            </a:lnTo>
                            <a:lnTo>
                              <a:pt x="0" y="1"/>
                            </a:lnTo>
                            <a:lnTo>
                              <a:pt x="1" y="2"/>
                            </a:lnTo>
                            <a:lnTo>
                              <a:pt x="1" y="3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8" name=""/>
                    <p:cNvGrpSpPr/>
                    <p:nvPr/>
                  </p:nvGrpSpPr>
                  <p:grpSpPr>
                    <a:xfrm>
                      <a:off x="1198440" y="2755800"/>
                      <a:ext cx="46080" cy="88920"/>
                      <a:chOff x="1198440" y="2755800"/>
                      <a:chExt cx="46080" cy="88920"/>
                    </a:xfrm>
                  </p:grpSpPr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1211400" y="2766960"/>
                        <a:ext cx="23760" cy="63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40">
                            <a:moveTo>
                              <a:pt x="14" y="7"/>
                            </a:moveTo>
                            <a:lnTo>
                              <a:pt x="10" y="3"/>
                            </a:lnTo>
                            <a:lnTo>
                              <a:pt x="4" y="4"/>
                            </a:lnTo>
                            <a:lnTo>
                              <a:pt x="2" y="11"/>
                            </a:lnTo>
                            <a:lnTo>
                              <a:pt x="1" y="19"/>
                            </a:lnTo>
                            <a:lnTo>
                              <a:pt x="2" y="27"/>
                            </a:lnTo>
                            <a:lnTo>
                              <a:pt x="4" y="32"/>
                            </a:lnTo>
                            <a:lnTo>
                              <a:pt x="6" y="23"/>
                            </a:lnTo>
                            <a:lnTo>
                              <a:pt x="8" y="18"/>
                            </a:lnTo>
                            <a:lnTo>
                              <a:pt x="13" y="15"/>
                            </a:lnTo>
                            <a:lnTo>
                              <a:pt x="10" y="22"/>
                            </a:lnTo>
                            <a:lnTo>
                              <a:pt x="6" y="27"/>
                            </a:lnTo>
                            <a:lnTo>
                              <a:pt x="5" y="34"/>
                            </a:lnTo>
                            <a:lnTo>
                              <a:pt x="7" y="38"/>
                            </a:lnTo>
                            <a:lnTo>
                              <a:pt x="9" y="39"/>
                            </a:lnTo>
                            <a:lnTo>
                              <a:pt x="3" y="37"/>
                            </a:lnTo>
                            <a:lnTo>
                              <a:pt x="0" y="29"/>
                            </a:lnTo>
                            <a:lnTo>
                              <a:pt x="0" y="19"/>
                            </a:lnTo>
                            <a:lnTo>
                              <a:pt x="0" y="9"/>
                            </a:lnTo>
                            <a:lnTo>
                              <a:pt x="4" y="2"/>
                            </a:lnTo>
                            <a:lnTo>
                              <a:pt x="8" y="0"/>
                            </a:lnTo>
                            <a:lnTo>
                              <a:pt x="12" y="2"/>
                            </a:lnTo>
                            <a:lnTo>
                              <a:pt x="14" y="7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920" bIns="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1198440" y="2755800"/>
                        <a:ext cx="46080" cy="88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56">
                            <a:moveTo>
                              <a:pt x="28" y="14"/>
                            </a:moveTo>
                            <a:lnTo>
                              <a:pt x="23" y="4"/>
                            </a:lnTo>
                            <a:lnTo>
                              <a:pt x="16" y="3"/>
                            </a:lnTo>
                            <a:lnTo>
                              <a:pt x="7" y="3"/>
                            </a:lnTo>
                            <a:lnTo>
                              <a:pt x="5" y="9"/>
                            </a:lnTo>
                            <a:lnTo>
                              <a:pt x="2" y="17"/>
                            </a:lnTo>
                            <a:lnTo>
                              <a:pt x="2" y="24"/>
                            </a:lnTo>
                            <a:lnTo>
                              <a:pt x="3" y="29"/>
                            </a:lnTo>
                            <a:lnTo>
                              <a:pt x="3" y="36"/>
                            </a:lnTo>
                            <a:lnTo>
                              <a:pt x="5" y="43"/>
                            </a:lnTo>
                            <a:lnTo>
                              <a:pt x="11" y="51"/>
                            </a:lnTo>
                            <a:lnTo>
                              <a:pt x="15" y="51"/>
                            </a:lnTo>
                            <a:lnTo>
                              <a:pt x="19" y="51"/>
                            </a:lnTo>
                            <a:lnTo>
                              <a:pt x="19" y="52"/>
                            </a:lnTo>
                            <a:lnTo>
                              <a:pt x="16" y="55"/>
                            </a:lnTo>
                            <a:lnTo>
                              <a:pt x="12" y="55"/>
                            </a:lnTo>
                            <a:lnTo>
                              <a:pt x="6" y="52"/>
                            </a:lnTo>
                            <a:lnTo>
                              <a:pt x="2" y="44"/>
                            </a:lnTo>
                            <a:lnTo>
                              <a:pt x="2" y="31"/>
                            </a:lnTo>
                            <a:lnTo>
                              <a:pt x="0" y="23"/>
                            </a:lnTo>
                            <a:lnTo>
                              <a:pt x="0" y="16"/>
                            </a:lnTo>
                            <a:lnTo>
                              <a:pt x="2" y="8"/>
                            </a:lnTo>
                            <a:lnTo>
                              <a:pt x="5" y="3"/>
                            </a:lnTo>
                            <a:lnTo>
                              <a:pt x="13" y="0"/>
                            </a:lnTo>
                            <a:lnTo>
                              <a:pt x="23" y="2"/>
                            </a:lnTo>
                            <a:lnTo>
                              <a:pt x="27" y="4"/>
                            </a:lnTo>
                            <a:lnTo>
                              <a:pt x="28" y="1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120" bIns="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11" name=""/>
                  <p:cNvSpPr/>
                  <p:nvPr/>
                </p:nvSpPr>
                <p:spPr>
                  <a:xfrm>
                    <a:off x="966960" y="2962440"/>
                    <a:ext cx="1066680" cy="134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850">
                        <a:moveTo>
                          <a:pt x="84" y="44"/>
                        </a:moveTo>
                        <a:lnTo>
                          <a:pt x="99" y="0"/>
                        </a:lnTo>
                        <a:lnTo>
                          <a:pt x="213" y="55"/>
                        </a:lnTo>
                        <a:lnTo>
                          <a:pt x="201" y="90"/>
                        </a:lnTo>
                        <a:lnTo>
                          <a:pt x="216" y="124"/>
                        </a:lnTo>
                        <a:lnTo>
                          <a:pt x="234" y="155"/>
                        </a:lnTo>
                        <a:lnTo>
                          <a:pt x="260" y="210"/>
                        </a:lnTo>
                        <a:lnTo>
                          <a:pt x="292" y="256"/>
                        </a:lnTo>
                        <a:lnTo>
                          <a:pt x="302" y="283"/>
                        </a:lnTo>
                        <a:lnTo>
                          <a:pt x="305" y="301"/>
                        </a:lnTo>
                        <a:lnTo>
                          <a:pt x="304" y="322"/>
                        </a:lnTo>
                        <a:lnTo>
                          <a:pt x="299" y="341"/>
                        </a:lnTo>
                        <a:lnTo>
                          <a:pt x="295" y="358"/>
                        </a:lnTo>
                        <a:lnTo>
                          <a:pt x="295" y="378"/>
                        </a:lnTo>
                        <a:lnTo>
                          <a:pt x="403" y="405"/>
                        </a:lnTo>
                        <a:lnTo>
                          <a:pt x="464" y="412"/>
                        </a:lnTo>
                        <a:lnTo>
                          <a:pt x="508" y="409"/>
                        </a:lnTo>
                        <a:lnTo>
                          <a:pt x="514" y="424"/>
                        </a:lnTo>
                        <a:lnTo>
                          <a:pt x="518" y="442"/>
                        </a:lnTo>
                        <a:lnTo>
                          <a:pt x="521" y="461"/>
                        </a:lnTo>
                        <a:lnTo>
                          <a:pt x="477" y="476"/>
                        </a:lnTo>
                        <a:lnTo>
                          <a:pt x="425" y="482"/>
                        </a:lnTo>
                        <a:lnTo>
                          <a:pt x="383" y="482"/>
                        </a:lnTo>
                        <a:lnTo>
                          <a:pt x="332" y="488"/>
                        </a:lnTo>
                        <a:lnTo>
                          <a:pt x="299" y="482"/>
                        </a:lnTo>
                        <a:lnTo>
                          <a:pt x="299" y="525"/>
                        </a:lnTo>
                        <a:lnTo>
                          <a:pt x="289" y="548"/>
                        </a:lnTo>
                        <a:lnTo>
                          <a:pt x="293" y="572"/>
                        </a:lnTo>
                        <a:lnTo>
                          <a:pt x="290" y="589"/>
                        </a:lnTo>
                        <a:lnTo>
                          <a:pt x="308" y="590"/>
                        </a:lnTo>
                        <a:lnTo>
                          <a:pt x="319" y="598"/>
                        </a:lnTo>
                        <a:lnTo>
                          <a:pt x="349" y="602"/>
                        </a:lnTo>
                        <a:lnTo>
                          <a:pt x="370" y="617"/>
                        </a:lnTo>
                        <a:lnTo>
                          <a:pt x="392" y="623"/>
                        </a:lnTo>
                        <a:lnTo>
                          <a:pt x="529" y="671"/>
                        </a:lnTo>
                        <a:lnTo>
                          <a:pt x="575" y="688"/>
                        </a:lnTo>
                        <a:lnTo>
                          <a:pt x="604" y="700"/>
                        </a:lnTo>
                        <a:lnTo>
                          <a:pt x="624" y="729"/>
                        </a:lnTo>
                        <a:lnTo>
                          <a:pt x="647" y="774"/>
                        </a:lnTo>
                        <a:lnTo>
                          <a:pt x="671" y="849"/>
                        </a:lnTo>
                        <a:lnTo>
                          <a:pt x="415" y="848"/>
                        </a:lnTo>
                        <a:lnTo>
                          <a:pt x="336" y="826"/>
                        </a:lnTo>
                        <a:lnTo>
                          <a:pt x="219" y="824"/>
                        </a:lnTo>
                        <a:lnTo>
                          <a:pt x="145" y="824"/>
                        </a:lnTo>
                        <a:lnTo>
                          <a:pt x="104" y="826"/>
                        </a:lnTo>
                        <a:lnTo>
                          <a:pt x="57" y="814"/>
                        </a:lnTo>
                        <a:lnTo>
                          <a:pt x="40" y="806"/>
                        </a:lnTo>
                        <a:lnTo>
                          <a:pt x="17" y="782"/>
                        </a:lnTo>
                        <a:lnTo>
                          <a:pt x="11" y="765"/>
                        </a:lnTo>
                        <a:lnTo>
                          <a:pt x="4" y="731"/>
                        </a:lnTo>
                        <a:lnTo>
                          <a:pt x="9" y="700"/>
                        </a:lnTo>
                        <a:lnTo>
                          <a:pt x="25" y="646"/>
                        </a:lnTo>
                        <a:lnTo>
                          <a:pt x="46" y="592"/>
                        </a:lnTo>
                        <a:lnTo>
                          <a:pt x="49" y="571"/>
                        </a:lnTo>
                        <a:lnTo>
                          <a:pt x="42" y="556"/>
                        </a:lnTo>
                        <a:lnTo>
                          <a:pt x="45" y="513"/>
                        </a:lnTo>
                        <a:lnTo>
                          <a:pt x="51" y="495"/>
                        </a:lnTo>
                        <a:lnTo>
                          <a:pt x="47" y="457"/>
                        </a:lnTo>
                        <a:lnTo>
                          <a:pt x="32" y="403"/>
                        </a:lnTo>
                        <a:lnTo>
                          <a:pt x="9" y="328"/>
                        </a:lnTo>
                        <a:lnTo>
                          <a:pt x="0" y="262"/>
                        </a:lnTo>
                        <a:lnTo>
                          <a:pt x="0" y="205"/>
                        </a:lnTo>
                        <a:lnTo>
                          <a:pt x="5" y="164"/>
                        </a:lnTo>
                        <a:lnTo>
                          <a:pt x="14" y="140"/>
                        </a:lnTo>
                        <a:lnTo>
                          <a:pt x="27" y="111"/>
                        </a:lnTo>
                        <a:lnTo>
                          <a:pt x="41" y="80"/>
                        </a:lnTo>
                        <a:lnTo>
                          <a:pt x="84" y="44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973080" y="3033720"/>
                    <a:ext cx="1089000" cy="1258920"/>
                    <a:chOff x="973080" y="3033720"/>
                    <a:chExt cx="1089000" cy="125892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1743120" y="3521160"/>
                      <a:ext cx="318960" cy="168120"/>
                      <a:chOff x="1743120" y="3521160"/>
                      <a:chExt cx="318960" cy="16812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1743120" y="3521160"/>
                        <a:ext cx="318960" cy="16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" h="106">
                            <a:moveTo>
                              <a:pt x="0" y="62"/>
                            </a:moveTo>
                            <a:lnTo>
                              <a:pt x="24" y="57"/>
                            </a:lnTo>
                            <a:lnTo>
                              <a:pt x="33" y="56"/>
                            </a:lnTo>
                            <a:lnTo>
                              <a:pt x="39" y="51"/>
                            </a:lnTo>
                            <a:lnTo>
                              <a:pt x="45" y="45"/>
                            </a:lnTo>
                            <a:lnTo>
                              <a:pt x="57" y="35"/>
                            </a:lnTo>
                            <a:lnTo>
                              <a:pt x="79" y="20"/>
                            </a:lnTo>
                            <a:lnTo>
                              <a:pt x="82" y="14"/>
                            </a:lnTo>
                            <a:lnTo>
                              <a:pt x="88" y="10"/>
                            </a:lnTo>
                            <a:lnTo>
                              <a:pt x="100" y="8"/>
                            </a:lnTo>
                            <a:lnTo>
                              <a:pt x="135" y="2"/>
                            </a:lnTo>
                            <a:lnTo>
                              <a:pt x="145" y="0"/>
                            </a:lnTo>
                            <a:lnTo>
                              <a:pt x="153" y="4"/>
                            </a:lnTo>
                            <a:lnTo>
                              <a:pt x="158" y="7"/>
                            </a:lnTo>
                            <a:lnTo>
                              <a:pt x="170" y="11"/>
                            </a:lnTo>
                            <a:lnTo>
                              <a:pt x="177" y="14"/>
                            </a:lnTo>
                            <a:lnTo>
                              <a:pt x="183" y="16"/>
                            </a:lnTo>
                            <a:lnTo>
                              <a:pt x="186" y="19"/>
                            </a:lnTo>
                            <a:lnTo>
                              <a:pt x="191" y="25"/>
                            </a:lnTo>
                            <a:lnTo>
                              <a:pt x="195" y="29"/>
                            </a:lnTo>
                            <a:lnTo>
                              <a:pt x="196" y="34"/>
                            </a:lnTo>
                            <a:lnTo>
                              <a:pt x="197" y="36"/>
                            </a:lnTo>
                            <a:lnTo>
                              <a:pt x="200" y="40"/>
                            </a:lnTo>
                            <a:lnTo>
                              <a:pt x="197" y="44"/>
                            </a:lnTo>
                            <a:lnTo>
                              <a:pt x="194" y="45"/>
                            </a:lnTo>
                            <a:lnTo>
                              <a:pt x="187" y="45"/>
                            </a:lnTo>
                            <a:lnTo>
                              <a:pt x="182" y="43"/>
                            </a:lnTo>
                            <a:lnTo>
                              <a:pt x="176" y="40"/>
                            </a:lnTo>
                            <a:lnTo>
                              <a:pt x="171" y="40"/>
                            </a:lnTo>
                            <a:lnTo>
                              <a:pt x="165" y="39"/>
                            </a:lnTo>
                            <a:lnTo>
                              <a:pt x="159" y="37"/>
                            </a:lnTo>
                            <a:lnTo>
                              <a:pt x="150" y="38"/>
                            </a:lnTo>
                            <a:lnTo>
                              <a:pt x="143" y="40"/>
                            </a:lnTo>
                            <a:lnTo>
                              <a:pt x="159" y="44"/>
                            </a:lnTo>
                            <a:lnTo>
                              <a:pt x="170" y="47"/>
                            </a:lnTo>
                            <a:lnTo>
                              <a:pt x="183" y="51"/>
                            </a:lnTo>
                            <a:lnTo>
                              <a:pt x="186" y="54"/>
                            </a:lnTo>
                            <a:lnTo>
                              <a:pt x="187" y="58"/>
                            </a:lnTo>
                            <a:lnTo>
                              <a:pt x="184" y="60"/>
                            </a:lnTo>
                            <a:lnTo>
                              <a:pt x="180" y="62"/>
                            </a:lnTo>
                            <a:lnTo>
                              <a:pt x="175" y="61"/>
                            </a:lnTo>
                            <a:lnTo>
                              <a:pt x="157" y="57"/>
                            </a:lnTo>
                            <a:lnTo>
                              <a:pt x="141" y="57"/>
                            </a:lnTo>
                            <a:lnTo>
                              <a:pt x="129" y="57"/>
                            </a:lnTo>
                            <a:lnTo>
                              <a:pt x="121" y="61"/>
                            </a:lnTo>
                            <a:lnTo>
                              <a:pt x="114" y="67"/>
                            </a:lnTo>
                            <a:lnTo>
                              <a:pt x="107" y="74"/>
                            </a:lnTo>
                            <a:lnTo>
                              <a:pt x="101" y="82"/>
                            </a:lnTo>
                            <a:lnTo>
                              <a:pt x="94" y="88"/>
                            </a:lnTo>
                            <a:lnTo>
                              <a:pt x="85" y="92"/>
                            </a:lnTo>
                            <a:lnTo>
                              <a:pt x="77" y="93"/>
                            </a:lnTo>
                            <a:lnTo>
                              <a:pt x="67" y="93"/>
                            </a:lnTo>
                            <a:lnTo>
                              <a:pt x="55" y="94"/>
                            </a:lnTo>
                            <a:lnTo>
                              <a:pt x="42" y="95"/>
                            </a:lnTo>
                            <a:lnTo>
                              <a:pt x="32" y="99"/>
                            </a:lnTo>
                            <a:lnTo>
                              <a:pt x="0" y="105"/>
                            </a:lnTo>
                            <a:lnTo>
                              <a:pt x="0" y="62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1943280" y="3551400"/>
                        <a:ext cx="903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5">
                            <a:moveTo>
                              <a:pt x="56" y="4"/>
                            </a:moveTo>
                            <a:lnTo>
                              <a:pt x="46" y="3"/>
                            </a:lnTo>
                            <a:lnTo>
                              <a:pt x="39" y="2"/>
                            </a:lnTo>
                            <a:lnTo>
                              <a:pt x="29" y="1"/>
                            </a:lnTo>
                            <a:lnTo>
                              <a:pt x="21" y="1"/>
                            </a:lnTo>
                            <a:lnTo>
                              <a:pt x="9" y="1"/>
                            </a:lnTo>
                            <a:lnTo>
                              <a:pt x="0" y="1"/>
                            </a:lnTo>
                            <a:lnTo>
                              <a:pt x="13" y="1"/>
                            </a:lnTo>
                            <a:lnTo>
                              <a:pt x="25" y="0"/>
                            </a:lnTo>
                            <a:lnTo>
                              <a:pt x="39" y="2"/>
                            </a:lnTo>
                            <a:lnTo>
                              <a:pt x="46" y="2"/>
                            </a:lnTo>
                            <a:lnTo>
                              <a:pt x="55" y="4"/>
                            </a:lnTo>
                            <a:lnTo>
                              <a:pt x="56" y="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6" name=""/>
                      <p:cNvSpPr/>
                      <p:nvPr/>
                    </p:nvSpPr>
                    <p:spPr>
                      <a:xfrm>
                        <a:off x="1903320" y="3529080"/>
                        <a:ext cx="7488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" h="1">
                            <a:moveTo>
                              <a:pt x="33" y="0"/>
                            </a:moveTo>
                            <a:lnTo>
                              <a:pt x="39" y="0"/>
                            </a:lnTo>
                            <a:lnTo>
                              <a:pt x="46" y="0"/>
                            </a:lnTo>
                            <a:lnTo>
                              <a:pt x="42" y="0"/>
                            </a:lnTo>
                            <a:lnTo>
                              <a:pt x="34" y="0"/>
                            </a:lnTo>
                            <a:lnTo>
                              <a:pt x="20" y="0"/>
                            </a:lnTo>
                            <a:lnTo>
                              <a:pt x="11" y="0"/>
                            </a:lnTo>
                            <a:lnTo>
                              <a:pt x="2" y="0"/>
                            </a:lnTo>
                            <a:lnTo>
                              <a:pt x="0" y="0"/>
                            </a:lnTo>
                            <a:lnTo>
                              <a:pt x="10" y="0"/>
                            </a:lnTo>
                            <a:lnTo>
                              <a:pt x="22" y="0"/>
                            </a:lnTo>
                            <a:lnTo>
                              <a:pt x="33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" name=""/>
                      <p:cNvSpPr/>
                      <p:nvPr/>
                    </p:nvSpPr>
                    <p:spPr>
                      <a:xfrm>
                        <a:off x="1938240" y="3573360"/>
                        <a:ext cx="237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5">
                            <a:moveTo>
                              <a:pt x="14" y="2"/>
                            </a:moveTo>
                            <a:lnTo>
                              <a:pt x="12" y="0"/>
                            </a:lnTo>
                            <a:lnTo>
                              <a:pt x="8" y="1"/>
                            </a:lnTo>
                            <a:lnTo>
                              <a:pt x="2" y="1"/>
                            </a:lnTo>
                            <a:lnTo>
                              <a:pt x="0" y="4"/>
                            </a:lnTo>
                            <a:lnTo>
                              <a:pt x="4" y="3"/>
                            </a:lnTo>
                            <a:lnTo>
                              <a:pt x="14" y="2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" name=""/>
                      <p:cNvSpPr/>
                      <p:nvPr/>
                    </p:nvSpPr>
                    <p:spPr>
                      <a:xfrm>
                        <a:off x="2009880" y="3598920"/>
                        <a:ext cx="61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" h="5">
                            <a:moveTo>
                              <a:pt x="3" y="4"/>
                            </a:moveTo>
                            <a:lnTo>
                              <a:pt x="2" y="2"/>
                            </a:lnTo>
                            <a:lnTo>
                              <a:pt x="0" y="0"/>
                            </a:lnTo>
                            <a:lnTo>
                              <a:pt x="3" y="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9" name=""/>
                      <p:cNvSpPr/>
                      <p:nvPr/>
                    </p:nvSpPr>
                    <p:spPr>
                      <a:xfrm>
                        <a:off x="1890720" y="3562200"/>
                        <a:ext cx="468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3">
                            <a:moveTo>
                              <a:pt x="2" y="0"/>
                            </a:moveTo>
                            <a:lnTo>
                              <a:pt x="2" y="1"/>
                            </a:lnTo>
                            <a:lnTo>
                              <a:pt x="0" y="2"/>
                            </a:lnTo>
                            <a:lnTo>
                              <a:pt x="2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1913040" y="3591000"/>
                        <a:ext cx="936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">
                            <a:moveTo>
                              <a:pt x="5" y="0"/>
                            </a:moveTo>
                            <a:lnTo>
                              <a:pt x="0" y="0"/>
                            </a:lnTo>
                            <a:lnTo>
                              <a:pt x="5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" name=""/>
                      <p:cNvSpPr/>
                      <p:nvPr/>
                    </p:nvSpPr>
                    <p:spPr>
                      <a:xfrm>
                        <a:off x="2035080" y="3573360"/>
                        <a:ext cx="468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3">
                            <a:moveTo>
                              <a:pt x="0" y="0"/>
                            </a:moveTo>
                            <a:lnTo>
                              <a:pt x="1" y="0"/>
                            </a:lnTo>
                            <a:lnTo>
                              <a:pt x="2" y="1"/>
                            </a:lnTo>
                            <a:lnTo>
                              <a:pt x="2" y="2"/>
                            </a:lnTo>
                            <a:lnTo>
                              <a:pt x="2" y="1"/>
                            </a:lnTo>
                            <a:lnTo>
                              <a:pt x="2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2" name=""/>
                    <p:cNvGrpSpPr/>
                    <p:nvPr/>
                  </p:nvGrpSpPr>
                  <p:grpSpPr>
                    <a:xfrm>
                      <a:off x="1654200" y="3416400"/>
                      <a:ext cx="338040" cy="150840"/>
                      <a:chOff x="1654200" y="3416400"/>
                      <a:chExt cx="338040" cy="150840"/>
                    </a:xfrm>
                  </p:grpSpPr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1654200" y="3416400"/>
                        <a:ext cx="338040" cy="150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3" h="95">
                            <a:moveTo>
                              <a:pt x="21" y="94"/>
                            </a:moveTo>
                            <a:lnTo>
                              <a:pt x="32" y="92"/>
                            </a:lnTo>
                            <a:lnTo>
                              <a:pt x="43" y="88"/>
                            </a:lnTo>
                            <a:lnTo>
                              <a:pt x="54" y="86"/>
                            </a:lnTo>
                            <a:lnTo>
                              <a:pt x="72" y="88"/>
                            </a:lnTo>
                            <a:lnTo>
                              <a:pt x="85" y="87"/>
                            </a:lnTo>
                            <a:lnTo>
                              <a:pt x="93" y="83"/>
                            </a:lnTo>
                            <a:lnTo>
                              <a:pt x="101" y="80"/>
                            </a:lnTo>
                            <a:lnTo>
                              <a:pt x="109" y="79"/>
                            </a:lnTo>
                            <a:lnTo>
                              <a:pt x="117" y="75"/>
                            </a:lnTo>
                            <a:lnTo>
                              <a:pt x="124" y="70"/>
                            </a:lnTo>
                            <a:lnTo>
                              <a:pt x="134" y="65"/>
                            </a:lnTo>
                            <a:lnTo>
                              <a:pt x="140" y="64"/>
                            </a:lnTo>
                            <a:lnTo>
                              <a:pt x="147" y="62"/>
                            </a:lnTo>
                            <a:lnTo>
                              <a:pt x="156" y="62"/>
                            </a:lnTo>
                            <a:lnTo>
                              <a:pt x="161" y="60"/>
                            </a:lnTo>
                            <a:lnTo>
                              <a:pt x="164" y="58"/>
                            </a:lnTo>
                            <a:lnTo>
                              <a:pt x="165" y="55"/>
                            </a:lnTo>
                            <a:lnTo>
                              <a:pt x="164" y="54"/>
                            </a:lnTo>
                            <a:lnTo>
                              <a:pt x="161" y="51"/>
                            </a:lnTo>
                            <a:lnTo>
                              <a:pt x="155" y="50"/>
                            </a:lnTo>
                            <a:lnTo>
                              <a:pt x="147" y="48"/>
                            </a:lnTo>
                            <a:lnTo>
                              <a:pt x="140" y="49"/>
                            </a:lnTo>
                            <a:lnTo>
                              <a:pt x="133" y="51"/>
                            </a:lnTo>
                            <a:lnTo>
                              <a:pt x="118" y="51"/>
                            </a:lnTo>
                            <a:lnTo>
                              <a:pt x="131" y="43"/>
                            </a:lnTo>
                            <a:lnTo>
                              <a:pt x="142" y="35"/>
                            </a:lnTo>
                            <a:lnTo>
                              <a:pt x="156" y="30"/>
                            </a:lnTo>
                            <a:lnTo>
                              <a:pt x="167" y="30"/>
                            </a:lnTo>
                            <a:lnTo>
                              <a:pt x="181" y="28"/>
                            </a:lnTo>
                            <a:lnTo>
                              <a:pt x="190" y="31"/>
                            </a:lnTo>
                            <a:lnTo>
                              <a:pt x="194" y="32"/>
                            </a:lnTo>
                            <a:lnTo>
                              <a:pt x="198" y="32"/>
                            </a:lnTo>
                            <a:lnTo>
                              <a:pt x="201" y="30"/>
                            </a:lnTo>
                            <a:lnTo>
                              <a:pt x="204" y="29"/>
                            </a:lnTo>
                            <a:lnTo>
                              <a:pt x="204" y="26"/>
                            </a:lnTo>
                            <a:lnTo>
                              <a:pt x="208" y="26"/>
                            </a:lnTo>
                            <a:lnTo>
                              <a:pt x="211" y="24"/>
                            </a:lnTo>
                            <a:lnTo>
                              <a:pt x="211" y="22"/>
                            </a:lnTo>
                            <a:lnTo>
                              <a:pt x="212" y="20"/>
                            </a:lnTo>
                            <a:lnTo>
                              <a:pt x="211" y="18"/>
                            </a:lnTo>
                            <a:lnTo>
                              <a:pt x="208" y="17"/>
                            </a:lnTo>
                            <a:lnTo>
                              <a:pt x="204" y="14"/>
                            </a:lnTo>
                            <a:lnTo>
                              <a:pt x="199" y="11"/>
                            </a:lnTo>
                            <a:lnTo>
                              <a:pt x="195" y="9"/>
                            </a:lnTo>
                            <a:lnTo>
                              <a:pt x="188" y="8"/>
                            </a:lnTo>
                            <a:lnTo>
                              <a:pt x="183" y="7"/>
                            </a:lnTo>
                            <a:lnTo>
                              <a:pt x="157" y="3"/>
                            </a:lnTo>
                            <a:lnTo>
                              <a:pt x="151" y="2"/>
                            </a:lnTo>
                            <a:lnTo>
                              <a:pt x="145" y="0"/>
                            </a:lnTo>
                            <a:lnTo>
                              <a:pt x="139" y="1"/>
                            </a:lnTo>
                            <a:lnTo>
                              <a:pt x="133" y="5"/>
                            </a:lnTo>
                            <a:lnTo>
                              <a:pt x="112" y="11"/>
                            </a:lnTo>
                            <a:lnTo>
                              <a:pt x="100" y="12"/>
                            </a:lnTo>
                            <a:lnTo>
                              <a:pt x="88" y="21"/>
                            </a:lnTo>
                            <a:lnTo>
                              <a:pt x="63" y="38"/>
                            </a:lnTo>
                            <a:lnTo>
                              <a:pt x="53" y="46"/>
                            </a:lnTo>
                            <a:lnTo>
                              <a:pt x="44" y="54"/>
                            </a:lnTo>
                            <a:lnTo>
                              <a:pt x="32" y="57"/>
                            </a:lnTo>
                            <a:lnTo>
                              <a:pt x="0" y="58"/>
                            </a:lnTo>
                            <a:lnTo>
                              <a:pt x="21" y="9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402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>
                        <a:off x="1933560" y="3440160"/>
                        <a:ext cx="36360" cy="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">
                            <a:moveTo>
                              <a:pt x="22" y="3"/>
                            </a:moveTo>
                            <a:lnTo>
                              <a:pt x="20" y="3"/>
                            </a:lnTo>
                            <a:lnTo>
                              <a:pt x="16" y="2"/>
                            </a:lnTo>
                            <a:lnTo>
                              <a:pt x="12" y="1"/>
                            </a:lnTo>
                            <a:lnTo>
                              <a:pt x="10" y="1"/>
                            </a:lnTo>
                            <a:lnTo>
                              <a:pt x="8" y="1"/>
                            </a:lnTo>
                            <a:lnTo>
                              <a:pt x="3" y="0"/>
                            </a:lnTo>
                            <a:lnTo>
                              <a:pt x="0" y="0"/>
                            </a:lnTo>
                            <a:lnTo>
                              <a:pt x="5" y="0"/>
                            </a:lnTo>
                            <a:lnTo>
                              <a:pt x="10" y="0"/>
                            </a:lnTo>
                            <a:lnTo>
                              <a:pt x="12" y="1"/>
                            </a:lnTo>
                            <a:lnTo>
                              <a:pt x="14" y="1"/>
                            </a:lnTo>
                            <a:lnTo>
                              <a:pt x="22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1714680" y="3527280"/>
                        <a:ext cx="93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">
                            <a:moveTo>
                              <a:pt x="0" y="0"/>
                            </a:moveTo>
                            <a:lnTo>
                              <a:pt x="3" y="0"/>
                            </a:lnTo>
                            <a:lnTo>
                              <a:pt x="5" y="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1846440" y="3433680"/>
                        <a:ext cx="6336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2">
                            <a:moveTo>
                              <a:pt x="39" y="0"/>
                            </a:moveTo>
                            <a:lnTo>
                              <a:pt x="27" y="0"/>
                            </a:lnTo>
                            <a:lnTo>
                              <a:pt x="22" y="0"/>
                            </a:lnTo>
                            <a:lnTo>
                              <a:pt x="18" y="0"/>
                            </a:lnTo>
                            <a:lnTo>
                              <a:pt x="15" y="0"/>
                            </a:lnTo>
                            <a:lnTo>
                              <a:pt x="12" y="0"/>
                            </a:lnTo>
                            <a:lnTo>
                              <a:pt x="7" y="1"/>
                            </a:lnTo>
                            <a:lnTo>
                              <a:pt x="0" y="1"/>
                            </a:lnTo>
                            <a:lnTo>
                              <a:pt x="4" y="1"/>
                            </a:lnTo>
                            <a:lnTo>
                              <a:pt x="11" y="1"/>
                            </a:lnTo>
                            <a:lnTo>
                              <a:pt x="17" y="0"/>
                            </a:lnTo>
                            <a:lnTo>
                              <a:pt x="21" y="0"/>
                            </a:lnTo>
                            <a:lnTo>
                              <a:pt x="24" y="0"/>
                            </a:lnTo>
                            <a:lnTo>
                              <a:pt x="30" y="0"/>
                            </a:lnTo>
                            <a:lnTo>
                              <a:pt x="39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1881360" y="3495600"/>
                        <a:ext cx="108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5">
                            <a:moveTo>
                              <a:pt x="0" y="4"/>
                            </a:moveTo>
                            <a:lnTo>
                              <a:pt x="6" y="2"/>
                            </a:lnTo>
                            <a:lnTo>
                              <a:pt x="0" y="0"/>
                            </a:lnTo>
                            <a:lnTo>
                              <a:pt x="0" y="4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1960560" y="3451320"/>
                        <a:ext cx="46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5">
                            <a:moveTo>
                              <a:pt x="1" y="0"/>
                            </a:moveTo>
                            <a:lnTo>
                              <a:pt x="0" y="1"/>
                            </a:lnTo>
                            <a:lnTo>
                              <a:pt x="1" y="3"/>
                            </a:lnTo>
                            <a:lnTo>
                              <a:pt x="2" y="4"/>
                            </a:lnTo>
                            <a:lnTo>
                              <a:pt x="1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9" name=""/>
                      <p:cNvSpPr/>
                      <p:nvPr/>
                    </p:nvSpPr>
                    <p:spPr>
                      <a:xfrm>
                        <a:off x="1973160" y="3438360"/>
                        <a:ext cx="50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" h="6">
                            <a:moveTo>
                              <a:pt x="0" y="0"/>
                            </a:moveTo>
                            <a:lnTo>
                              <a:pt x="0" y="2"/>
                            </a:lnTo>
                            <a:lnTo>
                              <a:pt x="1" y="3"/>
                            </a:lnTo>
                            <a:lnTo>
                              <a:pt x="2" y="5"/>
                            </a:lnTo>
                            <a:lnTo>
                              <a:pt x="1" y="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0" name=""/>
                      <p:cNvSpPr/>
                      <p:nvPr/>
                    </p:nvSpPr>
                    <p:spPr>
                      <a:xfrm>
                        <a:off x="1811160" y="3486240"/>
                        <a:ext cx="1908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4">
                            <a:moveTo>
                              <a:pt x="11" y="1"/>
                            </a:moveTo>
                            <a:lnTo>
                              <a:pt x="10" y="0"/>
                            </a:lnTo>
                            <a:lnTo>
                              <a:pt x="9" y="1"/>
                            </a:lnTo>
                            <a:lnTo>
                              <a:pt x="5" y="1"/>
                            </a:lnTo>
                            <a:lnTo>
                              <a:pt x="2" y="1"/>
                            </a:lnTo>
                            <a:lnTo>
                              <a:pt x="0" y="0"/>
                            </a:lnTo>
                            <a:lnTo>
                              <a:pt x="3" y="1"/>
                            </a:lnTo>
                            <a:lnTo>
                              <a:pt x="6" y="2"/>
                            </a:lnTo>
                            <a:lnTo>
                              <a:pt x="8" y="3"/>
                            </a:lnTo>
                            <a:lnTo>
                              <a:pt x="6" y="1"/>
                            </a:lnTo>
                            <a:lnTo>
                              <a:pt x="9" y="1"/>
                            </a:lnTo>
                            <a:lnTo>
                              <a:pt x="11" y="1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1389240" y="3479760"/>
                      <a:ext cx="3268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93">
                          <a:moveTo>
                            <a:pt x="29" y="9"/>
                          </a:moveTo>
                          <a:lnTo>
                            <a:pt x="83" y="14"/>
                          </a:lnTo>
                          <a:lnTo>
                            <a:pt x="124" y="18"/>
                          </a:lnTo>
                          <a:lnTo>
                            <a:pt x="146" y="17"/>
                          </a:lnTo>
                          <a:lnTo>
                            <a:pt x="188" y="16"/>
                          </a:lnTo>
                          <a:lnTo>
                            <a:pt x="200" y="33"/>
                          </a:lnTo>
                          <a:lnTo>
                            <a:pt x="205" y="58"/>
                          </a:lnTo>
                          <a:lnTo>
                            <a:pt x="175" y="63"/>
                          </a:lnTo>
                          <a:lnTo>
                            <a:pt x="119" y="78"/>
                          </a:lnTo>
                          <a:lnTo>
                            <a:pt x="6" y="92"/>
                          </a:lnTo>
                          <a:lnTo>
                            <a:pt x="0" y="0"/>
                          </a:lnTo>
                          <a:lnTo>
                            <a:pt x="29" y="9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1401840" y="3495600"/>
                      <a:ext cx="2887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67">
                          <a:moveTo>
                            <a:pt x="21" y="0"/>
                          </a:moveTo>
                          <a:lnTo>
                            <a:pt x="63" y="6"/>
                          </a:lnTo>
                          <a:lnTo>
                            <a:pt x="118" y="11"/>
                          </a:lnTo>
                          <a:lnTo>
                            <a:pt x="153" y="10"/>
                          </a:lnTo>
                          <a:lnTo>
                            <a:pt x="170" y="11"/>
                          </a:lnTo>
                          <a:lnTo>
                            <a:pt x="178" y="21"/>
                          </a:lnTo>
                          <a:lnTo>
                            <a:pt x="181" y="37"/>
                          </a:lnTo>
                          <a:lnTo>
                            <a:pt x="137" y="49"/>
                          </a:lnTo>
                          <a:lnTo>
                            <a:pt x="144" y="39"/>
                          </a:lnTo>
                          <a:lnTo>
                            <a:pt x="150" y="26"/>
                          </a:lnTo>
                          <a:lnTo>
                            <a:pt x="139" y="38"/>
                          </a:lnTo>
                          <a:lnTo>
                            <a:pt x="120" y="52"/>
                          </a:lnTo>
                          <a:lnTo>
                            <a:pt x="75" y="66"/>
                          </a:lnTo>
                          <a:lnTo>
                            <a:pt x="42" y="66"/>
                          </a:lnTo>
                          <a:lnTo>
                            <a:pt x="86" y="53"/>
                          </a:lnTo>
                          <a:lnTo>
                            <a:pt x="114" y="36"/>
                          </a:lnTo>
                          <a:lnTo>
                            <a:pt x="79" y="48"/>
                          </a:lnTo>
                          <a:lnTo>
                            <a:pt x="45" y="58"/>
                          </a:lnTo>
                          <a:lnTo>
                            <a:pt x="0" y="66"/>
                          </a:lnTo>
                          <a:lnTo>
                            <a:pt x="2" y="25"/>
                          </a:lnTo>
                          <a:lnTo>
                            <a:pt x="21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1084320" y="3086280"/>
                      <a:ext cx="685800" cy="63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2" h="397">
                          <a:moveTo>
                            <a:pt x="41" y="0"/>
                          </a:moveTo>
                          <a:lnTo>
                            <a:pt x="67" y="4"/>
                          </a:lnTo>
                          <a:lnTo>
                            <a:pt x="90" y="19"/>
                          </a:lnTo>
                          <a:lnTo>
                            <a:pt x="102" y="40"/>
                          </a:lnTo>
                          <a:lnTo>
                            <a:pt x="104" y="70"/>
                          </a:lnTo>
                          <a:lnTo>
                            <a:pt x="113" y="112"/>
                          </a:lnTo>
                          <a:lnTo>
                            <a:pt x="126" y="149"/>
                          </a:lnTo>
                          <a:lnTo>
                            <a:pt x="143" y="193"/>
                          </a:lnTo>
                          <a:lnTo>
                            <a:pt x="153" y="227"/>
                          </a:lnTo>
                          <a:lnTo>
                            <a:pt x="167" y="263"/>
                          </a:lnTo>
                          <a:lnTo>
                            <a:pt x="128" y="276"/>
                          </a:lnTo>
                          <a:lnTo>
                            <a:pt x="171" y="271"/>
                          </a:lnTo>
                          <a:lnTo>
                            <a:pt x="182" y="284"/>
                          </a:lnTo>
                          <a:lnTo>
                            <a:pt x="162" y="301"/>
                          </a:lnTo>
                          <a:lnTo>
                            <a:pt x="189" y="291"/>
                          </a:lnTo>
                          <a:lnTo>
                            <a:pt x="220" y="302"/>
                          </a:lnTo>
                          <a:lnTo>
                            <a:pt x="260" y="311"/>
                          </a:lnTo>
                          <a:lnTo>
                            <a:pt x="310" y="324"/>
                          </a:lnTo>
                          <a:lnTo>
                            <a:pt x="348" y="328"/>
                          </a:lnTo>
                          <a:lnTo>
                            <a:pt x="392" y="332"/>
                          </a:lnTo>
                          <a:lnTo>
                            <a:pt x="421" y="330"/>
                          </a:lnTo>
                          <a:lnTo>
                            <a:pt x="426" y="340"/>
                          </a:lnTo>
                          <a:lnTo>
                            <a:pt x="431" y="359"/>
                          </a:lnTo>
                          <a:lnTo>
                            <a:pt x="431" y="372"/>
                          </a:lnTo>
                          <a:lnTo>
                            <a:pt x="401" y="384"/>
                          </a:lnTo>
                          <a:lnTo>
                            <a:pt x="396" y="373"/>
                          </a:lnTo>
                          <a:lnTo>
                            <a:pt x="388" y="384"/>
                          </a:lnTo>
                          <a:lnTo>
                            <a:pt x="344" y="389"/>
                          </a:lnTo>
                          <a:lnTo>
                            <a:pt x="259" y="396"/>
                          </a:lnTo>
                          <a:lnTo>
                            <a:pt x="151" y="376"/>
                          </a:lnTo>
                          <a:lnTo>
                            <a:pt x="128" y="370"/>
                          </a:lnTo>
                          <a:lnTo>
                            <a:pt x="94" y="317"/>
                          </a:lnTo>
                          <a:lnTo>
                            <a:pt x="48" y="224"/>
                          </a:lnTo>
                          <a:lnTo>
                            <a:pt x="15" y="123"/>
                          </a:lnTo>
                          <a:lnTo>
                            <a:pt x="0" y="83"/>
                          </a:lnTo>
                          <a:lnTo>
                            <a:pt x="5" y="42"/>
                          </a:lnTo>
                          <a:lnTo>
                            <a:pt x="21" y="12"/>
                          </a:lnTo>
                          <a:lnTo>
                            <a:pt x="41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1173240" y="3063960"/>
                      <a:ext cx="253800" cy="48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306">
                          <a:moveTo>
                            <a:pt x="22" y="0"/>
                          </a:moveTo>
                          <a:lnTo>
                            <a:pt x="0" y="17"/>
                          </a:lnTo>
                          <a:lnTo>
                            <a:pt x="11" y="23"/>
                          </a:lnTo>
                          <a:lnTo>
                            <a:pt x="26" y="43"/>
                          </a:lnTo>
                          <a:lnTo>
                            <a:pt x="48" y="59"/>
                          </a:lnTo>
                          <a:lnTo>
                            <a:pt x="61" y="112"/>
                          </a:lnTo>
                          <a:lnTo>
                            <a:pt x="74" y="143"/>
                          </a:lnTo>
                          <a:lnTo>
                            <a:pt x="91" y="169"/>
                          </a:lnTo>
                          <a:lnTo>
                            <a:pt x="107" y="191"/>
                          </a:lnTo>
                          <a:lnTo>
                            <a:pt x="85" y="173"/>
                          </a:lnTo>
                          <a:lnTo>
                            <a:pt x="70" y="147"/>
                          </a:lnTo>
                          <a:lnTo>
                            <a:pt x="85" y="188"/>
                          </a:lnTo>
                          <a:lnTo>
                            <a:pt x="98" y="224"/>
                          </a:lnTo>
                          <a:lnTo>
                            <a:pt x="109" y="259"/>
                          </a:lnTo>
                          <a:lnTo>
                            <a:pt x="117" y="279"/>
                          </a:lnTo>
                          <a:lnTo>
                            <a:pt x="126" y="289"/>
                          </a:lnTo>
                          <a:lnTo>
                            <a:pt x="135" y="299"/>
                          </a:lnTo>
                          <a:lnTo>
                            <a:pt x="151" y="305"/>
                          </a:lnTo>
                          <a:lnTo>
                            <a:pt x="152" y="286"/>
                          </a:lnTo>
                          <a:lnTo>
                            <a:pt x="154" y="265"/>
                          </a:lnTo>
                          <a:lnTo>
                            <a:pt x="159" y="243"/>
                          </a:lnTo>
                          <a:lnTo>
                            <a:pt x="159" y="221"/>
                          </a:lnTo>
                          <a:lnTo>
                            <a:pt x="151" y="195"/>
                          </a:lnTo>
                          <a:lnTo>
                            <a:pt x="141" y="175"/>
                          </a:lnTo>
                          <a:lnTo>
                            <a:pt x="129" y="162"/>
                          </a:lnTo>
                          <a:lnTo>
                            <a:pt x="111" y="147"/>
                          </a:lnTo>
                          <a:lnTo>
                            <a:pt x="91" y="121"/>
                          </a:lnTo>
                          <a:lnTo>
                            <a:pt x="73" y="90"/>
                          </a:lnTo>
                          <a:lnTo>
                            <a:pt x="89" y="106"/>
                          </a:lnTo>
                          <a:lnTo>
                            <a:pt x="104" y="130"/>
                          </a:lnTo>
                          <a:lnTo>
                            <a:pt x="123" y="152"/>
                          </a:lnTo>
                          <a:lnTo>
                            <a:pt x="105" y="120"/>
                          </a:lnTo>
                          <a:lnTo>
                            <a:pt x="86" y="78"/>
                          </a:lnTo>
                          <a:lnTo>
                            <a:pt x="63" y="32"/>
                          </a:lnTo>
                          <a:lnTo>
                            <a:pt x="51" y="18"/>
                          </a:lnTo>
                          <a:lnTo>
                            <a:pt x="22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973080" y="3033720"/>
                      <a:ext cx="1035000" cy="125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2" h="793">
                          <a:moveTo>
                            <a:pt x="139" y="17"/>
                          </a:moveTo>
                          <a:lnTo>
                            <a:pt x="121" y="35"/>
                          </a:lnTo>
                          <a:lnTo>
                            <a:pt x="101" y="43"/>
                          </a:lnTo>
                          <a:lnTo>
                            <a:pt x="78" y="70"/>
                          </a:lnTo>
                          <a:lnTo>
                            <a:pt x="74" y="88"/>
                          </a:lnTo>
                          <a:lnTo>
                            <a:pt x="73" y="113"/>
                          </a:lnTo>
                          <a:lnTo>
                            <a:pt x="72" y="136"/>
                          </a:lnTo>
                          <a:lnTo>
                            <a:pt x="67" y="170"/>
                          </a:lnTo>
                          <a:lnTo>
                            <a:pt x="60" y="208"/>
                          </a:lnTo>
                          <a:lnTo>
                            <a:pt x="56" y="248"/>
                          </a:lnTo>
                          <a:lnTo>
                            <a:pt x="67" y="206"/>
                          </a:lnTo>
                          <a:lnTo>
                            <a:pt x="71" y="176"/>
                          </a:lnTo>
                          <a:lnTo>
                            <a:pt x="76" y="156"/>
                          </a:lnTo>
                          <a:lnTo>
                            <a:pt x="85" y="191"/>
                          </a:lnTo>
                          <a:lnTo>
                            <a:pt x="97" y="227"/>
                          </a:lnTo>
                          <a:lnTo>
                            <a:pt x="103" y="249"/>
                          </a:lnTo>
                          <a:lnTo>
                            <a:pt x="100" y="286"/>
                          </a:lnTo>
                          <a:lnTo>
                            <a:pt x="99" y="329"/>
                          </a:lnTo>
                          <a:lnTo>
                            <a:pt x="102" y="368"/>
                          </a:lnTo>
                          <a:lnTo>
                            <a:pt x="104" y="325"/>
                          </a:lnTo>
                          <a:lnTo>
                            <a:pt x="106" y="293"/>
                          </a:lnTo>
                          <a:lnTo>
                            <a:pt x="112" y="266"/>
                          </a:lnTo>
                          <a:lnTo>
                            <a:pt x="138" y="331"/>
                          </a:lnTo>
                          <a:lnTo>
                            <a:pt x="160" y="368"/>
                          </a:lnTo>
                          <a:lnTo>
                            <a:pt x="171" y="384"/>
                          </a:lnTo>
                          <a:lnTo>
                            <a:pt x="187" y="411"/>
                          </a:lnTo>
                          <a:lnTo>
                            <a:pt x="241" y="426"/>
                          </a:lnTo>
                          <a:lnTo>
                            <a:pt x="267" y="429"/>
                          </a:lnTo>
                          <a:lnTo>
                            <a:pt x="259" y="443"/>
                          </a:lnTo>
                          <a:lnTo>
                            <a:pt x="242" y="455"/>
                          </a:lnTo>
                          <a:lnTo>
                            <a:pt x="187" y="487"/>
                          </a:lnTo>
                          <a:lnTo>
                            <a:pt x="233" y="470"/>
                          </a:lnTo>
                          <a:lnTo>
                            <a:pt x="262" y="450"/>
                          </a:lnTo>
                          <a:lnTo>
                            <a:pt x="286" y="433"/>
                          </a:lnTo>
                          <a:lnTo>
                            <a:pt x="285" y="472"/>
                          </a:lnTo>
                          <a:lnTo>
                            <a:pt x="275" y="494"/>
                          </a:lnTo>
                          <a:lnTo>
                            <a:pt x="246" y="508"/>
                          </a:lnTo>
                          <a:lnTo>
                            <a:pt x="277" y="507"/>
                          </a:lnTo>
                          <a:lnTo>
                            <a:pt x="278" y="522"/>
                          </a:lnTo>
                          <a:lnTo>
                            <a:pt x="275" y="535"/>
                          </a:lnTo>
                          <a:lnTo>
                            <a:pt x="262" y="545"/>
                          </a:lnTo>
                          <a:lnTo>
                            <a:pt x="215" y="569"/>
                          </a:lnTo>
                          <a:lnTo>
                            <a:pt x="277" y="547"/>
                          </a:lnTo>
                          <a:lnTo>
                            <a:pt x="291" y="545"/>
                          </a:lnTo>
                          <a:lnTo>
                            <a:pt x="303" y="547"/>
                          </a:lnTo>
                          <a:lnTo>
                            <a:pt x="302" y="559"/>
                          </a:lnTo>
                          <a:lnTo>
                            <a:pt x="287" y="571"/>
                          </a:lnTo>
                          <a:lnTo>
                            <a:pt x="252" y="590"/>
                          </a:lnTo>
                          <a:lnTo>
                            <a:pt x="303" y="571"/>
                          </a:lnTo>
                          <a:lnTo>
                            <a:pt x="318" y="554"/>
                          </a:lnTo>
                          <a:lnTo>
                            <a:pt x="332" y="558"/>
                          </a:lnTo>
                          <a:lnTo>
                            <a:pt x="345" y="563"/>
                          </a:lnTo>
                          <a:lnTo>
                            <a:pt x="340" y="576"/>
                          </a:lnTo>
                          <a:lnTo>
                            <a:pt x="329" y="586"/>
                          </a:lnTo>
                          <a:lnTo>
                            <a:pt x="302" y="602"/>
                          </a:lnTo>
                          <a:lnTo>
                            <a:pt x="340" y="589"/>
                          </a:lnTo>
                          <a:lnTo>
                            <a:pt x="361" y="572"/>
                          </a:lnTo>
                          <a:lnTo>
                            <a:pt x="386" y="580"/>
                          </a:lnTo>
                          <a:lnTo>
                            <a:pt x="467" y="608"/>
                          </a:lnTo>
                          <a:lnTo>
                            <a:pt x="536" y="634"/>
                          </a:lnTo>
                          <a:lnTo>
                            <a:pt x="588" y="654"/>
                          </a:lnTo>
                          <a:lnTo>
                            <a:pt x="606" y="683"/>
                          </a:lnTo>
                          <a:lnTo>
                            <a:pt x="627" y="722"/>
                          </a:lnTo>
                          <a:lnTo>
                            <a:pt x="651" y="792"/>
                          </a:lnTo>
                          <a:lnTo>
                            <a:pt x="414" y="792"/>
                          </a:lnTo>
                          <a:lnTo>
                            <a:pt x="396" y="787"/>
                          </a:lnTo>
                          <a:lnTo>
                            <a:pt x="456" y="775"/>
                          </a:lnTo>
                          <a:lnTo>
                            <a:pt x="551" y="739"/>
                          </a:lnTo>
                          <a:lnTo>
                            <a:pt x="440" y="773"/>
                          </a:lnTo>
                          <a:lnTo>
                            <a:pt x="388" y="783"/>
                          </a:lnTo>
                          <a:lnTo>
                            <a:pt x="352" y="775"/>
                          </a:lnTo>
                          <a:lnTo>
                            <a:pt x="408" y="765"/>
                          </a:lnTo>
                          <a:lnTo>
                            <a:pt x="526" y="727"/>
                          </a:lnTo>
                          <a:lnTo>
                            <a:pt x="398" y="761"/>
                          </a:lnTo>
                          <a:lnTo>
                            <a:pt x="343" y="773"/>
                          </a:lnTo>
                          <a:lnTo>
                            <a:pt x="334" y="768"/>
                          </a:lnTo>
                          <a:lnTo>
                            <a:pt x="384" y="750"/>
                          </a:lnTo>
                          <a:lnTo>
                            <a:pt x="471" y="710"/>
                          </a:lnTo>
                          <a:lnTo>
                            <a:pt x="370" y="751"/>
                          </a:lnTo>
                          <a:lnTo>
                            <a:pt x="318" y="766"/>
                          </a:lnTo>
                          <a:lnTo>
                            <a:pt x="94" y="764"/>
                          </a:lnTo>
                          <a:lnTo>
                            <a:pt x="66" y="757"/>
                          </a:lnTo>
                          <a:lnTo>
                            <a:pt x="41" y="748"/>
                          </a:lnTo>
                          <a:lnTo>
                            <a:pt x="15" y="724"/>
                          </a:lnTo>
                          <a:lnTo>
                            <a:pt x="9" y="697"/>
                          </a:lnTo>
                          <a:lnTo>
                            <a:pt x="7" y="674"/>
                          </a:lnTo>
                          <a:lnTo>
                            <a:pt x="13" y="638"/>
                          </a:lnTo>
                          <a:lnTo>
                            <a:pt x="30" y="593"/>
                          </a:lnTo>
                          <a:lnTo>
                            <a:pt x="42" y="556"/>
                          </a:lnTo>
                          <a:lnTo>
                            <a:pt x="47" y="525"/>
                          </a:lnTo>
                          <a:lnTo>
                            <a:pt x="67" y="521"/>
                          </a:lnTo>
                          <a:lnTo>
                            <a:pt x="84" y="544"/>
                          </a:lnTo>
                          <a:lnTo>
                            <a:pt x="132" y="579"/>
                          </a:lnTo>
                          <a:lnTo>
                            <a:pt x="89" y="541"/>
                          </a:lnTo>
                          <a:lnTo>
                            <a:pt x="76" y="518"/>
                          </a:lnTo>
                          <a:lnTo>
                            <a:pt x="81" y="494"/>
                          </a:lnTo>
                          <a:lnTo>
                            <a:pt x="139" y="478"/>
                          </a:lnTo>
                          <a:lnTo>
                            <a:pt x="180" y="454"/>
                          </a:lnTo>
                          <a:lnTo>
                            <a:pt x="131" y="474"/>
                          </a:lnTo>
                          <a:lnTo>
                            <a:pt x="82" y="486"/>
                          </a:lnTo>
                          <a:lnTo>
                            <a:pt x="85" y="452"/>
                          </a:lnTo>
                          <a:lnTo>
                            <a:pt x="106" y="429"/>
                          </a:lnTo>
                          <a:lnTo>
                            <a:pt x="122" y="392"/>
                          </a:lnTo>
                          <a:lnTo>
                            <a:pt x="102" y="426"/>
                          </a:lnTo>
                          <a:lnTo>
                            <a:pt x="78" y="447"/>
                          </a:lnTo>
                          <a:lnTo>
                            <a:pt x="54" y="445"/>
                          </a:lnTo>
                          <a:lnTo>
                            <a:pt x="41" y="383"/>
                          </a:lnTo>
                          <a:lnTo>
                            <a:pt x="23" y="321"/>
                          </a:lnTo>
                          <a:lnTo>
                            <a:pt x="14" y="279"/>
                          </a:lnTo>
                          <a:lnTo>
                            <a:pt x="15" y="242"/>
                          </a:lnTo>
                          <a:lnTo>
                            <a:pt x="21" y="196"/>
                          </a:lnTo>
                          <a:lnTo>
                            <a:pt x="14" y="221"/>
                          </a:lnTo>
                          <a:lnTo>
                            <a:pt x="9" y="248"/>
                          </a:lnTo>
                          <a:lnTo>
                            <a:pt x="8" y="270"/>
                          </a:lnTo>
                          <a:lnTo>
                            <a:pt x="3" y="232"/>
                          </a:lnTo>
                          <a:lnTo>
                            <a:pt x="1" y="201"/>
                          </a:lnTo>
                          <a:lnTo>
                            <a:pt x="1" y="180"/>
                          </a:lnTo>
                          <a:lnTo>
                            <a:pt x="9" y="149"/>
                          </a:lnTo>
                          <a:lnTo>
                            <a:pt x="23" y="121"/>
                          </a:lnTo>
                          <a:lnTo>
                            <a:pt x="42" y="94"/>
                          </a:lnTo>
                          <a:lnTo>
                            <a:pt x="22" y="116"/>
                          </a:lnTo>
                          <a:lnTo>
                            <a:pt x="12" y="136"/>
                          </a:lnTo>
                          <a:lnTo>
                            <a:pt x="0" y="170"/>
                          </a:lnTo>
                          <a:lnTo>
                            <a:pt x="3" y="146"/>
                          </a:lnTo>
                          <a:lnTo>
                            <a:pt x="9" y="113"/>
                          </a:lnTo>
                          <a:lnTo>
                            <a:pt x="26" y="76"/>
                          </a:lnTo>
                          <a:lnTo>
                            <a:pt x="41" y="40"/>
                          </a:lnTo>
                          <a:lnTo>
                            <a:pt x="59" y="21"/>
                          </a:lnTo>
                          <a:lnTo>
                            <a:pt x="85" y="0"/>
                          </a:lnTo>
                          <a:lnTo>
                            <a:pt x="113" y="3"/>
                          </a:lnTo>
                          <a:lnTo>
                            <a:pt x="139" y="17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1042920" y="3754440"/>
                      <a:ext cx="3960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62">
                          <a:moveTo>
                            <a:pt x="5" y="0"/>
                          </a:moveTo>
                          <a:lnTo>
                            <a:pt x="23" y="3"/>
                          </a:lnTo>
                          <a:lnTo>
                            <a:pt x="24" y="27"/>
                          </a:lnTo>
                          <a:lnTo>
                            <a:pt x="22" y="53"/>
                          </a:lnTo>
                          <a:lnTo>
                            <a:pt x="5" y="61"/>
                          </a:lnTo>
                          <a:lnTo>
                            <a:pt x="0" y="51"/>
                          </a:lnTo>
                          <a:lnTo>
                            <a:pt x="0" y="15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1116000" y="4108320"/>
                      <a:ext cx="48096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3" h="32">
                          <a:moveTo>
                            <a:pt x="302" y="0"/>
                          </a:moveTo>
                          <a:lnTo>
                            <a:pt x="220" y="15"/>
                          </a:lnTo>
                          <a:lnTo>
                            <a:pt x="158" y="22"/>
                          </a:lnTo>
                          <a:lnTo>
                            <a:pt x="94" y="26"/>
                          </a:lnTo>
                          <a:lnTo>
                            <a:pt x="47" y="28"/>
                          </a:lnTo>
                          <a:lnTo>
                            <a:pt x="0" y="26"/>
                          </a:lnTo>
                          <a:lnTo>
                            <a:pt x="44" y="31"/>
                          </a:lnTo>
                          <a:lnTo>
                            <a:pt x="118" y="31"/>
                          </a:lnTo>
                          <a:lnTo>
                            <a:pt x="196" y="23"/>
                          </a:lnTo>
                          <a:lnTo>
                            <a:pt x="237" y="17"/>
                          </a:lnTo>
                          <a:lnTo>
                            <a:pt x="302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8" name=""/>
                  <p:cNvSpPr/>
                  <p:nvPr/>
                </p:nvSpPr>
                <p:spPr>
                  <a:xfrm>
                    <a:off x="1015920" y="2548080"/>
                    <a:ext cx="43200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381">
                        <a:moveTo>
                          <a:pt x="149" y="149"/>
                        </a:moveTo>
                        <a:lnTo>
                          <a:pt x="140" y="130"/>
                        </a:lnTo>
                        <a:lnTo>
                          <a:pt x="128" y="129"/>
                        </a:lnTo>
                        <a:lnTo>
                          <a:pt x="119" y="132"/>
                        </a:lnTo>
                        <a:lnTo>
                          <a:pt x="114" y="143"/>
                        </a:lnTo>
                        <a:lnTo>
                          <a:pt x="112" y="153"/>
                        </a:lnTo>
                        <a:lnTo>
                          <a:pt x="115" y="177"/>
                        </a:lnTo>
                        <a:lnTo>
                          <a:pt x="120" y="188"/>
                        </a:lnTo>
                        <a:lnTo>
                          <a:pt x="123" y="203"/>
                        </a:lnTo>
                        <a:lnTo>
                          <a:pt x="127" y="220"/>
                        </a:lnTo>
                        <a:lnTo>
                          <a:pt x="136" y="242"/>
                        </a:lnTo>
                        <a:lnTo>
                          <a:pt x="151" y="268"/>
                        </a:lnTo>
                        <a:lnTo>
                          <a:pt x="163" y="295"/>
                        </a:lnTo>
                        <a:lnTo>
                          <a:pt x="177" y="330"/>
                        </a:lnTo>
                        <a:lnTo>
                          <a:pt x="185" y="356"/>
                        </a:lnTo>
                        <a:lnTo>
                          <a:pt x="186" y="380"/>
                        </a:lnTo>
                        <a:lnTo>
                          <a:pt x="152" y="345"/>
                        </a:lnTo>
                        <a:lnTo>
                          <a:pt x="119" y="323"/>
                        </a:lnTo>
                        <a:lnTo>
                          <a:pt x="101" y="312"/>
                        </a:lnTo>
                        <a:lnTo>
                          <a:pt x="78" y="305"/>
                        </a:lnTo>
                        <a:lnTo>
                          <a:pt x="52" y="306"/>
                        </a:lnTo>
                        <a:lnTo>
                          <a:pt x="26" y="321"/>
                        </a:lnTo>
                        <a:lnTo>
                          <a:pt x="3" y="350"/>
                        </a:lnTo>
                        <a:lnTo>
                          <a:pt x="0" y="325"/>
                        </a:lnTo>
                        <a:lnTo>
                          <a:pt x="14" y="298"/>
                        </a:lnTo>
                        <a:lnTo>
                          <a:pt x="31" y="264"/>
                        </a:lnTo>
                        <a:lnTo>
                          <a:pt x="39" y="241"/>
                        </a:lnTo>
                        <a:lnTo>
                          <a:pt x="40" y="216"/>
                        </a:lnTo>
                        <a:lnTo>
                          <a:pt x="36" y="198"/>
                        </a:lnTo>
                        <a:lnTo>
                          <a:pt x="25" y="184"/>
                        </a:lnTo>
                        <a:lnTo>
                          <a:pt x="17" y="161"/>
                        </a:lnTo>
                        <a:lnTo>
                          <a:pt x="16" y="144"/>
                        </a:lnTo>
                        <a:lnTo>
                          <a:pt x="10" y="124"/>
                        </a:lnTo>
                        <a:lnTo>
                          <a:pt x="9" y="100"/>
                        </a:lnTo>
                        <a:lnTo>
                          <a:pt x="14" y="81"/>
                        </a:lnTo>
                        <a:lnTo>
                          <a:pt x="21" y="66"/>
                        </a:lnTo>
                        <a:lnTo>
                          <a:pt x="29" y="44"/>
                        </a:lnTo>
                        <a:lnTo>
                          <a:pt x="46" y="25"/>
                        </a:lnTo>
                        <a:lnTo>
                          <a:pt x="62" y="15"/>
                        </a:lnTo>
                        <a:lnTo>
                          <a:pt x="87" y="7"/>
                        </a:lnTo>
                        <a:lnTo>
                          <a:pt x="115" y="1"/>
                        </a:lnTo>
                        <a:lnTo>
                          <a:pt x="160" y="0"/>
                        </a:lnTo>
                        <a:lnTo>
                          <a:pt x="184" y="3"/>
                        </a:lnTo>
                        <a:lnTo>
                          <a:pt x="208" y="11"/>
                        </a:lnTo>
                        <a:lnTo>
                          <a:pt x="230" y="19"/>
                        </a:lnTo>
                        <a:lnTo>
                          <a:pt x="245" y="31"/>
                        </a:lnTo>
                        <a:lnTo>
                          <a:pt x="262" y="47"/>
                        </a:lnTo>
                        <a:lnTo>
                          <a:pt x="270" y="71"/>
                        </a:lnTo>
                        <a:lnTo>
                          <a:pt x="271" y="92"/>
                        </a:lnTo>
                        <a:lnTo>
                          <a:pt x="264" y="110"/>
                        </a:lnTo>
                        <a:lnTo>
                          <a:pt x="247" y="92"/>
                        </a:lnTo>
                        <a:lnTo>
                          <a:pt x="224" y="83"/>
                        </a:lnTo>
                        <a:lnTo>
                          <a:pt x="193" y="78"/>
                        </a:lnTo>
                        <a:lnTo>
                          <a:pt x="201" y="110"/>
                        </a:lnTo>
                        <a:lnTo>
                          <a:pt x="167" y="99"/>
                        </a:lnTo>
                        <a:lnTo>
                          <a:pt x="177" y="123"/>
                        </a:lnTo>
                        <a:lnTo>
                          <a:pt x="153" y="121"/>
                        </a:lnTo>
                        <a:lnTo>
                          <a:pt x="149" y="149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844560" y="3505320"/>
                  <a:ext cx="341280" cy="644400"/>
                  <a:chOff x="844560" y="3505320"/>
                  <a:chExt cx="341280" cy="64440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844560" y="3505320"/>
                    <a:ext cx="341280" cy="64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406">
                        <a:moveTo>
                          <a:pt x="119" y="59"/>
                        </a:moveTo>
                        <a:lnTo>
                          <a:pt x="80" y="55"/>
                        </a:lnTo>
                        <a:lnTo>
                          <a:pt x="56" y="46"/>
                        </a:lnTo>
                        <a:lnTo>
                          <a:pt x="48" y="31"/>
                        </a:lnTo>
                        <a:lnTo>
                          <a:pt x="48" y="17"/>
                        </a:lnTo>
                        <a:lnTo>
                          <a:pt x="42" y="6"/>
                        </a:lnTo>
                        <a:lnTo>
                          <a:pt x="20" y="0"/>
                        </a:lnTo>
                        <a:lnTo>
                          <a:pt x="0" y="2"/>
                        </a:lnTo>
                        <a:lnTo>
                          <a:pt x="25" y="315"/>
                        </a:lnTo>
                        <a:lnTo>
                          <a:pt x="42" y="344"/>
                        </a:lnTo>
                        <a:lnTo>
                          <a:pt x="64" y="373"/>
                        </a:lnTo>
                        <a:lnTo>
                          <a:pt x="95" y="394"/>
                        </a:lnTo>
                        <a:lnTo>
                          <a:pt x="131" y="401"/>
                        </a:lnTo>
                        <a:lnTo>
                          <a:pt x="179" y="405"/>
                        </a:lnTo>
                        <a:lnTo>
                          <a:pt x="208" y="399"/>
                        </a:lnTo>
                        <a:lnTo>
                          <a:pt x="214" y="377"/>
                        </a:lnTo>
                        <a:lnTo>
                          <a:pt x="211" y="349"/>
                        </a:lnTo>
                        <a:lnTo>
                          <a:pt x="190" y="261"/>
                        </a:lnTo>
                        <a:lnTo>
                          <a:pt x="173" y="173"/>
                        </a:lnTo>
                        <a:lnTo>
                          <a:pt x="166" y="107"/>
                        </a:lnTo>
                        <a:lnTo>
                          <a:pt x="166" y="90"/>
                        </a:lnTo>
                        <a:lnTo>
                          <a:pt x="154" y="65"/>
                        </a:lnTo>
                        <a:lnTo>
                          <a:pt x="142" y="59"/>
                        </a:lnTo>
                        <a:lnTo>
                          <a:pt x="119" y="59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852480" y="3537000"/>
                    <a:ext cx="279360" cy="57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" h="364">
                        <a:moveTo>
                          <a:pt x="114" y="72"/>
                        </a:moveTo>
                        <a:lnTo>
                          <a:pt x="81" y="70"/>
                        </a:lnTo>
                        <a:lnTo>
                          <a:pt x="47" y="62"/>
                        </a:lnTo>
                        <a:lnTo>
                          <a:pt x="27" y="47"/>
                        </a:lnTo>
                        <a:lnTo>
                          <a:pt x="14" y="34"/>
                        </a:lnTo>
                        <a:lnTo>
                          <a:pt x="0" y="0"/>
                        </a:lnTo>
                        <a:lnTo>
                          <a:pt x="22" y="280"/>
                        </a:lnTo>
                        <a:lnTo>
                          <a:pt x="37" y="305"/>
                        </a:lnTo>
                        <a:lnTo>
                          <a:pt x="54" y="329"/>
                        </a:lnTo>
                        <a:lnTo>
                          <a:pt x="74" y="346"/>
                        </a:lnTo>
                        <a:lnTo>
                          <a:pt x="92" y="355"/>
                        </a:lnTo>
                        <a:lnTo>
                          <a:pt x="114" y="359"/>
                        </a:lnTo>
                        <a:lnTo>
                          <a:pt x="135" y="363"/>
                        </a:lnTo>
                        <a:lnTo>
                          <a:pt x="159" y="363"/>
                        </a:lnTo>
                        <a:lnTo>
                          <a:pt x="169" y="359"/>
                        </a:lnTo>
                        <a:lnTo>
                          <a:pt x="175" y="346"/>
                        </a:lnTo>
                        <a:lnTo>
                          <a:pt x="172" y="325"/>
                        </a:lnTo>
                        <a:lnTo>
                          <a:pt x="157" y="276"/>
                        </a:lnTo>
                        <a:lnTo>
                          <a:pt x="132" y="109"/>
                        </a:lnTo>
                        <a:lnTo>
                          <a:pt x="127" y="85"/>
                        </a:lnTo>
                        <a:lnTo>
                          <a:pt x="114" y="72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Advertising on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588816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Relations and Public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 relations: shape the public’s perceptions of and attitudes towards the fi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es with stakeholders in manners other than adverti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ity: non-paid for media exposure for the firm: both positive and 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325296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Sel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people in a purchasing situation trying to influence each ot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art has its own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yer wants to minimise costs or buy the best qu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ler wants to maximise price, sales and pro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 a well-prepared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rn approach is relationship sel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434880" y="1073160"/>
            <a:ext cx="8454960" cy="5234040"/>
            <a:chOff x="434880" y="1073160"/>
            <a:chExt cx="8454960" cy="5234040"/>
          </a:xfrm>
        </p:grpSpPr>
        <p:sp>
          <p:nvSpPr>
            <p:cNvPr id="348" name=""/>
            <p:cNvSpPr/>
            <p:nvPr/>
          </p:nvSpPr>
          <p:spPr>
            <a:xfrm>
              <a:off x="6896160" y="4848120"/>
              <a:ext cx="658800" cy="211320"/>
            </a:xfrm>
            <a:custGeom>
              <a:avLst/>
              <a:gdLst/>
              <a:ahLst/>
              <a:rect l="l" t="t" r="r" b="b"/>
              <a:pathLst>
                <a:path w="415" h="133">
                  <a:moveTo>
                    <a:pt x="414" y="132"/>
                  </a:moveTo>
                  <a:lnTo>
                    <a:pt x="414" y="0"/>
                  </a:lnTo>
                  <a:lnTo>
                    <a:pt x="0" y="0"/>
                  </a:ln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34880" y="1073160"/>
              <a:ext cx="8454960" cy="5234040"/>
              <a:chOff x="434880" y="1073160"/>
              <a:chExt cx="8454960" cy="523404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2521080" y="1400040"/>
                <a:ext cx="5035320" cy="4907160"/>
                <a:chOff x="2521080" y="1400040"/>
                <a:chExt cx="5035320" cy="4907160"/>
              </a:xfrm>
            </p:grpSpPr>
            <p:grpSp>
              <p:nvGrpSpPr>
                <p:cNvPr id="351" name=""/>
                <p:cNvGrpSpPr/>
                <p:nvPr/>
              </p:nvGrpSpPr>
              <p:grpSpPr>
                <a:xfrm>
                  <a:off x="4443480" y="1758960"/>
                  <a:ext cx="12600" cy="2908440"/>
                  <a:chOff x="4443480" y="1758960"/>
                  <a:chExt cx="12600" cy="290844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>
                    <a:off x="4443480" y="2558880"/>
                    <a:ext cx="0" cy="398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4443480" y="3397320"/>
                    <a:ext cx="0" cy="425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4456080" y="4241880"/>
                    <a:ext cx="0" cy="425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4443480" y="1758960"/>
                    <a:ext cx="0" cy="398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3197160" y="5052960"/>
                  <a:ext cx="2504880" cy="398520"/>
                  <a:chOff x="3197160" y="5052960"/>
                  <a:chExt cx="2504880" cy="39852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3197160" y="5052960"/>
                    <a:ext cx="0" cy="398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5702040" y="5052960"/>
                    <a:ext cx="0" cy="3985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9" name=""/>
                <p:cNvSpPr/>
                <p:nvPr/>
              </p:nvSpPr>
              <p:spPr>
                <a:xfrm>
                  <a:off x="3276720" y="6153120"/>
                  <a:ext cx="1144440" cy="154080"/>
                </a:xfrm>
                <a:custGeom>
                  <a:avLst/>
                  <a:gdLst/>
                  <a:ahLst/>
                  <a:rect l="l" t="t" r="r" b="b"/>
                  <a:pathLst>
                    <a:path w="721" h="97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720" y="96"/>
                      </a:lnTo>
                    </a:path>
                  </a:pathLst>
                </a:custGeom>
                <a:noFill/>
                <a:ln cap="rnd"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791320" y="6143760"/>
                  <a:ext cx="477720" cy="153720"/>
                </a:xfrm>
                <a:custGeom>
                  <a:avLst/>
                  <a:gdLst/>
                  <a:ahLst/>
                  <a:rect l="l" t="t" r="r" b="b"/>
                  <a:pathLst>
                    <a:path w="301" h="97">
                      <a:moveTo>
                        <a:pt x="0" y="0"/>
                      </a:moveTo>
                      <a:lnTo>
                        <a:pt x="0" y="96"/>
                      </a:lnTo>
                      <a:lnTo>
                        <a:pt x="300" y="96"/>
                      </a:lnTo>
                    </a:path>
                  </a:pathLst>
                </a:custGeom>
                <a:noFill/>
                <a:ln cap="rnd"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473720" y="6305400"/>
                  <a:ext cx="1234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305400" y="5143680"/>
                  <a:ext cx="1249560" cy="1144440"/>
                </a:xfrm>
                <a:custGeom>
                  <a:avLst/>
                  <a:gdLst/>
                  <a:ahLst/>
                  <a:rect l="l" t="t" r="r" b="b"/>
                  <a:pathLst>
                    <a:path w="787" h="721">
                      <a:moveTo>
                        <a:pt x="0" y="720"/>
                      </a:moveTo>
                      <a:lnTo>
                        <a:pt x="786" y="720"/>
                      </a:lnTo>
                      <a:lnTo>
                        <a:pt x="786" y="0"/>
                      </a:lnTo>
                    </a:path>
                  </a:pathLst>
                </a:custGeom>
                <a:noFill/>
                <a:ln cap="rnd"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7296120" y="2219400"/>
                  <a:ext cx="258840" cy="2697120"/>
                  <a:chOff x="7296120" y="2219400"/>
                  <a:chExt cx="258840" cy="26971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7296120" y="4095720"/>
                    <a:ext cx="258840" cy="8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517">
                        <a:moveTo>
                          <a:pt x="402" y="516"/>
                        </a:moveTo>
                        <a:lnTo>
                          <a:pt x="40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8440">
                    <a:solidFill>
                      <a:srgbClr val="ff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7296120" y="3143160"/>
                    <a:ext cx="258840" cy="868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547">
                        <a:moveTo>
                          <a:pt x="402" y="546"/>
                        </a:moveTo>
                        <a:lnTo>
                          <a:pt x="40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8440">
                    <a:solidFill>
                      <a:srgbClr val="ff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7296120" y="2219400"/>
                    <a:ext cx="258840" cy="8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517">
                        <a:moveTo>
                          <a:pt x="402" y="516"/>
                        </a:moveTo>
                        <a:lnTo>
                          <a:pt x="402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8440">
                    <a:solidFill>
                      <a:srgbClr val="ff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7" name=""/>
                <p:cNvSpPr/>
                <p:nvPr/>
              </p:nvSpPr>
              <p:spPr>
                <a:xfrm flipH="1">
                  <a:off x="5086080" y="1409760"/>
                  <a:ext cx="9586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521080" y="1400040"/>
                  <a:ext cx="12873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7547040" y="1746000"/>
                  <a:ext cx="9360" cy="392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"/>
              <p:cNvSpPr/>
              <p:nvPr/>
            </p:nvSpPr>
            <p:spPr>
              <a:xfrm>
                <a:off x="6054840" y="1073160"/>
                <a:ext cx="2835000" cy="673200"/>
              </a:xfrm>
              <a:prstGeom prst="rect">
                <a:avLst/>
              </a:prstGeom>
              <a:gradFill rotWithShape="0">
                <a:gsLst>
                  <a:gs pos="0">
                    <a:srgbClr val="edc246"/>
                  </a:gs>
                  <a:gs pos="100000">
                    <a:srgbClr val="f3db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d6d"/>
                    </a:solidFill>
                    <a:latin typeface="Arial"/>
                  </a:rPr>
                  <a:t>Evaluate needs of established custom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34880" y="1073160"/>
                <a:ext cx="2082960" cy="673200"/>
              </a:xfrm>
              <a:prstGeom prst="rect">
                <a:avLst/>
              </a:prstGeom>
              <a:gradFill rotWithShape="0">
                <a:gsLst>
                  <a:gs pos="0">
                    <a:srgbClr val="edc246"/>
                  </a:gs>
                  <a:gs pos="100000">
                    <a:srgbClr val="f3db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d6d"/>
                    </a:solidFill>
                    <a:latin typeface="Arial"/>
                  </a:rPr>
                  <a:t>Prospect for new custom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817800" y="1073160"/>
                <a:ext cx="1263960" cy="673200"/>
              </a:xfrm>
              <a:prstGeom prst="rect">
                <a:avLst/>
              </a:prstGeom>
              <a:gradFill rotWithShape="0">
                <a:gsLst>
                  <a:gs pos="0">
                    <a:srgbClr val="edc246"/>
                  </a:gs>
                  <a:gs pos="100000">
                    <a:srgbClr val="f3db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d6d"/>
                    </a:solidFill>
                    <a:latin typeface="Arial"/>
                  </a:rPr>
                  <a:t>Set effort prioriti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1616040" y="2146320"/>
              <a:ext cx="5667480" cy="2916360"/>
              <a:chOff x="1616040" y="2146320"/>
              <a:chExt cx="5667480" cy="2916360"/>
            </a:xfrm>
          </p:grpSpPr>
          <p:sp>
            <p:nvSpPr>
              <p:cNvPr id="374" name=""/>
              <p:cNvSpPr/>
              <p:nvPr/>
            </p:nvSpPr>
            <p:spPr>
              <a:xfrm>
                <a:off x="1616040" y="2146320"/>
                <a:ext cx="5667480" cy="428760"/>
              </a:xfrm>
              <a:prstGeom prst="rect">
                <a:avLst/>
              </a:prstGeom>
              <a:gradFill rotWithShape="0">
                <a:gsLst>
                  <a:gs pos="0">
                    <a:srgbClr val="e3beff"/>
                  </a:gs>
                  <a:gs pos="100000">
                    <a:srgbClr val="6857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elect target custom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16040" y="2975040"/>
                <a:ext cx="5667480" cy="428400"/>
              </a:xfrm>
              <a:prstGeom prst="rect">
                <a:avLst/>
              </a:prstGeom>
              <a:gradFill rotWithShape="0">
                <a:gsLst>
                  <a:gs pos="0">
                    <a:srgbClr val="e3beff"/>
                  </a:gs>
                  <a:gs pos="100000">
                    <a:srgbClr val="6857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eplan sales call and presentation(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616040" y="3805200"/>
                <a:ext cx="5667480" cy="428760"/>
              </a:xfrm>
              <a:prstGeom prst="rect">
                <a:avLst/>
              </a:prstGeom>
              <a:gradFill rotWithShape="0">
                <a:gsLst>
                  <a:gs pos="0">
                    <a:srgbClr val="e3beff"/>
                  </a:gs>
                  <a:gs pos="100000">
                    <a:srgbClr val="6857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ake sales present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616040" y="4633920"/>
                <a:ext cx="5667480" cy="428760"/>
              </a:xfrm>
              <a:prstGeom prst="rect">
                <a:avLst/>
              </a:prstGeom>
              <a:gradFill rotWithShape="0">
                <a:gsLst>
                  <a:gs pos="0">
                    <a:srgbClr val="e3beff"/>
                  </a:gs>
                  <a:gs pos="100000">
                    <a:srgbClr val="6857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lose sa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2127240" y="5464080"/>
              <a:ext cx="4645080" cy="673200"/>
              <a:chOff x="2127240" y="5464080"/>
              <a:chExt cx="4645080" cy="673200"/>
            </a:xfrm>
          </p:grpSpPr>
          <p:sp>
            <p:nvSpPr>
              <p:cNvPr id="379" name=""/>
              <p:cNvSpPr/>
              <p:nvPr/>
            </p:nvSpPr>
            <p:spPr>
              <a:xfrm>
                <a:off x="2127240" y="5464080"/>
                <a:ext cx="2082600" cy="673200"/>
              </a:xfrm>
              <a:prstGeom prst="rect">
                <a:avLst/>
              </a:prstGeom>
              <a:gradFill rotWithShape="0">
                <a:gsLst>
                  <a:gs pos="0">
                    <a:srgbClr val="00b7a5"/>
                  </a:gs>
                  <a:gs pos="100000">
                    <a:srgbClr val="0066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e3ba"/>
                    </a:solidFill>
                    <a:latin typeface="Arial"/>
                  </a:rPr>
                  <a:t>Follow up to establis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689360" y="5464080"/>
                <a:ext cx="2082960" cy="673200"/>
              </a:xfrm>
              <a:prstGeom prst="rect">
                <a:avLst/>
              </a:prstGeom>
              <a:gradFill rotWithShape="0">
                <a:gsLst>
                  <a:gs pos="0">
                    <a:srgbClr val="00b7a5"/>
                  </a:gs>
                  <a:gs pos="100000">
                    <a:srgbClr val="00665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de3ba"/>
                    </a:solidFill>
                    <a:latin typeface="Arial"/>
                  </a:rPr>
                  <a:t>Follow up to mainta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 rot="16200000">
              <a:off x="7111080" y="3471120"/>
              <a:ext cx="15850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ee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s in the Personal Selling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329904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Promo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marketing activities other than advertising, personal selling and public relations, that stimulates sales and dealer effective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-term, immediate stimulation of dem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be aimed at consumers, intermediaries or employe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: free samples, coupons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178080" y="1720800"/>
            <a:ext cx="2873520" cy="596880"/>
          </a:xfrm>
          <a:prstGeom prst="rect">
            <a:avLst/>
          </a:prstGeom>
          <a:gradFill rotWithShape="0">
            <a:gsLst>
              <a:gs pos="0">
                <a:srgbClr val="1e3c98"/>
              </a:gs>
              <a:gs pos="50000">
                <a:srgbClr val="3366ff"/>
              </a:gs>
              <a:gs pos="100000">
                <a:srgbClr val="1e3c98"/>
              </a:gs>
            </a:gsLst>
            <a:lin ang="10800000"/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de3ba"/>
                </a:solidFill>
                <a:latin typeface="Times New Roman"/>
              </a:rPr>
              <a:t>Aimed at middl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78080" y="2330280"/>
            <a:ext cx="2873520" cy="3225960"/>
          </a:xfrm>
          <a:prstGeom prst="rect">
            <a:avLst/>
          </a:prstGeom>
          <a:gradFill rotWithShape="0">
            <a:gsLst>
              <a:gs pos="0">
                <a:srgbClr val="f5dfa1"/>
              </a:gs>
              <a:gs pos="100000">
                <a:srgbClr val="edc2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ice de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motion allow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ales con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alend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Gif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rade Sh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ata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rchandising 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1680" y="1720800"/>
            <a:ext cx="2873160" cy="596880"/>
          </a:xfrm>
          <a:prstGeom prst="rect">
            <a:avLst/>
          </a:prstGeom>
          <a:gradFill rotWithShape="0">
            <a:gsLst>
              <a:gs pos="0">
                <a:srgbClr val="1e3c98"/>
              </a:gs>
              <a:gs pos="50000">
                <a:srgbClr val="3366ff"/>
              </a:gs>
              <a:gs pos="100000">
                <a:srgbClr val="1e3c98"/>
              </a:gs>
            </a:gsLst>
            <a:lin ang="10800000"/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de3ba"/>
                </a:solidFill>
                <a:latin typeface="Times New Roman"/>
              </a:rPr>
              <a:t>Aimed at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de3ba"/>
                </a:solidFill>
                <a:latin typeface="Times New Roman"/>
              </a:rPr>
              <a:t>consumers or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1680" y="2330280"/>
            <a:ext cx="2873160" cy="3225960"/>
          </a:xfrm>
          <a:prstGeom prst="rect">
            <a:avLst/>
          </a:prstGeom>
          <a:gradFill rotWithShape="0">
            <a:gsLst>
              <a:gs pos="0">
                <a:srgbClr val="f5dfa1"/>
              </a:gs>
              <a:gs pos="100000">
                <a:srgbClr val="edc2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on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oup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isle 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rade sh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int-of-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anner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trea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rading sta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ponsor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49800" y="1720800"/>
            <a:ext cx="2873520" cy="596880"/>
          </a:xfrm>
          <a:prstGeom prst="rect">
            <a:avLst/>
          </a:prstGeom>
          <a:gradFill rotWithShape="0">
            <a:gsLst>
              <a:gs pos="0">
                <a:srgbClr val="1e3c98"/>
              </a:gs>
              <a:gs pos="50000">
                <a:srgbClr val="3366ff"/>
              </a:gs>
              <a:gs pos="100000">
                <a:srgbClr val="1e3c98"/>
              </a:gs>
            </a:gsLst>
            <a:lin ang="10800000"/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de3ba"/>
                </a:solidFill>
                <a:latin typeface="Times New Roman"/>
              </a:rPr>
              <a:t>Aimed at company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de3ba"/>
                </a:solidFill>
                <a:latin typeface="Times New Roman"/>
              </a:rPr>
              <a:t>own sales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49800" y="2330280"/>
            <a:ext cx="2873520" cy="3225960"/>
          </a:xfrm>
          <a:prstGeom prst="rect">
            <a:avLst/>
          </a:prstGeom>
          <a:gradFill rotWithShape="0">
            <a:gsLst>
              <a:gs pos="0">
                <a:srgbClr val="f5dfa1"/>
              </a:gs>
              <a:gs pos="100000">
                <a:srgbClr val="edc24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33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on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on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ales 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raining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380880"/>
            <a:ext cx="764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ales Promoti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644480" y="3429000"/>
            <a:ext cx="585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5120" y="165240"/>
            <a:ext cx="569484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munica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12120" y="3054240"/>
            <a:ext cx="151128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64240" y="3054240"/>
            <a:ext cx="151128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16360" y="3054240"/>
            <a:ext cx="151128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68480" y="3054240"/>
            <a:ext cx="151128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0600" y="3054240"/>
            <a:ext cx="151128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16360" y="1359000"/>
            <a:ext cx="1511280" cy="74916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16360" y="5187960"/>
            <a:ext cx="1511280" cy="74916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360440" y="1854360"/>
            <a:ext cx="4863960" cy="372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978640" y="1949760"/>
            <a:ext cx="4786920" cy="360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21680" y="1722600"/>
            <a:ext cx="3224880" cy="272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17600" y="1722600"/>
            <a:ext cx="3225960" cy="272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61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616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924200" y="3378240"/>
            <a:ext cx="1141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78200" y="3378240"/>
            <a:ext cx="11448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32560" y="3378240"/>
            <a:ext cx="1141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6560" y="3378240"/>
            <a:ext cx="11448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152800" y="3067200"/>
            <a:ext cx="1141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89680" y="3060720"/>
            <a:ext cx="11448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00320" y="3684600"/>
            <a:ext cx="1141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721640" y="3673440"/>
            <a:ext cx="11412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14760" y="3060720"/>
            <a:ext cx="114480" cy="10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212076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8000" y="164880"/>
            <a:ext cx="748980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d Marketing Commun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ally communication from each promotional element ought to be integr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ssage reaching the consumer must be consistent irrespective of the medium u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al arrangements must ensure IM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ponsibility of the marketing communications manag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93320" y="165240"/>
            <a:ext cx="596628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 and Tasks of Pro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00240" y="942840"/>
            <a:ext cx="3886200" cy="3543480"/>
          </a:xfrm>
          <a:prstGeom prst="ellipse">
            <a:avLst/>
          </a:prstGeom>
          <a:gradFill rotWithShape="0">
            <a:gsLst>
              <a:gs pos="0">
                <a:srgbClr val="fdf0db"/>
              </a:gs>
              <a:gs pos="100000">
                <a:srgbClr val="fde3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000680" y="942840"/>
            <a:ext cx="3886200" cy="3543480"/>
          </a:xfrm>
          <a:prstGeom prst="ellipse">
            <a:avLst/>
          </a:prstGeom>
          <a:gradFill rotWithShape="0">
            <a:gsLst>
              <a:gs pos="0">
                <a:srgbClr val="c4f8f3"/>
              </a:gs>
              <a:gs pos="100000">
                <a:srgbClr val="8cf4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629080" y="2714760"/>
            <a:ext cx="3886200" cy="3543120"/>
          </a:xfrm>
          <a:prstGeom prst="ellipse">
            <a:avLst/>
          </a:prstGeom>
          <a:gradFill rotWithShape="0">
            <a:gsLst>
              <a:gs pos="0">
                <a:srgbClr val="fcf1e0"/>
              </a:gs>
              <a:gs pos="100000">
                <a:srgbClr val="f6bf6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u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97240" y="2819520"/>
            <a:ext cx="74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333600" y="2362320"/>
            <a:ext cx="2476800" cy="2133360"/>
          </a:xfrm>
          <a:prstGeom prst="ellipse">
            <a:avLst/>
          </a:prstGeom>
          <a:gradFill rotWithShape="0">
            <a:gsLst>
              <a:gs pos="0">
                <a:srgbClr val="fcfddb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56080" y="1981080"/>
            <a:ext cx="779760" cy="1001880"/>
            <a:chOff x="5356080" y="1981080"/>
            <a:chExt cx="779760" cy="1001880"/>
          </a:xfrm>
        </p:grpSpPr>
        <p:sp>
          <p:nvSpPr>
            <p:cNvPr id="424" name=""/>
            <p:cNvSpPr/>
            <p:nvPr/>
          </p:nvSpPr>
          <p:spPr>
            <a:xfrm>
              <a:off x="5626080" y="1982880"/>
              <a:ext cx="507960" cy="574560"/>
            </a:xfrm>
            <a:custGeom>
              <a:avLst/>
              <a:gdLst/>
              <a:ahLst/>
              <a:rect l="l" t="t" r="r" b="b"/>
              <a:pathLst>
                <a:path w="320" h="362">
                  <a:moveTo>
                    <a:pt x="319" y="0"/>
                  </a:moveTo>
                  <a:lnTo>
                    <a:pt x="296" y="0"/>
                  </a:lnTo>
                  <a:lnTo>
                    <a:pt x="289" y="26"/>
                  </a:lnTo>
                  <a:lnTo>
                    <a:pt x="282" y="49"/>
                  </a:lnTo>
                  <a:lnTo>
                    <a:pt x="271" y="72"/>
                  </a:lnTo>
                  <a:lnTo>
                    <a:pt x="262" y="94"/>
                  </a:lnTo>
                  <a:lnTo>
                    <a:pt x="253" y="113"/>
                  </a:lnTo>
                  <a:lnTo>
                    <a:pt x="243" y="129"/>
                  </a:lnTo>
                  <a:lnTo>
                    <a:pt x="235" y="144"/>
                  </a:lnTo>
                  <a:lnTo>
                    <a:pt x="223" y="160"/>
                  </a:lnTo>
                  <a:lnTo>
                    <a:pt x="212" y="175"/>
                  </a:lnTo>
                  <a:lnTo>
                    <a:pt x="195" y="192"/>
                  </a:lnTo>
                  <a:lnTo>
                    <a:pt x="181" y="206"/>
                  </a:lnTo>
                  <a:lnTo>
                    <a:pt x="167" y="220"/>
                  </a:lnTo>
                  <a:lnTo>
                    <a:pt x="151" y="232"/>
                  </a:lnTo>
                  <a:lnTo>
                    <a:pt x="133" y="248"/>
                  </a:lnTo>
                  <a:lnTo>
                    <a:pt x="111" y="266"/>
                  </a:lnTo>
                  <a:lnTo>
                    <a:pt x="94" y="275"/>
                  </a:lnTo>
                  <a:lnTo>
                    <a:pt x="77" y="285"/>
                  </a:lnTo>
                  <a:lnTo>
                    <a:pt x="62" y="296"/>
                  </a:lnTo>
                  <a:lnTo>
                    <a:pt x="45" y="305"/>
                  </a:lnTo>
                  <a:lnTo>
                    <a:pt x="21" y="316"/>
                  </a:lnTo>
                  <a:lnTo>
                    <a:pt x="0" y="323"/>
                  </a:lnTo>
                  <a:lnTo>
                    <a:pt x="6" y="361"/>
                  </a:lnTo>
                  <a:lnTo>
                    <a:pt x="41" y="349"/>
                  </a:lnTo>
                  <a:lnTo>
                    <a:pt x="77" y="330"/>
                  </a:lnTo>
                  <a:lnTo>
                    <a:pt x="108" y="311"/>
                  </a:lnTo>
                  <a:lnTo>
                    <a:pt x="142" y="285"/>
                  </a:lnTo>
                  <a:lnTo>
                    <a:pt x="189" y="252"/>
                  </a:lnTo>
                  <a:lnTo>
                    <a:pt x="229" y="215"/>
                  </a:lnTo>
                  <a:lnTo>
                    <a:pt x="262" y="174"/>
                  </a:lnTo>
                  <a:lnTo>
                    <a:pt x="283" y="139"/>
                  </a:lnTo>
                  <a:lnTo>
                    <a:pt x="304" y="95"/>
                  </a:lnTo>
                  <a:lnTo>
                    <a:pt x="311" y="59"/>
                  </a:lnTo>
                  <a:lnTo>
                    <a:pt x="319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56080" y="2689200"/>
              <a:ext cx="358920" cy="293760"/>
            </a:xfrm>
            <a:custGeom>
              <a:avLst/>
              <a:gdLst/>
              <a:ahLst/>
              <a:rect l="l" t="t" r="r" b="b"/>
              <a:pathLst>
                <a:path w="226" h="185">
                  <a:moveTo>
                    <a:pt x="52" y="0"/>
                  </a:moveTo>
                  <a:lnTo>
                    <a:pt x="0" y="0"/>
                  </a:lnTo>
                  <a:lnTo>
                    <a:pt x="14" y="7"/>
                  </a:lnTo>
                  <a:lnTo>
                    <a:pt x="27" y="16"/>
                  </a:lnTo>
                  <a:lnTo>
                    <a:pt x="41" y="27"/>
                  </a:lnTo>
                  <a:lnTo>
                    <a:pt x="57" y="40"/>
                  </a:lnTo>
                  <a:lnTo>
                    <a:pt x="75" y="53"/>
                  </a:lnTo>
                  <a:lnTo>
                    <a:pt x="92" y="67"/>
                  </a:lnTo>
                  <a:lnTo>
                    <a:pt x="106" y="79"/>
                  </a:lnTo>
                  <a:lnTo>
                    <a:pt x="117" y="90"/>
                  </a:lnTo>
                  <a:lnTo>
                    <a:pt x="128" y="103"/>
                  </a:lnTo>
                  <a:lnTo>
                    <a:pt x="140" y="115"/>
                  </a:lnTo>
                  <a:lnTo>
                    <a:pt x="153" y="130"/>
                  </a:lnTo>
                  <a:lnTo>
                    <a:pt x="161" y="144"/>
                  </a:lnTo>
                  <a:lnTo>
                    <a:pt x="169" y="157"/>
                  </a:lnTo>
                  <a:lnTo>
                    <a:pt x="178" y="173"/>
                  </a:lnTo>
                  <a:lnTo>
                    <a:pt x="186" y="184"/>
                  </a:lnTo>
                  <a:lnTo>
                    <a:pt x="225" y="184"/>
                  </a:lnTo>
                  <a:lnTo>
                    <a:pt x="217" y="164"/>
                  </a:lnTo>
                  <a:lnTo>
                    <a:pt x="200" y="135"/>
                  </a:lnTo>
                  <a:lnTo>
                    <a:pt x="177" y="97"/>
                  </a:lnTo>
                  <a:lnTo>
                    <a:pt x="154" y="70"/>
                  </a:lnTo>
                  <a:lnTo>
                    <a:pt x="119" y="44"/>
                  </a:lnTo>
                  <a:lnTo>
                    <a:pt x="92" y="19"/>
                  </a:lnTo>
                  <a:lnTo>
                    <a:pt x="64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57880" y="2327400"/>
              <a:ext cx="217440" cy="350640"/>
            </a:xfrm>
            <a:custGeom>
              <a:avLst/>
              <a:gdLst/>
              <a:ahLst/>
              <a:rect l="l" t="t" r="r" b="b"/>
              <a:pathLst>
                <a:path w="137" h="221">
                  <a:moveTo>
                    <a:pt x="136" y="0"/>
                  </a:moveTo>
                  <a:lnTo>
                    <a:pt x="94" y="0"/>
                  </a:lnTo>
                  <a:lnTo>
                    <a:pt x="90" y="14"/>
                  </a:lnTo>
                  <a:lnTo>
                    <a:pt x="87" y="29"/>
                  </a:lnTo>
                  <a:lnTo>
                    <a:pt x="83" y="42"/>
                  </a:lnTo>
                  <a:lnTo>
                    <a:pt x="78" y="56"/>
                  </a:lnTo>
                  <a:lnTo>
                    <a:pt x="72" y="73"/>
                  </a:lnTo>
                  <a:lnTo>
                    <a:pt x="67" y="91"/>
                  </a:lnTo>
                  <a:lnTo>
                    <a:pt x="57" y="113"/>
                  </a:lnTo>
                  <a:lnTo>
                    <a:pt x="49" y="135"/>
                  </a:lnTo>
                  <a:lnTo>
                    <a:pt x="42" y="149"/>
                  </a:lnTo>
                  <a:lnTo>
                    <a:pt x="33" y="167"/>
                  </a:lnTo>
                  <a:lnTo>
                    <a:pt x="23" y="185"/>
                  </a:lnTo>
                  <a:lnTo>
                    <a:pt x="14" y="202"/>
                  </a:lnTo>
                  <a:lnTo>
                    <a:pt x="5" y="214"/>
                  </a:lnTo>
                  <a:lnTo>
                    <a:pt x="0" y="220"/>
                  </a:lnTo>
                  <a:lnTo>
                    <a:pt x="52" y="220"/>
                  </a:lnTo>
                  <a:lnTo>
                    <a:pt x="64" y="206"/>
                  </a:lnTo>
                  <a:lnTo>
                    <a:pt x="83" y="179"/>
                  </a:lnTo>
                  <a:lnTo>
                    <a:pt x="101" y="146"/>
                  </a:lnTo>
                  <a:lnTo>
                    <a:pt x="111" y="118"/>
                  </a:lnTo>
                  <a:lnTo>
                    <a:pt x="124" y="85"/>
                  </a:lnTo>
                  <a:lnTo>
                    <a:pt x="132" y="51"/>
                  </a:lnTo>
                  <a:lnTo>
                    <a:pt x="135" y="28"/>
                  </a:lnTo>
                  <a:lnTo>
                    <a:pt x="136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43560" y="1981080"/>
              <a:ext cx="692280" cy="1001880"/>
            </a:xfrm>
            <a:custGeom>
              <a:avLst/>
              <a:gdLst/>
              <a:ahLst/>
              <a:rect l="l" t="t" r="r" b="b"/>
              <a:pathLst>
                <a:path w="436" h="631">
                  <a:moveTo>
                    <a:pt x="432" y="0"/>
                  </a:moveTo>
                  <a:lnTo>
                    <a:pt x="435" y="35"/>
                  </a:lnTo>
                  <a:lnTo>
                    <a:pt x="435" y="52"/>
                  </a:lnTo>
                  <a:lnTo>
                    <a:pt x="435" y="72"/>
                  </a:lnTo>
                  <a:lnTo>
                    <a:pt x="434" y="92"/>
                  </a:lnTo>
                  <a:lnTo>
                    <a:pt x="432" y="112"/>
                  </a:lnTo>
                  <a:lnTo>
                    <a:pt x="429" y="131"/>
                  </a:lnTo>
                  <a:lnTo>
                    <a:pt x="425" y="148"/>
                  </a:lnTo>
                  <a:lnTo>
                    <a:pt x="419" y="167"/>
                  </a:lnTo>
                  <a:lnTo>
                    <a:pt x="412" y="190"/>
                  </a:lnTo>
                  <a:lnTo>
                    <a:pt x="403" y="211"/>
                  </a:lnTo>
                  <a:lnTo>
                    <a:pt x="393" y="230"/>
                  </a:lnTo>
                  <a:lnTo>
                    <a:pt x="383" y="252"/>
                  </a:lnTo>
                  <a:lnTo>
                    <a:pt x="370" y="273"/>
                  </a:lnTo>
                  <a:lnTo>
                    <a:pt x="357" y="293"/>
                  </a:lnTo>
                  <a:lnTo>
                    <a:pt x="345" y="310"/>
                  </a:lnTo>
                  <a:lnTo>
                    <a:pt x="332" y="330"/>
                  </a:lnTo>
                  <a:lnTo>
                    <a:pt x="321" y="347"/>
                  </a:lnTo>
                  <a:lnTo>
                    <a:pt x="306" y="365"/>
                  </a:lnTo>
                  <a:lnTo>
                    <a:pt x="292" y="384"/>
                  </a:lnTo>
                  <a:lnTo>
                    <a:pt x="275" y="402"/>
                  </a:lnTo>
                  <a:lnTo>
                    <a:pt x="261" y="417"/>
                  </a:lnTo>
                  <a:lnTo>
                    <a:pt x="242" y="435"/>
                  </a:lnTo>
                  <a:lnTo>
                    <a:pt x="225" y="451"/>
                  </a:lnTo>
                  <a:lnTo>
                    <a:pt x="206" y="466"/>
                  </a:lnTo>
                  <a:lnTo>
                    <a:pt x="187" y="479"/>
                  </a:lnTo>
                  <a:lnTo>
                    <a:pt x="171" y="489"/>
                  </a:lnTo>
                  <a:lnTo>
                    <a:pt x="153" y="496"/>
                  </a:lnTo>
                  <a:lnTo>
                    <a:pt x="177" y="630"/>
                  </a:lnTo>
                  <a:lnTo>
                    <a:pt x="165" y="611"/>
                  </a:lnTo>
                  <a:lnTo>
                    <a:pt x="152" y="590"/>
                  </a:lnTo>
                  <a:lnTo>
                    <a:pt x="142" y="572"/>
                  </a:lnTo>
                  <a:lnTo>
                    <a:pt x="132" y="559"/>
                  </a:lnTo>
                  <a:lnTo>
                    <a:pt x="122" y="545"/>
                  </a:lnTo>
                  <a:lnTo>
                    <a:pt x="113" y="533"/>
                  </a:lnTo>
                  <a:lnTo>
                    <a:pt x="103" y="523"/>
                  </a:lnTo>
                  <a:lnTo>
                    <a:pt x="91" y="512"/>
                  </a:lnTo>
                  <a:lnTo>
                    <a:pt x="78" y="500"/>
                  </a:lnTo>
                  <a:lnTo>
                    <a:pt x="62" y="487"/>
                  </a:lnTo>
                  <a:lnTo>
                    <a:pt x="47" y="475"/>
                  </a:lnTo>
                  <a:lnTo>
                    <a:pt x="32" y="464"/>
                  </a:lnTo>
                  <a:lnTo>
                    <a:pt x="14" y="451"/>
                  </a:lnTo>
                  <a:lnTo>
                    <a:pt x="0" y="441"/>
                  </a:lnTo>
                  <a:lnTo>
                    <a:pt x="6" y="431"/>
                  </a:lnTo>
                  <a:lnTo>
                    <a:pt x="14" y="420"/>
                  </a:lnTo>
                  <a:lnTo>
                    <a:pt x="22" y="409"/>
                  </a:lnTo>
                  <a:lnTo>
                    <a:pt x="29" y="396"/>
                  </a:lnTo>
                  <a:lnTo>
                    <a:pt x="36" y="383"/>
                  </a:lnTo>
                  <a:lnTo>
                    <a:pt x="43" y="370"/>
                  </a:lnTo>
                  <a:lnTo>
                    <a:pt x="47" y="358"/>
                  </a:lnTo>
                  <a:lnTo>
                    <a:pt x="53" y="345"/>
                  </a:lnTo>
                  <a:lnTo>
                    <a:pt x="57" y="331"/>
                  </a:lnTo>
                  <a:lnTo>
                    <a:pt x="62" y="316"/>
                  </a:lnTo>
                  <a:lnTo>
                    <a:pt x="68" y="303"/>
                  </a:lnTo>
                  <a:lnTo>
                    <a:pt x="73" y="290"/>
                  </a:lnTo>
                  <a:lnTo>
                    <a:pt x="75" y="276"/>
                  </a:lnTo>
                  <a:lnTo>
                    <a:pt x="79" y="262"/>
                  </a:lnTo>
                  <a:lnTo>
                    <a:pt x="83" y="250"/>
                  </a:lnTo>
                  <a:lnTo>
                    <a:pt x="88" y="235"/>
                  </a:lnTo>
                  <a:lnTo>
                    <a:pt x="91" y="214"/>
                  </a:lnTo>
                  <a:lnTo>
                    <a:pt x="123" y="353"/>
                  </a:lnTo>
                  <a:lnTo>
                    <a:pt x="149" y="343"/>
                  </a:lnTo>
                  <a:lnTo>
                    <a:pt x="168" y="333"/>
                  </a:lnTo>
                  <a:lnTo>
                    <a:pt x="204" y="313"/>
                  </a:lnTo>
                  <a:lnTo>
                    <a:pt x="219" y="302"/>
                  </a:lnTo>
                  <a:lnTo>
                    <a:pt x="235" y="290"/>
                  </a:lnTo>
                  <a:lnTo>
                    <a:pt x="262" y="269"/>
                  </a:lnTo>
                  <a:lnTo>
                    <a:pt x="278" y="257"/>
                  </a:lnTo>
                  <a:lnTo>
                    <a:pt x="297" y="242"/>
                  </a:lnTo>
                  <a:lnTo>
                    <a:pt x="312" y="228"/>
                  </a:lnTo>
                  <a:lnTo>
                    <a:pt x="323" y="216"/>
                  </a:lnTo>
                  <a:lnTo>
                    <a:pt x="336" y="205"/>
                  </a:lnTo>
                  <a:lnTo>
                    <a:pt x="348" y="191"/>
                  </a:lnTo>
                  <a:lnTo>
                    <a:pt x="361" y="176"/>
                  </a:lnTo>
                  <a:lnTo>
                    <a:pt x="370" y="162"/>
                  </a:lnTo>
                  <a:lnTo>
                    <a:pt x="382" y="147"/>
                  </a:lnTo>
                  <a:lnTo>
                    <a:pt x="391" y="129"/>
                  </a:lnTo>
                  <a:lnTo>
                    <a:pt x="399" y="112"/>
                  </a:lnTo>
                  <a:lnTo>
                    <a:pt x="405" y="92"/>
                  </a:lnTo>
                  <a:lnTo>
                    <a:pt x="412" y="73"/>
                  </a:lnTo>
                  <a:lnTo>
                    <a:pt x="418" y="55"/>
                  </a:lnTo>
                  <a:lnTo>
                    <a:pt x="422" y="34"/>
                  </a:lnTo>
                  <a:lnTo>
                    <a:pt x="432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127320" y="2076480"/>
            <a:ext cx="779400" cy="1001520"/>
            <a:chOff x="3127320" y="2076480"/>
            <a:chExt cx="779400" cy="1001520"/>
          </a:xfrm>
        </p:grpSpPr>
        <p:sp>
          <p:nvSpPr>
            <p:cNvPr id="429" name=""/>
            <p:cNvSpPr/>
            <p:nvPr/>
          </p:nvSpPr>
          <p:spPr>
            <a:xfrm>
              <a:off x="3129120" y="2077920"/>
              <a:ext cx="507960" cy="574920"/>
            </a:xfrm>
            <a:custGeom>
              <a:avLst/>
              <a:gdLst/>
              <a:ahLst/>
              <a:rect l="l" t="t" r="r" b="b"/>
              <a:pathLst>
                <a:path w="320" h="362">
                  <a:moveTo>
                    <a:pt x="0" y="0"/>
                  </a:moveTo>
                  <a:lnTo>
                    <a:pt x="23" y="0"/>
                  </a:lnTo>
                  <a:lnTo>
                    <a:pt x="30" y="26"/>
                  </a:lnTo>
                  <a:lnTo>
                    <a:pt x="37" y="49"/>
                  </a:lnTo>
                  <a:lnTo>
                    <a:pt x="48" y="72"/>
                  </a:lnTo>
                  <a:lnTo>
                    <a:pt x="57" y="94"/>
                  </a:lnTo>
                  <a:lnTo>
                    <a:pt x="66" y="113"/>
                  </a:lnTo>
                  <a:lnTo>
                    <a:pt x="76" y="129"/>
                  </a:lnTo>
                  <a:lnTo>
                    <a:pt x="84" y="144"/>
                  </a:lnTo>
                  <a:lnTo>
                    <a:pt x="96" y="160"/>
                  </a:lnTo>
                  <a:lnTo>
                    <a:pt x="107" y="175"/>
                  </a:lnTo>
                  <a:lnTo>
                    <a:pt x="124" y="192"/>
                  </a:lnTo>
                  <a:lnTo>
                    <a:pt x="138" y="206"/>
                  </a:lnTo>
                  <a:lnTo>
                    <a:pt x="152" y="220"/>
                  </a:lnTo>
                  <a:lnTo>
                    <a:pt x="168" y="232"/>
                  </a:lnTo>
                  <a:lnTo>
                    <a:pt x="186" y="248"/>
                  </a:lnTo>
                  <a:lnTo>
                    <a:pt x="208" y="266"/>
                  </a:lnTo>
                  <a:lnTo>
                    <a:pt x="225" y="275"/>
                  </a:lnTo>
                  <a:lnTo>
                    <a:pt x="242" y="285"/>
                  </a:lnTo>
                  <a:lnTo>
                    <a:pt x="257" y="296"/>
                  </a:lnTo>
                  <a:lnTo>
                    <a:pt x="274" y="305"/>
                  </a:lnTo>
                  <a:lnTo>
                    <a:pt x="298" y="316"/>
                  </a:lnTo>
                  <a:lnTo>
                    <a:pt x="319" y="323"/>
                  </a:lnTo>
                  <a:lnTo>
                    <a:pt x="313" y="361"/>
                  </a:lnTo>
                  <a:lnTo>
                    <a:pt x="278" y="349"/>
                  </a:lnTo>
                  <a:lnTo>
                    <a:pt x="242" y="330"/>
                  </a:lnTo>
                  <a:lnTo>
                    <a:pt x="211" y="311"/>
                  </a:lnTo>
                  <a:lnTo>
                    <a:pt x="177" y="285"/>
                  </a:lnTo>
                  <a:lnTo>
                    <a:pt x="130" y="252"/>
                  </a:lnTo>
                  <a:lnTo>
                    <a:pt x="90" y="215"/>
                  </a:lnTo>
                  <a:lnTo>
                    <a:pt x="57" y="174"/>
                  </a:lnTo>
                  <a:lnTo>
                    <a:pt x="36" y="139"/>
                  </a:lnTo>
                  <a:lnTo>
                    <a:pt x="15" y="95"/>
                  </a:lnTo>
                  <a:lnTo>
                    <a:pt x="8" y="59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48160" y="2784600"/>
              <a:ext cx="358560" cy="293400"/>
            </a:xfrm>
            <a:custGeom>
              <a:avLst/>
              <a:gdLst/>
              <a:ahLst/>
              <a:rect l="l" t="t" r="r" b="b"/>
              <a:pathLst>
                <a:path w="226" h="185">
                  <a:moveTo>
                    <a:pt x="173" y="0"/>
                  </a:moveTo>
                  <a:lnTo>
                    <a:pt x="225" y="0"/>
                  </a:lnTo>
                  <a:lnTo>
                    <a:pt x="211" y="7"/>
                  </a:lnTo>
                  <a:lnTo>
                    <a:pt x="198" y="16"/>
                  </a:lnTo>
                  <a:lnTo>
                    <a:pt x="184" y="27"/>
                  </a:lnTo>
                  <a:lnTo>
                    <a:pt x="168" y="40"/>
                  </a:lnTo>
                  <a:lnTo>
                    <a:pt x="150" y="53"/>
                  </a:lnTo>
                  <a:lnTo>
                    <a:pt x="133" y="67"/>
                  </a:lnTo>
                  <a:lnTo>
                    <a:pt x="119" y="79"/>
                  </a:lnTo>
                  <a:lnTo>
                    <a:pt x="108" y="90"/>
                  </a:lnTo>
                  <a:lnTo>
                    <a:pt x="97" y="103"/>
                  </a:lnTo>
                  <a:lnTo>
                    <a:pt x="85" y="115"/>
                  </a:lnTo>
                  <a:lnTo>
                    <a:pt x="72" y="130"/>
                  </a:lnTo>
                  <a:lnTo>
                    <a:pt x="64" y="144"/>
                  </a:lnTo>
                  <a:lnTo>
                    <a:pt x="56" y="157"/>
                  </a:lnTo>
                  <a:lnTo>
                    <a:pt x="47" y="173"/>
                  </a:lnTo>
                  <a:lnTo>
                    <a:pt x="39" y="184"/>
                  </a:lnTo>
                  <a:lnTo>
                    <a:pt x="0" y="184"/>
                  </a:lnTo>
                  <a:lnTo>
                    <a:pt x="8" y="164"/>
                  </a:lnTo>
                  <a:lnTo>
                    <a:pt x="25" y="135"/>
                  </a:lnTo>
                  <a:lnTo>
                    <a:pt x="48" y="97"/>
                  </a:lnTo>
                  <a:lnTo>
                    <a:pt x="71" y="70"/>
                  </a:lnTo>
                  <a:lnTo>
                    <a:pt x="106" y="44"/>
                  </a:lnTo>
                  <a:lnTo>
                    <a:pt x="133" y="19"/>
                  </a:lnTo>
                  <a:lnTo>
                    <a:pt x="161" y="0"/>
                  </a:lnTo>
                  <a:lnTo>
                    <a:pt x="224" y="0"/>
                  </a:lnTo>
                  <a:lnTo>
                    <a:pt x="222" y="0"/>
                  </a:lnTo>
                  <a:lnTo>
                    <a:pt x="173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87840" y="2422440"/>
              <a:ext cx="217440" cy="351000"/>
            </a:xfrm>
            <a:custGeom>
              <a:avLst/>
              <a:gdLst/>
              <a:ahLst/>
              <a:rect l="l" t="t" r="r" b="b"/>
              <a:pathLst>
                <a:path w="137" h="221">
                  <a:moveTo>
                    <a:pt x="0" y="0"/>
                  </a:moveTo>
                  <a:lnTo>
                    <a:pt x="42" y="0"/>
                  </a:lnTo>
                  <a:lnTo>
                    <a:pt x="46" y="14"/>
                  </a:lnTo>
                  <a:lnTo>
                    <a:pt x="49" y="29"/>
                  </a:lnTo>
                  <a:lnTo>
                    <a:pt x="53" y="42"/>
                  </a:lnTo>
                  <a:lnTo>
                    <a:pt x="58" y="56"/>
                  </a:lnTo>
                  <a:lnTo>
                    <a:pt x="64" y="73"/>
                  </a:lnTo>
                  <a:lnTo>
                    <a:pt x="69" y="91"/>
                  </a:lnTo>
                  <a:lnTo>
                    <a:pt x="79" y="113"/>
                  </a:lnTo>
                  <a:lnTo>
                    <a:pt x="87" y="135"/>
                  </a:lnTo>
                  <a:lnTo>
                    <a:pt x="94" y="149"/>
                  </a:lnTo>
                  <a:lnTo>
                    <a:pt x="103" y="167"/>
                  </a:lnTo>
                  <a:lnTo>
                    <a:pt x="113" y="185"/>
                  </a:lnTo>
                  <a:lnTo>
                    <a:pt x="122" y="202"/>
                  </a:lnTo>
                  <a:lnTo>
                    <a:pt x="131" y="214"/>
                  </a:lnTo>
                  <a:lnTo>
                    <a:pt x="136" y="220"/>
                  </a:lnTo>
                  <a:lnTo>
                    <a:pt x="84" y="220"/>
                  </a:lnTo>
                  <a:lnTo>
                    <a:pt x="72" y="206"/>
                  </a:lnTo>
                  <a:lnTo>
                    <a:pt x="53" y="179"/>
                  </a:lnTo>
                  <a:lnTo>
                    <a:pt x="35" y="146"/>
                  </a:lnTo>
                  <a:lnTo>
                    <a:pt x="25" y="118"/>
                  </a:lnTo>
                  <a:lnTo>
                    <a:pt x="12" y="85"/>
                  </a:lnTo>
                  <a:lnTo>
                    <a:pt x="4" y="51"/>
                  </a:lnTo>
                  <a:lnTo>
                    <a:pt x="1" y="28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27320" y="2076480"/>
              <a:ext cx="692280" cy="1001520"/>
            </a:xfrm>
            <a:custGeom>
              <a:avLst/>
              <a:gdLst/>
              <a:ahLst/>
              <a:rect l="l" t="t" r="r" b="b"/>
              <a:pathLst>
                <a:path w="436" h="631">
                  <a:moveTo>
                    <a:pt x="3" y="0"/>
                  </a:moveTo>
                  <a:lnTo>
                    <a:pt x="0" y="35"/>
                  </a:lnTo>
                  <a:lnTo>
                    <a:pt x="0" y="52"/>
                  </a:lnTo>
                  <a:lnTo>
                    <a:pt x="0" y="72"/>
                  </a:lnTo>
                  <a:lnTo>
                    <a:pt x="1" y="92"/>
                  </a:lnTo>
                  <a:lnTo>
                    <a:pt x="3" y="112"/>
                  </a:lnTo>
                  <a:lnTo>
                    <a:pt x="6" y="131"/>
                  </a:lnTo>
                  <a:lnTo>
                    <a:pt x="10" y="148"/>
                  </a:lnTo>
                  <a:lnTo>
                    <a:pt x="16" y="167"/>
                  </a:lnTo>
                  <a:lnTo>
                    <a:pt x="23" y="190"/>
                  </a:lnTo>
                  <a:lnTo>
                    <a:pt x="32" y="211"/>
                  </a:lnTo>
                  <a:lnTo>
                    <a:pt x="42" y="230"/>
                  </a:lnTo>
                  <a:lnTo>
                    <a:pt x="52" y="252"/>
                  </a:lnTo>
                  <a:lnTo>
                    <a:pt x="65" y="273"/>
                  </a:lnTo>
                  <a:lnTo>
                    <a:pt x="78" y="293"/>
                  </a:lnTo>
                  <a:lnTo>
                    <a:pt x="90" y="310"/>
                  </a:lnTo>
                  <a:lnTo>
                    <a:pt x="103" y="330"/>
                  </a:lnTo>
                  <a:lnTo>
                    <a:pt x="114" y="347"/>
                  </a:lnTo>
                  <a:lnTo>
                    <a:pt x="129" y="365"/>
                  </a:lnTo>
                  <a:lnTo>
                    <a:pt x="143" y="384"/>
                  </a:lnTo>
                  <a:lnTo>
                    <a:pt x="160" y="402"/>
                  </a:lnTo>
                  <a:lnTo>
                    <a:pt x="174" y="417"/>
                  </a:lnTo>
                  <a:lnTo>
                    <a:pt x="193" y="435"/>
                  </a:lnTo>
                  <a:lnTo>
                    <a:pt x="210" y="451"/>
                  </a:lnTo>
                  <a:lnTo>
                    <a:pt x="229" y="466"/>
                  </a:lnTo>
                  <a:lnTo>
                    <a:pt x="248" y="479"/>
                  </a:lnTo>
                  <a:lnTo>
                    <a:pt x="264" y="489"/>
                  </a:lnTo>
                  <a:lnTo>
                    <a:pt x="282" y="496"/>
                  </a:lnTo>
                  <a:lnTo>
                    <a:pt x="258" y="630"/>
                  </a:lnTo>
                  <a:lnTo>
                    <a:pt x="270" y="611"/>
                  </a:lnTo>
                  <a:lnTo>
                    <a:pt x="283" y="590"/>
                  </a:lnTo>
                  <a:lnTo>
                    <a:pt x="293" y="572"/>
                  </a:lnTo>
                  <a:lnTo>
                    <a:pt x="303" y="559"/>
                  </a:lnTo>
                  <a:lnTo>
                    <a:pt x="313" y="545"/>
                  </a:lnTo>
                  <a:lnTo>
                    <a:pt x="322" y="533"/>
                  </a:lnTo>
                  <a:lnTo>
                    <a:pt x="332" y="523"/>
                  </a:lnTo>
                  <a:lnTo>
                    <a:pt x="344" y="512"/>
                  </a:lnTo>
                  <a:lnTo>
                    <a:pt x="357" y="500"/>
                  </a:lnTo>
                  <a:lnTo>
                    <a:pt x="373" y="487"/>
                  </a:lnTo>
                  <a:lnTo>
                    <a:pt x="388" y="475"/>
                  </a:lnTo>
                  <a:lnTo>
                    <a:pt x="403" y="464"/>
                  </a:lnTo>
                  <a:lnTo>
                    <a:pt x="421" y="451"/>
                  </a:lnTo>
                  <a:lnTo>
                    <a:pt x="435" y="441"/>
                  </a:lnTo>
                  <a:lnTo>
                    <a:pt x="429" y="431"/>
                  </a:lnTo>
                  <a:lnTo>
                    <a:pt x="421" y="420"/>
                  </a:lnTo>
                  <a:lnTo>
                    <a:pt x="413" y="409"/>
                  </a:lnTo>
                  <a:lnTo>
                    <a:pt x="406" y="396"/>
                  </a:lnTo>
                  <a:lnTo>
                    <a:pt x="399" y="383"/>
                  </a:lnTo>
                  <a:lnTo>
                    <a:pt x="392" y="370"/>
                  </a:lnTo>
                  <a:lnTo>
                    <a:pt x="388" y="358"/>
                  </a:lnTo>
                  <a:lnTo>
                    <a:pt x="382" y="345"/>
                  </a:lnTo>
                  <a:lnTo>
                    <a:pt x="378" y="331"/>
                  </a:lnTo>
                  <a:lnTo>
                    <a:pt x="373" y="316"/>
                  </a:lnTo>
                  <a:lnTo>
                    <a:pt x="367" y="303"/>
                  </a:lnTo>
                  <a:lnTo>
                    <a:pt x="362" y="290"/>
                  </a:lnTo>
                  <a:lnTo>
                    <a:pt x="360" y="276"/>
                  </a:lnTo>
                  <a:lnTo>
                    <a:pt x="356" y="262"/>
                  </a:lnTo>
                  <a:lnTo>
                    <a:pt x="352" y="250"/>
                  </a:lnTo>
                  <a:lnTo>
                    <a:pt x="347" y="235"/>
                  </a:lnTo>
                  <a:lnTo>
                    <a:pt x="344" y="214"/>
                  </a:lnTo>
                  <a:lnTo>
                    <a:pt x="312" y="353"/>
                  </a:lnTo>
                  <a:lnTo>
                    <a:pt x="286" y="343"/>
                  </a:lnTo>
                  <a:lnTo>
                    <a:pt x="267" y="333"/>
                  </a:lnTo>
                  <a:lnTo>
                    <a:pt x="231" y="313"/>
                  </a:lnTo>
                  <a:lnTo>
                    <a:pt x="216" y="302"/>
                  </a:lnTo>
                  <a:lnTo>
                    <a:pt x="200" y="290"/>
                  </a:lnTo>
                  <a:lnTo>
                    <a:pt x="173" y="269"/>
                  </a:lnTo>
                  <a:lnTo>
                    <a:pt x="157" y="257"/>
                  </a:lnTo>
                  <a:lnTo>
                    <a:pt x="138" y="242"/>
                  </a:lnTo>
                  <a:lnTo>
                    <a:pt x="123" y="228"/>
                  </a:lnTo>
                  <a:lnTo>
                    <a:pt x="112" y="216"/>
                  </a:lnTo>
                  <a:lnTo>
                    <a:pt x="99" y="205"/>
                  </a:lnTo>
                  <a:lnTo>
                    <a:pt x="87" y="191"/>
                  </a:lnTo>
                  <a:lnTo>
                    <a:pt x="74" y="176"/>
                  </a:lnTo>
                  <a:lnTo>
                    <a:pt x="65" y="162"/>
                  </a:lnTo>
                  <a:lnTo>
                    <a:pt x="53" y="147"/>
                  </a:lnTo>
                  <a:lnTo>
                    <a:pt x="44" y="129"/>
                  </a:lnTo>
                  <a:lnTo>
                    <a:pt x="36" y="112"/>
                  </a:lnTo>
                  <a:lnTo>
                    <a:pt x="30" y="92"/>
                  </a:lnTo>
                  <a:lnTo>
                    <a:pt x="23" y="73"/>
                  </a:lnTo>
                  <a:lnTo>
                    <a:pt x="17" y="55"/>
                  </a:lnTo>
                  <a:lnTo>
                    <a:pt x="13" y="34"/>
                  </a:lnTo>
                  <a:lnTo>
                    <a:pt x="3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167360" y="4178160"/>
            <a:ext cx="812520" cy="971640"/>
            <a:chOff x="4167360" y="4178160"/>
            <a:chExt cx="812520" cy="971640"/>
          </a:xfrm>
        </p:grpSpPr>
        <p:sp>
          <p:nvSpPr>
            <p:cNvPr id="434" name=""/>
            <p:cNvSpPr/>
            <p:nvPr/>
          </p:nvSpPr>
          <p:spPr>
            <a:xfrm>
              <a:off x="4167360" y="4486320"/>
              <a:ext cx="382320" cy="663480"/>
            </a:xfrm>
            <a:custGeom>
              <a:avLst/>
              <a:gdLst/>
              <a:ahLst/>
              <a:rect l="l" t="t" r="r" b="b"/>
              <a:pathLst>
                <a:path w="241" h="418">
                  <a:moveTo>
                    <a:pt x="7" y="417"/>
                  </a:moveTo>
                  <a:lnTo>
                    <a:pt x="0" y="396"/>
                  </a:lnTo>
                  <a:lnTo>
                    <a:pt x="21" y="380"/>
                  </a:lnTo>
                  <a:lnTo>
                    <a:pt x="41" y="367"/>
                  </a:lnTo>
                  <a:lnTo>
                    <a:pt x="59" y="348"/>
                  </a:lnTo>
                  <a:lnTo>
                    <a:pt x="76" y="332"/>
                  </a:lnTo>
                  <a:lnTo>
                    <a:pt x="91" y="317"/>
                  </a:lnTo>
                  <a:lnTo>
                    <a:pt x="102" y="302"/>
                  </a:lnTo>
                  <a:lnTo>
                    <a:pt x="114" y="289"/>
                  </a:lnTo>
                  <a:lnTo>
                    <a:pt x="125" y="273"/>
                  </a:lnTo>
                  <a:lnTo>
                    <a:pt x="135" y="258"/>
                  </a:lnTo>
                  <a:lnTo>
                    <a:pt x="145" y="236"/>
                  </a:lnTo>
                  <a:lnTo>
                    <a:pt x="154" y="218"/>
                  </a:lnTo>
                  <a:lnTo>
                    <a:pt x="162" y="199"/>
                  </a:lnTo>
                  <a:lnTo>
                    <a:pt x="168" y="180"/>
                  </a:lnTo>
                  <a:lnTo>
                    <a:pt x="177" y="159"/>
                  </a:lnTo>
                  <a:lnTo>
                    <a:pt x="186" y="131"/>
                  </a:lnTo>
                  <a:lnTo>
                    <a:pt x="188" y="112"/>
                  </a:lnTo>
                  <a:lnTo>
                    <a:pt x="193" y="93"/>
                  </a:lnTo>
                  <a:lnTo>
                    <a:pt x="198" y="75"/>
                  </a:lnTo>
                  <a:lnTo>
                    <a:pt x="201" y="56"/>
                  </a:lnTo>
                  <a:lnTo>
                    <a:pt x="203" y="29"/>
                  </a:lnTo>
                  <a:lnTo>
                    <a:pt x="201" y="8"/>
                  </a:lnTo>
                  <a:lnTo>
                    <a:pt x="239" y="0"/>
                  </a:lnTo>
                  <a:lnTo>
                    <a:pt x="240" y="37"/>
                  </a:lnTo>
                  <a:lnTo>
                    <a:pt x="235" y="78"/>
                  </a:lnTo>
                  <a:lnTo>
                    <a:pt x="227" y="113"/>
                  </a:lnTo>
                  <a:lnTo>
                    <a:pt x="215" y="154"/>
                  </a:lnTo>
                  <a:lnTo>
                    <a:pt x="200" y="209"/>
                  </a:lnTo>
                  <a:lnTo>
                    <a:pt x="179" y="260"/>
                  </a:lnTo>
                  <a:lnTo>
                    <a:pt x="151" y="305"/>
                  </a:lnTo>
                  <a:lnTo>
                    <a:pt x="126" y="336"/>
                  </a:lnTo>
                  <a:lnTo>
                    <a:pt x="91" y="371"/>
                  </a:lnTo>
                  <a:lnTo>
                    <a:pt x="60" y="390"/>
                  </a:lnTo>
                  <a:lnTo>
                    <a:pt x="7" y="41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76680" y="4178160"/>
              <a:ext cx="398520" cy="236520"/>
            </a:xfrm>
            <a:custGeom>
              <a:avLst/>
              <a:gdLst/>
              <a:ahLst/>
              <a:rect l="l" t="t" r="r" b="b"/>
              <a:pathLst>
                <a:path w="251" h="149">
                  <a:moveTo>
                    <a:pt x="18" y="49"/>
                  </a:moveTo>
                  <a:lnTo>
                    <a:pt x="0" y="0"/>
                  </a:lnTo>
                  <a:lnTo>
                    <a:pt x="12" y="11"/>
                  </a:lnTo>
                  <a:lnTo>
                    <a:pt x="24" y="20"/>
                  </a:lnTo>
                  <a:lnTo>
                    <a:pt x="39" y="29"/>
                  </a:lnTo>
                  <a:lnTo>
                    <a:pt x="58" y="40"/>
                  </a:lnTo>
                  <a:lnTo>
                    <a:pt x="76" y="52"/>
                  </a:lnTo>
                  <a:lnTo>
                    <a:pt x="95" y="63"/>
                  </a:lnTo>
                  <a:lnTo>
                    <a:pt x="110" y="72"/>
                  </a:lnTo>
                  <a:lnTo>
                    <a:pt x="125" y="79"/>
                  </a:lnTo>
                  <a:lnTo>
                    <a:pt x="141" y="85"/>
                  </a:lnTo>
                  <a:lnTo>
                    <a:pt x="156" y="92"/>
                  </a:lnTo>
                  <a:lnTo>
                    <a:pt x="175" y="100"/>
                  </a:lnTo>
                  <a:lnTo>
                    <a:pt x="190" y="102"/>
                  </a:lnTo>
                  <a:lnTo>
                    <a:pt x="206" y="106"/>
                  </a:lnTo>
                  <a:lnTo>
                    <a:pt x="224" y="108"/>
                  </a:lnTo>
                  <a:lnTo>
                    <a:pt x="237" y="112"/>
                  </a:lnTo>
                  <a:lnTo>
                    <a:pt x="250" y="148"/>
                  </a:lnTo>
                  <a:lnTo>
                    <a:pt x="228" y="148"/>
                  </a:lnTo>
                  <a:lnTo>
                    <a:pt x="196" y="142"/>
                  </a:lnTo>
                  <a:lnTo>
                    <a:pt x="152" y="133"/>
                  </a:lnTo>
                  <a:lnTo>
                    <a:pt x="119" y="120"/>
                  </a:lnTo>
                  <a:lnTo>
                    <a:pt x="82" y="97"/>
                  </a:lnTo>
                  <a:lnTo>
                    <a:pt x="50" y="80"/>
                  </a:lnTo>
                  <a:lnTo>
                    <a:pt x="22" y="6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8" y="4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89400" y="4184640"/>
              <a:ext cx="306360" cy="324000"/>
            </a:xfrm>
            <a:custGeom>
              <a:avLst/>
              <a:gdLst/>
              <a:ahLst/>
              <a:rect l="l" t="t" r="r" b="b"/>
              <a:pathLst>
                <a:path w="193" h="204">
                  <a:moveTo>
                    <a:pt x="14" y="203"/>
                  </a:moveTo>
                  <a:lnTo>
                    <a:pt x="0" y="163"/>
                  </a:lnTo>
                  <a:lnTo>
                    <a:pt x="11" y="154"/>
                  </a:lnTo>
                  <a:lnTo>
                    <a:pt x="24" y="146"/>
                  </a:lnTo>
                  <a:lnTo>
                    <a:pt x="35" y="139"/>
                  </a:lnTo>
                  <a:lnTo>
                    <a:pt x="46" y="129"/>
                  </a:lnTo>
                  <a:lnTo>
                    <a:pt x="60" y="117"/>
                  </a:lnTo>
                  <a:lnTo>
                    <a:pt x="75" y="107"/>
                  </a:lnTo>
                  <a:lnTo>
                    <a:pt x="93" y="90"/>
                  </a:lnTo>
                  <a:lnTo>
                    <a:pt x="111" y="75"/>
                  </a:lnTo>
                  <a:lnTo>
                    <a:pt x="122" y="63"/>
                  </a:lnTo>
                  <a:lnTo>
                    <a:pt x="136" y="49"/>
                  </a:lnTo>
                  <a:lnTo>
                    <a:pt x="149" y="33"/>
                  </a:lnTo>
                  <a:lnTo>
                    <a:pt x="162" y="19"/>
                  </a:lnTo>
                  <a:lnTo>
                    <a:pt x="170" y="6"/>
                  </a:lnTo>
                  <a:lnTo>
                    <a:pt x="175" y="0"/>
                  </a:lnTo>
                  <a:lnTo>
                    <a:pt x="192" y="49"/>
                  </a:lnTo>
                  <a:lnTo>
                    <a:pt x="182" y="65"/>
                  </a:lnTo>
                  <a:lnTo>
                    <a:pt x="164" y="92"/>
                  </a:lnTo>
                  <a:lnTo>
                    <a:pt x="139" y="120"/>
                  </a:lnTo>
                  <a:lnTo>
                    <a:pt x="117" y="139"/>
                  </a:lnTo>
                  <a:lnTo>
                    <a:pt x="90" y="162"/>
                  </a:lnTo>
                  <a:lnTo>
                    <a:pt x="61" y="182"/>
                  </a:lnTo>
                  <a:lnTo>
                    <a:pt x="40" y="193"/>
                  </a:lnTo>
                  <a:lnTo>
                    <a:pt x="14" y="20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76720" y="4262400"/>
              <a:ext cx="803160" cy="885960"/>
            </a:xfrm>
            <a:custGeom>
              <a:avLst/>
              <a:gdLst/>
              <a:ahLst/>
              <a:rect l="l" t="t" r="r" b="b"/>
              <a:pathLst>
                <a:path w="506" h="558">
                  <a:moveTo>
                    <a:pt x="0" y="557"/>
                  </a:moveTo>
                  <a:lnTo>
                    <a:pt x="34" y="548"/>
                  </a:lnTo>
                  <a:lnTo>
                    <a:pt x="50" y="542"/>
                  </a:lnTo>
                  <a:lnTo>
                    <a:pt x="69" y="535"/>
                  </a:lnTo>
                  <a:lnTo>
                    <a:pt x="86" y="527"/>
                  </a:lnTo>
                  <a:lnTo>
                    <a:pt x="105" y="518"/>
                  </a:lnTo>
                  <a:lnTo>
                    <a:pt x="122" y="510"/>
                  </a:lnTo>
                  <a:lnTo>
                    <a:pt x="136" y="500"/>
                  </a:lnTo>
                  <a:lnTo>
                    <a:pt x="152" y="488"/>
                  </a:lnTo>
                  <a:lnTo>
                    <a:pt x="172" y="474"/>
                  </a:lnTo>
                  <a:lnTo>
                    <a:pt x="188" y="458"/>
                  </a:lnTo>
                  <a:lnTo>
                    <a:pt x="202" y="442"/>
                  </a:lnTo>
                  <a:lnTo>
                    <a:pt x="220" y="425"/>
                  </a:lnTo>
                  <a:lnTo>
                    <a:pt x="236" y="405"/>
                  </a:lnTo>
                  <a:lnTo>
                    <a:pt x="249" y="387"/>
                  </a:lnTo>
                  <a:lnTo>
                    <a:pt x="261" y="370"/>
                  </a:lnTo>
                  <a:lnTo>
                    <a:pt x="276" y="350"/>
                  </a:lnTo>
                  <a:lnTo>
                    <a:pt x="288" y="334"/>
                  </a:lnTo>
                  <a:lnTo>
                    <a:pt x="300" y="314"/>
                  </a:lnTo>
                  <a:lnTo>
                    <a:pt x="313" y="294"/>
                  </a:lnTo>
                  <a:lnTo>
                    <a:pt x="324" y="272"/>
                  </a:lnTo>
                  <a:lnTo>
                    <a:pt x="333" y="254"/>
                  </a:lnTo>
                  <a:lnTo>
                    <a:pt x="344" y="230"/>
                  </a:lnTo>
                  <a:lnTo>
                    <a:pt x="353" y="208"/>
                  </a:lnTo>
                  <a:lnTo>
                    <a:pt x="360" y="185"/>
                  </a:lnTo>
                  <a:lnTo>
                    <a:pt x="366" y="163"/>
                  </a:lnTo>
                  <a:lnTo>
                    <a:pt x="371" y="144"/>
                  </a:lnTo>
                  <a:lnTo>
                    <a:pt x="370" y="125"/>
                  </a:lnTo>
                  <a:lnTo>
                    <a:pt x="505" y="102"/>
                  </a:lnTo>
                  <a:lnTo>
                    <a:pt x="482" y="98"/>
                  </a:lnTo>
                  <a:lnTo>
                    <a:pt x="458" y="92"/>
                  </a:lnTo>
                  <a:lnTo>
                    <a:pt x="438" y="89"/>
                  </a:lnTo>
                  <a:lnTo>
                    <a:pt x="422" y="84"/>
                  </a:lnTo>
                  <a:lnTo>
                    <a:pt x="406" y="79"/>
                  </a:lnTo>
                  <a:lnTo>
                    <a:pt x="392" y="75"/>
                  </a:lnTo>
                  <a:lnTo>
                    <a:pt x="378" y="69"/>
                  </a:lnTo>
                  <a:lnTo>
                    <a:pt x="364" y="62"/>
                  </a:lnTo>
                  <a:lnTo>
                    <a:pt x="349" y="54"/>
                  </a:lnTo>
                  <a:lnTo>
                    <a:pt x="331" y="43"/>
                  </a:lnTo>
                  <a:lnTo>
                    <a:pt x="314" y="33"/>
                  </a:lnTo>
                  <a:lnTo>
                    <a:pt x="299" y="23"/>
                  </a:lnTo>
                  <a:lnTo>
                    <a:pt x="281" y="10"/>
                  </a:lnTo>
                  <a:lnTo>
                    <a:pt x="266" y="0"/>
                  </a:lnTo>
                  <a:lnTo>
                    <a:pt x="259" y="9"/>
                  </a:lnTo>
                  <a:lnTo>
                    <a:pt x="252" y="21"/>
                  </a:lnTo>
                  <a:lnTo>
                    <a:pt x="244" y="32"/>
                  </a:lnTo>
                  <a:lnTo>
                    <a:pt x="234" y="43"/>
                  </a:lnTo>
                  <a:lnTo>
                    <a:pt x="224" y="54"/>
                  </a:lnTo>
                  <a:lnTo>
                    <a:pt x="215" y="65"/>
                  </a:lnTo>
                  <a:lnTo>
                    <a:pt x="204" y="73"/>
                  </a:lnTo>
                  <a:lnTo>
                    <a:pt x="194" y="83"/>
                  </a:lnTo>
                  <a:lnTo>
                    <a:pt x="183" y="92"/>
                  </a:lnTo>
                  <a:lnTo>
                    <a:pt x="170" y="102"/>
                  </a:lnTo>
                  <a:lnTo>
                    <a:pt x="160" y="111"/>
                  </a:lnTo>
                  <a:lnTo>
                    <a:pt x="150" y="121"/>
                  </a:lnTo>
                  <a:lnTo>
                    <a:pt x="137" y="127"/>
                  </a:lnTo>
                  <a:lnTo>
                    <a:pt x="125" y="136"/>
                  </a:lnTo>
                  <a:lnTo>
                    <a:pt x="115" y="143"/>
                  </a:lnTo>
                  <a:lnTo>
                    <a:pt x="103" y="153"/>
                  </a:lnTo>
                  <a:lnTo>
                    <a:pt x="84" y="164"/>
                  </a:lnTo>
                  <a:lnTo>
                    <a:pt x="226" y="146"/>
                  </a:lnTo>
                  <a:lnTo>
                    <a:pt x="225" y="173"/>
                  </a:lnTo>
                  <a:lnTo>
                    <a:pt x="222" y="195"/>
                  </a:lnTo>
                  <a:lnTo>
                    <a:pt x="216" y="236"/>
                  </a:lnTo>
                  <a:lnTo>
                    <a:pt x="211" y="253"/>
                  </a:lnTo>
                  <a:lnTo>
                    <a:pt x="205" y="273"/>
                  </a:lnTo>
                  <a:lnTo>
                    <a:pt x="195" y="306"/>
                  </a:lnTo>
                  <a:lnTo>
                    <a:pt x="188" y="325"/>
                  </a:lnTo>
                  <a:lnTo>
                    <a:pt x="181" y="348"/>
                  </a:lnTo>
                  <a:lnTo>
                    <a:pt x="173" y="367"/>
                  </a:lnTo>
                  <a:lnTo>
                    <a:pt x="165" y="381"/>
                  </a:lnTo>
                  <a:lnTo>
                    <a:pt x="160" y="397"/>
                  </a:lnTo>
                  <a:lnTo>
                    <a:pt x="150" y="412"/>
                  </a:lnTo>
                  <a:lnTo>
                    <a:pt x="140" y="431"/>
                  </a:lnTo>
                  <a:lnTo>
                    <a:pt x="131" y="443"/>
                  </a:lnTo>
                  <a:lnTo>
                    <a:pt x="121" y="459"/>
                  </a:lnTo>
                  <a:lnTo>
                    <a:pt x="107" y="475"/>
                  </a:lnTo>
                  <a:lnTo>
                    <a:pt x="93" y="487"/>
                  </a:lnTo>
                  <a:lnTo>
                    <a:pt x="77" y="500"/>
                  </a:lnTo>
                  <a:lnTo>
                    <a:pt x="62" y="514"/>
                  </a:lnTo>
                  <a:lnTo>
                    <a:pt x="47" y="525"/>
                  </a:lnTo>
                  <a:lnTo>
                    <a:pt x="28" y="536"/>
                  </a:lnTo>
                  <a:lnTo>
                    <a:pt x="0" y="557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00" y="164880"/>
            <a:ext cx="246060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45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romotion is communication with actual and potential buy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o convince target market of the product’s differential advan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CESSARY PREREQUISITE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Ought be guided by a promotional strategy: a plan for the optimal use of the promotional mi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8000" y="164880"/>
            <a:ext cx="658980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DA and the Hierarchy of Eff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4857840"/>
            <a:ext cx="1619280" cy="9334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86040" y="4172040"/>
            <a:ext cx="1066680" cy="16192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52720" y="3276720"/>
            <a:ext cx="1104840" cy="25146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57560" y="2590920"/>
            <a:ext cx="1104840" cy="320040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62400" y="1733400"/>
            <a:ext cx="1105200" cy="40579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267600" y="1276200"/>
            <a:ext cx="2000160" cy="4515120"/>
          </a:xfrm>
          <a:prstGeom prst="rect">
            <a:avLst/>
          </a:prstGeom>
          <a:solidFill>
            <a:srgbClr val="d93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74080" y="5425920"/>
            <a:ext cx="129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07480" y="5425920"/>
            <a:ext cx="1101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95880" y="5425920"/>
            <a:ext cx="960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90320" y="5425920"/>
            <a:ext cx="973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8280" y="4495680"/>
            <a:ext cx="1385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585080" y="3808440"/>
            <a:ext cx="1402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34160" y="2913120"/>
            <a:ext cx="856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16000" y="2246400"/>
            <a:ext cx="1359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80520" y="1370160"/>
            <a:ext cx="1364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72600" y="988920"/>
            <a:ext cx="120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54280" y="5792760"/>
            <a:ext cx="1341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72080" y="579276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648480" y="5792760"/>
            <a:ext cx="1257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16160" y="5962680"/>
            <a:ext cx="147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73480" y="5962680"/>
            <a:ext cx="147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8360" y="209520"/>
            <a:ext cx="7866000" cy="4651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Elements of Promotion Are Most Usefu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298440" y="944640"/>
            <a:ext cx="8547120" cy="54356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6629400" y="4027320"/>
            <a:ext cx="181440" cy="27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32320" y="1557360"/>
            <a:ext cx="1295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140600" y="2151000"/>
            <a:ext cx="10378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123680" y="2897280"/>
            <a:ext cx="11811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134120" y="3665520"/>
            <a:ext cx="102564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68200" y="5737320"/>
            <a:ext cx="139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eff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71800" y="5091120"/>
            <a:ext cx="1499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y eff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64600" y="5413320"/>
            <a:ext cx="2071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what eff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13960" y="4354560"/>
            <a:ext cx="112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892160" y="4354560"/>
            <a:ext cx="11293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62080" y="4354560"/>
            <a:ext cx="7056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07560" y="4354560"/>
            <a:ext cx="11034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79000" y="4354560"/>
            <a:ext cx="1100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v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16200000">
            <a:off x="-16560" y="2616840"/>
            <a:ext cx="1487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873400" y="4354560"/>
            <a:ext cx="983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446200" y="933480"/>
            <a:ext cx="4569120" cy="579744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733104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ors that Affect the Promotion Mi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46920" y="5913360"/>
            <a:ext cx="2670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sh–and–Pull 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34320" y="990720"/>
            <a:ext cx="2251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ure of the 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51600" y="1927080"/>
            <a:ext cx="21502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ge in the 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44400" y="2895480"/>
            <a:ext cx="30312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 Market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454840" y="3875040"/>
            <a:ext cx="2543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of Buying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59160" y="4923000"/>
            <a:ext cx="1734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F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4200" y="4941720"/>
            <a:ext cx="11980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e00"/>
                </a:solidFill>
                <a:latin typeface="Arial"/>
              </a:rPr>
              <a:t>$ $ $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4572000" y="1587600"/>
            <a:ext cx="0" cy="43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519264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ng a Promotion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11360" y="5511960"/>
            <a:ext cx="4121280" cy="86328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Promotion 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511360" y="4368960"/>
            <a:ext cx="4121280" cy="863280"/>
          </a:xfrm>
          <a:prstGeom prst="rect">
            <a:avLst/>
          </a:prstGeom>
          <a:solidFill>
            <a:srgbClr val="f57b4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Promotion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11360" y="3225960"/>
            <a:ext cx="4121280" cy="8632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Promotion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11360" y="2082960"/>
            <a:ext cx="4121280" cy="863280"/>
          </a:xfrm>
          <a:prstGeom prst="rect">
            <a:avLst/>
          </a:prstGeom>
          <a:solidFill>
            <a:srgbClr val="ec9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arget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11360" y="939960"/>
            <a:ext cx="4121280" cy="86328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e the Market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44920" y="200664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44920" y="309240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444920" y="429264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44920" y="537840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8360" y="187200"/>
            <a:ext cx="7485120" cy="4953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iteria for Setting Promotion Objectiv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2241720" y="1263600"/>
            <a:ext cx="4752720" cy="51148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2073240" y="4754520"/>
            <a:ext cx="18144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773080" y="1461960"/>
            <a:ext cx="375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ion objectives shoul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53600" y="2585880"/>
            <a:ext cx="2859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measurable,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33040" y="3578400"/>
            <a:ext cx="4122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based on sound research, with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l-defined target aud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75040" y="4826160"/>
            <a:ext cx="1374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real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77080" y="5816520"/>
            <a:ext cx="4590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force the overall marketing plan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e to specific marketing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8000" y="164880"/>
            <a:ext cx="679284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Promotion 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558720" y="1073160"/>
            <a:ext cx="7831080" cy="52275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801720" y="5025960"/>
            <a:ext cx="721044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inder 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remind consumers that Black Cat peanut butter is the creamiest peanut butter and is available at their nearest grocery and convenience s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22240" y="1370160"/>
            <a:ext cx="71344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ve (Awareness) 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ncrease the top-of-mind awareness level for Black Cat peanut butter from 16 percent to 24 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26920" y="3179880"/>
            <a:ext cx="718524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uasion (Attitudinal) 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ncrease the percentage of parents who feel that Black Cat peanut butter is the best peanut butter for their children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 percent to 35 per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455920" y="2009880"/>
            <a:ext cx="4232160" cy="378612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01240" y="187200"/>
            <a:ext cx="7863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echniques for Setting Promotion Budg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86480" y="2200320"/>
            <a:ext cx="3645360" cy="33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bitra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- You - Can - Af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 P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nt of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and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000" y="164880"/>
            <a:ext cx="638676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ments of the Promotional Mi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66960" y="1542960"/>
            <a:ext cx="2706480" cy="118260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0"/>
                </a:moveTo>
                <a:lnTo>
                  <a:pt x="744" y="0"/>
                </a:lnTo>
                <a:lnTo>
                  <a:pt x="0" y="7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8480" y="1111320"/>
            <a:ext cx="4120920" cy="105408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8480" y="1434960"/>
            <a:ext cx="25380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66960" y="4476600"/>
            <a:ext cx="2706480" cy="1182960"/>
          </a:xfrm>
          <a:custGeom>
            <a:avLst/>
            <a:gdLst/>
            <a:ahLst/>
            <a:rect l="l" t="t" r="r" b="b"/>
            <a:pathLst>
              <a:path w="1705" h="745">
                <a:moveTo>
                  <a:pt x="1704" y="744"/>
                </a:moveTo>
                <a:lnTo>
                  <a:pt x="744" y="7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2178000"/>
            <a:ext cx="2958840" cy="2921040"/>
          </a:xfrm>
          <a:prstGeom prst="ellipse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7f062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8480" y="2444760"/>
            <a:ext cx="4120920" cy="10540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8480" y="3778200"/>
            <a:ext cx="4120920" cy="1054080"/>
          </a:xfrm>
          <a:prstGeom prst="rect">
            <a:avLst/>
          </a:prstGeom>
          <a:solidFill>
            <a:srgbClr val="ff6d6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S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8480" y="5111640"/>
            <a:ext cx="4120920" cy="105408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les Pro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8480" y="2806560"/>
            <a:ext cx="25380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8480" y="4178160"/>
            <a:ext cx="25380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8480" y="5511960"/>
            <a:ext cx="25380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933640"/>
            <a:ext cx="1449360" cy="42084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0"/>
                </a:moveTo>
                <a:lnTo>
                  <a:pt x="396" y="0"/>
                </a:lnTo>
                <a:lnTo>
                  <a:pt x="0" y="2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3867120"/>
            <a:ext cx="1449360" cy="420840"/>
          </a:xfrm>
          <a:custGeom>
            <a:avLst/>
            <a:gdLst/>
            <a:ahLst/>
            <a:rect l="l" t="t" r="r" b="b"/>
            <a:pathLst>
              <a:path w="913" h="265">
                <a:moveTo>
                  <a:pt x="912" y="264"/>
                </a:moveTo>
                <a:lnTo>
                  <a:pt x="396" y="26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143000"/>
            <a:ext cx="741996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ffects (outcomes) of Adverti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ertising influenc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sumers’ behavio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d loyal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ptions of attrib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762120"/>
            <a:ext cx="4178160" cy="3657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38400" y="1217520"/>
            <a:ext cx="2701800" cy="2212920"/>
          </a:xfrm>
          <a:custGeom>
            <a:avLst/>
            <a:gdLst/>
            <a:ahLst/>
            <a:rect l="l" t="t" r="r" b="b"/>
            <a:pathLst>
              <a:path w="1702" h="1679">
                <a:moveTo>
                  <a:pt x="0" y="0"/>
                </a:moveTo>
                <a:lnTo>
                  <a:pt x="0" y="1678"/>
                </a:lnTo>
                <a:lnTo>
                  <a:pt x="1701" y="16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981000" y="2315880"/>
            <a:ext cx="0" cy="1004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25520" y="3633840"/>
            <a:ext cx="12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9240" y="340056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8800" y="117000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24840" y="349416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203560" y="1427040"/>
            <a:ext cx="0" cy="126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792440" y="1554120"/>
            <a:ext cx="861840" cy="103176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70200" y="1397160"/>
            <a:ext cx="634680" cy="3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6"/>
                </a:moveTo>
                <a:arcTo wR="10800" hR="10800" stAng="-10773143" swAng="5355954"/>
                <a:lnTo>
                  <a:pt x="10800" y="10800"/>
                </a:lnTo>
                <a:close/>
              </a:path>
              <a:path fill="none" w="21600" h="21600">
                <a:moveTo>
                  <a:pt x="0" y="10716"/>
                </a:moveTo>
                <a:arcTo wR="10800" hR="10800" stAng="-10773143" swAng="5355954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05920" y="2709720"/>
            <a:ext cx="393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10800" y="2455920"/>
            <a:ext cx="393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6280" y="3863880"/>
            <a:ext cx="349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A.  To be more inela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4440" y="4648320"/>
            <a:ext cx="3524040" cy="1981080"/>
          </a:xfrm>
          <a:prstGeom prst="rect">
            <a:avLst/>
          </a:prstGeom>
          <a:gradFill rotWithShape="0">
            <a:gsLst>
              <a:gs pos="0">
                <a:srgbClr val="fcd48e"/>
              </a:gs>
              <a:gs pos="100000">
                <a:srgbClr val="fcba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motion efforts may be targeted to make demand for the firm’s products more inelastic and so more resistant to counter-moves by the compet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motion and the Demand Cur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762120"/>
            <a:ext cx="3954600" cy="3657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52960" y="1209600"/>
            <a:ext cx="2306880" cy="1866960"/>
          </a:xfrm>
          <a:custGeom>
            <a:avLst/>
            <a:gdLst/>
            <a:ahLst/>
            <a:rect l="l" t="t" r="r" b="b"/>
            <a:pathLst>
              <a:path w="1453" h="1417">
                <a:moveTo>
                  <a:pt x="0" y="0"/>
                </a:moveTo>
                <a:lnTo>
                  <a:pt x="0" y="1416"/>
                </a:lnTo>
                <a:lnTo>
                  <a:pt x="1452" y="141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734080" y="2138040"/>
            <a:ext cx="0" cy="847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27840" y="3249720"/>
            <a:ext cx="107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99080" y="30510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97960" y="117000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41320" y="313056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97320" y="275760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254280" y="2075040"/>
            <a:ext cx="862200" cy="66816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6768720" y="182196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83240" y="2131920"/>
            <a:ext cx="67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30920" y="2400480"/>
            <a:ext cx="67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07160" y="251928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42040" y="3909960"/>
            <a:ext cx="259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B.  to th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4648320"/>
            <a:ext cx="3657600" cy="1981080"/>
          </a:xfrm>
          <a:prstGeom prst="rect">
            <a:avLst/>
          </a:prstGeom>
          <a:gradFill rotWithShape="0">
            <a:gsLst>
              <a:gs pos="0">
                <a:srgbClr val="fcd48e"/>
              </a:gs>
              <a:gs pos="100000">
                <a:srgbClr val="fcba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romotion efforts may be targeted to increase the  demand for the firm’s produc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890640"/>
            <a:ext cx="3911400" cy="2843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22360" y="1165320"/>
            <a:ext cx="2306520" cy="1452600"/>
          </a:xfrm>
          <a:custGeom>
            <a:avLst/>
            <a:gdLst/>
            <a:ahLst/>
            <a:rect l="l" t="t" r="r" b="b"/>
            <a:pathLst>
              <a:path w="1453" h="1417">
                <a:moveTo>
                  <a:pt x="0" y="0"/>
                </a:moveTo>
                <a:lnTo>
                  <a:pt x="0" y="1416"/>
                </a:lnTo>
                <a:lnTo>
                  <a:pt x="1452" y="141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203480" y="1887480"/>
            <a:ext cx="0" cy="65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96880" y="2751120"/>
            <a:ext cx="1071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8480" y="259884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7000" y="113652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10720" y="265896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609200" y="1752480"/>
            <a:ext cx="862200" cy="51912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180880" y="1347480"/>
            <a:ext cx="500040" cy="70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9800000">
            <a:off x="1721520" y="1389240"/>
            <a:ext cx="1101240" cy="30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54"/>
                </a:moveTo>
                <a:arcTo wR="10800" hR="10800" stAng="-10753547" swAng="5343640"/>
                <a:lnTo>
                  <a:pt x="10800" y="10800"/>
                </a:lnTo>
                <a:close/>
              </a:path>
              <a:path fill="none" w="21600" h="21600">
                <a:moveTo>
                  <a:pt x="1" y="10654"/>
                </a:moveTo>
                <a:arcTo wR="10800" hR="10800" stAng="-10753547" swAng="5343640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9800000">
            <a:off x="2122560" y="1734120"/>
            <a:ext cx="780120" cy="3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68"/>
                </a:moveTo>
                <a:arcTo wR="10800" hR="10800" stAng="-10758078" swAng="5344103"/>
                <a:lnTo>
                  <a:pt x="10800" y="10800"/>
                </a:lnTo>
                <a:close/>
              </a:path>
              <a:path fill="none" w="21600" h="21600">
                <a:moveTo>
                  <a:pt x="1" y="10668"/>
                </a:moveTo>
                <a:arcTo wR="10800" hR="10800" stAng="-10758078" swAng="5344103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33520" y="228276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19000" y="204804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960" y="3174840"/>
            <a:ext cx="32860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C.  Both to the right and more inela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1447920"/>
            <a:ext cx="3389040" cy="1752480"/>
          </a:xfrm>
          <a:prstGeom prst="rect">
            <a:avLst/>
          </a:prstGeom>
          <a:gradFill rotWithShape="0">
            <a:gsLst>
              <a:gs pos="0">
                <a:srgbClr val="fcd48e"/>
              </a:gs>
              <a:gs pos="100000">
                <a:srgbClr val="fcba4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romotion efforts may be targeted to both increase  demand for the firm’s products and to make demand more  inelas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motion and the Demand Cur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956040"/>
            <a:ext cx="8424720" cy="2673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4262400"/>
            <a:ext cx="2182680" cy="1246320"/>
          </a:xfrm>
          <a:custGeom>
            <a:avLst/>
            <a:gdLst/>
            <a:ahLst/>
            <a:rect l="l" t="t" r="r" b="b"/>
            <a:pathLst>
              <a:path w="1453" h="1417">
                <a:moveTo>
                  <a:pt x="0" y="0"/>
                </a:moveTo>
                <a:lnTo>
                  <a:pt x="0" y="1416"/>
                </a:lnTo>
                <a:lnTo>
                  <a:pt x="1452" y="141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645000" y="4883040"/>
            <a:ext cx="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22560" y="5624640"/>
            <a:ext cx="1014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11440" y="54910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22920" y="423720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46040" y="554508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32280" y="529596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7680" y="4262400"/>
            <a:ext cx="2183040" cy="1246320"/>
          </a:xfrm>
          <a:custGeom>
            <a:avLst/>
            <a:gdLst/>
            <a:ahLst/>
            <a:rect l="l" t="t" r="r" b="b"/>
            <a:pathLst>
              <a:path w="1453" h="1417">
                <a:moveTo>
                  <a:pt x="0" y="0"/>
                </a:moveTo>
                <a:lnTo>
                  <a:pt x="0" y="1416"/>
                </a:lnTo>
                <a:lnTo>
                  <a:pt x="1452" y="141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941400" y="4883040"/>
            <a:ext cx="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5624640"/>
            <a:ext cx="1012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6400" y="5494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7880" y="423720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42440" y="554508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73960" y="4262400"/>
            <a:ext cx="2182680" cy="1246320"/>
          </a:xfrm>
          <a:custGeom>
            <a:avLst/>
            <a:gdLst/>
            <a:ahLst/>
            <a:rect l="l" t="t" r="r" b="b"/>
            <a:pathLst>
              <a:path w="1453" h="1417">
                <a:moveTo>
                  <a:pt x="0" y="0"/>
                </a:moveTo>
                <a:lnTo>
                  <a:pt x="0" y="1416"/>
                </a:lnTo>
                <a:lnTo>
                  <a:pt x="1452" y="141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365880" y="4883040"/>
            <a:ext cx="0" cy="56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45240" y="5624640"/>
            <a:ext cx="1013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30880" y="5494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45600" y="423540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70160" y="5545080"/>
            <a:ext cx="110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201760" y="4406400"/>
            <a:ext cx="0" cy="84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812960" y="4491000"/>
            <a:ext cx="814320" cy="69048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84240" y="4386240"/>
            <a:ext cx="600120" cy="22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6"/>
                </a:moveTo>
                <a:arcTo wR="10800" hR="10800" stAng="-10773143" swAng="5355954"/>
                <a:lnTo>
                  <a:pt x="10800" y="10800"/>
                </a:lnTo>
                <a:close/>
              </a:path>
              <a:path fill="none" w="21600" h="21600">
                <a:moveTo>
                  <a:pt x="0" y="10716"/>
                </a:moveTo>
                <a:arcTo wR="10800" hR="10800" stAng="-10773143" swAng="5355954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05920" y="5262480"/>
            <a:ext cx="393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9760" y="5095800"/>
            <a:ext cx="3931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137120" y="4839840"/>
            <a:ext cx="815760" cy="44604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624560" y="4671720"/>
            <a:ext cx="815760" cy="44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751800" y="4765680"/>
            <a:ext cx="815760" cy="447840"/>
          </a:xfrm>
          <a:prstGeom prst="line">
            <a:avLst/>
          </a:prstGeom>
          <a:ln w="25560">
            <a:solidFill>
              <a:srgbClr val="c95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7291440" y="4417920"/>
            <a:ext cx="473040" cy="60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9800000">
            <a:off x="6855480" y="4442400"/>
            <a:ext cx="1040760" cy="26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54"/>
                </a:moveTo>
                <a:arcTo wR="10800" hR="10800" stAng="-10753547" swAng="5343640"/>
                <a:lnTo>
                  <a:pt x="10800" y="10800"/>
                </a:lnTo>
                <a:close/>
              </a:path>
              <a:path fill="none" w="21600" h="21600">
                <a:moveTo>
                  <a:pt x="1" y="10654"/>
                </a:moveTo>
                <a:arcTo wR="10800" hR="10800" stAng="-10753547" swAng="5343640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9800000">
            <a:off x="7232760" y="4741200"/>
            <a:ext cx="739080" cy="28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68"/>
                </a:moveTo>
                <a:arcTo wR="10800" hR="10800" stAng="-10758078" swAng="5344103"/>
                <a:lnTo>
                  <a:pt x="10800" y="10800"/>
                </a:lnTo>
                <a:close/>
              </a:path>
              <a:path fill="none" w="21600" h="21600">
                <a:moveTo>
                  <a:pt x="1" y="10668"/>
                </a:moveTo>
                <a:arcTo wR="10800" hR="10800" stAng="-10758078" swAng="5344103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54560" y="4878360"/>
            <a:ext cx="635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87840" y="5057640"/>
            <a:ext cx="6350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08280" y="513720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27520" y="522144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97520" y="5021280"/>
            <a:ext cx="327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84600" y="6027840"/>
            <a:ext cx="2549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B.  to th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7040" y="6027840"/>
            <a:ext cx="287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A.  To be more ela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99200" y="6026040"/>
            <a:ext cx="2639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C.  Both to the right and more ela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4400" y="165240"/>
            <a:ext cx="531072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Types of Advert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68880" y="1320840"/>
            <a:ext cx="3460680" cy="4636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porate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68880" y="2444760"/>
            <a:ext cx="3460680" cy="4636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ocacy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784520" y="3448080"/>
            <a:ext cx="33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470120" y="2209680"/>
            <a:ext cx="33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9680" y="2540160"/>
            <a:ext cx="1739880" cy="1777680"/>
          </a:xfrm>
          <a:prstGeom prst="ellipse">
            <a:avLst/>
          </a:prstGeom>
          <a:solidFill>
            <a:srgbClr val="f6bf69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7f062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68880" y="254016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25680" y="463536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14640" y="2190600"/>
            <a:ext cx="515880" cy="2827440"/>
          </a:xfrm>
          <a:custGeom>
            <a:avLst/>
            <a:gdLst/>
            <a:ahLst/>
            <a:rect l="l" t="t" r="r" b="b"/>
            <a:pathLst>
              <a:path w="325" h="1781">
                <a:moveTo>
                  <a:pt x="324" y="0"/>
                </a:moveTo>
                <a:lnTo>
                  <a:pt x="0" y="0"/>
                </a:lnTo>
                <a:lnTo>
                  <a:pt x="0" y="1780"/>
                </a:lnTo>
                <a:lnTo>
                  <a:pt x="314" y="17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1542960"/>
            <a:ext cx="363600" cy="1144800"/>
          </a:xfrm>
          <a:custGeom>
            <a:avLst/>
            <a:gdLst/>
            <a:ahLst/>
            <a:rect l="l" t="t" r="r" b="b"/>
            <a:pathLst>
              <a:path w="229" h="721">
                <a:moveTo>
                  <a:pt x="228" y="0"/>
                </a:moveTo>
                <a:lnTo>
                  <a:pt x="0" y="0"/>
                </a:lnTo>
                <a:lnTo>
                  <a:pt x="0" y="720"/>
                </a:lnTo>
                <a:lnTo>
                  <a:pt x="221" y="7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68880" y="143496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3784680"/>
            <a:ext cx="3461040" cy="463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o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68880" y="4756320"/>
            <a:ext cx="3460680" cy="463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68880" y="5632560"/>
            <a:ext cx="3460680" cy="4633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482720" y="5010120"/>
            <a:ext cx="6858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387972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68880" y="572760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13200" y="3987720"/>
            <a:ext cx="363600" cy="1868400"/>
          </a:xfrm>
          <a:custGeom>
            <a:avLst/>
            <a:gdLst/>
            <a:ahLst/>
            <a:rect l="l" t="t" r="r" b="b"/>
            <a:pathLst>
              <a:path w="229" h="1177">
                <a:moveTo>
                  <a:pt x="228" y="0"/>
                </a:moveTo>
                <a:lnTo>
                  <a:pt x="0" y="0"/>
                </a:lnTo>
                <a:lnTo>
                  <a:pt x="0" y="1176"/>
                </a:lnTo>
                <a:lnTo>
                  <a:pt x="221" y="117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8880" y="487044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87520" y="4483080"/>
            <a:ext cx="2102040" cy="103500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87520" y="4883040"/>
            <a:ext cx="25416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87520" y="1701720"/>
            <a:ext cx="2102040" cy="103500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87520" y="2063880"/>
            <a:ext cx="25416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360" y="164880"/>
            <a:ext cx="6540480" cy="10134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19080" bIns="19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Types of Advertising (con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itutional adverti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stablish, change or maintain the firm’s identity - not an attempt to sell any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 adverti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oneering adverti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mulate demand for a new product: primary dem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 adverti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empts to increase sales: brand insist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tive adverti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ly or indirectly compares two bra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434880" y="954000"/>
            <a:ext cx="8436240" cy="5378400"/>
            <a:chOff x="434880" y="954000"/>
            <a:chExt cx="8436240" cy="5378400"/>
          </a:xfrm>
        </p:grpSpPr>
        <p:grpSp>
          <p:nvGrpSpPr>
            <p:cNvPr id="181" name=""/>
            <p:cNvGrpSpPr/>
            <p:nvPr/>
          </p:nvGrpSpPr>
          <p:grpSpPr>
            <a:xfrm>
              <a:off x="1506600" y="993600"/>
              <a:ext cx="7364520" cy="5189760"/>
              <a:chOff x="1506600" y="993600"/>
              <a:chExt cx="7364520" cy="5189760"/>
            </a:xfrm>
          </p:grpSpPr>
          <p:sp>
            <p:nvSpPr>
              <p:cNvPr id="182" name=""/>
              <p:cNvSpPr/>
              <p:nvPr/>
            </p:nvSpPr>
            <p:spPr>
              <a:xfrm>
                <a:off x="1506600" y="993600"/>
                <a:ext cx="3282840" cy="5749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Arial"/>
                  </a:rPr>
                  <a:t>Introduce New Produc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74760" y="1752480"/>
                <a:ext cx="3283200" cy="5749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Arial"/>
                  </a:rPr>
                  <a:t>Position Bran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846520" y="2527200"/>
                <a:ext cx="3282840" cy="5749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Obtain Outle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51400" y="3300480"/>
                <a:ext cx="3282840" cy="57456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Ongoing Contac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230720" y="4075200"/>
                <a:ext cx="3282840" cy="57456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Support Sales Fo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919760" y="4834080"/>
                <a:ext cx="3282840" cy="57456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Get Immediate Ac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587920" y="5608800"/>
                <a:ext cx="3283200" cy="57456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2851c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de3ba"/>
                    </a:solidFill>
                    <a:latin typeface="Arial"/>
                  </a:rPr>
                  <a:t>Maintain Relationshi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34880" y="954000"/>
              <a:ext cx="4692600" cy="5378400"/>
            </a:xfrm>
            <a:prstGeom prst="rtTriangle">
              <a:avLst/>
            </a:prstGeom>
            <a:gradFill rotWithShape="0">
              <a:gsLst>
                <a:gs pos="0">
                  <a:srgbClr val="f6e5b4"/>
                </a:gs>
                <a:gs pos="100000">
                  <a:srgbClr val="edc246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7f0624"/>
                  </a:solidFill>
                  <a:latin typeface="Arial"/>
                </a:rPr>
                <a:t>Strategy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7f0624"/>
                  </a:solidFill>
                  <a:latin typeface="Arial"/>
                </a:rPr>
                <a:t>Decis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7f0624"/>
                  </a:solidFill>
                  <a:latin typeface="Arial"/>
                </a:rPr>
                <a:t>in Setting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7f0624"/>
                  </a:solidFill>
                  <a:latin typeface="Arial"/>
                </a:rPr>
                <a:t>Advertis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7f0624"/>
                  </a:solidFill>
                  <a:latin typeface="Arial"/>
                </a:rPr>
                <a:t>Objectiv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66640" y="1089000"/>
              <a:ext cx="4975200" cy="4995720"/>
              <a:chOff x="566640" y="1089000"/>
              <a:chExt cx="4975200" cy="4995720"/>
            </a:xfrm>
          </p:grpSpPr>
          <p:sp>
            <p:nvSpPr>
              <p:cNvPr id="191" name=""/>
              <p:cNvSpPr/>
              <p:nvPr/>
            </p:nvSpPr>
            <p:spPr>
              <a:xfrm>
                <a:off x="566640" y="1089000"/>
                <a:ext cx="898560" cy="382680"/>
              </a:xfrm>
              <a:prstGeom prst="rightArrow">
                <a:avLst>
                  <a:gd name="adj1" fmla="val 50000"/>
                  <a:gd name="adj2" fmla="val 85933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246320" y="1852560"/>
                <a:ext cx="898560" cy="382680"/>
              </a:xfrm>
              <a:prstGeom prst="rightArrow">
                <a:avLst>
                  <a:gd name="adj1" fmla="val 50000"/>
                  <a:gd name="adj2" fmla="val 85933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25640" y="2622600"/>
                <a:ext cx="898560" cy="382680"/>
              </a:xfrm>
              <a:prstGeom prst="rightArrow">
                <a:avLst>
                  <a:gd name="adj1" fmla="val 50000"/>
                  <a:gd name="adj2" fmla="val 85933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604960" y="3392640"/>
                <a:ext cx="898560" cy="382320"/>
              </a:xfrm>
              <a:prstGeom prst="rightArrow">
                <a:avLst>
                  <a:gd name="adj1" fmla="val 50000"/>
                  <a:gd name="adj2" fmla="val 86014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84640" y="4162320"/>
                <a:ext cx="898560" cy="382680"/>
              </a:xfrm>
              <a:prstGeom prst="rightArrow">
                <a:avLst>
                  <a:gd name="adj1" fmla="val 50000"/>
                  <a:gd name="adj2" fmla="val 85933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963960" y="4932360"/>
                <a:ext cx="898560" cy="382680"/>
              </a:xfrm>
              <a:prstGeom prst="rightArrow">
                <a:avLst>
                  <a:gd name="adj1" fmla="val 50000"/>
                  <a:gd name="adj2" fmla="val 85933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43280" y="5702400"/>
                <a:ext cx="898560" cy="382320"/>
              </a:xfrm>
              <a:prstGeom prst="rightArrow">
                <a:avLst>
                  <a:gd name="adj1" fmla="val 50000"/>
                  <a:gd name="adj2" fmla="val 86014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7824960" y="3075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43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etting Advertising 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0T09:09:40Z</dcterms:created>
  <dc:creator>Lewis Hershey</dc:creator>
  <dc:description/>
  <dc:language>en-US</dc:language>
  <cp:lastModifiedBy>Martin Krištof</cp:lastModifiedBy>
  <cp:lastPrinted>1999-12-08T10:36:28Z</cp:lastPrinted>
  <dcterms:modified xsi:type="dcterms:W3CDTF">2007-04-01T22:02:27Z</dcterms:modified>
  <cp:revision>24</cp:revision>
  <dc:subject>LHM, Marketing 4th Edition</dc:subject>
  <dc:title>Chapter 16:  Promotion Strategy and Marketing Communication</dc:title>
</cp:coreProperties>
</file>