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F4D1-5741-40C5-98AE-65123EE0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7291-7E33-4EEE-836B-FE709600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BBA-19AE-4FD1-9F71-ADFA1837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081-3A30-4C53-A6A3-F7799B7B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1CA-6412-4AF9-B67B-A76E37DE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22A8-8B2B-47B5-AF9F-9039820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354-DD0C-4BF1-9BC1-F8720B6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B451-6142-4566-B20A-D6E1DDF8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3420-4741-4B03-9264-8BE4BC40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731-CD34-42C6-BF8A-A635DCAE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14A1-522F-483C-A155-745AF9F9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7C3-6BF5-4C33-BF58-9F967B5D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8099-5B36-4B2F-8301-7BB1A14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1F0B-FF1F-4393-A21A-0C805A5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E99B-33E2-4665-80C3-FEF9D08B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0A17-7474-4D60-BADD-A6137FCD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DE32-106E-4693-8616-EEC2D6D1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679-9BAF-4286-A1BE-D07B4AB9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688-5A3B-4874-AD27-9D235BE6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90A-1F32-4B87-B4D2-293E674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0AF-2714-495D-9409-8AA1BA90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30F-2730-464E-87D1-6BEA199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00E-38CC-4406-8BEB-83F8153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A11-A9A6-4910-BB82-E52EC5C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89EF-149E-47D8-B05B-DF7FBF69D01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2CBC-5A9D-43E8-A305-C129D76E840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228600"/>
            <a:ext cx="68072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Marketing M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47920" y="2590920"/>
            <a:ext cx="6629400" cy="21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CE</a:t>
            </a:r>
            <a:endParaRPr b="0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99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5335560"/>
            <a:ext cx="350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Martin Krištof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ing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584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85800" y="1676520"/>
            <a:ext cx="8534160" cy="5257080"/>
            <a:chOff x="685800" y="1676520"/>
            <a:chExt cx="8534160" cy="5257080"/>
          </a:xfrm>
        </p:grpSpPr>
        <p:sp>
          <p:nvSpPr>
            <p:cNvPr id="181" name=""/>
            <p:cNvSpPr/>
            <p:nvPr/>
          </p:nvSpPr>
          <p:spPr>
            <a:xfrm>
              <a:off x="5816880" y="5337000"/>
              <a:ext cx="340308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 prices for tobacco and alcohol to reduce consump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22240" y="5337000"/>
              <a:ext cx="206244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st recover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incen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uppress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16880" y="4502520"/>
              <a:ext cx="3403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High-priced luxury autos such as Ferrari and watches by Role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2240" y="4502520"/>
              <a:ext cx="206244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ifesty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6880" y="405036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ice wars among major airli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22240" y="405036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alue pric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16880" y="3216240"/>
              <a:ext cx="34030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ll’s low-priced PCs increase market share and sales of ser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2240" y="3216240"/>
              <a:ext cx="20624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ales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rket shar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6880" y="2128680"/>
              <a:ext cx="340308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Low introductory interest rates on credit cards with high standard rates after 6 month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2240" y="2128680"/>
              <a:ext cx="206244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 maximizati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25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arget retur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16880" y="1676520"/>
              <a:ext cx="3403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2240" y="1676520"/>
              <a:ext cx="2062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urpos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5337000"/>
              <a:ext cx="2733120" cy="15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-for-profit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502520"/>
              <a:ext cx="273312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estig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405036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eeting competition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3216240"/>
              <a:ext cx="27331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Volume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2128680"/>
              <a:ext cx="2733120" cy="10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rofitability objectiv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1676520"/>
              <a:ext cx="2733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Objectiv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838080" y="25146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6037200"/>
            <a:ext cx="2692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15400" y="251460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520" y="25146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15400" y="281772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915400" y="3546360"/>
            <a:ext cx="0" cy="55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915400" y="4105440"/>
            <a:ext cx="0" cy="303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915400" y="4408560"/>
            <a:ext cx="0" cy="55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915400" y="4967280"/>
            <a:ext cx="0" cy="1069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30520" y="6037200"/>
            <a:ext cx="2032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6037200"/>
            <a:ext cx="3352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14400" y="533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our Basic Types of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9880" y="1981080"/>
            <a:ext cx="79992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c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Flex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ine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-4960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717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1676520"/>
            <a:ext cx="7999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that certain prices or price ranges make products more appea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dd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rketers set prices at odd numbers just under round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t pr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 prices in terms of some recognized unit of measur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914400" y="603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ice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2960" y="1749600"/>
            <a:ext cx="7924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pricing is more likely to be applied in marketing programs based on individual barg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onflict with provisions of the Robinson-Patman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also lead to retaliatory pricing by compet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r complaints among custo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duct-Line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1779480"/>
            <a:ext cx="80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actice of setting a limited number of prices for a selection of merchand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practice extensive product-line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tential problem with product-line pricing is that once marketers decide on a limited number of prices to use as their price lines, they may have difficulty making price changes on individual i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774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733400"/>
            <a:ext cx="7999560" cy="41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wer-than-normal price is used as a temporary ingredient in a firm’s selling strate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lers rely most heavily on promotional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Lea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priced below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with unfair-trade laws prohibit the pract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Pric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4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slightly above c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66680" y="2057400"/>
            <a:ext cx="7908840" cy="4379400"/>
            <a:chOff x="1066680" y="2057400"/>
            <a:chExt cx="7908840" cy="4379400"/>
          </a:xfrm>
        </p:grpSpPr>
        <p:sp>
          <p:nvSpPr>
            <p:cNvPr id="228" name=""/>
            <p:cNvSpPr/>
            <p:nvPr/>
          </p:nvSpPr>
          <p:spPr>
            <a:xfrm rot="5400000">
              <a:off x="4699800" y="4919040"/>
              <a:ext cx="797040" cy="223848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Tra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2371320" y="133812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Quant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954120" y="133776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eason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55560" y="2766240"/>
              <a:ext cx="3184560" cy="185400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Discou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06640"/>
                  <a:tab algn="l" pos="2212920"/>
                  <a:tab algn="l" pos="3319560"/>
                  <a:tab algn="l" pos="4425840"/>
                  <a:tab algn="l" pos="5532480"/>
                  <a:tab algn="l" pos="6638760"/>
                  <a:tab algn="l" pos="7745400"/>
                  <a:tab algn="l" pos="8852040"/>
                  <a:tab algn="l" pos="9958320"/>
                </a:tabLst>
              </a:pPr>
              <a:r>
                <a:rPr b="1" lang="cs-CZ" sz="28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302440" y="2265120"/>
              <a:ext cx="911880" cy="1191600"/>
              <a:chOff x="5302440" y="2265120"/>
              <a:chExt cx="911880" cy="1191600"/>
            </a:xfrm>
          </p:grpSpPr>
          <p:sp>
            <p:nvSpPr>
              <p:cNvPr id="233" name=""/>
              <p:cNvSpPr/>
              <p:nvPr/>
            </p:nvSpPr>
            <p:spPr>
              <a:xfrm>
                <a:off x="5331240" y="2271240"/>
                <a:ext cx="88308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0" y="912"/>
                    </a:moveTo>
                    <a:lnTo>
                      <a:pt x="20" y="878"/>
                    </a:lnTo>
                    <a:lnTo>
                      <a:pt x="13" y="843"/>
                    </a:lnTo>
                    <a:lnTo>
                      <a:pt x="7" y="817"/>
                    </a:lnTo>
                    <a:lnTo>
                      <a:pt x="2" y="781"/>
                    </a:lnTo>
                    <a:lnTo>
                      <a:pt x="0" y="740"/>
                    </a:lnTo>
                    <a:lnTo>
                      <a:pt x="4" y="710"/>
                    </a:lnTo>
                    <a:lnTo>
                      <a:pt x="5" y="666"/>
                    </a:lnTo>
                    <a:lnTo>
                      <a:pt x="9" y="623"/>
                    </a:lnTo>
                    <a:lnTo>
                      <a:pt x="15" y="584"/>
                    </a:lnTo>
                    <a:lnTo>
                      <a:pt x="24" y="534"/>
                    </a:lnTo>
                    <a:lnTo>
                      <a:pt x="33" y="499"/>
                    </a:lnTo>
                    <a:lnTo>
                      <a:pt x="50" y="452"/>
                    </a:lnTo>
                    <a:lnTo>
                      <a:pt x="67" y="401"/>
                    </a:lnTo>
                    <a:lnTo>
                      <a:pt x="89" y="353"/>
                    </a:lnTo>
                    <a:lnTo>
                      <a:pt x="106" y="316"/>
                    </a:lnTo>
                    <a:lnTo>
                      <a:pt x="136" y="274"/>
                    </a:lnTo>
                    <a:lnTo>
                      <a:pt x="164" y="240"/>
                    </a:lnTo>
                    <a:lnTo>
                      <a:pt x="195" y="207"/>
                    </a:lnTo>
                    <a:lnTo>
                      <a:pt x="233" y="174"/>
                    </a:lnTo>
                    <a:lnTo>
                      <a:pt x="257" y="159"/>
                    </a:lnTo>
                    <a:lnTo>
                      <a:pt x="287" y="144"/>
                    </a:lnTo>
                    <a:lnTo>
                      <a:pt x="312" y="132"/>
                    </a:lnTo>
                    <a:lnTo>
                      <a:pt x="338" y="122"/>
                    </a:lnTo>
                    <a:lnTo>
                      <a:pt x="359" y="117"/>
                    </a:lnTo>
                    <a:lnTo>
                      <a:pt x="258" y="0"/>
                    </a:lnTo>
                    <a:lnTo>
                      <a:pt x="306" y="16"/>
                    </a:lnTo>
                    <a:lnTo>
                      <a:pt x="363" y="34"/>
                    </a:lnTo>
                    <a:lnTo>
                      <a:pt x="423" y="51"/>
                    </a:lnTo>
                    <a:lnTo>
                      <a:pt x="484" y="64"/>
                    </a:lnTo>
                    <a:lnTo>
                      <a:pt x="527" y="66"/>
                    </a:lnTo>
                    <a:lnTo>
                      <a:pt x="589" y="57"/>
                    </a:lnTo>
                    <a:lnTo>
                      <a:pt x="610" y="83"/>
                    </a:lnTo>
                    <a:lnTo>
                      <a:pt x="588" y="123"/>
                    </a:lnTo>
                    <a:lnTo>
                      <a:pt x="564" y="164"/>
                    </a:lnTo>
                    <a:lnTo>
                      <a:pt x="548" y="217"/>
                    </a:lnTo>
                    <a:lnTo>
                      <a:pt x="539" y="262"/>
                    </a:lnTo>
                    <a:lnTo>
                      <a:pt x="536" y="290"/>
                    </a:lnTo>
                    <a:lnTo>
                      <a:pt x="540" y="329"/>
                    </a:lnTo>
                    <a:lnTo>
                      <a:pt x="454" y="231"/>
                    </a:lnTo>
                    <a:lnTo>
                      <a:pt x="411" y="246"/>
                    </a:lnTo>
                    <a:lnTo>
                      <a:pt x="373" y="264"/>
                    </a:lnTo>
                    <a:lnTo>
                      <a:pt x="334" y="290"/>
                    </a:lnTo>
                    <a:lnTo>
                      <a:pt x="299" y="317"/>
                    </a:lnTo>
                    <a:lnTo>
                      <a:pt x="261" y="354"/>
                    </a:lnTo>
                    <a:lnTo>
                      <a:pt x="230" y="386"/>
                    </a:lnTo>
                    <a:lnTo>
                      <a:pt x="187" y="438"/>
                    </a:lnTo>
                    <a:lnTo>
                      <a:pt x="158" y="484"/>
                    </a:lnTo>
                    <a:lnTo>
                      <a:pt x="133" y="528"/>
                    </a:lnTo>
                    <a:lnTo>
                      <a:pt x="110" y="578"/>
                    </a:lnTo>
                    <a:lnTo>
                      <a:pt x="99" y="602"/>
                    </a:lnTo>
                    <a:lnTo>
                      <a:pt x="88" y="623"/>
                    </a:lnTo>
                    <a:lnTo>
                      <a:pt x="81" y="643"/>
                    </a:lnTo>
                    <a:lnTo>
                      <a:pt x="75" y="664"/>
                    </a:lnTo>
                    <a:lnTo>
                      <a:pt x="62" y="700"/>
                    </a:lnTo>
                    <a:lnTo>
                      <a:pt x="59" y="728"/>
                    </a:lnTo>
                    <a:lnTo>
                      <a:pt x="54" y="750"/>
                    </a:lnTo>
                    <a:lnTo>
                      <a:pt x="50" y="773"/>
                    </a:lnTo>
                    <a:lnTo>
                      <a:pt x="46" y="795"/>
                    </a:lnTo>
                    <a:lnTo>
                      <a:pt x="46" y="813"/>
                    </a:lnTo>
                    <a:lnTo>
                      <a:pt x="44" y="836"/>
                    </a:lnTo>
                    <a:lnTo>
                      <a:pt x="45" y="862"/>
                    </a:lnTo>
                    <a:lnTo>
                      <a:pt x="46" y="887"/>
                    </a:lnTo>
                    <a:lnTo>
                      <a:pt x="5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024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43" y="885"/>
                    </a:moveTo>
                    <a:lnTo>
                      <a:pt x="28" y="850"/>
                    </a:lnTo>
                    <a:lnTo>
                      <a:pt x="20" y="822"/>
                    </a:lnTo>
                    <a:lnTo>
                      <a:pt x="15" y="796"/>
                    </a:lnTo>
                    <a:lnTo>
                      <a:pt x="8" y="767"/>
                    </a:lnTo>
                    <a:lnTo>
                      <a:pt x="2" y="726"/>
                    </a:lnTo>
                    <a:lnTo>
                      <a:pt x="0" y="687"/>
                    </a:lnTo>
                    <a:lnTo>
                      <a:pt x="2" y="643"/>
                    </a:lnTo>
                    <a:lnTo>
                      <a:pt x="6" y="601"/>
                    </a:lnTo>
                    <a:lnTo>
                      <a:pt x="12" y="561"/>
                    </a:lnTo>
                    <a:lnTo>
                      <a:pt x="21" y="511"/>
                    </a:lnTo>
                    <a:lnTo>
                      <a:pt x="33" y="477"/>
                    </a:lnTo>
                    <a:lnTo>
                      <a:pt x="49" y="432"/>
                    </a:lnTo>
                    <a:lnTo>
                      <a:pt x="67" y="380"/>
                    </a:lnTo>
                    <a:lnTo>
                      <a:pt x="87" y="333"/>
                    </a:lnTo>
                    <a:lnTo>
                      <a:pt x="106" y="298"/>
                    </a:lnTo>
                    <a:lnTo>
                      <a:pt x="137" y="254"/>
                    </a:lnTo>
                    <a:lnTo>
                      <a:pt x="165" y="220"/>
                    </a:lnTo>
                    <a:lnTo>
                      <a:pt x="196" y="188"/>
                    </a:lnTo>
                    <a:lnTo>
                      <a:pt x="233" y="156"/>
                    </a:lnTo>
                    <a:lnTo>
                      <a:pt x="256" y="140"/>
                    </a:lnTo>
                    <a:lnTo>
                      <a:pt x="288" y="125"/>
                    </a:lnTo>
                    <a:lnTo>
                      <a:pt x="313" y="114"/>
                    </a:lnTo>
                    <a:lnTo>
                      <a:pt x="338" y="103"/>
                    </a:lnTo>
                    <a:lnTo>
                      <a:pt x="360" y="97"/>
                    </a:lnTo>
                    <a:lnTo>
                      <a:pt x="277" y="0"/>
                    </a:lnTo>
                    <a:lnTo>
                      <a:pt x="326" y="17"/>
                    </a:lnTo>
                    <a:lnTo>
                      <a:pt x="374" y="32"/>
                    </a:lnTo>
                    <a:lnTo>
                      <a:pt x="438" y="50"/>
                    </a:lnTo>
                    <a:lnTo>
                      <a:pt x="498" y="59"/>
                    </a:lnTo>
                    <a:lnTo>
                      <a:pt x="550" y="65"/>
                    </a:lnTo>
                    <a:lnTo>
                      <a:pt x="609" y="63"/>
                    </a:lnTo>
                    <a:lnTo>
                      <a:pt x="587" y="102"/>
                    </a:lnTo>
                    <a:lnTo>
                      <a:pt x="564" y="144"/>
                    </a:lnTo>
                    <a:lnTo>
                      <a:pt x="546" y="193"/>
                    </a:lnTo>
                    <a:lnTo>
                      <a:pt x="538" y="240"/>
                    </a:lnTo>
                    <a:lnTo>
                      <a:pt x="533" y="266"/>
                    </a:lnTo>
                    <a:lnTo>
                      <a:pt x="537" y="307"/>
                    </a:lnTo>
                    <a:lnTo>
                      <a:pt x="453" y="209"/>
                    </a:lnTo>
                    <a:lnTo>
                      <a:pt x="409" y="226"/>
                    </a:lnTo>
                    <a:lnTo>
                      <a:pt x="371" y="242"/>
                    </a:lnTo>
                    <a:lnTo>
                      <a:pt x="333" y="269"/>
                    </a:lnTo>
                    <a:lnTo>
                      <a:pt x="297" y="296"/>
                    </a:lnTo>
                    <a:lnTo>
                      <a:pt x="260" y="332"/>
                    </a:lnTo>
                    <a:lnTo>
                      <a:pt x="229" y="365"/>
                    </a:lnTo>
                    <a:lnTo>
                      <a:pt x="186" y="416"/>
                    </a:lnTo>
                    <a:lnTo>
                      <a:pt x="155" y="462"/>
                    </a:lnTo>
                    <a:lnTo>
                      <a:pt x="129" y="505"/>
                    </a:lnTo>
                    <a:lnTo>
                      <a:pt x="107" y="555"/>
                    </a:lnTo>
                    <a:lnTo>
                      <a:pt x="95" y="578"/>
                    </a:lnTo>
                    <a:lnTo>
                      <a:pt x="86" y="600"/>
                    </a:lnTo>
                    <a:lnTo>
                      <a:pt x="77" y="619"/>
                    </a:lnTo>
                    <a:lnTo>
                      <a:pt x="71" y="639"/>
                    </a:lnTo>
                    <a:lnTo>
                      <a:pt x="58" y="677"/>
                    </a:lnTo>
                    <a:lnTo>
                      <a:pt x="53" y="704"/>
                    </a:lnTo>
                    <a:lnTo>
                      <a:pt x="50" y="725"/>
                    </a:lnTo>
                    <a:lnTo>
                      <a:pt x="45" y="747"/>
                    </a:lnTo>
                    <a:lnTo>
                      <a:pt x="42" y="770"/>
                    </a:lnTo>
                    <a:lnTo>
                      <a:pt x="41" y="789"/>
                    </a:lnTo>
                    <a:lnTo>
                      <a:pt x="39" y="811"/>
                    </a:lnTo>
                    <a:lnTo>
                      <a:pt x="39" y="836"/>
                    </a:lnTo>
                    <a:lnTo>
                      <a:pt x="39" y="861"/>
                    </a:lnTo>
                    <a:lnTo>
                      <a:pt x="43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651560" y="4455720"/>
              <a:ext cx="978480" cy="1123200"/>
              <a:chOff x="4651560" y="4455720"/>
              <a:chExt cx="978480" cy="1123200"/>
            </a:xfrm>
          </p:grpSpPr>
          <p:sp>
            <p:nvSpPr>
              <p:cNvPr id="236" name=""/>
              <p:cNvSpPr/>
              <p:nvPr/>
            </p:nvSpPr>
            <p:spPr>
              <a:xfrm>
                <a:off x="4651560" y="4455720"/>
                <a:ext cx="969840" cy="1123200"/>
              </a:xfrm>
              <a:custGeom>
                <a:avLst/>
                <a:gdLst/>
                <a:ahLst/>
                <a:rect l="l" t="t" r="r" b="b"/>
                <a:pathLst>
                  <a:path w="671" h="865">
                    <a:moveTo>
                      <a:pt x="0" y="4"/>
                    </a:moveTo>
                    <a:lnTo>
                      <a:pt x="51" y="0"/>
                    </a:lnTo>
                    <a:lnTo>
                      <a:pt x="88" y="14"/>
                    </a:lnTo>
                    <a:lnTo>
                      <a:pt x="115" y="25"/>
                    </a:lnTo>
                    <a:lnTo>
                      <a:pt x="151" y="39"/>
                    </a:lnTo>
                    <a:lnTo>
                      <a:pt x="187" y="61"/>
                    </a:lnTo>
                    <a:lnTo>
                      <a:pt x="212" y="80"/>
                    </a:lnTo>
                    <a:lnTo>
                      <a:pt x="250" y="104"/>
                    </a:lnTo>
                    <a:lnTo>
                      <a:pt x="286" y="130"/>
                    </a:lnTo>
                    <a:lnTo>
                      <a:pt x="317" y="157"/>
                    </a:lnTo>
                    <a:lnTo>
                      <a:pt x="354" y="190"/>
                    </a:lnTo>
                    <a:lnTo>
                      <a:pt x="381" y="215"/>
                    </a:lnTo>
                    <a:lnTo>
                      <a:pt x="410" y="254"/>
                    </a:lnTo>
                    <a:lnTo>
                      <a:pt x="444" y="294"/>
                    </a:lnTo>
                    <a:lnTo>
                      <a:pt x="472" y="337"/>
                    </a:lnTo>
                    <a:lnTo>
                      <a:pt x="492" y="368"/>
                    </a:lnTo>
                    <a:lnTo>
                      <a:pt x="509" y="413"/>
                    </a:lnTo>
                    <a:lnTo>
                      <a:pt x="521" y="452"/>
                    </a:lnTo>
                    <a:lnTo>
                      <a:pt x="529" y="493"/>
                    </a:lnTo>
                    <a:lnTo>
                      <a:pt x="533" y="538"/>
                    </a:lnTo>
                    <a:lnTo>
                      <a:pt x="529" y="564"/>
                    </a:lnTo>
                    <a:lnTo>
                      <a:pt x="522" y="594"/>
                    </a:lnTo>
                    <a:lnTo>
                      <a:pt x="517" y="619"/>
                    </a:lnTo>
                    <a:lnTo>
                      <a:pt x="507" y="644"/>
                    </a:lnTo>
                    <a:lnTo>
                      <a:pt x="497" y="662"/>
                    </a:lnTo>
                    <a:lnTo>
                      <a:pt x="670" y="652"/>
                    </a:lnTo>
                    <a:lnTo>
                      <a:pt x="624" y="678"/>
                    </a:lnTo>
                    <a:lnTo>
                      <a:pt x="568" y="709"/>
                    </a:lnTo>
                    <a:lnTo>
                      <a:pt x="513" y="745"/>
                    </a:lnTo>
                    <a:lnTo>
                      <a:pt x="460" y="782"/>
                    </a:lnTo>
                    <a:lnTo>
                      <a:pt x="428" y="811"/>
                    </a:lnTo>
                    <a:lnTo>
                      <a:pt x="395" y="862"/>
                    </a:lnTo>
                    <a:lnTo>
                      <a:pt x="355" y="864"/>
                    </a:lnTo>
                    <a:lnTo>
                      <a:pt x="335" y="827"/>
                    </a:lnTo>
                    <a:lnTo>
                      <a:pt x="315" y="787"/>
                    </a:lnTo>
                    <a:lnTo>
                      <a:pt x="279" y="746"/>
                    </a:lnTo>
                    <a:lnTo>
                      <a:pt x="245" y="714"/>
                    </a:lnTo>
                    <a:lnTo>
                      <a:pt x="222" y="697"/>
                    </a:lnTo>
                    <a:lnTo>
                      <a:pt x="185" y="680"/>
                    </a:lnTo>
                    <a:lnTo>
                      <a:pt x="331" y="669"/>
                    </a:lnTo>
                    <a:lnTo>
                      <a:pt x="348" y="631"/>
                    </a:lnTo>
                    <a:lnTo>
                      <a:pt x="356" y="591"/>
                    </a:lnTo>
                    <a:lnTo>
                      <a:pt x="360" y="550"/>
                    </a:lnTo>
                    <a:lnTo>
                      <a:pt x="361" y="509"/>
                    </a:lnTo>
                    <a:lnTo>
                      <a:pt x="354" y="462"/>
                    </a:lnTo>
                    <a:lnTo>
                      <a:pt x="346" y="421"/>
                    </a:lnTo>
                    <a:lnTo>
                      <a:pt x="330" y="361"/>
                    </a:lnTo>
                    <a:lnTo>
                      <a:pt x="308" y="315"/>
                    </a:lnTo>
                    <a:lnTo>
                      <a:pt x="287" y="273"/>
                    </a:lnTo>
                    <a:lnTo>
                      <a:pt x="258" y="228"/>
                    </a:lnTo>
                    <a:lnTo>
                      <a:pt x="244" y="207"/>
                    </a:lnTo>
                    <a:lnTo>
                      <a:pt x="232" y="189"/>
                    </a:lnTo>
                    <a:lnTo>
                      <a:pt x="218" y="173"/>
                    </a:lnTo>
                    <a:lnTo>
                      <a:pt x="204" y="157"/>
                    </a:lnTo>
                    <a:lnTo>
                      <a:pt x="181" y="127"/>
                    </a:lnTo>
                    <a:lnTo>
                      <a:pt x="159" y="110"/>
                    </a:lnTo>
                    <a:lnTo>
                      <a:pt x="142" y="95"/>
                    </a:lnTo>
                    <a:lnTo>
                      <a:pt x="124" y="80"/>
                    </a:lnTo>
                    <a:lnTo>
                      <a:pt x="109" y="64"/>
                    </a:lnTo>
                    <a:lnTo>
                      <a:pt x="92" y="54"/>
                    </a:lnTo>
                    <a:lnTo>
                      <a:pt x="72" y="40"/>
                    </a:lnTo>
                    <a:lnTo>
                      <a:pt x="49" y="27"/>
                    </a:lnTo>
                    <a:lnTo>
                      <a:pt x="26" y="1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20680" y="4458240"/>
                <a:ext cx="909360" cy="1117800"/>
              </a:xfrm>
              <a:custGeom>
                <a:avLst/>
                <a:gdLst/>
                <a:ahLst/>
                <a:rect l="l" t="t" r="r" b="b"/>
                <a:pathLst>
                  <a:path w="629" h="861">
                    <a:moveTo>
                      <a:pt x="0" y="0"/>
                    </a:moveTo>
                    <a:lnTo>
                      <a:pt x="41" y="8"/>
                    </a:lnTo>
                    <a:lnTo>
                      <a:pt x="73" y="18"/>
                    </a:lnTo>
                    <a:lnTo>
                      <a:pt x="98" y="27"/>
                    </a:lnTo>
                    <a:lnTo>
                      <a:pt x="128" y="37"/>
                    </a:lnTo>
                    <a:lnTo>
                      <a:pt x="170" y="56"/>
                    </a:lnTo>
                    <a:lnTo>
                      <a:pt x="205" y="76"/>
                    </a:lnTo>
                    <a:lnTo>
                      <a:pt x="245" y="101"/>
                    </a:lnTo>
                    <a:lnTo>
                      <a:pt x="278" y="127"/>
                    </a:lnTo>
                    <a:lnTo>
                      <a:pt x="310" y="154"/>
                    </a:lnTo>
                    <a:lnTo>
                      <a:pt x="348" y="187"/>
                    </a:lnTo>
                    <a:lnTo>
                      <a:pt x="370" y="213"/>
                    </a:lnTo>
                    <a:lnTo>
                      <a:pt x="400" y="250"/>
                    </a:lnTo>
                    <a:lnTo>
                      <a:pt x="433" y="292"/>
                    </a:lnTo>
                    <a:lnTo>
                      <a:pt x="461" y="331"/>
                    </a:lnTo>
                    <a:lnTo>
                      <a:pt x="479" y="364"/>
                    </a:lnTo>
                    <a:lnTo>
                      <a:pt x="497" y="411"/>
                    </a:lnTo>
                    <a:lnTo>
                      <a:pt x="509" y="450"/>
                    </a:lnTo>
                    <a:lnTo>
                      <a:pt x="516" y="490"/>
                    </a:lnTo>
                    <a:lnTo>
                      <a:pt x="520" y="534"/>
                    </a:lnTo>
                    <a:lnTo>
                      <a:pt x="517" y="561"/>
                    </a:lnTo>
                    <a:lnTo>
                      <a:pt x="511" y="591"/>
                    </a:lnTo>
                    <a:lnTo>
                      <a:pt x="502" y="616"/>
                    </a:lnTo>
                    <a:lnTo>
                      <a:pt x="495" y="639"/>
                    </a:lnTo>
                    <a:lnTo>
                      <a:pt x="485" y="659"/>
                    </a:lnTo>
                    <a:lnTo>
                      <a:pt x="628" y="650"/>
                    </a:lnTo>
                    <a:lnTo>
                      <a:pt x="580" y="678"/>
                    </a:lnTo>
                    <a:lnTo>
                      <a:pt x="534" y="704"/>
                    </a:lnTo>
                    <a:lnTo>
                      <a:pt x="474" y="742"/>
                    </a:lnTo>
                    <a:lnTo>
                      <a:pt x="425" y="781"/>
                    </a:lnTo>
                    <a:lnTo>
                      <a:pt x="384" y="817"/>
                    </a:lnTo>
                    <a:lnTo>
                      <a:pt x="346" y="860"/>
                    </a:lnTo>
                    <a:lnTo>
                      <a:pt x="325" y="823"/>
                    </a:lnTo>
                    <a:lnTo>
                      <a:pt x="304" y="783"/>
                    </a:lnTo>
                    <a:lnTo>
                      <a:pt x="273" y="743"/>
                    </a:lnTo>
                    <a:lnTo>
                      <a:pt x="236" y="712"/>
                    </a:lnTo>
                    <a:lnTo>
                      <a:pt x="216" y="694"/>
                    </a:lnTo>
                    <a:lnTo>
                      <a:pt x="179" y="675"/>
                    </a:lnTo>
                    <a:lnTo>
                      <a:pt x="321" y="667"/>
                    </a:lnTo>
                    <a:lnTo>
                      <a:pt x="337" y="627"/>
                    </a:lnTo>
                    <a:lnTo>
                      <a:pt x="349" y="589"/>
                    </a:lnTo>
                    <a:lnTo>
                      <a:pt x="351" y="547"/>
                    </a:lnTo>
                    <a:lnTo>
                      <a:pt x="351" y="505"/>
                    </a:lnTo>
                    <a:lnTo>
                      <a:pt x="346" y="459"/>
                    </a:lnTo>
                    <a:lnTo>
                      <a:pt x="336" y="418"/>
                    </a:lnTo>
                    <a:lnTo>
                      <a:pt x="321" y="359"/>
                    </a:lnTo>
                    <a:lnTo>
                      <a:pt x="301" y="311"/>
                    </a:lnTo>
                    <a:lnTo>
                      <a:pt x="279" y="269"/>
                    </a:lnTo>
                    <a:lnTo>
                      <a:pt x="251" y="226"/>
                    </a:lnTo>
                    <a:lnTo>
                      <a:pt x="239" y="205"/>
                    </a:lnTo>
                    <a:lnTo>
                      <a:pt x="225" y="187"/>
                    </a:lnTo>
                    <a:lnTo>
                      <a:pt x="213" y="169"/>
                    </a:lnTo>
                    <a:lnTo>
                      <a:pt x="199" y="155"/>
                    </a:lnTo>
                    <a:lnTo>
                      <a:pt x="177" y="123"/>
                    </a:lnTo>
                    <a:lnTo>
                      <a:pt x="155" y="106"/>
                    </a:lnTo>
                    <a:lnTo>
                      <a:pt x="138" y="91"/>
                    </a:lnTo>
                    <a:lnTo>
                      <a:pt x="121" y="76"/>
                    </a:lnTo>
                    <a:lnTo>
                      <a:pt x="105" y="62"/>
                    </a:lnTo>
                    <a:lnTo>
                      <a:pt x="89" y="51"/>
                    </a:lnTo>
                    <a:lnTo>
                      <a:pt x="70" y="37"/>
                    </a:lnTo>
                    <a:lnTo>
                      <a:pt x="47" y="24"/>
                    </a:lnTo>
                    <a:lnTo>
                      <a:pt x="25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 rot="5400000">
              <a:off x="1785600" y="3720600"/>
              <a:ext cx="797400" cy="223560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e3c9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cs-CZ" sz="2800" spc="-1" strike="noStrike">
                  <a:solidFill>
                    <a:srgbClr val="dfd6c3"/>
                  </a:solidFill>
                  <a:latin typeface="Arial"/>
                </a:rPr>
                <a:t>S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5400000">
              <a:off x="7458840" y="3720600"/>
              <a:ext cx="797400" cy="2235960"/>
            </a:xfrm>
            <a:prstGeom prst="cube">
              <a:avLst>
                <a:gd name="adj" fmla="val 16064"/>
              </a:avLst>
            </a:prstGeom>
            <a:gradFill rotWithShape="0">
              <a:gsLst>
                <a:gs pos="0">
                  <a:srgbClr val="1e3c98"/>
                </a:gs>
                <a:gs pos="100000">
                  <a:srgbClr val="33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9320" bIns="49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36800"/>
                  <a:tab algn="l" pos="2073240"/>
                  <a:tab algn="l" pos="3110040"/>
                  <a:tab algn="l" pos="4146480"/>
                  <a:tab algn="l" pos="5183280"/>
                  <a:tab algn="l" pos="6219720"/>
                  <a:tab algn="l" pos="7256520"/>
                  <a:tab algn="l" pos="8292960"/>
                  <a:tab algn="l" pos="9329760"/>
                  <a:tab algn="l" pos="10366200"/>
                </a:tabLst>
              </a:pPr>
              <a:r>
                <a:rPr b="1" lang="en-US" sz="2800" spc="-1" strike="noStrike">
                  <a:solidFill>
                    <a:srgbClr val="dfd6c3"/>
                  </a:solidFill>
                  <a:latin typeface="Arial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704560" y="3976560"/>
              <a:ext cx="991440" cy="924120"/>
              <a:chOff x="5704560" y="3976560"/>
              <a:chExt cx="991440" cy="924120"/>
            </a:xfrm>
          </p:grpSpPr>
          <p:sp>
            <p:nvSpPr>
              <p:cNvPr id="241" name=""/>
              <p:cNvSpPr/>
              <p:nvPr/>
            </p:nvSpPr>
            <p:spPr>
              <a:xfrm>
                <a:off x="5736240" y="3976560"/>
                <a:ext cx="959760" cy="919080"/>
              </a:xfrm>
              <a:custGeom>
                <a:avLst/>
                <a:gdLst/>
                <a:ahLst/>
                <a:rect l="l" t="t" r="r" b="b"/>
                <a:pathLst>
                  <a:path w="664" h="708">
                    <a:moveTo>
                      <a:pt x="54" y="0"/>
                    </a:moveTo>
                    <a:lnTo>
                      <a:pt x="22" y="26"/>
                    </a:lnTo>
                    <a:lnTo>
                      <a:pt x="14" y="53"/>
                    </a:lnTo>
                    <a:lnTo>
                      <a:pt x="8" y="74"/>
                    </a:lnTo>
                    <a:lnTo>
                      <a:pt x="2" y="102"/>
                    </a:lnTo>
                    <a:lnTo>
                      <a:pt x="0" y="133"/>
                    </a:lnTo>
                    <a:lnTo>
                      <a:pt x="4" y="157"/>
                    </a:lnTo>
                    <a:lnTo>
                      <a:pt x="6" y="190"/>
                    </a:lnTo>
                    <a:lnTo>
                      <a:pt x="10" y="224"/>
                    </a:lnTo>
                    <a:lnTo>
                      <a:pt x="17" y="254"/>
                    </a:lnTo>
                    <a:lnTo>
                      <a:pt x="27" y="293"/>
                    </a:lnTo>
                    <a:lnTo>
                      <a:pt x="35" y="320"/>
                    </a:lnTo>
                    <a:lnTo>
                      <a:pt x="54" y="356"/>
                    </a:lnTo>
                    <a:lnTo>
                      <a:pt x="73" y="396"/>
                    </a:lnTo>
                    <a:lnTo>
                      <a:pt x="97" y="434"/>
                    </a:lnTo>
                    <a:lnTo>
                      <a:pt x="115" y="462"/>
                    </a:lnTo>
                    <a:lnTo>
                      <a:pt x="148" y="495"/>
                    </a:lnTo>
                    <a:lnTo>
                      <a:pt x="178" y="521"/>
                    </a:lnTo>
                    <a:lnTo>
                      <a:pt x="212" y="547"/>
                    </a:lnTo>
                    <a:lnTo>
                      <a:pt x="253" y="572"/>
                    </a:lnTo>
                    <a:lnTo>
                      <a:pt x="280" y="583"/>
                    </a:lnTo>
                    <a:lnTo>
                      <a:pt x="312" y="596"/>
                    </a:lnTo>
                    <a:lnTo>
                      <a:pt x="339" y="605"/>
                    </a:lnTo>
                    <a:lnTo>
                      <a:pt x="367" y="612"/>
                    </a:lnTo>
                    <a:lnTo>
                      <a:pt x="390" y="616"/>
                    </a:lnTo>
                    <a:lnTo>
                      <a:pt x="281" y="707"/>
                    </a:lnTo>
                    <a:lnTo>
                      <a:pt x="333" y="695"/>
                    </a:lnTo>
                    <a:lnTo>
                      <a:pt x="394" y="681"/>
                    </a:lnTo>
                    <a:lnTo>
                      <a:pt x="460" y="668"/>
                    </a:lnTo>
                    <a:lnTo>
                      <a:pt x="526" y="657"/>
                    </a:lnTo>
                    <a:lnTo>
                      <a:pt x="572" y="656"/>
                    </a:lnTo>
                    <a:lnTo>
                      <a:pt x="640" y="663"/>
                    </a:lnTo>
                    <a:lnTo>
                      <a:pt x="663" y="643"/>
                    </a:lnTo>
                    <a:lnTo>
                      <a:pt x="639" y="612"/>
                    </a:lnTo>
                    <a:lnTo>
                      <a:pt x="613" y="580"/>
                    </a:lnTo>
                    <a:lnTo>
                      <a:pt x="596" y="539"/>
                    </a:lnTo>
                    <a:lnTo>
                      <a:pt x="586" y="504"/>
                    </a:lnTo>
                    <a:lnTo>
                      <a:pt x="582" y="482"/>
                    </a:lnTo>
                    <a:lnTo>
                      <a:pt x="587" y="452"/>
                    </a:lnTo>
                    <a:lnTo>
                      <a:pt x="494" y="528"/>
                    </a:lnTo>
                    <a:lnTo>
                      <a:pt x="446" y="517"/>
                    </a:lnTo>
                    <a:lnTo>
                      <a:pt x="406" y="502"/>
                    </a:lnTo>
                    <a:lnTo>
                      <a:pt x="364" y="482"/>
                    </a:lnTo>
                    <a:lnTo>
                      <a:pt x="325" y="461"/>
                    </a:lnTo>
                    <a:lnTo>
                      <a:pt x="284" y="433"/>
                    </a:lnTo>
                    <a:lnTo>
                      <a:pt x="250" y="408"/>
                    </a:lnTo>
                    <a:lnTo>
                      <a:pt x="203" y="367"/>
                    </a:lnTo>
                    <a:lnTo>
                      <a:pt x="171" y="332"/>
                    </a:lnTo>
                    <a:lnTo>
                      <a:pt x="145" y="298"/>
                    </a:lnTo>
                    <a:lnTo>
                      <a:pt x="119" y="259"/>
                    </a:lnTo>
                    <a:lnTo>
                      <a:pt x="107" y="241"/>
                    </a:lnTo>
                    <a:lnTo>
                      <a:pt x="96" y="224"/>
                    </a:lnTo>
                    <a:lnTo>
                      <a:pt x="88" y="208"/>
                    </a:lnTo>
                    <a:lnTo>
                      <a:pt x="82" y="192"/>
                    </a:lnTo>
                    <a:lnTo>
                      <a:pt x="67" y="164"/>
                    </a:lnTo>
                    <a:lnTo>
                      <a:pt x="64" y="143"/>
                    </a:lnTo>
                    <a:lnTo>
                      <a:pt x="59" y="125"/>
                    </a:lnTo>
                    <a:lnTo>
                      <a:pt x="54" y="108"/>
                    </a:lnTo>
                    <a:lnTo>
                      <a:pt x="50" y="91"/>
                    </a:lnTo>
                    <a:lnTo>
                      <a:pt x="50" y="77"/>
                    </a:lnTo>
                    <a:lnTo>
                      <a:pt x="48" y="59"/>
                    </a:lnTo>
                    <a:lnTo>
                      <a:pt x="49" y="39"/>
                    </a:lnTo>
                    <a:lnTo>
                      <a:pt x="50" y="19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04560" y="4008600"/>
                <a:ext cx="958320" cy="892080"/>
              </a:xfrm>
              <a:custGeom>
                <a:avLst/>
                <a:gdLst/>
                <a:ahLst/>
                <a:rect l="l" t="t" r="r" b="b"/>
                <a:pathLst>
                  <a:path w="663" h="687">
                    <a:moveTo>
                      <a:pt x="46" y="0"/>
                    </a:moveTo>
                    <a:lnTo>
                      <a:pt x="31" y="27"/>
                    </a:lnTo>
                    <a:lnTo>
                      <a:pt x="22" y="49"/>
                    </a:lnTo>
                    <a:lnTo>
                      <a:pt x="17" y="69"/>
                    </a:lnTo>
                    <a:lnTo>
                      <a:pt x="9" y="91"/>
                    </a:lnTo>
                    <a:lnTo>
                      <a:pt x="2" y="123"/>
                    </a:lnTo>
                    <a:lnTo>
                      <a:pt x="0" y="154"/>
                    </a:lnTo>
                    <a:lnTo>
                      <a:pt x="2" y="188"/>
                    </a:lnTo>
                    <a:lnTo>
                      <a:pt x="7" y="220"/>
                    </a:lnTo>
                    <a:lnTo>
                      <a:pt x="13" y="251"/>
                    </a:lnTo>
                    <a:lnTo>
                      <a:pt x="23" y="290"/>
                    </a:lnTo>
                    <a:lnTo>
                      <a:pt x="35" y="316"/>
                    </a:lnTo>
                    <a:lnTo>
                      <a:pt x="53" y="351"/>
                    </a:lnTo>
                    <a:lnTo>
                      <a:pt x="73" y="391"/>
                    </a:lnTo>
                    <a:lnTo>
                      <a:pt x="95" y="428"/>
                    </a:lnTo>
                    <a:lnTo>
                      <a:pt x="115" y="455"/>
                    </a:lnTo>
                    <a:lnTo>
                      <a:pt x="149" y="489"/>
                    </a:lnTo>
                    <a:lnTo>
                      <a:pt x="179" y="515"/>
                    </a:lnTo>
                    <a:lnTo>
                      <a:pt x="213" y="541"/>
                    </a:lnTo>
                    <a:lnTo>
                      <a:pt x="253" y="565"/>
                    </a:lnTo>
                    <a:lnTo>
                      <a:pt x="279" y="577"/>
                    </a:lnTo>
                    <a:lnTo>
                      <a:pt x="313" y="589"/>
                    </a:lnTo>
                    <a:lnTo>
                      <a:pt x="340" y="598"/>
                    </a:lnTo>
                    <a:lnTo>
                      <a:pt x="367" y="606"/>
                    </a:lnTo>
                    <a:lnTo>
                      <a:pt x="391" y="611"/>
                    </a:lnTo>
                    <a:lnTo>
                      <a:pt x="301" y="686"/>
                    </a:lnTo>
                    <a:lnTo>
                      <a:pt x="355" y="672"/>
                    </a:lnTo>
                    <a:lnTo>
                      <a:pt x="407" y="662"/>
                    </a:lnTo>
                    <a:lnTo>
                      <a:pt x="476" y="647"/>
                    </a:lnTo>
                    <a:lnTo>
                      <a:pt x="542" y="640"/>
                    </a:lnTo>
                    <a:lnTo>
                      <a:pt x="598" y="636"/>
                    </a:lnTo>
                    <a:lnTo>
                      <a:pt x="662" y="637"/>
                    </a:lnTo>
                    <a:lnTo>
                      <a:pt x="638" y="607"/>
                    </a:lnTo>
                    <a:lnTo>
                      <a:pt x="613" y="574"/>
                    </a:lnTo>
                    <a:lnTo>
                      <a:pt x="593" y="536"/>
                    </a:lnTo>
                    <a:lnTo>
                      <a:pt x="585" y="500"/>
                    </a:lnTo>
                    <a:lnTo>
                      <a:pt x="579" y="479"/>
                    </a:lnTo>
                    <a:lnTo>
                      <a:pt x="584" y="448"/>
                    </a:lnTo>
                    <a:lnTo>
                      <a:pt x="493" y="524"/>
                    </a:lnTo>
                    <a:lnTo>
                      <a:pt x="444" y="511"/>
                    </a:lnTo>
                    <a:lnTo>
                      <a:pt x="403" y="498"/>
                    </a:lnTo>
                    <a:lnTo>
                      <a:pt x="362" y="477"/>
                    </a:lnTo>
                    <a:lnTo>
                      <a:pt x="323" y="456"/>
                    </a:lnTo>
                    <a:lnTo>
                      <a:pt x="283" y="429"/>
                    </a:lnTo>
                    <a:lnTo>
                      <a:pt x="249" y="403"/>
                    </a:lnTo>
                    <a:lnTo>
                      <a:pt x="202" y="364"/>
                    </a:lnTo>
                    <a:lnTo>
                      <a:pt x="168" y="328"/>
                    </a:lnTo>
                    <a:lnTo>
                      <a:pt x="140" y="295"/>
                    </a:lnTo>
                    <a:lnTo>
                      <a:pt x="116" y="256"/>
                    </a:lnTo>
                    <a:lnTo>
                      <a:pt x="103" y="238"/>
                    </a:lnTo>
                    <a:lnTo>
                      <a:pt x="94" y="221"/>
                    </a:lnTo>
                    <a:lnTo>
                      <a:pt x="84" y="206"/>
                    </a:lnTo>
                    <a:lnTo>
                      <a:pt x="77" y="190"/>
                    </a:lnTo>
                    <a:lnTo>
                      <a:pt x="63" y="162"/>
                    </a:lnTo>
                    <a:lnTo>
                      <a:pt x="57" y="140"/>
                    </a:lnTo>
                    <a:lnTo>
                      <a:pt x="54" y="124"/>
                    </a:lnTo>
                    <a:lnTo>
                      <a:pt x="49" y="107"/>
                    </a:lnTo>
                    <a:lnTo>
                      <a:pt x="45" y="89"/>
                    </a:lnTo>
                    <a:lnTo>
                      <a:pt x="44" y="75"/>
                    </a:lnTo>
                    <a:lnTo>
                      <a:pt x="42" y="57"/>
                    </a:lnTo>
                    <a:lnTo>
                      <a:pt x="42" y="38"/>
                    </a:lnTo>
                    <a:lnTo>
                      <a:pt x="42" y="19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19840" y="3976560"/>
              <a:ext cx="900360" cy="947520"/>
              <a:chOff x="3219840" y="3976560"/>
              <a:chExt cx="900360" cy="947520"/>
            </a:xfrm>
          </p:grpSpPr>
          <p:sp>
            <p:nvSpPr>
              <p:cNvPr id="244" name=""/>
              <p:cNvSpPr/>
              <p:nvPr/>
            </p:nvSpPr>
            <p:spPr>
              <a:xfrm>
                <a:off x="3219840" y="3976560"/>
                <a:ext cx="871560" cy="941040"/>
              </a:xfrm>
              <a:custGeom>
                <a:avLst/>
                <a:gdLst/>
                <a:ahLst/>
                <a:rect l="l" t="t" r="r" b="b"/>
                <a:pathLst>
                  <a:path w="603" h="725">
                    <a:moveTo>
                      <a:pt x="553" y="0"/>
                    </a:moveTo>
                    <a:lnTo>
                      <a:pt x="582" y="27"/>
                    </a:lnTo>
                    <a:lnTo>
                      <a:pt x="589" y="55"/>
                    </a:lnTo>
                    <a:lnTo>
                      <a:pt x="595" y="76"/>
                    </a:lnTo>
                    <a:lnTo>
                      <a:pt x="600" y="104"/>
                    </a:lnTo>
                    <a:lnTo>
                      <a:pt x="602" y="136"/>
                    </a:lnTo>
                    <a:lnTo>
                      <a:pt x="598" y="161"/>
                    </a:lnTo>
                    <a:lnTo>
                      <a:pt x="597" y="195"/>
                    </a:lnTo>
                    <a:lnTo>
                      <a:pt x="593" y="229"/>
                    </a:lnTo>
                    <a:lnTo>
                      <a:pt x="587" y="260"/>
                    </a:lnTo>
                    <a:lnTo>
                      <a:pt x="578" y="300"/>
                    </a:lnTo>
                    <a:lnTo>
                      <a:pt x="570" y="328"/>
                    </a:lnTo>
                    <a:lnTo>
                      <a:pt x="553" y="365"/>
                    </a:lnTo>
                    <a:lnTo>
                      <a:pt x="536" y="406"/>
                    </a:lnTo>
                    <a:lnTo>
                      <a:pt x="514" y="444"/>
                    </a:lnTo>
                    <a:lnTo>
                      <a:pt x="498" y="473"/>
                    </a:lnTo>
                    <a:lnTo>
                      <a:pt x="468" y="507"/>
                    </a:lnTo>
                    <a:lnTo>
                      <a:pt x="440" y="534"/>
                    </a:lnTo>
                    <a:lnTo>
                      <a:pt x="409" y="560"/>
                    </a:lnTo>
                    <a:lnTo>
                      <a:pt x="372" y="586"/>
                    </a:lnTo>
                    <a:lnTo>
                      <a:pt x="348" y="598"/>
                    </a:lnTo>
                    <a:lnTo>
                      <a:pt x="319" y="610"/>
                    </a:lnTo>
                    <a:lnTo>
                      <a:pt x="294" y="619"/>
                    </a:lnTo>
                    <a:lnTo>
                      <a:pt x="269" y="627"/>
                    </a:lnTo>
                    <a:lnTo>
                      <a:pt x="248" y="631"/>
                    </a:lnTo>
                    <a:lnTo>
                      <a:pt x="347" y="724"/>
                    </a:lnTo>
                    <a:lnTo>
                      <a:pt x="300" y="711"/>
                    </a:lnTo>
                    <a:lnTo>
                      <a:pt x="244" y="697"/>
                    </a:lnTo>
                    <a:lnTo>
                      <a:pt x="185" y="684"/>
                    </a:lnTo>
                    <a:lnTo>
                      <a:pt x="124" y="673"/>
                    </a:lnTo>
                    <a:lnTo>
                      <a:pt x="82" y="671"/>
                    </a:lnTo>
                    <a:lnTo>
                      <a:pt x="21" y="679"/>
                    </a:lnTo>
                    <a:lnTo>
                      <a:pt x="0" y="658"/>
                    </a:lnTo>
                    <a:lnTo>
                      <a:pt x="22" y="627"/>
                    </a:lnTo>
                    <a:lnTo>
                      <a:pt x="45" y="594"/>
                    </a:lnTo>
                    <a:lnTo>
                      <a:pt x="61" y="552"/>
                    </a:lnTo>
                    <a:lnTo>
                      <a:pt x="70" y="516"/>
                    </a:lnTo>
                    <a:lnTo>
                      <a:pt x="73" y="493"/>
                    </a:lnTo>
                    <a:lnTo>
                      <a:pt x="69" y="462"/>
                    </a:lnTo>
                    <a:lnTo>
                      <a:pt x="154" y="541"/>
                    </a:lnTo>
                    <a:lnTo>
                      <a:pt x="197" y="529"/>
                    </a:lnTo>
                    <a:lnTo>
                      <a:pt x="234" y="515"/>
                    </a:lnTo>
                    <a:lnTo>
                      <a:pt x="272" y="494"/>
                    </a:lnTo>
                    <a:lnTo>
                      <a:pt x="307" y="472"/>
                    </a:lnTo>
                    <a:lnTo>
                      <a:pt x="344" y="443"/>
                    </a:lnTo>
                    <a:lnTo>
                      <a:pt x="375" y="418"/>
                    </a:lnTo>
                    <a:lnTo>
                      <a:pt x="417" y="376"/>
                    </a:lnTo>
                    <a:lnTo>
                      <a:pt x="446" y="340"/>
                    </a:lnTo>
                    <a:lnTo>
                      <a:pt x="471" y="305"/>
                    </a:lnTo>
                    <a:lnTo>
                      <a:pt x="494" y="265"/>
                    </a:lnTo>
                    <a:lnTo>
                      <a:pt x="505" y="246"/>
                    </a:lnTo>
                    <a:lnTo>
                      <a:pt x="515" y="229"/>
                    </a:lnTo>
                    <a:lnTo>
                      <a:pt x="522" y="213"/>
                    </a:lnTo>
                    <a:lnTo>
                      <a:pt x="528" y="197"/>
                    </a:lnTo>
                    <a:lnTo>
                      <a:pt x="541" y="168"/>
                    </a:lnTo>
                    <a:lnTo>
                      <a:pt x="544" y="146"/>
                    </a:lnTo>
                    <a:lnTo>
                      <a:pt x="549" y="128"/>
                    </a:lnTo>
                    <a:lnTo>
                      <a:pt x="553" y="111"/>
                    </a:lnTo>
                    <a:lnTo>
                      <a:pt x="557" y="93"/>
                    </a:lnTo>
                    <a:lnTo>
                      <a:pt x="557" y="78"/>
                    </a:lnTo>
                    <a:lnTo>
                      <a:pt x="559" y="60"/>
                    </a:lnTo>
                    <a:lnTo>
                      <a:pt x="558" y="40"/>
                    </a:lnTo>
                    <a:lnTo>
                      <a:pt x="557" y="20"/>
                    </a:lnTo>
                    <a:lnTo>
                      <a:pt x="553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49720" y="4010400"/>
                <a:ext cx="870480" cy="913680"/>
              </a:xfrm>
              <a:custGeom>
                <a:avLst/>
                <a:gdLst/>
                <a:ahLst/>
                <a:rect l="l" t="t" r="r" b="b"/>
                <a:pathLst>
                  <a:path w="602" h="704">
                    <a:moveTo>
                      <a:pt x="559" y="0"/>
                    </a:moveTo>
                    <a:lnTo>
                      <a:pt x="573" y="28"/>
                    </a:lnTo>
                    <a:lnTo>
                      <a:pt x="581" y="50"/>
                    </a:lnTo>
                    <a:lnTo>
                      <a:pt x="586" y="71"/>
                    </a:lnTo>
                    <a:lnTo>
                      <a:pt x="593" y="94"/>
                    </a:lnTo>
                    <a:lnTo>
                      <a:pt x="599" y="126"/>
                    </a:lnTo>
                    <a:lnTo>
                      <a:pt x="601" y="158"/>
                    </a:lnTo>
                    <a:lnTo>
                      <a:pt x="599" y="193"/>
                    </a:lnTo>
                    <a:lnTo>
                      <a:pt x="595" y="226"/>
                    </a:lnTo>
                    <a:lnTo>
                      <a:pt x="589" y="257"/>
                    </a:lnTo>
                    <a:lnTo>
                      <a:pt x="580" y="297"/>
                    </a:lnTo>
                    <a:lnTo>
                      <a:pt x="569" y="324"/>
                    </a:lnTo>
                    <a:lnTo>
                      <a:pt x="553" y="360"/>
                    </a:lnTo>
                    <a:lnTo>
                      <a:pt x="535" y="401"/>
                    </a:lnTo>
                    <a:lnTo>
                      <a:pt x="515" y="439"/>
                    </a:lnTo>
                    <a:lnTo>
                      <a:pt x="497" y="466"/>
                    </a:lnTo>
                    <a:lnTo>
                      <a:pt x="466" y="501"/>
                    </a:lnTo>
                    <a:lnTo>
                      <a:pt x="438" y="528"/>
                    </a:lnTo>
                    <a:lnTo>
                      <a:pt x="407" y="554"/>
                    </a:lnTo>
                    <a:lnTo>
                      <a:pt x="371" y="579"/>
                    </a:lnTo>
                    <a:lnTo>
                      <a:pt x="348" y="592"/>
                    </a:lnTo>
                    <a:lnTo>
                      <a:pt x="317" y="604"/>
                    </a:lnTo>
                    <a:lnTo>
                      <a:pt x="292" y="613"/>
                    </a:lnTo>
                    <a:lnTo>
                      <a:pt x="268" y="621"/>
                    </a:lnTo>
                    <a:lnTo>
                      <a:pt x="246" y="626"/>
                    </a:lnTo>
                    <a:lnTo>
                      <a:pt x="328" y="703"/>
                    </a:lnTo>
                    <a:lnTo>
                      <a:pt x="279" y="689"/>
                    </a:lnTo>
                    <a:lnTo>
                      <a:pt x="232" y="678"/>
                    </a:lnTo>
                    <a:lnTo>
                      <a:pt x="169" y="663"/>
                    </a:lnTo>
                    <a:lnTo>
                      <a:pt x="109" y="656"/>
                    </a:lnTo>
                    <a:lnTo>
                      <a:pt x="58" y="652"/>
                    </a:lnTo>
                    <a:lnTo>
                      <a:pt x="0" y="653"/>
                    </a:lnTo>
                    <a:lnTo>
                      <a:pt x="22" y="622"/>
                    </a:lnTo>
                    <a:lnTo>
                      <a:pt x="44" y="588"/>
                    </a:lnTo>
                    <a:lnTo>
                      <a:pt x="62" y="549"/>
                    </a:lnTo>
                    <a:lnTo>
                      <a:pt x="70" y="512"/>
                    </a:lnTo>
                    <a:lnTo>
                      <a:pt x="75" y="491"/>
                    </a:lnTo>
                    <a:lnTo>
                      <a:pt x="71" y="459"/>
                    </a:lnTo>
                    <a:lnTo>
                      <a:pt x="154" y="537"/>
                    </a:lnTo>
                    <a:lnTo>
                      <a:pt x="198" y="524"/>
                    </a:lnTo>
                    <a:lnTo>
                      <a:pt x="235" y="510"/>
                    </a:lnTo>
                    <a:lnTo>
                      <a:pt x="272" y="489"/>
                    </a:lnTo>
                    <a:lnTo>
                      <a:pt x="308" y="468"/>
                    </a:lnTo>
                    <a:lnTo>
                      <a:pt x="344" y="439"/>
                    </a:lnTo>
                    <a:lnTo>
                      <a:pt x="375" y="413"/>
                    </a:lnTo>
                    <a:lnTo>
                      <a:pt x="417" y="373"/>
                    </a:lnTo>
                    <a:lnTo>
                      <a:pt x="448" y="336"/>
                    </a:lnTo>
                    <a:lnTo>
                      <a:pt x="474" y="302"/>
                    </a:lnTo>
                    <a:lnTo>
                      <a:pt x="496" y="262"/>
                    </a:lnTo>
                    <a:lnTo>
                      <a:pt x="508" y="244"/>
                    </a:lnTo>
                    <a:lnTo>
                      <a:pt x="516" y="226"/>
                    </a:lnTo>
                    <a:lnTo>
                      <a:pt x="525" y="211"/>
                    </a:lnTo>
                    <a:lnTo>
                      <a:pt x="531" y="195"/>
                    </a:lnTo>
                    <a:lnTo>
                      <a:pt x="544" y="166"/>
                    </a:lnTo>
                    <a:lnTo>
                      <a:pt x="549" y="144"/>
                    </a:lnTo>
                    <a:lnTo>
                      <a:pt x="552" y="127"/>
                    </a:lnTo>
                    <a:lnTo>
                      <a:pt x="557" y="109"/>
                    </a:lnTo>
                    <a:lnTo>
                      <a:pt x="560" y="92"/>
                    </a:lnTo>
                    <a:lnTo>
                      <a:pt x="561" y="76"/>
                    </a:lnTo>
                    <a:lnTo>
                      <a:pt x="563" y="59"/>
                    </a:lnTo>
                    <a:lnTo>
                      <a:pt x="563" y="39"/>
                    </a:lnTo>
                    <a:lnTo>
                      <a:pt x="563" y="19"/>
                    </a:lnTo>
                    <a:lnTo>
                      <a:pt x="559" y="0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799800" y="2265120"/>
              <a:ext cx="912240" cy="1191600"/>
              <a:chOff x="3799800" y="2265120"/>
              <a:chExt cx="912240" cy="1191600"/>
            </a:xfrm>
          </p:grpSpPr>
          <p:sp>
            <p:nvSpPr>
              <p:cNvPr id="247" name=""/>
              <p:cNvSpPr/>
              <p:nvPr/>
            </p:nvSpPr>
            <p:spPr>
              <a:xfrm>
                <a:off x="3799800" y="2271240"/>
                <a:ext cx="883440" cy="1185480"/>
              </a:xfrm>
              <a:custGeom>
                <a:avLst/>
                <a:gdLst/>
                <a:ahLst/>
                <a:rect l="l" t="t" r="r" b="b"/>
                <a:pathLst>
                  <a:path w="611" h="913">
                    <a:moveTo>
                      <a:pt x="560" y="912"/>
                    </a:moveTo>
                    <a:lnTo>
                      <a:pt x="590" y="878"/>
                    </a:lnTo>
                    <a:lnTo>
                      <a:pt x="597" y="843"/>
                    </a:lnTo>
                    <a:lnTo>
                      <a:pt x="603" y="817"/>
                    </a:lnTo>
                    <a:lnTo>
                      <a:pt x="608" y="781"/>
                    </a:lnTo>
                    <a:lnTo>
                      <a:pt x="610" y="740"/>
                    </a:lnTo>
                    <a:lnTo>
                      <a:pt x="606" y="710"/>
                    </a:lnTo>
                    <a:lnTo>
                      <a:pt x="605" y="666"/>
                    </a:lnTo>
                    <a:lnTo>
                      <a:pt x="601" y="623"/>
                    </a:lnTo>
                    <a:lnTo>
                      <a:pt x="595" y="584"/>
                    </a:lnTo>
                    <a:lnTo>
                      <a:pt x="586" y="534"/>
                    </a:lnTo>
                    <a:lnTo>
                      <a:pt x="577" y="499"/>
                    </a:lnTo>
                    <a:lnTo>
                      <a:pt x="560" y="452"/>
                    </a:lnTo>
                    <a:lnTo>
                      <a:pt x="543" y="401"/>
                    </a:lnTo>
                    <a:lnTo>
                      <a:pt x="521" y="353"/>
                    </a:lnTo>
                    <a:lnTo>
                      <a:pt x="504" y="316"/>
                    </a:lnTo>
                    <a:lnTo>
                      <a:pt x="474" y="274"/>
                    </a:lnTo>
                    <a:lnTo>
                      <a:pt x="446" y="240"/>
                    </a:lnTo>
                    <a:lnTo>
                      <a:pt x="415" y="207"/>
                    </a:lnTo>
                    <a:lnTo>
                      <a:pt x="377" y="174"/>
                    </a:lnTo>
                    <a:lnTo>
                      <a:pt x="353" y="159"/>
                    </a:lnTo>
                    <a:lnTo>
                      <a:pt x="323" y="144"/>
                    </a:lnTo>
                    <a:lnTo>
                      <a:pt x="298" y="132"/>
                    </a:lnTo>
                    <a:lnTo>
                      <a:pt x="272" y="122"/>
                    </a:lnTo>
                    <a:lnTo>
                      <a:pt x="251" y="117"/>
                    </a:lnTo>
                    <a:lnTo>
                      <a:pt x="352" y="0"/>
                    </a:lnTo>
                    <a:lnTo>
                      <a:pt x="304" y="16"/>
                    </a:lnTo>
                    <a:lnTo>
                      <a:pt x="247" y="34"/>
                    </a:lnTo>
                    <a:lnTo>
                      <a:pt x="187" y="51"/>
                    </a:lnTo>
                    <a:lnTo>
                      <a:pt x="126" y="64"/>
                    </a:lnTo>
                    <a:lnTo>
                      <a:pt x="83" y="66"/>
                    </a:lnTo>
                    <a:lnTo>
                      <a:pt x="21" y="57"/>
                    </a:lnTo>
                    <a:lnTo>
                      <a:pt x="0" y="83"/>
                    </a:lnTo>
                    <a:lnTo>
                      <a:pt x="22" y="123"/>
                    </a:lnTo>
                    <a:lnTo>
                      <a:pt x="46" y="164"/>
                    </a:lnTo>
                    <a:lnTo>
                      <a:pt x="62" y="217"/>
                    </a:lnTo>
                    <a:lnTo>
                      <a:pt x="71" y="262"/>
                    </a:lnTo>
                    <a:lnTo>
                      <a:pt x="74" y="290"/>
                    </a:lnTo>
                    <a:lnTo>
                      <a:pt x="70" y="329"/>
                    </a:lnTo>
                    <a:lnTo>
                      <a:pt x="156" y="231"/>
                    </a:lnTo>
                    <a:lnTo>
                      <a:pt x="199" y="246"/>
                    </a:lnTo>
                    <a:lnTo>
                      <a:pt x="237" y="264"/>
                    </a:lnTo>
                    <a:lnTo>
                      <a:pt x="276" y="290"/>
                    </a:lnTo>
                    <a:lnTo>
                      <a:pt x="311" y="317"/>
                    </a:lnTo>
                    <a:lnTo>
                      <a:pt x="349" y="354"/>
                    </a:lnTo>
                    <a:lnTo>
                      <a:pt x="380" y="386"/>
                    </a:lnTo>
                    <a:lnTo>
                      <a:pt x="423" y="438"/>
                    </a:lnTo>
                    <a:lnTo>
                      <a:pt x="452" y="484"/>
                    </a:lnTo>
                    <a:lnTo>
                      <a:pt x="477" y="528"/>
                    </a:lnTo>
                    <a:lnTo>
                      <a:pt x="500" y="578"/>
                    </a:lnTo>
                    <a:lnTo>
                      <a:pt x="511" y="602"/>
                    </a:lnTo>
                    <a:lnTo>
                      <a:pt x="522" y="623"/>
                    </a:lnTo>
                    <a:lnTo>
                      <a:pt x="529" y="643"/>
                    </a:lnTo>
                    <a:lnTo>
                      <a:pt x="535" y="664"/>
                    </a:lnTo>
                    <a:lnTo>
                      <a:pt x="548" y="700"/>
                    </a:lnTo>
                    <a:lnTo>
                      <a:pt x="551" y="728"/>
                    </a:lnTo>
                    <a:lnTo>
                      <a:pt x="556" y="750"/>
                    </a:lnTo>
                    <a:lnTo>
                      <a:pt x="560" y="773"/>
                    </a:lnTo>
                    <a:lnTo>
                      <a:pt x="564" y="795"/>
                    </a:lnTo>
                    <a:lnTo>
                      <a:pt x="564" y="813"/>
                    </a:lnTo>
                    <a:lnTo>
                      <a:pt x="566" y="836"/>
                    </a:lnTo>
                    <a:lnTo>
                      <a:pt x="565" y="862"/>
                    </a:lnTo>
                    <a:lnTo>
                      <a:pt x="564" y="887"/>
                    </a:lnTo>
                    <a:lnTo>
                      <a:pt x="560" y="912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30040" y="2265120"/>
                <a:ext cx="882000" cy="1150200"/>
              </a:xfrm>
              <a:custGeom>
                <a:avLst/>
                <a:gdLst/>
                <a:ahLst/>
                <a:rect l="l" t="t" r="r" b="b"/>
                <a:pathLst>
                  <a:path w="610" h="886">
                    <a:moveTo>
                      <a:pt x="566" y="885"/>
                    </a:moveTo>
                    <a:lnTo>
                      <a:pt x="581" y="850"/>
                    </a:lnTo>
                    <a:lnTo>
                      <a:pt x="589" y="822"/>
                    </a:lnTo>
                    <a:lnTo>
                      <a:pt x="594" y="796"/>
                    </a:lnTo>
                    <a:lnTo>
                      <a:pt x="601" y="767"/>
                    </a:lnTo>
                    <a:lnTo>
                      <a:pt x="607" y="726"/>
                    </a:lnTo>
                    <a:lnTo>
                      <a:pt x="609" y="687"/>
                    </a:lnTo>
                    <a:lnTo>
                      <a:pt x="607" y="643"/>
                    </a:lnTo>
                    <a:lnTo>
                      <a:pt x="603" y="601"/>
                    </a:lnTo>
                    <a:lnTo>
                      <a:pt x="597" y="561"/>
                    </a:lnTo>
                    <a:lnTo>
                      <a:pt x="588" y="511"/>
                    </a:lnTo>
                    <a:lnTo>
                      <a:pt x="576" y="477"/>
                    </a:lnTo>
                    <a:lnTo>
                      <a:pt x="560" y="432"/>
                    </a:lnTo>
                    <a:lnTo>
                      <a:pt x="542" y="380"/>
                    </a:lnTo>
                    <a:lnTo>
                      <a:pt x="522" y="333"/>
                    </a:lnTo>
                    <a:lnTo>
                      <a:pt x="503" y="298"/>
                    </a:lnTo>
                    <a:lnTo>
                      <a:pt x="472" y="254"/>
                    </a:lnTo>
                    <a:lnTo>
                      <a:pt x="444" y="220"/>
                    </a:lnTo>
                    <a:lnTo>
                      <a:pt x="413" y="188"/>
                    </a:lnTo>
                    <a:lnTo>
                      <a:pt x="376" y="156"/>
                    </a:lnTo>
                    <a:lnTo>
                      <a:pt x="353" y="140"/>
                    </a:lnTo>
                    <a:lnTo>
                      <a:pt x="321" y="125"/>
                    </a:lnTo>
                    <a:lnTo>
                      <a:pt x="296" y="114"/>
                    </a:lnTo>
                    <a:lnTo>
                      <a:pt x="271" y="103"/>
                    </a:lnTo>
                    <a:lnTo>
                      <a:pt x="249" y="97"/>
                    </a:lnTo>
                    <a:lnTo>
                      <a:pt x="332" y="0"/>
                    </a:lnTo>
                    <a:lnTo>
                      <a:pt x="283" y="17"/>
                    </a:lnTo>
                    <a:lnTo>
                      <a:pt x="235" y="32"/>
                    </a:lnTo>
                    <a:lnTo>
                      <a:pt x="171" y="50"/>
                    </a:lnTo>
                    <a:lnTo>
                      <a:pt x="111" y="59"/>
                    </a:lnTo>
                    <a:lnTo>
                      <a:pt x="59" y="65"/>
                    </a:lnTo>
                    <a:lnTo>
                      <a:pt x="0" y="63"/>
                    </a:lnTo>
                    <a:lnTo>
                      <a:pt x="22" y="102"/>
                    </a:lnTo>
                    <a:lnTo>
                      <a:pt x="45" y="144"/>
                    </a:lnTo>
                    <a:lnTo>
                      <a:pt x="63" y="193"/>
                    </a:lnTo>
                    <a:lnTo>
                      <a:pt x="71" y="240"/>
                    </a:lnTo>
                    <a:lnTo>
                      <a:pt x="76" y="266"/>
                    </a:lnTo>
                    <a:lnTo>
                      <a:pt x="72" y="307"/>
                    </a:lnTo>
                    <a:lnTo>
                      <a:pt x="156" y="209"/>
                    </a:lnTo>
                    <a:lnTo>
                      <a:pt x="200" y="226"/>
                    </a:lnTo>
                    <a:lnTo>
                      <a:pt x="238" y="242"/>
                    </a:lnTo>
                    <a:lnTo>
                      <a:pt x="276" y="269"/>
                    </a:lnTo>
                    <a:lnTo>
                      <a:pt x="312" y="296"/>
                    </a:lnTo>
                    <a:lnTo>
                      <a:pt x="349" y="332"/>
                    </a:lnTo>
                    <a:lnTo>
                      <a:pt x="380" y="365"/>
                    </a:lnTo>
                    <a:lnTo>
                      <a:pt x="423" y="416"/>
                    </a:lnTo>
                    <a:lnTo>
                      <a:pt x="454" y="462"/>
                    </a:lnTo>
                    <a:lnTo>
                      <a:pt x="480" y="505"/>
                    </a:lnTo>
                    <a:lnTo>
                      <a:pt x="502" y="555"/>
                    </a:lnTo>
                    <a:lnTo>
                      <a:pt x="514" y="578"/>
                    </a:lnTo>
                    <a:lnTo>
                      <a:pt x="523" y="600"/>
                    </a:lnTo>
                    <a:lnTo>
                      <a:pt x="532" y="619"/>
                    </a:lnTo>
                    <a:lnTo>
                      <a:pt x="538" y="639"/>
                    </a:lnTo>
                    <a:lnTo>
                      <a:pt x="551" y="677"/>
                    </a:lnTo>
                    <a:lnTo>
                      <a:pt x="556" y="704"/>
                    </a:lnTo>
                    <a:lnTo>
                      <a:pt x="559" y="725"/>
                    </a:lnTo>
                    <a:lnTo>
                      <a:pt x="564" y="747"/>
                    </a:lnTo>
                    <a:lnTo>
                      <a:pt x="567" y="770"/>
                    </a:lnTo>
                    <a:lnTo>
                      <a:pt x="568" y="789"/>
                    </a:lnTo>
                    <a:lnTo>
                      <a:pt x="570" y="811"/>
                    </a:lnTo>
                    <a:lnTo>
                      <a:pt x="570" y="836"/>
                    </a:lnTo>
                    <a:lnTo>
                      <a:pt x="570" y="861"/>
                    </a:lnTo>
                    <a:lnTo>
                      <a:pt x="566" y="885"/>
                    </a:lnTo>
                  </a:path>
                </a:pathLst>
              </a:custGeom>
              <a:solidFill>
                <a:srgbClr val="d69b80"/>
              </a:solidFill>
              <a:ln cap="rnd" w="12600">
                <a:solidFill>
                  <a:srgbClr val="482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1371600" y="457200"/>
            <a:ext cx="6962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iscount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90720" y="45720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Allow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01760" y="3106800"/>
            <a:ext cx="2379600" cy="1611360"/>
          </a:xfrm>
          <a:prstGeom prst="rect">
            <a:avLst/>
          </a:prstGeom>
          <a:solidFill>
            <a:srgbClr val="33cc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on K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llow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902200" y="1776240"/>
            <a:ext cx="2784600" cy="4700520"/>
            <a:chOff x="5902200" y="1776240"/>
            <a:chExt cx="2784600" cy="4700520"/>
          </a:xfrm>
        </p:grpSpPr>
        <p:sp>
          <p:nvSpPr>
            <p:cNvPr id="253" name=""/>
            <p:cNvSpPr/>
            <p:nvPr/>
          </p:nvSpPr>
          <p:spPr>
            <a:xfrm>
              <a:off x="5902200" y="17762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dverti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2200" y="438300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Push Mon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8680" y="5730840"/>
              <a:ext cx="2778120" cy="74592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Trade-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02200" y="3079440"/>
              <a:ext cx="2778120" cy="746280"/>
            </a:xfrm>
            <a:prstGeom prst="rect">
              <a:avLst/>
            </a:prstGeom>
            <a:gradFill rotWithShape="0">
              <a:gsLst>
                <a:gs pos="0">
                  <a:srgbClr val="5353fe"/>
                </a:gs>
                <a:gs pos="100000">
                  <a:srgbClr val="0b0bff"/>
                </a:gs>
              </a:gsLst>
              <a:lin ang="10800000"/>
            </a:grad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Sto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dfd6c3"/>
                  </a:solidFill>
                  <a:latin typeface="Arial"/>
                </a:rPr>
                <a:t>Allow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705480" y="2158920"/>
            <a:ext cx="4377960" cy="3946320"/>
            <a:chOff x="3705480" y="2158920"/>
            <a:chExt cx="4377960" cy="3946320"/>
          </a:xfrm>
        </p:grpSpPr>
        <p:grpSp>
          <p:nvGrpSpPr>
            <p:cNvPr id="258" name=""/>
            <p:cNvGrpSpPr/>
            <p:nvPr/>
          </p:nvGrpSpPr>
          <p:grpSpPr>
            <a:xfrm>
              <a:off x="3705480" y="2158920"/>
              <a:ext cx="4376160" cy="3946320"/>
              <a:chOff x="3705480" y="2158920"/>
              <a:chExt cx="4376160" cy="3946320"/>
            </a:xfrm>
          </p:grpSpPr>
          <p:sp>
            <p:nvSpPr>
              <p:cNvPr id="259" name=""/>
              <p:cNvSpPr/>
              <p:nvPr/>
            </p:nvSpPr>
            <p:spPr>
              <a:xfrm>
                <a:off x="3713040" y="2158920"/>
                <a:ext cx="436860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3"/>
                    </a:moveTo>
                    <a:arcTo wR="10800" hR="10800" stAng="-10794460" swAng="539196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3"/>
                    </a:moveTo>
                    <a:arcTo wR="10800" hR="10800" stAng="-10794460" swAng="5391962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0800000">
                <a:off x="3705480" y="2165760"/>
                <a:ext cx="4368240" cy="393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3705480" y="3444840"/>
              <a:ext cx="4377960" cy="1307880"/>
              <a:chOff x="3705480" y="3444840"/>
              <a:chExt cx="4377960" cy="1307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14840" y="3444840"/>
                <a:ext cx="4368600" cy="13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74"/>
                    </a:moveTo>
                    <a:arcTo wR="10800" hR="10800" stAng="-10791616" swAng="53891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74"/>
                    </a:moveTo>
                    <a:arcTo wR="10800" hR="10800" stAng="-10791616" swAng="5389117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0800000">
                <a:off x="3705480" y="3451680"/>
                <a:ext cx="4368240" cy="130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99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271520" y="45720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Geographic Pricing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63520" y="1798560"/>
            <a:ext cx="7384320" cy="4829040"/>
            <a:chOff x="1163520" y="1798560"/>
            <a:chExt cx="7384320" cy="4829040"/>
          </a:xfrm>
        </p:grpSpPr>
        <p:sp>
          <p:nvSpPr>
            <p:cNvPr id="266" name=""/>
            <p:cNvSpPr/>
            <p:nvPr/>
          </p:nvSpPr>
          <p:spPr>
            <a:xfrm>
              <a:off x="1163520" y="3406680"/>
              <a:ext cx="2379600" cy="161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Comm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Geograph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ri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1" lang="cs-CZ" sz="2400" spc="-1" strike="noStrike">
                  <a:solidFill>
                    <a:srgbClr val="edc246"/>
                  </a:solidFill>
                  <a:latin typeface="Arial"/>
                </a:rPr>
                <a:t>Polic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5763960" y="1798560"/>
              <a:ext cx="2783880" cy="4829040"/>
              <a:chOff x="5763960" y="1798560"/>
              <a:chExt cx="2783880" cy="4829040"/>
            </a:xfrm>
          </p:grpSpPr>
          <p:sp>
            <p:nvSpPr>
              <p:cNvPr id="268" name=""/>
              <p:cNvSpPr/>
              <p:nvPr/>
            </p:nvSpPr>
            <p:spPr>
              <a:xfrm>
                <a:off x="5763960" y="179856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dfd6c3"/>
                    </a:solidFill>
                    <a:latin typeface="Arial"/>
                  </a:rPr>
                  <a:t>F.O.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763960" y="4519440"/>
                <a:ext cx="2777760" cy="74628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Unifo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Deliver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69720" y="5881680"/>
                <a:ext cx="277812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Fre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Absorp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63960" y="3159000"/>
                <a:ext cx="2777760" cy="745920"/>
              </a:xfrm>
              <a:prstGeom prst="rect">
                <a:avLst/>
              </a:prstGeom>
              <a:gradFill rotWithShape="0">
                <a:gsLst>
                  <a:gs pos="0">
                    <a:srgbClr val="5353fe"/>
                  </a:gs>
                  <a:gs pos="100000">
                    <a:srgbClr val="0b0b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400" spc="-1" strike="noStrike">
                    <a:solidFill>
                      <a:srgbClr val="dfd6c3"/>
                    </a:solidFill>
                    <a:latin typeface="Arial"/>
                  </a:rPr>
                  <a:t>Zo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566880" y="2168280"/>
              <a:ext cx="4376880" cy="4090680"/>
              <a:chOff x="3566880" y="2168280"/>
              <a:chExt cx="4376880" cy="40906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3566880" y="2168280"/>
                <a:ext cx="4375440" cy="4090680"/>
                <a:chOff x="3566880" y="2168280"/>
                <a:chExt cx="4375440" cy="4090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574440" y="2168280"/>
                  <a:ext cx="436788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83"/>
                      </a:moveTo>
                      <a:arcTo wR="10800" hR="10800" stAng="-10794653" swAng="539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83"/>
                      </a:moveTo>
                      <a:arcTo wR="10800" hR="10800" stAng="-10794653" swAng="5392155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0800000">
                  <a:off x="3566880" y="2176200"/>
                  <a:ext cx="4367520" cy="408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566880" y="3520800"/>
                <a:ext cx="4376880" cy="1358640"/>
                <a:chOff x="3566880" y="3520800"/>
                <a:chExt cx="4376880" cy="1358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575880" y="3520800"/>
                  <a:ext cx="436788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775"/>
                      </a:moveTo>
                      <a:arcTo wR="10800" hR="10800" stAng="-10791931" swAng="53894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775"/>
                      </a:moveTo>
                      <a:arcTo wR="10800" hR="10800" stAng="-10791931" swAng="5389432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0800000">
                  <a:off x="3566880" y="3526920"/>
                  <a:ext cx="4367520" cy="1352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d69b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687840" y="5486400"/>
            <a:ext cx="1768320" cy="85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kup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84320"/>
                <a:tab algn="l" pos="2168640"/>
                <a:tab algn="l" pos="3252960"/>
                <a:tab algn="l" pos="4336920"/>
                <a:tab algn="l" pos="5421240"/>
                <a:tab algn="l" pos="6505560"/>
                <a:tab algn="l" pos="7589880"/>
                <a:tab algn="l" pos="8674200"/>
                <a:tab algn="l" pos="9758520"/>
                <a:tab algn="l" pos="1084248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802800" y="919080"/>
            <a:ext cx="7372800" cy="4867200"/>
            <a:chOff x="802800" y="919080"/>
            <a:chExt cx="7372800" cy="4867200"/>
          </a:xfrm>
        </p:grpSpPr>
        <p:sp>
          <p:nvSpPr>
            <p:cNvPr id="281" name=""/>
            <p:cNvSpPr/>
            <p:nvPr/>
          </p:nvSpPr>
          <p:spPr>
            <a:xfrm>
              <a:off x="3687840" y="9190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07280" y="262080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iscounts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allow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34120" y="393228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9280" y="1614600"/>
              <a:ext cx="176868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flexi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07080" y="491652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Geograph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ing ter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204920" y="2660760"/>
              <a:ext cx="1768320" cy="855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em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420920" y="387684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440" y="1590840"/>
              <a:ext cx="254484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ice of 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products in the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843200" y="4930920"/>
              <a:ext cx="1768320" cy="855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4320"/>
                  <a:tab algn="l" pos="2168640"/>
                  <a:tab algn="l" pos="3252960"/>
                  <a:tab algn="l" pos="4336920"/>
                  <a:tab algn="l" pos="5421240"/>
                  <a:tab algn="l" pos="6505560"/>
                  <a:tab algn="l" pos="7589880"/>
                  <a:tab algn="l" pos="8674200"/>
                  <a:tab algn="l" pos="9758520"/>
                  <a:tab algn="l" pos="1084248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Compet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47960" y="2859120"/>
              <a:ext cx="1648080" cy="1635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set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572000" y="171252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099040" y="2144880"/>
              <a:ext cx="668520" cy="88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5369040" y="318420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86320" y="3960720"/>
              <a:ext cx="105408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68800" y="4338720"/>
              <a:ext cx="757440" cy="79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13000" y="2298600"/>
              <a:ext cx="744480" cy="79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573440" y="4505040"/>
              <a:ext cx="0" cy="111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346560" y="4323960"/>
              <a:ext cx="668160" cy="88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703600" y="3989160"/>
              <a:ext cx="108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79840" y="3138480"/>
              <a:ext cx="1065240" cy="32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042920" y="3049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482400"/>
                </a:solidFill>
                <a:latin typeface="Times New Roman"/>
              </a:rPr>
              <a:t>Key Factors That Influence Price Setting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892160" y="3576600"/>
            <a:ext cx="6269040" cy="1763640"/>
            <a:chOff x="1892160" y="3576600"/>
            <a:chExt cx="6269040" cy="1763640"/>
          </a:xfrm>
        </p:grpSpPr>
        <p:sp>
          <p:nvSpPr>
            <p:cNvPr id="91" name=""/>
            <p:cNvSpPr/>
            <p:nvPr/>
          </p:nvSpPr>
          <p:spPr>
            <a:xfrm>
              <a:off x="6032160" y="5037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74760" y="50245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50040" y="3576600"/>
              <a:ext cx="0" cy="174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2160" y="5016600"/>
              <a:ext cx="6269040" cy="249120"/>
            </a:xfrm>
            <a:custGeom>
              <a:avLst/>
              <a:gdLst/>
              <a:ahLst/>
              <a:rect l="l" t="t" r="r" b="b"/>
              <a:pathLst>
                <a:path w="3949" h="157">
                  <a:moveTo>
                    <a:pt x="0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066680" y="380880"/>
            <a:ext cx="764388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trategy Planning for Pr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59480" y="3968640"/>
            <a:ext cx="1587600" cy="673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Pr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824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08080" y="1793880"/>
            <a:ext cx="7816320" cy="1844640"/>
            <a:chOff x="1108080" y="1793880"/>
            <a:chExt cx="7816320" cy="1844640"/>
          </a:xfrm>
        </p:grpSpPr>
        <p:sp>
          <p:nvSpPr>
            <p:cNvPr id="98" name=""/>
            <p:cNvSpPr/>
            <p:nvPr/>
          </p:nvSpPr>
          <p:spPr>
            <a:xfrm>
              <a:off x="4232160" y="1793880"/>
              <a:ext cx="1586880" cy="673200"/>
            </a:xfrm>
            <a:prstGeom prst="rect">
              <a:avLst/>
            </a:prstGeom>
            <a:gradFill rotWithShape="0">
              <a:gsLst>
                <a:gs pos="0">
                  <a:srgbClr val="edc246"/>
                </a:gs>
                <a:gs pos="50000">
                  <a:srgbClr val="f3d98f"/>
                </a:gs>
                <a:gs pos="100000">
                  <a:srgbClr val="edc2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Mark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716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6f93fe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606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238d23"/>
                </a:gs>
                <a:gs pos="50000">
                  <a:srgbClr val="33cc33"/>
                </a:gs>
                <a:gs pos="100000">
                  <a:srgbClr val="238d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mo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8420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7f42ad"/>
                </a:gs>
                <a:gs pos="50000">
                  <a:srgbClr val="b760f9"/>
                </a:gs>
                <a:gs pos="100000">
                  <a:srgbClr val="7f42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8080" y="2965320"/>
              <a:ext cx="1587240" cy="67320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50000">
                  <a:srgbClr val="ff0000"/>
                </a:gs>
                <a:gs pos="100000">
                  <a:srgbClr val="b1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2160" y="2711520"/>
              <a:ext cx="6268680" cy="266760"/>
            </a:xfrm>
            <a:custGeom>
              <a:avLst/>
              <a:gdLst/>
              <a:ahLst/>
              <a:rect l="l" t="t" r="r" b="b"/>
              <a:pathLst>
                <a:path w="3949" h="168">
                  <a:moveTo>
                    <a:pt x="0" y="167"/>
                  </a:moveTo>
                  <a:lnTo>
                    <a:pt x="12" y="167"/>
                  </a:lnTo>
                  <a:lnTo>
                    <a:pt x="12" y="0"/>
                  </a:lnTo>
                  <a:lnTo>
                    <a:pt x="3948" y="0"/>
                  </a:lnTo>
                  <a:lnTo>
                    <a:pt x="3948" y="1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8328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7720" y="2719440"/>
              <a:ext cx="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5960" y="250020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7219800" y="5270400"/>
            <a:ext cx="184176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Geograph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erm 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o p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ranspor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nd h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Discount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allowances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to whom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720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over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270400"/>
            <a:ext cx="1841400" cy="1435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6f93fe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482400"/>
                </a:solidFill>
                <a:latin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95280" y="1905120"/>
            <a:ext cx="7467480" cy="4572000"/>
            <a:chOff x="1295280" y="1905120"/>
            <a:chExt cx="7467480" cy="4572000"/>
          </a:xfrm>
        </p:grpSpPr>
        <p:sp>
          <p:nvSpPr>
            <p:cNvPr id="303" name=""/>
            <p:cNvSpPr/>
            <p:nvPr/>
          </p:nvSpPr>
          <p:spPr>
            <a:xfrm>
              <a:off x="2355120" y="1989000"/>
              <a:ext cx="4913280" cy="4437720"/>
            </a:xfrm>
            <a:prstGeom prst="ellipse">
              <a:avLst/>
            </a:prstGeom>
            <a:noFill/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190512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Estimated quantity to be s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42880" y="3401280"/>
              <a:ext cx="236952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fixed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280" y="3401280"/>
              <a:ext cx="2369160" cy="65556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Quantity demanded at selling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360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Cost-oriented selling price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0760" y="5445000"/>
              <a:ext cx="2369160" cy="655200"/>
            </a:xfrm>
            <a:prstGeom prst="rect">
              <a:avLst/>
            </a:prstGeom>
            <a:gradFill rotWithShape="0">
              <a:gsLst>
                <a:gs pos="0">
                  <a:srgbClr val="f5dfa1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482400"/>
                  </a:solidFill>
                  <a:latin typeface="Arial"/>
                </a:rPr>
                <a:t>Average total cost per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1480" y="3920400"/>
              <a:ext cx="1061280" cy="74088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482400"/>
                  </a:solidFill>
                  <a:latin typeface="Arial"/>
                </a:rPr>
                <a:t>Variable cos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5924160"/>
              <a:ext cx="1040040" cy="552960"/>
            </a:xfrm>
            <a:prstGeom prst="rect">
              <a:avLst/>
            </a:prstGeom>
            <a:gradFill rotWithShape="0">
              <a:gsLst>
                <a:gs pos="0">
                  <a:srgbClr val="98e498"/>
                </a:gs>
                <a:gs pos="100000">
                  <a:srgbClr val="33cc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82400"/>
                  </a:solidFill>
                  <a:latin typeface="Arial"/>
                </a:rPr>
                <a:t>Profit per 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3400" y="3207600"/>
              <a:ext cx="162000" cy="19800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138"/>
                  </a:moveTo>
                  <a:lnTo>
                    <a:pt x="120" y="0"/>
                  </a:lnTo>
                  <a:lnTo>
                    <a:pt x="77" y="73"/>
                  </a:lnTo>
                  <a:lnTo>
                    <a:pt x="0" y="65"/>
                  </a:lnTo>
                  <a:lnTo>
                    <a:pt x="120" y="138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81040" y="5212800"/>
              <a:ext cx="162000" cy="200880"/>
            </a:xfrm>
            <a:custGeom>
              <a:avLst/>
              <a:gdLst/>
              <a:ahLst/>
              <a:rect l="l" t="t" r="r" b="b"/>
              <a:pathLst>
                <a:path w="121" h="141">
                  <a:moveTo>
                    <a:pt x="0" y="140"/>
                  </a:moveTo>
                  <a:lnTo>
                    <a:pt x="120" y="72"/>
                  </a:lnTo>
                  <a:lnTo>
                    <a:pt x="35" y="71"/>
                  </a:lnTo>
                  <a:lnTo>
                    <a:pt x="3" y="0"/>
                  </a:lnTo>
                  <a:lnTo>
                    <a:pt x="0" y="14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0720" y="4074120"/>
              <a:ext cx="183240" cy="176760"/>
            </a:xfrm>
            <a:custGeom>
              <a:avLst/>
              <a:gdLst/>
              <a:ahLst/>
              <a:rect l="l" t="t" r="r" b="b"/>
              <a:pathLst>
                <a:path w="137" h="124">
                  <a:moveTo>
                    <a:pt x="71" y="0"/>
                  </a:moveTo>
                  <a:lnTo>
                    <a:pt x="0" y="117"/>
                  </a:lnTo>
                  <a:lnTo>
                    <a:pt x="75" y="77"/>
                  </a:lnTo>
                  <a:lnTo>
                    <a:pt x="136" y="123"/>
                  </a:lnTo>
                  <a:lnTo>
                    <a:pt x="71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07840" y="6080760"/>
              <a:ext cx="185040" cy="185040"/>
            </a:xfrm>
            <a:custGeom>
              <a:avLst/>
              <a:gdLst/>
              <a:ahLst/>
              <a:rect l="l" t="t" r="r" b="b"/>
              <a:pathLst>
                <a:path w="138" h="130">
                  <a:moveTo>
                    <a:pt x="0" y="26"/>
                  </a:moveTo>
                  <a:lnTo>
                    <a:pt x="92" y="129"/>
                  </a:lnTo>
                  <a:lnTo>
                    <a:pt x="75" y="46"/>
                  </a:lnTo>
                  <a:lnTo>
                    <a:pt x="137" y="0"/>
                  </a:lnTo>
                  <a:lnTo>
                    <a:pt x="0" y="26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95440" y="2026080"/>
              <a:ext cx="460440" cy="582480"/>
            </a:xfrm>
            <a:prstGeom prst="rect">
              <a:avLst/>
            </a:prstGeom>
            <a:solidFill>
              <a:srgbClr val="48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d69b80"/>
                  </a:solidFill>
                  <a:latin typeface="Arial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55040" y="2429640"/>
              <a:ext cx="185040" cy="17784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137" y="0"/>
                  </a:moveTo>
                  <a:lnTo>
                    <a:pt x="0" y="9"/>
                  </a:lnTo>
                  <a:lnTo>
                    <a:pt x="77" y="48"/>
                  </a:lnTo>
                  <a:lnTo>
                    <a:pt x="73" y="124"/>
                  </a:lnTo>
                  <a:lnTo>
                    <a:pt x="137" y="0"/>
                  </a:lnTo>
                </a:path>
              </a:pathLst>
            </a:custGeom>
            <a:solidFill>
              <a:srgbClr val="d69b80"/>
            </a:solidFill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966960" y="457200"/>
            <a:ext cx="764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Summary of Relationships </a:t>
            </a:r>
            <a:br>
              <a:rPr sz="4000"/>
            </a:br>
            <a:r>
              <a:rPr b="1" lang="cs-CZ" sz="4000" spc="-1" strike="noStrike">
                <a:solidFill>
                  <a:srgbClr val="482400"/>
                </a:solidFill>
                <a:latin typeface="Times New Roman"/>
              </a:rPr>
              <a:t>Affecting 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Break-eve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52560" y="1730520"/>
            <a:ext cx="7657920" cy="5073480"/>
            <a:chOff x="952560" y="1730520"/>
            <a:chExt cx="7657920" cy="5073480"/>
          </a:xfrm>
        </p:grpSpPr>
        <p:sp>
          <p:nvSpPr>
            <p:cNvPr id="320" name=""/>
            <p:cNvSpPr/>
            <p:nvPr/>
          </p:nvSpPr>
          <p:spPr>
            <a:xfrm>
              <a:off x="952560" y="1730520"/>
              <a:ext cx="7657920" cy="50734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6200000">
              <a:off x="-336960" y="3844080"/>
              <a:ext cx="308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otal Revenue and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0960" y="6373800"/>
              <a:ext cx="2541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Units of Pro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54320" y="4924440"/>
              <a:ext cx="4214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95400" y="3754440"/>
              <a:ext cx="2834640" cy="216324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2840" y="3321000"/>
              <a:ext cx="207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Break-Even Poi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33400" y="2535120"/>
              <a:ext cx="134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t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0480" y="2735280"/>
              <a:ext cx="556920" cy="456840"/>
            </a:xfrm>
            <a:prstGeom prst="line">
              <a:avLst/>
            </a:prstGeom>
            <a:ln w="25560">
              <a:solidFill>
                <a:srgbClr val="66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91560" y="5263920"/>
              <a:ext cx="208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Fixed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92280" y="3941640"/>
              <a:ext cx="2378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Variable Cos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2640" y="3046320"/>
              <a:ext cx="2265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Cost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92640" y="2581200"/>
              <a:ext cx="2463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Total Revenue Cur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79640" y="3906720"/>
              <a:ext cx="128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Loss Are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16120" y="4203720"/>
              <a:ext cx="298080" cy="24408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03320" y="1966680"/>
              <a:ext cx="5487480" cy="3944520"/>
              <a:chOff x="1903320" y="1966680"/>
              <a:chExt cx="5487480" cy="3944520"/>
            </a:xfrm>
          </p:grpSpPr>
          <p:sp>
            <p:nvSpPr>
              <p:cNvPr id="335" name=""/>
              <p:cNvSpPr/>
              <p:nvPr/>
            </p:nvSpPr>
            <p:spPr>
              <a:xfrm>
                <a:off x="1903320" y="1966680"/>
                <a:ext cx="5487480" cy="3944520"/>
              </a:xfrm>
              <a:custGeom>
                <a:avLst/>
                <a:gdLst/>
                <a:ahLst/>
                <a:rect l="l" t="t" r="r" b="b"/>
                <a:pathLst>
                  <a:path w="3457" h="2485">
                    <a:moveTo>
                      <a:pt x="0" y="0"/>
                    </a:moveTo>
                    <a:lnTo>
                      <a:pt x="0" y="2484"/>
                    </a:lnTo>
                    <a:lnTo>
                      <a:pt x="3456" y="248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10880" y="19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10880" y="28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10880" y="37522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910880" y="46666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10880" y="5581080"/>
                <a:ext cx="18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96840" y="2800080"/>
              <a:ext cx="4075920" cy="3116160"/>
              <a:chOff x="1896840" y="2800080"/>
              <a:chExt cx="4075920" cy="3116160"/>
            </a:xfrm>
          </p:grpSpPr>
          <p:sp>
            <p:nvSpPr>
              <p:cNvPr id="342" name=""/>
              <p:cNvSpPr/>
              <p:nvPr/>
            </p:nvSpPr>
            <p:spPr>
              <a:xfrm>
                <a:off x="1902960" y="3768120"/>
                <a:ext cx="2798280" cy="2128680"/>
              </a:xfrm>
              <a:custGeom>
                <a:avLst/>
                <a:gdLst/>
                <a:ahLst/>
                <a:rect l="l" t="t" r="r" b="b"/>
                <a:pathLst>
                  <a:path w="1763" h="1341">
                    <a:moveTo>
                      <a:pt x="1762" y="0"/>
                    </a:moveTo>
                    <a:lnTo>
                      <a:pt x="0" y="1340"/>
                    </a:lnTo>
                    <a:lnTo>
                      <a:pt x="0" y="748"/>
                    </a:lnTo>
                    <a:lnTo>
                      <a:pt x="1762" y="0"/>
                    </a:lnTo>
                  </a:path>
                </a:pathLst>
              </a:custGeom>
              <a:solidFill>
                <a:srgbClr val="d69b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737960" y="2802960"/>
                <a:ext cx="1233360" cy="941040"/>
              </a:xfrm>
              <a:custGeom>
                <a:avLst/>
                <a:gdLst/>
                <a:ahLst/>
                <a:rect l="l" t="t" r="r" b="b"/>
                <a:pathLst>
                  <a:path w="777" h="593">
                    <a:moveTo>
                      <a:pt x="776" y="275"/>
                    </a:moveTo>
                    <a:lnTo>
                      <a:pt x="776" y="0"/>
                    </a:lnTo>
                    <a:lnTo>
                      <a:pt x="0" y="592"/>
                    </a:lnTo>
                    <a:lnTo>
                      <a:pt x="776" y="275"/>
                    </a:lnTo>
                  </a:path>
                </a:pathLst>
              </a:custGeom>
              <a:solidFill>
                <a:srgbClr val="66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1910880" y="3223440"/>
                <a:ext cx="4061880" cy="171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1896840" y="2800080"/>
                <a:ext cx="4062240" cy="3116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5771880" y="4930560"/>
              <a:ext cx="402840" cy="972720"/>
            </a:xfrm>
            <a:custGeom>
              <a:avLst/>
              <a:gdLst/>
              <a:ahLst/>
              <a:rect l="l" t="t" r="r" b="b"/>
              <a:pathLst>
                <a:path w="254" h="613">
                  <a:moveTo>
                    <a:pt x="0" y="0"/>
                  </a:moveTo>
                  <a:lnTo>
                    <a:pt x="50" y="5"/>
                  </a:lnTo>
                  <a:lnTo>
                    <a:pt x="93" y="15"/>
                  </a:lnTo>
                  <a:lnTo>
                    <a:pt x="117" y="30"/>
                  </a:lnTo>
                  <a:lnTo>
                    <a:pt x="130" y="51"/>
                  </a:lnTo>
                  <a:lnTo>
                    <a:pt x="130" y="255"/>
                  </a:lnTo>
                  <a:lnTo>
                    <a:pt x="142" y="275"/>
                  </a:lnTo>
                  <a:lnTo>
                    <a:pt x="167" y="290"/>
                  </a:lnTo>
                  <a:lnTo>
                    <a:pt x="204" y="301"/>
                  </a:lnTo>
                  <a:lnTo>
                    <a:pt x="253" y="306"/>
                  </a:lnTo>
                  <a:lnTo>
                    <a:pt x="204" y="311"/>
                  </a:lnTo>
                  <a:lnTo>
                    <a:pt x="167" y="321"/>
                  </a:lnTo>
                  <a:lnTo>
                    <a:pt x="142" y="336"/>
                  </a:lnTo>
                  <a:lnTo>
                    <a:pt x="130" y="357"/>
                  </a:lnTo>
                  <a:lnTo>
                    <a:pt x="130" y="561"/>
                  </a:lnTo>
                  <a:lnTo>
                    <a:pt x="117" y="581"/>
                  </a:lnTo>
                  <a:lnTo>
                    <a:pt x="93" y="597"/>
                  </a:lnTo>
                  <a:lnTo>
                    <a:pt x="50" y="607"/>
                  </a:lnTo>
                  <a:lnTo>
                    <a:pt x="0" y="612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53920" y="6286320"/>
              <a:ext cx="444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16200" y="6110280"/>
              <a:ext cx="727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31000" y="6095880"/>
              <a:ext cx="323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6080" y="213336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Hig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1590480" y="2492280"/>
              <a:ext cx="0" cy="357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1880" y="3344760"/>
              <a:ext cx="402840" cy="1553760"/>
            </a:xfrm>
            <a:custGeom>
              <a:avLst/>
              <a:gdLst/>
              <a:ahLst/>
              <a:rect l="l" t="t" r="r" b="b"/>
              <a:pathLst>
                <a:path w="254" h="979">
                  <a:moveTo>
                    <a:pt x="0" y="0"/>
                  </a:moveTo>
                  <a:lnTo>
                    <a:pt x="50" y="8"/>
                  </a:lnTo>
                  <a:lnTo>
                    <a:pt x="93" y="25"/>
                  </a:lnTo>
                  <a:lnTo>
                    <a:pt x="117" y="49"/>
                  </a:lnTo>
                  <a:lnTo>
                    <a:pt x="130" y="82"/>
                  </a:lnTo>
                  <a:lnTo>
                    <a:pt x="130" y="405"/>
                  </a:lnTo>
                  <a:lnTo>
                    <a:pt x="142" y="438"/>
                  </a:lnTo>
                  <a:lnTo>
                    <a:pt x="167" y="463"/>
                  </a:lnTo>
                  <a:lnTo>
                    <a:pt x="204" y="479"/>
                  </a:lnTo>
                  <a:lnTo>
                    <a:pt x="253" y="487"/>
                  </a:lnTo>
                  <a:lnTo>
                    <a:pt x="204" y="495"/>
                  </a:lnTo>
                  <a:lnTo>
                    <a:pt x="167" y="512"/>
                  </a:lnTo>
                  <a:lnTo>
                    <a:pt x="142" y="536"/>
                  </a:lnTo>
                  <a:lnTo>
                    <a:pt x="130" y="569"/>
                  </a:lnTo>
                  <a:lnTo>
                    <a:pt x="130" y="896"/>
                  </a:lnTo>
                  <a:lnTo>
                    <a:pt x="117" y="929"/>
                  </a:lnTo>
                  <a:lnTo>
                    <a:pt x="93" y="953"/>
                  </a:lnTo>
                  <a:lnTo>
                    <a:pt x="50" y="970"/>
                  </a:lnTo>
                  <a:lnTo>
                    <a:pt x="0" y="978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4046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Evaluating a Customer’s Price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1700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Are there substitute ways of meeting a ne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it easy to compare pr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Who pays the bi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great is the total expendi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How significant is the end benef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Is there already a sunk investment related to the purcha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907920" y="45720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Demand-Oriented Pr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20720" y="1449360"/>
            <a:ext cx="8346960" cy="5343480"/>
            <a:chOff x="720720" y="1449360"/>
            <a:chExt cx="8346960" cy="5343480"/>
          </a:xfrm>
        </p:grpSpPr>
        <p:sp>
          <p:nvSpPr>
            <p:cNvPr id="357" name=""/>
            <p:cNvSpPr/>
            <p:nvPr/>
          </p:nvSpPr>
          <p:spPr>
            <a:xfrm>
              <a:off x="2241720" y="1449360"/>
              <a:ext cx="5297400" cy="5343480"/>
            </a:xfrm>
            <a:custGeom>
              <a:avLst/>
              <a:gdLst>
                <a:gd name="textAreaLeft" fmla="*/ 1209240 w 5297400"/>
                <a:gd name="textAreaRight" fmla="*/ 4088160 w 5297400"/>
                <a:gd name="textAreaTop" fmla="*/ 1219680 h 5343480"/>
                <a:gd name="textAreaBottom" fmla="*/ 4123800 h 53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8432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Value-in-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663560" y="1830600"/>
              <a:ext cx="6437520" cy="625320"/>
              <a:chOff x="1663560" y="1830600"/>
              <a:chExt cx="6437520" cy="625320"/>
            </a:xfrm>
          </p:grpSpPr>
          <p:sp>
            <p:nvSpPr>
              <p:cNvPr id="360" name=""/>
              <p:cNvSpPr/>
              <p:nvPr/>
            </p:nvSpPr>
            <p:spPr>
              <a:xfrm>
                <a:off x="166356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cb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Psychologi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9080" y="1830600"/>
                <a:ext cx="2232000" cy="62532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cb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cs-CZ" sz="2400" spc="-1" strike="noStrike">
                    <a:solidFill>
                      <a:srgbClr val="000000"/>
                    </a:solidFill>
                    <a:latin typeface="Arial"/>
                  </a:rPr>
                  <a:t>Odd-Ev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89208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07160" y="306072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esti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072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b10000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35680" y="4073760"/>
              <a:ext cx="2232000" cy="6253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b1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Price Li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99360" y="512604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cb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emand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Backwa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70280" y="6083280"/>
              <a:ext cx="2232000" cy="625680"/>
            </a:xfrm>
            <a:prstGeom prst="rect">
              <a:avLst/>
            </a:prstGeom>
            <a:gradFill rotWithShape="0">
              <a:gsLst>
                <a:gs pos="0">
                  <a:srgbClr val="cb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87760" y="2017800"/>
              <a:ext cx="4365360" cy="4165560"/>
            </a:xfrm>
            <a:custGeom>
              <a:avLst/>
              <a:gdLst>
                <a:gd name="textAreaLeft" fmla="*/ 996480 w 4365360"/>
                <a:gd name="textAreaRight" fmla="*/ 3368880 w 4365360"/>
                <a:gd name="textAreaTop" fmla="*/ 950760 h 4165560"/>
                <a:gd name="textAreaBottom" fmla="*/ 3214800 h 416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Types o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Demand-Orien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304920"/>
            <a:ext cx="76435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7640" bIns="176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ric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39880" y="1870200"/>
            <a:ext cx="7846560" cy="4834800"/>
            <a:chOff x="839880" y="1870200"/>
            <a:chExt cx="7846560" cy="4834800"/>
          </a:xfrm>
        </p:grpSpPr>
        <p:sp>
          <p:nvSpPr>
            <p:cNvPr id="113" name=""/>
            <p:cNvSpPr/>
            <p:nvPr/>
          </p:nvSpPr>
          <p:spPr>
            <a:xfrm>
              <a:off x="1946160" y="2417760"/>
              <a:ext cx="1804320" cy="3516840"/>
            </a:xfrm>
            <a:custGeom>
              <a:avLst/>
              <a:gdLst/>
              <a:ahLst/>
              <a:rect l="l" t="t" r="r" b="b"/>
              <a:pathLst>
                <a:path w="1225" h="2317">
                  <a:moveTo>
                    <a:pt x="1212" y="0"/>
                  </a:moveTo>
                  <a:lnTo>
                    <a:pt x="0" y="0"/>
                  </a:lnTo>
                  <a:lnTo>
                    <a:pt x="0" y="2316"/>
                  </a:lnTo>
                  <a:lnTo>
                    <a:pt x="1224" y="2316"/>
                  </a:lnTo>
                </a:path>
              </a:pathLst>
            </a:custGeom>
            <a:noFill/>
            <a:ln cap="rnd" w="2556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2120" y="4257360"/>
              <a:ext cx="670320" cy="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847920" y="3582000"/>
              <a:ext cx="1838520" cy="1410840"/>
              <a:chOff x="6847920" y="3582000"/>
              <a:chExt cx="1838520" cy="141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6847920" y="358200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oney or 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Sales Grow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47920" y="44377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Growth i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rket Sha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847920" y="1870200"/>
              <a:ext cx="1838520" cy="1410840"/>
              <a:chOff x="6847920" y="1870200"/>
              <a:chExt cx="1838520" cy="1410840"/>
            </a:xfrm>
          </p:grpSpPr>
          <p:sp>
            <p:nvSpPr>
              <p:cNvPr id="119" name=""/>
              <p:cNvSpPr/>
              <p:nvPr/>
            </p:nvSpPr>
            <p:spPr>
              <a:xfrm>
                <a:off x="6847920" y="1870200"/>
                <a:ext cx="1838520" cy="55476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Targ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Re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47920" y="272592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aximiz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Profi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847920" y="5294160"/>
              <a:ext cx="1838520" cy="1410840"/>
              <a:chOff x="6847920" y="5294160"/>
              <a:chExt cx="1838520" cy="1410840"/>
            </a:xfrm>
          </p:grpSpPr>
          <p:sp>
            <p:nvSpPr>
              <p:cNvPr id="122" name=""/>
              <p:cNvSpPr/>
              <p:nvPr/>
            </p:nvSpPr>
            <p:spPr>
              <a:xfrm>
                <a:off x="6847920" y="529416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Meet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47920" y="6149880"/>
                <a:ext cx="1838520" cy="555120"/>
              </a:xfrm>
              <a:prstGeom prst="rect">
                <a:avLst/>
              </a:prstGeom>
              <a:gradFill rotWithShape="0">
                <a:gsLst>
                  <a:gs pos="0">
                    <a:srgbClr val="5bd55b"/>
                  </a:gs>
                  <a:gs pos="100000">
                    <a:srgbClr val="33cc33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440" rIns="109440" tIns="54000" bIns="54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Nonpr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89120"/>
                    <a:tab algn="l" pos="1577880"/>
                    <a:tab algn="l" pos="2367000"/>
                    <a:tab algn="l" pos="3156120"/>
                    <a:tab algn="l" pos="3944880"/>
                    <a:tab algn="l" pos="4734000"/>
                    <a:tab algn="l" pos="5522760"/>
                    <a:tab algn="l" pos="6311880"/>
                    <a:tab algn="l" pos="7101000"/>
                    <a:tab algn="l" pos="7889760"/>
                    <a:tab algn="l" pos="8678880"/>
                    <a:tab algn="l" pos="9468000"/>
                    <a:tab algn="l" pos="10256760"/>
                  </a:tabLst>
                </a:pPr>
                <a:r>
                  <a:rPr b="1" lang="cs-CZ" sz="1800" spc="-1" strike="noStrike">
                    <a:solidFill>
                      <a:srgbClr val="482400"/>
                    </a:solidFill>
                    <a:latin typeface="Arial"/>
                  </a:rPr>
                  <a:t>Competi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839880" y="382320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f1d37c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ic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827320" y="2134080"/>
              <a:ext cx="1035000" cy="4326120"/>
              <a:chOff x="5827320" y="2134080"/>
              <a:chExt cx="1035000" cy="432612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850720" y="2134080"/>
                <a:ext cx="1011600" cy="878040"/>
                <a:chOff x="5850720" y="2134080"/>
                <a:chExt cx="1011600" cy="878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850720" y="2570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5850720" y="213408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5839200" y="3857760"/>
                <a:ext cx="1011600" cy="878040"/>
                <a:chOff x="5839200" y="3857760"/>
                <a:chExt cx="1011600" cy="878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839200" y="429444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5839200" y="3857760"/>
                  <a:ext cx="101160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7320" y="5582160"/>
                <a:ext cx="1011960" cy="878040"/>
                <a:chOff x="5827320" y="5582160"/>
                <a:chExt cx="1011960" cy="878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827320" y="601884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V="1">
                  <a:off x="5827320" y="5582160"/>
                  <a:ext cx="1011960" cy="441360"/>
                </a:xfrm>
                <a:prstGeom prst="line">
                  <a:avLst/>
                </a:prstGeom>
                <a:ln w="25560">
                  <a:solidFill>
                    <a:srgbClr val="d69b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" name=""/>
            <p:cNvSpPr/>
            <p:nvPr/>
          </p:nvSpPr>
          <p:spPr>
            <a:xfrm>
              <a:off x="3744360" y="38534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4360" y="2141640"/>
              <a:ext cx="2272680" cy="86796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Profi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4360" y="5565600"/>
              <a:ext cx="2272680" cy="868320"/>
            </a:xfrm>
            <a:prstGeom prst="rect">
              <a:avLst/>
            </a:prstGeom>
            <a:gradFill rotWithShape="0">
              <a:gsLst>
                <a:gs pos="0">
                  <a:srgbClr val="5b84fe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6600" bIns="66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Status Qu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01680"/>
                  <a:tab algn="l" pos="2403360"/>
                  <a:tab algn="l" pos="3605040"/>
                  <a:tab algn="l" pos="4807080"/>
                  <a:tab algn="l" pos="6008760"/>
                  <a:tab algn="l" pos="7210440"/>
                  <a:tab algn="l" pos="8412120"/>
                  <a:tab algn="l" pos="9613800"/>
                  <a:tab algn="l" pos="10815480"/>
                </a:tabLst>
              </a:pPr>
              <a:r>
                <a:rPr b="1" lang="cs-CZ" sz="2200" spc="-1" strike="noStrike">
                  <a:solidFill>
                    <a:srgbClr val="482400"/>
                  </a:solidFill>
                  <a:latin typeface="Arial"/>
                </a:rPr>
                <a:t>Orien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14320" y="176040"/>
            <a:ext cx="764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Flexibility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1113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ne-pri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same price to all customers who purchase products under essentially the same conditions and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hange rate changes may make this difficult in international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lexible pricin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e.g., in channels, business markets, expensive consumer shopping produ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e is increasing because of impact of information technology, customer databases, scann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lling costs may be higher if prices are negoti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ignals” to compet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ustomer dissatisfaction may be a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y channels” and cross-shi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9880" y="380880"/>
            <a:ext cx="830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Skimming Pricing Strategies -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known as </a:t>
            </a:r>
            <a:r>
              <a:rPr b="1" i="1" lang="en-US" sz="2800" spc="-1" strike="noStrike">
                <a:solidFill>
                  <a:srgbClr val="993300"/>
                </a:solidFill>
                <a:latin typeface="Times New Roman"/>
              </a:rPr>
              <a:t>market-plus pric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ntional setting of a relatively high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commonly used as a market entry price for distinctive goods or services with little or no initial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ten used by marketers of high-end goods and 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9880" y="3505320"/>
            <a:ext cx="7694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3300"/>
                </a:solidFill>
                <a:latin typeface="Times New Roman"/>
              </a:rPr>
              <a:t>It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allows a manufacturer to quickly recover its research-and-development (R&amp;D) cos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Second, it allows a firm to maximize revenue from a new product before competitors enter the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is also a useful tool for segmenting a product’s overall market on pri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Permits marketers to control demand in the introductory stages of a product’s life cyc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Chief disadvantage:</a:t>
            </a:r>
            <a:r>
              <a:rPr b="1" lang="en-US" sz="2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It attracts compe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533520"/>
            <a:ext cx="764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12680" y="-812520"/>
            <a:ext cx="16176960" cy="10850760"/>
            <a:chOff x="1012680" y="-812520"/>
            <a:chExt cx="16176960" cy="10850760"/>
          </a:xfrm>
        </p:grpSpPr>
        <p:sp>
          <p:nvSpPr>
            <p:cNvPr id="144" name=""/>
            <p:cNvSpPr/>
            <p:nvPr/>
          </p:nvSpPr>
          <p:spPr>
            <a:xfrm>
              <a:off x="6524280" y="2898720"/>
              <a:ext cx="2368800" cy="267336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Skim the cream” pricing involves  selling at a high price to those who are willing to pay before aiming at more price-sensitive consume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2680" y="1752480"/>
              <a:ext cx="5251320" cy="491472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66600" y="2627280"/>
              <a:ext cx="678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75800" y="6208560"/>
              <a:ext cx="1001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Quant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08080" y="3154320"/>
              <a:ext cx="1126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kim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06280" y="4168440"/>
              <a:ext cx="9129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06640" y="5018040"/>
              <a:ext cx="6660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F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6440" y="2904840"/>
              <a:ext cx="3811680" cy="3221280"/>
            </a:xfrm>
            <a:custGeom>
              <a:avLst/>
              <a:gdLst/>
              <a:ahLst/>
              <a:rect l="l" t="t" r="r" b="b"/>
              <a:pathLst>
                <a:path w="2401" h="2029">
                  <a:moveTo>
                    <a:pt x="2400" y="2028"/>
                  </a:moveTo>
                  <a:lnTo>
                    <a:pt x="0" y="202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d69b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7120" y="1860480"/>
              <a:ext cx="2325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d69b80"/>
                  </a:solidFill>
                  <a:latin typeface="Arial"/>
                </a:rPr>
                <a:t>Skimming Pri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38200" y="2873160"/>
              <a:ext cx="897120" cy="642960"/>
            </a:xfrm>
            <a:prstGeom prst="line">
              <a:avLst/>
            </a:prstGeom>
            <a:ln w="25560">
              <a:solidFill>
                <a:srgbClr val="d69b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07600" y="2554200"/>
              <a:ext cx="164592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Sell at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price bef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reducing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next price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Arial"/>
                </a:rPr>
                <a:t>and repe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533400"/>
              <a:ext cx="958680" cy="2587680"/>
            </a:xfrm>
            <a:prstGeom prst="rect">
              <a:avLst/>
            </a:prstGeom>
            <a:noFill/>
            <a:ln w="1260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26600" y="5300280"/>
              <a:ext cx="2900520" cy="50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4240" y="5306760"/>
              <a:ext cx="3240" cy="81432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6040" y="4465440"/>
              <a:ext cx="1903320" cy="144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9360" y="4474800"/>
              <a:ext cx="0" cy="1646280"/>
            </a:xfrm>
            <a:prstGeom prst="line">
              <a:avLst/>
            </a:prstGeom>
            <a:ln w="12600">
              <a:solidFill>
                <a:srgbClr val="d69b8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640000">
              <a:off x="6706080" y="-2799000"/>
              <a:ext cx="5277960" cy="148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58" y="6353"/>
                  </a:moveTo>
                  <a:arcTo wR="10800" hR="10800" stAng="-9341111" swAng="2373297"/>
                  <a:lnTo>
                    <a:pt x="10800" y="10800"/>
                  </a:lnTo>
                  <a:close/>
                </a:path>
                <a:path fill="none" w="21600" h="21600">
                  <a:moveTo>
                    <a:pt x="958" y="6353"/>
                  </a:moveTo>
                  <a:arcTo wR="10800" hR="10800" stAng="-9341111" swAng="2373297"/>
                </a:path>
              </a:pathLst>
            </a:custGeom>
            <a:noFill/>
            <a:ln cap="rnd" w="25560">
              <a:solidFill>
                <a:srgbClr val="66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enetration Pricing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9880" y="1951200"/>
            <a:ext cx="7923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s a low price as a major marketing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also extend over several stages of the product lif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ket-minus pri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depends on generating many trial purch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ers may use penetration pricing to lure shoppers to new 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best for goods or services characterized by highly elastic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appropriate in market situations in which introduction of a new product will likely attract strong compet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057320" y="1841400"/>
            <a:ext cx="7520040" cy="4788000"/>
            <a:chOff x="1057320" y="1841400"/>
            <a:chExt cx="7520040" cy="4788000"/>
          </a:xfrm>
        </p:grpSpPr>
        <p:grpSp>
          <p:nvGrpSpPr>
            <p:cNvPr id="164" name=""/>
            <p:cNvGrpSpPr/>
            <p:nvPr/>
          </p:nvGrpSpPr>
          <p:grpSpPr>
            <a:xfrm>
              <a:off x="3687840" y="1841400"/>
              <a:ext cx="4889520" cy="4788000"/>
              <a:chOff x="3687840" y="1841400"/>
              <a:chExt cx="4889520" cy="4788000"/>
            </a:xfrm>
          </p:grpSpPr>
          <p:sp>
            <p:nvSpPr>
              <p:cNvPr id="165" name=""/>
              <p:cNvSpPr/>
              <p:nvPr/>
            </p:nvSpPr>
            <p:spPr>
              <a:xfrm rot="780000">
                <a:off x="6152040" y="4195800"/>
                <a:ext cx="20905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941" y="16552"/>
                    </a:moveTo>
                    <a:arcTo wR="10800" hR="10800" stAng="1930867" swAng="784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941" y="16552"/>
                    </a:moveTo>
                    <a:arcTo wR="10800" hR="10800" stAng="1930867" swAng="7843815"/>
                  </a:path>
                </a:pathLst>
              </a:custGeom>
              <a:noFill/>
              <a:ln cap="rnd" w="25560">
                <a:solidFill>
                  <a:srgbClr val="66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87840" y="1841400"/>
                <a:ext cx="4889520" cy="4788000"/>
              </a:xfrm>
              <a:prstGeom prst="rect">
                <a:avLst/>
              </a:prstGeom>
              <a:noFill/>
              <a:ln w="12600">
                <a:solidFill>
                  <a:srgbClr val="d69b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06960" y="2668680"/>
                <a:ext cx="6782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582520" y="6060600"/>
                <a:ext cx="100152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Quanti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39360" y="1904400"/>
                <a:ext cx="22784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d69b80"/>
                    </a:solidFill>
                    <a:latin typeface="Arial"/>
                  </a:rPr>
                  <a:t>Penetration Pri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546440" y="2915640"/>
                <a:ext cx="3164040" cy="3035520"/>
                <a:chOff x="4546440" y="2915640"/>
                <a:chExt cx="3164040" cy="3035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46440" y="2915640"/>
                  <a:ext cx="3164040" cy="3035520"/>
                </a:xfrm>
                <a:custGeom>
                  <a:avLst/>
                  <a:gdLst/>
                  <a:ahLst/>
                  <a:rect l="l" t="t" r="r" b="b"/>
                  <a:pathLst>
                    <a:path w="1993" h="2029">
                      <a:moveTo>
                        <a:pt x="1992" y="2028"/>
                      </a:moveTo>
                      <a:lnTo>
                        <a:pt x="0" y="202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d69b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546440" y="4568400"/>
                  <a:ext cx="2716200" cy="1374840"/>
                </a:xfrm>
                <a:prstGeom prst="rect">
                  <a:avLst/>
                </a:prstGeom>
                <a:noFill/>
                <a:ln w="12600">
                  <a:solidFill>
                    <a:srgbClr val="d69b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769080" y="3695040"/>
                <a:ext cx="500040" cy="848160"/>
              </a:xfrm>
              <a:prstGeom prst="line">
                <a:avLst/>
              </a:prstGeom>
              <a:ln w="25560">
                <a:solidFill>
                  <a:srgbClr val="d69b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24680" y="3231360"/>
                <a:ext cx="13870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Wh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600" spc="-1" strike="noStrike">
                    <a:solidFill>
                      <a:srgbClr val="000000"/>
                    </a:solidFill>
                    <a:latin typeface="Arial"/>
                  </a:rPr>
                  <a:t>market pri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057320" y="2831760"/>
              <a:ext cx="2368440" cy="2519280"/>
            </a:xfrm>
            <a:prstGeom prst="rect">
              <a:avLst/>
            </a:prstGeom>
            <a:gradFill rotWithShape="0">
              <a:gsLst>
                <a:gs pos="0">
                  <a:srgbClr val="f3d98f"/>
                </a:gs>
                <a:gs pos="100000">
                  <a:srgbClr val="edc2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enetration pricing involves selling the whole market at one low pric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066680" y="457200"/>
            <a:ext cx="7643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82400"/>
                </a:solidFill>
                <a:latin typeface="Times New Roman"/>
              </a:rPr>
              <a:t>Price Level Poli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88920" y="380880"/>
            <a:ext cx="8231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Cost-Plus Approaches to Price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st-plus pricing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most popular method, uses a base-cost figure per unit and adds a markup to cover unassigned costs and to provide a pro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s well for a business that keeps its costs 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most common cost-oriented pricing proced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5160" indent="-52272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ll-cost pri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s all relevant variable costs and allocates fixed cos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the marketer to recover all costs plus the amount added as a profit marg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9840" indent="-522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ull-cost deficien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there is no consideration of competition or demand for the i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4520" indent="-522720">
              <a:spcBef>
                <a:spcPts val="34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, any method for allocating overhead is arbitr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to overcome the arbitrary allocation of fixed expenses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cremental-cost pricin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ich attempts to use only those costs directly attributable to specific output in setting pr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3T19:16:19Z</dcterms:created>
  <dc:creator>Administrator</dc:creator>
  <dc:description/>
  <dc:language>en-US</dc:language>
  <cp:lastModifiedBy>Martin Krištof</cp:lastModifiedBy>
  <dcterms:modified xsi:type="dcterms:W3CDTF">2007-04-01T22:02:13Z</dcterms:modified>
  <cp:revision>13</cp:revision>
  <dc:subject/>
  <dc:title>Prezentace aplikace PowerPoint</dc:title>
</cp:coreProperties>
</file>