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C1B-5B13-40DB-A1F0-9233755E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519-0FED-4D48-84D2-1E04C0B2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DA9-6E36-42BD-9CA9-B8EA1585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E44-84E5-42D8-9E13-975002BD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060-1417-40B5-A221-28CBE4A0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E02-AC71-448A-8B1A-008A5EB6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907-6BFA-470D-80F4-27437C7D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8BA-BE61-4A0A-931B-269285CD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E3D-E179-40B7-BBEE-A6FD6520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894-FC9E-4186-B25D-8EEA1479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55C-1ED9-4D5B-A4DA-FA65471D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2E4-DA7D-4053-9C0E-5A9A076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BF99-79BA-4B1E-BA75-D2CEE6291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-152280"/>
            <a:ext cx="85345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Marketing Mix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486400"/>
            <a:ext cx="883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g. Martin Krišt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spring 20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905120"/>
            <a:ext cx="6858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anklin Gothic Medium"/>
              </a:rPr>
              <a:t>PRODUC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Mix Wid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800" y="1677960"/>
            <a:ext cx="5464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ersifies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zes on established repu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9072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roduct lines an organization off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666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Line Dep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581280"/>
            <a:ext cx="72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roduct items in a product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3960" y="4251240"/>
            <a:ext cx="56062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acts buyers with different prefere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s sales/profits by furth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segment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zes on economies of sc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s out seasonal sales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" dur="1" fill="hold"/>
                                  <p:tgtEl>
                                    <p:spTgt spid="1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-152280" y="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illette’s Product Lines and Mix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228600" y="1066680"/>
            <a:ext cx="9219960" cy="4768560"/>
            <a:chOff x="-228600" y="1066680"/>
            <a:chExt cx="9219960" cy="4768560"/>
          </a:xfrm>
        </p:grpSpPr>
        <p:sp>
          <p:nvSpPr>
            <p:cNvPr id="184" name=""/>
            <p:cNvSpPr/>
            <p:nvPr/>
          </p:nvSpPr>
          <p:spPr>
            <a:xfrm>
              <a:off x="804600" y="1576800"/>
              <a:ext cx="8186760" cy="1020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4600" y="2597760"/>
              <a:ext cx="8145000" cy="314748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-228600" y="1917000"/>
              <a:ext cx="9172080" cy="38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lades an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ri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zor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iletrie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strument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igh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 3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per M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i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orn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lair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.T. Dupo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c I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n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ra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ght Gu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wive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lki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uble-Edg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ft and Dri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dy Gillett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amy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per Speed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y L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win Injec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y Idea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chmatic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ush Plu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67520" y="1066680"/>
              <a:ext cx="407844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Width of the product mi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4600" y="2597760"/>
              <a:ext cx="815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16200000">
              <a:off x="-1585080" y="3471120"/>
              <a:ext cx="428256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Depth of the product lin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828800" y="1600200"/>
            <a:ext cx="5943600" cy="304920"/>
          </a:xfrm>
          <a:prstGeom prst="leftRightArrow">
            <a:avLst>
              <a:gd name="adj1" fmla="val 50000"/>
              <a:gd name="adj2" fmla="val 388042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 rot="16200000">
            <a:off x="-800640" y="3543120"/>
            <a:ext cx="4191120" cy="304920"/>
          </a:xfrm>
          <a:prstGeom prst="leftRightArrow">
            <a:avLst>
              <a:gd name="adj1" fmla="val 50000"/>
              <a:gd name="adj2" fmla="val 273627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ter &amp; Gamble Product M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85345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763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roduct Portfolio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oston (BCG)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106668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Child/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Co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09480" y="152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5029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5029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66688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480060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50292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49528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5200" y="50292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2286000"/>
            <a:ext cx="457200" cy="45720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4267080"/>
            <a:ext cx="762120" cy="762120"/>
          </a:xfrm>
          <a:prstGeom prst="donut">
            <a:avLst>
              <a:gd name="adj" fmla="val 25000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1523880"/>
            <a:ext cx="990720" cy="990720"/>
          </a:xfrm>
          <a:prstGeom prst="donut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3809880"/>
            <a:ext cx="698400" cy="698760"/>
          </a:xfrm>
          <a:prstGeom prst="donut">
            <a:avLst>
              <a:gd name="adj" fmla="val 2500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1752480"/>
            <a:ext cx="306360" cy="3049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3962520"/>
            <a:ext cx="1094040" cy="1093680"/>
          </a:xfrm>
          <a:prstGeom prst="donut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581280"/>
            <a:ext cx="878040" cy="878040"/>
          </a:xfrm>
          <a:prstGeom prst="donut">
            <a:avLst>
              <a:gd name="adj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2209680"/>
            <a:ext cx="582840" cy="582840"/>
          </a:xfrm>
          <a:prstGeom prst="donut">
            <a:avLst>
              <a:gd name="adj" fmla="val 250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54100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rket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26668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2743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52200" y="6232680"/>
            <a:ext cx="72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le Size = proportion of total revenue business contributes to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146160"/>
            <a:ext cx="868680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product/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rategic Business Unit (SBU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igned to a c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xe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nual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ke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rowth 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High = 10% +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ow = &lt;10%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xe 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arket sha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tio of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marker share to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est competitor’s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 = 1.0-10.0    Low = 0.01-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etitor share 20%, share of own company 5%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atio = 0.25 (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etitor share 5%, share of own company 20%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atio = 4.0 (Hig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6248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vals highly dependable on type of market, etc.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-763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eneral Electric’s Industry Attractiveness-Business  Strength  Matri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224240" y="28544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4b30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5792760" y="28544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4b30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7353360" y="2857320"/>
            <a:ext cx="1098360" cy="1720800"/>
          </a:xfrm>
          <a:prstGeom prst="cube">
            <a:avLst>
              <a:gd name="adj" fmla="val 115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4224240" y="3843360"/>
            <a:ext cx="1098720" cy="1720800"/>
          </a:xfrm>
          <a:prstGeom prst="cube">
            <a:avLst>
              <a:gd name="adj" fmla="val 11583"/>
            </a:avLst>
          </a:prstGeom>
          <a:solidFill>
            <a:srgbClr val="04b30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5792760" y="3843360"/>
            <a:ext cx="1098720" cy="1720800"/>
          </a:xfrm>
          <a:prstGeom prst="cube">
            <a:avLst>
              <a:gd name="adj" fmla="val 115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7359480" y="3843360"/>
            <a:ext cx="1098720" cy="1720800"/>
          </a:xfrm>
          <a:prstGeom prst="cube">
            <a:avLst>
              <a:gd name="adj" fmla="val 115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4228920" y="4838760"/>
            <a:ext cx="1098720" cy="1720800"/>
          </a:xfrm>
          <a:prstGeom prst="cube">
            <a:avLst>
              <a:gd name="adj" fmla="val 115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2760" y="48308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7359480" y="48308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05000" y="5456160"/>
            <a:ext cx="876600" cy="27000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05000" y="3513240"/>
            <a:ext cx="87660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05000" y="4451400"/>
            <a:ext cx="876600" cy="27000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843280"/>
            <a:ext cx="87624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7240" y="2843280"/>
            <a:ext cx="87804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21400" y="2843280"/>
            <a:ext cx="87804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120" y="2949480"/>
            <a:ext cx="268056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wth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 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nsity of  Compet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s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ic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 &amp;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02040" y="1601640"/>
            <a:ext cx="6141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Market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/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gaining 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to Match Quality/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05560" y="1601640"/>
            <a:ext cx="1927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  Mar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t with KS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7800" y="2057400"/>
            <a:ext cx="2281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tra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62560" y="1147680"/>
            <a:ext cx="2872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siness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63244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ing Scale:  1 = Weak ; 10 = Str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4320" y="39909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4320" y="4995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432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4320" y="595800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3120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2632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520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114800" y="3594240"/>
            <a:ext cx="4270320" cy="2120760"/>
            <a:chOff x="4114800" y="3594240"/>
            <a:chExt cx="4270320" cy="2120760"/>
          </a:xfrm>
        </p:grpSpPr>
        <p:grpSp>
          <p:nvGrpSpPr>
            <p:cNvPr id="250" name=""/>
            <p:cNvGrpSpPr/>
            <p:nvPr/>
          </p:nvGrpSpPr>
          <p:grpSpPr>
            <a:xfrm>
              <a:off x="4114800" y="3594240"/>
              <a:ext cx="520560" cy="520560"/>
              <a:chOff x="4114800" y="3594240"/>
              <a:chExt cx="520560" cy="520560"/>
            </a:xfrm>
          </p:grpSpPr>
          <p:sp>
            <p:nvSpPr>
              <p:cNvPr id="251" name=""/>
              <p:cNvSpPr/>
              <p:nvPr/>
            </p:nvSpPr>
            <p:spPr>
              <a:xfrm>
                <a:off x="4114800" y="3594240"/>
                <a:ext cx="520560" cy="5205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79760" y="3613320"/>
                <a:ext cx="0" cy="22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94160" y="3846600"/>
                <a:ext cx="231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767120" y="4046400"/>
              <a:ext cx="414360" cy="414360"/>
              <a:chOff x="4767120" y="4046400"/>
              <a:chExt cx="414360" cy="414360"/>
            </a:xfrm>
          </p:grpSpPr>
          <p:sp>
            <p:nvSpPr>
              <p:cNvPr id="255" name=""/>
              <p:cNvSpPr/>
              <p:nvPr/>
            </p:nvSpPr>
            <p:spPr>
              <a:xfrm>
                <a:off x="4767120" y="4046400"/>
                <a:ext cx="414360" cy="4143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78440" y="4064040"/>
                <a:ext cx="0" cy="17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991040" y="4119480"/>
                <a:ext cx="138240" cy="14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324320" y="4518000"/>
              <a:ext cx="600120" cy="600120"/>
              <a:chOff x="4324320" y="4518000"/>
              <a:chExt cx="600120" cy="600120"/>
            </a:xfrm>
          </p:grpSpPr>
          <p:sp>
            <p:nvSpPr>
              <p:cNvPr id="259" name=""/>
              <p:cNvSpPr/>
              <p:nvPr/>
            </p:nvSpPr>
            <p:spPr>
              <a:xfrm>
                <a:off x="4324320" y="4518000"/>
                <a:ext cx="600120" cy="600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629240" y="4538520"/>
                <a:ext cx="0" cy="26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40400" y="4830840"/>
                <a:ext cx="249120" cy="8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238720" y="5292720"/>
              <a:ext cx="308160" cy="308160"/>
              <a:chOff x="5238720" y="5292720"/>
              <a:chExt cx="308160" cy="308160"/>
            </a:xfrm>
          </p:grpSpPr>
          <p:sp>
            <p:nvSpPr>
              <p:cNvPr id="263" name=""/>
              <p:cNvSpPr/>
              <p:nvPr/>
            </p:nvSpPr>
            <p:spPr>
              <a:xfrm>
                <a:off x="5238720" y="5292720"/>
                <a:ext cx="308160" cy="3081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396040" y="5308560"/>
                <a:ext cx="0" cy="12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0080" y="5442120"/>
                <a:ext cx="128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962680" y="3753000"/>
              <a:ext cx="253800" cy="253800"/>
              <a:chOff x="5962680" y="3753000"/>
              <a:chExt cx="253800" cy="253800"/>
            </a:xfrm>
          </p:grpSpPr>
          <p:sp>
            <p:nvSpPr>
              <p:cNvPr id="267" name=""/>
              <p:cNvSpPr/>
              <p:nvPr/>
            </p:nvSpPr>
            <p:spPr>
              <a:xfrm>
                <a:off x="5962680" y="3753000"/>
                <a:ext cx="253800" cy="25380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93000" y="3767040"/>
                <a:ext cx="0" cy="98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00920" y="3887640"/>
                <a:ext cx="88920" cy="32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959520" y="5194440"/>
              <a:ext cx="520920" cy="520560"/>
              <a:chOff x="6959520" y="5194440"/>
              <a:chExt cx="520920" cy="520560"/>
            </a:xfrm>
          </p:grpSpPr>
          <p:sp>
            <p:nvSpPr>
              <p:cNvPr id="271" name=""/>
              <p:cNvSpPr/>
              <p:nvPr/>
            </p:nvSpPr>
            <p:spPr>
              <a:xfrm>
                <a:off x="6959520" y="5194440"/>
                <a:ext cx="520920" cy="5205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24840" y="5213520"/>
                <a:ext cx="0" cy="22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7236000" y="5214960"/>
                <a:ext cx="101520" cy="24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491240" y="3909960"/>
              <a:ext cx="308160" cy="308160"/>
              <a:chOff x="7491240" y="3909960"/>
              <a:chExt cx="308160" cy="308160"/>
            </a:xfrm>
          </p:grpSpPr>
          <p:sp>
            <p:nvSpPr>
              <p:cNvPr id="275" name=""/>
              <p:cNvSpPr/>
              <p:nvPr/>
            </p:nvSpPr>
            <p:spPr>
              <a:xfrm>
                <a:off x="7491240" y="3909960"/>
                <a:ext cx="308160" cy="3081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48560" y="3925800"/>
                <a:ext cx="0" cy="12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62960" y="405936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731000" y="4518000"/>
              <a:ext cx="654120" cy="654120"/>
              <a:chOff x="7731000" y="4518000"/>
              <a:chExt cx="654120" cy="654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731000" y="4518000"/>
                <a:ext cx="654120" cy="654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064360" y="454032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8075520" y="4627080"/>
                <a:ext cx="225360" cy="21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035760" y="4346640"/>
              <a:ext cx="681120" cy="681120"/>
              <a:chOff x="6035760" y="4346640"/>
              <a:chExt cx="681120" cy="681120"/>
            </a:xfrm>
          </p:grpSpPr>
          <p:sp>
            <p:nvSpPr>
              <p:cNvPr id="283" name=""/>
              <p:cNvSpPr/>
              <p:nvPr/>
            </p:nvSpPr>
            <p:spPr>
              <a:xfrm>
                <a:off x="6035760" y="4346640"/>
                <a:ext cx="681120" cy="681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75240" y="4371840"/>
                <a:ext cx="0" cy="314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3160" y="4702320"/>
                <a:ext cx="21456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3733920" y="1066680"/>
            <a:ext cx="5181480" cy="152640"/>
          </a:xfrm>
          <a:prstGeom prst="leftRightArrow">
            <a:avLst>
              <a:gd name="adj1" fmla="val 50000"/>
              <a:gd name="adj2" fmla="val 675772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16200000">
            <a:off x="-1943640" y="4000320"/>
            <a:ext cx="4191120" cy="152280"/>
          </a:xfrm>
          <a:prstGeom prst="leftRightArrow">
            <a:avLst>
              <a:gd name="adj1" fmla="val 50000"/>
              <a:gd name="adj2" fmla="val 547900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228600"/>
            <a:ext cx="8610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Lif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553716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2666880"/>
            <a:ext cx="6553440" cy="2870280"/>
          </a:xfrm>
          <a:custGeom>
            <a:avLst/>
            <a:gdLst/>
            <a:ahLst/>
            <a:rect l="l" t="t" r="r" b="b"/>
            <a:pathLst>
              <a:path w="4128" h="1808">
                <a:moveTo>
                  <a:pt x="0" y="1808"/>
                </a:moveTo>
                <a:cubicBezTo>
                  <a:pt x="244" y="1804"/>
                  <a:pt x="488" y="1800"/>
                  <a:pt x="672" y="1712"/>
                </a:cubicBezTo>
                <a:cubicBezTo>
                  <a:pt x="856" y="1624"/>
                  <a:pt x="960" y="1504"/>
                  <a:pt x="1104" y="1280"/>
                </a:cubicBezTo>
                <a:cubicBezTo>
                  <a:pt x="1248" y="1056"/>
                  <a:pt x="1376" y="576"/>
                  <a:pt x="1536" y="368"/>
                </a:cubicBezTo>
                <a:cubicBezTo>
                  <a:pt x="1696" y="160"/>
                  <a:pt x="1872" y="64"/>
                  <a:pt x="2064" y="32"/>
                </a:cubicBezTo>
                <a:cubicBezTo>
                  <a:pt x="2256" y="0"/>
                  <a:pt x="2512" y="32"/>
                  <a:pt x="2688" y="176"/>
                </a:cubicBezTo>
                <a:cubicBezTo>
                  <a:pt x="2864" y="320"/>
                  <a:pt x="3016" y="712"/>
                  <a:pt x="3120" y="896"/>
                </a:cubicBezTo>
                <a:cubicBezTo>
                  <a:pt x="3224" y="1080"/>
                  <a:pt x="3232" y="1168"/>
                  <a:pt x="3312" y="1280"/>
                </a:cubicBezTo>
                <a:cubicBezTo>
                  <a:pt x="3392" y="1392"/>
                  <a:pt x="3504" y="1488"/>
                  <a:pt x="3600" y="1568"/>
                </a:cubicBezTo>
                <a:cubicBezTo>
                  <a:pt x="3696" y="1648"/>
                  <a:pt x="3800" y="1720"/>
                  <a:pt x="3888" y="1760"/>
                </a:cubicBezTo>
                <a:cubicBezTo>
                  <a:pt x="3976" y="1800"/>
                  <a:pt x="4052" y="1804"/>
                  <a:pt x="4128" y="1808"/>
                </a:cubicBezTo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60000">
            <a:off x="1066680" y="4648320"/>
            <a:ext cx="7162920" cy="1257120"/>
          </a:xfrm>
          <a:custGeom>
            <a:avLst/>
            <a:gdLst/>
            <a:ahLst/>
            <a:rect l="l" t="t" r="r" b="b"/>
            <a:pathLst>
              <a:path w="4512" h="792">
                <a:moveTo>
                  <a:pt x="0" y="576"/>
                </a:moveTo>
                <a:cubicBezTo>
                  <a:pt x="64" y="660"/>
                  <a:pt x="128" y="744"/>
                  <a:pt x="240" y="768"/>
                </a:cubicBezTo>
                <a:cubicBezTo>
                  <a:pt x="352" y="792"/>
                  <a:pt x="552" y="760"/>
                  <a:pt x="672" y="720"/>
                </a:cubicBezTo>
                <a:cubicBezTo>
                  <a:pt x="792" y="680"/>
                  <a:pt x="864" y="616"/>
                  <a:pt x="960" y="528"/>
                </a:cubicBezTo>
                <a:cubicBezTo>
                  <a:pt x="1056" y="440"/>
                  <a:pt x="1144" y="272"/>
                  <a:pt x="1248" y="192"/>
                </a:cubicBezTo>
                <a:cubicBezTo>
                  <a:pt x="1352" y="112"/>
                  <a:pt x="1456" y="80"/>
                  <a:pt x="1584" y="48"/>
                </a:cubicBezTo>
                <a:cubicBezTo>
                  <a:pt x="1712" y="16"/>
                  <a:pt x="1880" y="0"/>
                  <a:pt x="2016" y="0"/>
                </a:cubicBezTo>
                <a:cubicBezTo>
                  <a:pt x="2152" y="0"/>
                  <a:pt x="2264" y="8"/>
                  <a:pt x="2400" y="48"/>
                </a:cubicBezTo>
                <a:cubicBezTo>
                  <a:pt x="2536" y="88"/>
                  <a:pt x="2696" y="160"/>
                  <a:pt x="2832" y="240"/>
                </a:cubicBezTo>
                <a:cubicBezTo>
                  <a:pt x="2968" y="320"/>
                  <a:pt x="3096" y="464"/>
                  <a:pt x="3216" y="528"/>
                </a:cubicBezTo>
                <a:cubicBezTo>
                  <a:pt x="3336" y="592"/>
                  <a:pt x="3448" y="592"/>
                  <a:pt x="3552" y="624"/>
                </a:cubicBezTo>
                <a:cubicBezTo>
                  <a:pt x="3656" y="656"/>
                  <a:pt x="3728" y="712"/>
                  <a:pt x="3840" y="720"/>
                </a:cubicBezTo>
                <a:cubicBezTo>
                  <a:pt x="3952" y="728"/>
                  <a:pt x="4112" y="704"/>
                  <a:pt x="4224" y="672"/>
                </a:cubicBezTo>
                <a:cubicBezTo>
                  <a:pt x="4336" y="640"/>
                  <a:pt x="4424" y="584"/>
                  <a:pt x="4512" y="528"/>
                </a:cubicBezTo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3888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01880" y="19810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560" y="19810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1800" y="1981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91680" y="19810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1676520"/>
            <a:ext cx="109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4600" y="57913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/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1676520" y="5714640"/>
            <a:ext cx="761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7520" y="495288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6960" y="32767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920" y="4876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95280" y="380880"/>
            <a:ext cx="6624720" cy="559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apping Life Cycles for Two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79440" y="1295280"/>
            <a:ext cx="7846920" cy="3766680"/>
            <a:chOff x="379440" y="1295280"/>
            <a:chExt cx="7846920" cy="3766680"/>
          </a:xfrm>
        </p:grpSpPr>
        <p:sp>
          <p:nvSpPr>
            <p:cNvPr id="309" name=""/>
            <p:cNvSpPr/>
            <p:nvPr/>
          </p:nvSpPr>
          <p:spPr>
            <a:xfrm>
              <a:off x="814320" y="2611440"/>
              <a:ext cx="7324920" cy="1992600"/>
            </a:xfrm>
            <a:custGeom>
              <a:avLst/>
              <a:gdLst/>
              <a:ahLst/>
              <a:rect l="l" t="t" r="r" b="b"/>
              <a:pathLst>
                <a:path w="3770" h="1173">
                  <a:moveTo>
                    <a:pt x="0" y="1173"/>
                  </a:moveTo>
                  <a:cubicBezTo>
                    <a:pt x="100" y="1161"/>
                    <a:pt x="200" y="1129"/>
                    <a:pt x="300" y="1118"/>
                  </a:cubicBezTo>
                  <a:cubicBezTo>
                    <a:pt x="467" y="1063"/>
                    <a:pt x="640" y="1016"/>
                    <a:pt x="811" y="973"/>
                  </a:cubicBezTo>
                  <a:cubicBezTo>
                    <a:pt x="886" y="954"/>
                    <a:pt x="980" y="926"/>
                    <a:pt x="1056" y="907"/>
                  </a:cubicBezTo>
                  <a:cubicBezTo>
                    <a:pt x="1151" y="884"/>
                    <a:pt x="1207" y="870"/>
                    <a:pt x="1300" y="840"/>
                  </a:cubicBezTo>
                  <a:cubicBezTo>
                    <a:pt x="1362" y="799"/>
                    <a:pt x="1449" y="744"/>
                    <a:pt x="1518" y="708"/>
                  </a:cubicBezTo>
                  <a:cubicBezTo>
                    <a:pt x="1564" y="662"/>
                    <a:pt x="1602" y="631"/>
                    <a:pt x="1656" y="595"/>
                  </a:cubicBezTo>
                  <a:cubicBezTo>
                    <a:pt x="1681" y="557"/>
                    <a:pt x="1690" y="566"/>
                    <a:pt x="1723" y="540"/>
                  </a:cubicBezTo>
                  <a:cubicBezTo>
                    <a:pt x="1764" y="508"/>
                    <a:pt x="1751" y="519"/>
                    <a:pt x="1789" y="462"/>
                  </a:cubicBezTo>
                  <a:cubicBezTo>
                    <a:pt x="1808" y="438"/>
                    <a:pt x="1825" y="411"/>
                    <a:pt x="1839" y="396"/>
                  </a:cubicBezTo>
                  <a:cubicBezTo>
                    <a:pt x="1853" y="381"/>
                    <a:pt x="1849" y="389"/>
                    <a:pt x="1872" y="369"/>
                  </a:cubicBezTo>
                  <a:cubicBezTo>
                    <a:pt x="1905" y="342"/>
                    <a:pt x="1942" y="304"/>
                    <a:pt x="1978" y="273"/>
                  </a:cubicBezTo>
                  <a:cubicBezTo>
                    <a:pt x="2014" y="242"/>
                    <a:pt x="2052" y="210"/>
                    <a:pt x="2089" y="184"/>
                  </a:cubicBezTo>
                  <a:cubicBezTo>
                    <a:pt x="2125" y="149"/>
                    <a:pt x="2153" y="132"/>
                    <a:pt x="2201" y="118"/>
                  </a:cubicBezTo>
                  <a:cubicBezTo>
                    <a:pt x="2223" y="111"/>
                    <a:pt x="2127" y="144"/>
                    <a:pt x="2250" y="93"/>
                  </a:cubicBezTo>
                  <a:cubicBezTo>
                    <a:pt x="2280" y="85"/>
                    <a:pt x="2239" y="90"/>
                    <a:pt x="2271" y="81"/>
                  </a:cubicBezTo>
                  <a:cubicBezTo>
                    <a:pt x="2284" y="74"/>
                    <a:pt x="2311" y="59"/>
                    <a:pt x="2328" y="51"/>
                  </a:cubicBezTo>
                  <a:cubicBezTo>
                    <a:pt x="2345" y="43"/>
                    <a:pt x="2360" y="38"/>
                    <a:pt x="2373" y="33"/>
                  </a:cubicBezTo>
                  <a:cubicBezTo>
                    <a:pt x="2386" y="28"/>
                    <a:pt x="2397" y="24"/>
                    <a:pt x="2409" y="21"/>
                  </a:cubicBezTo>
                  <a:cubicBezTo>
                    <a:pt x="2421" y="18"/>
                    <a:pt x="2428" y="15"/>
                    <a:pt x="2445" y="12"/>
                  </a:cubicBezTo>
                  <a:cubicBezTo>
                    <a:pt x="2462" y="9"/>
                    <a:pt x="2480" y="1"/>
                    <a:pt x="2514" y="3"/>
                  </a:cubicBezTo>
                  <a:cubicBezTo>
                    <a:pt x="2548" y="5"/>
                    <a:pt x="2594" y="0"/>
                    <a:pt x="2649" y="21"/>
                  </a:cubicBezTo>
                  <a:cubicBezTo>
                    <a:pt x="2704" y="42"/>
                    <a:pt x="2787" y="97"/>
                    <a:pt x="2845" y="129"/>
                  </a:cubicBezTo>
                  <a:cubicBezTo>
                    <a:pt x="2873" y="131"/>
                    <a:pt x="2970" y="205"/>
                    <a:pt x="2997" y="213"/>
                  </a:cubicBezTo>
                  <a:cubicBezTo>
                    <a:pt x="3019" y="220"/>
                    <a:pt x="3102" y="294"/>
                    <a:pt x="3102" y="294"/>
                  </a:cubicBezTo>
                  <a:cubicBezTo>
                    <a:pt x="3139" y="319"/>
                    <a:pt x="3108" y="297"/>
                    <a:pt x="3147" y="327"/>
                  </a:cubicBezTo>
                  <a:cubicBezTo>
                    <a:pt x="3172" y="345"/>
                    <a:pt x="3215" y="377"/>
                    <a:pt x="3234" y="393"/>
                  </a:cubicBezTo>
                  <a:cubicBezTo>
                    <a:pt x="3258" y="409"/>
                    <a:pt x="3272" y="413"/>
                    <a:pt x="3288" y="423"/>
                  </a:cubicBezTo>
                  <a:cubicBezTo>
                    <a:pt x="3296" y="430"/>
                    <a:pt x="3320" y="448"/>
                    <a:pt x="3330" y="453"/>
                  </a:cubicBezTo>
                  <a:cubicBezTo>
                    <a:pt x="3360" y="462"/>
                    <a:pt x="3369" y="480"/>
                    <a:pt x="3369" y="480"/>
                  </a:cubicBezTo>
                  <a:cubicBezTo>
                    <a:pt x="3453" y="513"/>
                    <a:pt x="3424" y="506"/>
                    <a:pt x="3480" y="534"/>
                  </a:cubicBezTo>
                  <a:cubicBezTo>
                    <a:pt x="3514" y="551"/>
                    <a:pt x="3486" y="534"/>
                    <a:pt x="3513" y="561"/>
                  </a:cubicBezTo>
                  <a:cubicBezTo>
                    <a:pt x="3502" y="541"/>
                    <a:pt x="3579" y="594"/>
                    <a:pt x="3606" y="609"/>
                  </a:cubicBezTo>
                  <a:cubicBezTo>
                    <a:pt x="3633" y="624"/>
                    <a:pt x="3657" y="637"/>
                    <a:pt x="3678" y="651"/>
                  </a:cubicBezTo>
                  <a:cubicBezTo>
                    <a:pt x="3756" y="699"/>
                    <a:pt x="3709" y="686"/>
                    <a:pt x="3734" y="695"/>
                  </a:cubicBezTo>
                  <a:cubicBezTo>
                    <a:pt x="3770" y="708"/>
                    <a:pt x="3767" y="695"/>
                    <a:pt x="3767" y="718"/>
                  </a:cubicBezTo>
                  <a:lnTo>
                    <a:pt x="3767" y="1173"/>
                  </a:lnTo>
                  <a:lnTo>
                    <a:pt x="0" y="117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38160" y="1295280"/>
              <a:ext cx="166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77960" y="129672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03200" y="129672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t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30120" y="129672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27760" y="4909320"/>
              <a:ext cx="155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80080" y="466308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203040" y="317916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30840" y="2850840"/>
              <a:ext cx="3305160" cy="1753200"/>
            </a:xfrm>
            <a:custGeom>
              <a:avLst/>
              <a:gdLst/>
              <a:ahLst/>
              <a:rect l="l" t="t" r="r" b="b"/>
              <a:pathLst>
                <a:path w="1701" h="1032">
                  <a:moveTo>
                    <a:pt x="0" y="1032"/>
                  </a:moveTo>
                  <a:cubicBezTo>
                    <a:pt x="125" y="1017"/>
                    <a:pt x="243" y="981"/>
                    <a:pt x="367" y="966"/>
                  </a:cubicBezTo>
                  <a:cubicBezTo>
                    <a:pt x="449" y="944"/>
                    <a:pt x="529" y="919"/>
                    <a:pt x="611" y="899"/>
                  </a:cubicBezTo>
                  <a:cubicBezTo>
                    <a:pt x="626" y="895"/>
                    <a:pt x="641" y="892"/>
                    <a:pt x="656" y="888"/>
                  </a:cubicBezTo>
                  <a:cubicBezTo>
                    <a:pt x="679" y="882"/>
                    <a:pt x="722" y="866"/>
                    <a:pt x="722" y="866"/>
                  </a:cubicBezTo>
                  <a:cubicBezTo>
                    <a:pt x="764" y="838"/>
                    <a:pt x="808" y="826"/>
                    <a:pt x="856" y="810"/>
                  </a:cubicBezTo>
                  <a:cubicBezTo>
                    <a:pt x="911" y="792"/>
                    <a:pt x="927" y="749"/>
                    <a:pt x="978" y="732"/>
                  </a:cubicBezTo>
                  <a:cubicBezTo>
                    <a:pt x="989" y="721"/>
                    <a:pt x="999" y="709"/>
                    <a:pt x="1011" y="699"/>
                  </a:cubicBezTo>
                  <a:cubicBezTo>
                    <a:pt x="1021" y="690"/>
                    <a:pt x="1035" y="686"/>
                    <a:pt x="1045" y="677"/>
                  </a:cubicBezTo>
                  <a:cubicBezTo>
                    <a:pt x="1102" y="627"/>
                    <a:pt x="1148" y="574"/>
                    <a:pt x="1211" y="532"/>
                  </a:cubicBezTo>
                  <a:cubicBezTo>
                    <a:pt x="1249" y="478"/>
                    <a:pt x="1225" y="509"/>
                    <a:pt x="1289" y="443"/>
                  </a:cubicBezTo>
                  <a:cubicBezTo>
                    <a:pt x="1326" y="406"/>
                    <a:pt x="1344" y="362"/>
                    <a:pt x="1389" y="332"/>
                  </a:cubicBezTo>
                  <a:cubicBezTo>
                    <a:pt x="1426" y="276"/>
                    <a:pt x="1474" y="242"/>
                    <a:pt x="1523" y="199"/>
                  </a:cubicBezTo>
                  <a:cubicBezTo>
                    <a:pt x="1573" y="155"/>
                    <a:pt x="1599" y="78"/>
                    <a:pt x="1665" y="54"/>
                  </a:cubicBezTo>
                  <a:cubicBezTo>
                    <a:pt x="1692" y="21"/>
                    <a:pt x="1687" y="0"/>
                    <a:pt x="1692" y="3"/>
                  </a:cubicBezTo>
                  <a:cubicBezTo>
                    <a:pt x="1697" y="6"/>
                    <a:pt x="1697" y="51"/>
                    <a:pt x="1698" y="72"/>
                  </a:cubicBezTo>
                  <a:lnTo>
                    <a:pt x="1698" y="132"/>
                  </a:lnTo>
                  <a:lnTo>
                    <a:pt x="1701" y="513"/>
                  </a:lnTo>
                  <a:lnTo>
                    <a:pt x="1700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49760" y="258948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44960" y="403344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4320" y="1716480"/>
              <a:ext cx="263520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49520" y="1716480"/>
              <a:ext cx="135900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8520" y="1716480"/>
              <a:ext cx="166356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64160" y="1708920"/>
              <a:ext cx="166392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04920" y="5181480"/>
            <a:ext cx="457200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ife cycle extens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cc99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hions and f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cc99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chnological life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cc99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tional product lif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362320" y="304920"/>
            <a:ext cx="46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duct Life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17600" y="1600200"/>
            <a:ext cx="8308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fe Cycle and the Marketing M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2514600"/>
            <a:ext cx="693396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 bundle of physical, service, and symbolic attributes designed to enhance buyers want satisf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0" y="152280"/>
            <a:ext cx="46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- defin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143000"/>
            <a:ext cx="6324480" cy="914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, both favorable and unfavorable, that a person receives in an exchang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for price pa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191120"/>
            <a:ext cx="7315200" cy="1981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product is a set of tangible and intangible attributes including packaging, colour, price, quality and brand, plus the services and reputation of the se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solidFill>
            <a:srgbClr val="0066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rvice Marketing versus Goods Market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86400" y="4971960"/>
            <a:ext cx="260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5862600"/>
            <a:ext cx="233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67320" y="4083120"/>
            <a:ext cx="229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48240" y="3095640"/>
            <a:ext cx="223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0360" y="1663560"/>
            <a:ext cx="1996920" cy="7178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0120" y="1835280"/>
            <a:ext cx="2066760" cy="3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20000"/>
              </a:lnSpc>
              <a:spcAft>
                <a:spcPts val="4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4880" y="1676520"/>
            <a:ext cx="5942160" cy="717480"/>
          </a:xfrm>
          <a:prstGeom prst="rect">
            <a:avLst/>
          </a:prstGeom>
          <a:gradFill rotWithShape="0">
            <a:gsLst>
              <a:gs pos="0">
                <a:srgbClr val="e8d966"/>
              </a:gs>
              <a:gs pos="100000">
                <a:srgbClr val="cc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4640" y="1687680"/>
            <a:ext cx="206712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ure Servi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0" y="1695600"/>
            <a:ext cx="186048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ure Good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2646360"/>
            <a:ext cx="2003400" cy="36338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6960" y="2654280"/>
            <a:ext cx="1874880" cy="3621240"/>
          </a:xfrm>
          <a:prstGeom prst="rect">
            <a:avLst/>
          </a:prstGeom>
          <a:gradFill rotWithShape="0">
            <a:gsLst>
              <a:gs pos="0">
                <a:srgbClr val="e08500"/>
              </a:gs>
              <a:gs pos="100000">
                <a:srgbClr val="875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5120" y="2662200"/>
            <a:ext cx="1555920" cy="3621240"/>
          </a:xfrm>
          <a:prstGeom prst="rect">
            <a:avLst/>
          </a:prstGeom>
          <a:gradFill rotWithShape="0">
            <a:gsLst>
              <a:gs pos="0">
                <a:srgbClr val="e8d966"/>
              </a:gs>
              <a:gs pos="100000">
                <a:srgbClr val="cc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2666880"/>
            <a:ext cx="1989000" cy="3621240"/>
          </a:xfrm>
          <a:prstGeom prst="rect">
            <a:avLst/>
          </a:prstGeom>
          <a:solidFill>
            <a:srgbClr val="e0cb32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0400" y="2819520"/>
            <a:ext cx="2067120" cy="32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Tangi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Production/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Consump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Standard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Perisha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5040" y="3470400"/>
            <a:ext cx="1982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4400" y="4575240"/>
            <a:ext cx="197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6480" y="5487840"/>
            <a:ext cx="19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1120" y="2666880"/>
            <a:ext cx="18972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6800" bIns="44280" anchor="t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angib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cur at the sam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ss 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eater perish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36720" y="3478320"/>
            <a:ext cx="189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66960" y="4572000"/>
            <a:ext cx="18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4640" y="5486400"/>
            <a:ext cx="18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73680" y="2565360"/>
            <a:ext cx="206712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ngib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cur at different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re 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ss perish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18320" y="3486240"/>
            <a:ext cx="196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7680" y="4572000"/>
            <a:ext cx="194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19760" y="548640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81600" y="3654360"/>
            <a:ext cx="15192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ybri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vices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Management Perspectives on “New” Produc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1219320"/>
            <a:ext cx="601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to-the-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category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line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68760" y="6097680"/>
            <a:ext cx="197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31240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sumers’ Perspectives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 “New” Produ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4495680"/>
            <a:ext cx="2598480" cy="702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5311800"/>
            <a:ext cx="4108320" cy="1317600"/>
          </a:xfrm>
          <a:prstGeom prst="leftArrow">
            <a:avLst>
              <a:gd name="adj1" fmla="val 50000"/>
              <a:gd name="adj2" fmla="val 155887"/>
            </a:avLst>
          </a:prstGeom>
          <a:gradFill rotWithShape="0">
            <a:gsLst>
              <a:gs pos="0">
                <a:srgbClr val="fc0128"/>
              </a:gs>
              <a:gs pos="100000">
                <a:srgbClr val="960017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8480" y="5311800"/>
            <a:ext cx="4108320" cy="1317600"/>
          </a:xfrm>
          <a:prstGeom prst="rightArrow">
            <a:avLst>
              <a:gd name="adj1" fmla="val 50000"/>
              <a:gd name="adj2" fmla="val 155916"/>
            </a:avLst>
          </a:prstGeom>
          <a:gradFill rotWithShape="0">
            <a:gsLst>
              <a:gs pos="0">
                <a:srgbClr val="fb1a3d"/>
              </a:gs>
              <a:gs pos="100000">
                <a:srgbClr val="fc0128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1520" y="5769000"/>
            <a:ext cx="218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95440" y="4419720"/>
            <a:ext cx="1669320" cy="1007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56160" y="5791320"/>
            <a:ext cx="214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558120" y="4419720"/>
            <a:ext cx="1599480" cy="702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28320" y="5562720"/>
            <a:ext cx="155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6272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-76320" y="-304920"/>
            <a:ext cx="92203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Characteristics of New Product Su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320" y="685800"/>
            <a:ext cx="4360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lative advant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ower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itional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ore fun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-76320" y="3962520"/>
            <a:ext cx="5562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490680" indent="-490680"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Compatibility with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existing habits and behavio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685800"/>
            <a:ext cx="4876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Trial-a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asily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ow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n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o special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ree samples or coup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3962520"/>
            <a:ext cx="5715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Observa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Visible c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Communicate hidden qual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5638680"/>
            <a:ext cx="8915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5.  Simplic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ser friendly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derstandable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,  E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sy to grasp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/us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22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914400"/>
            <a:ext cx="8458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name, term, symbol, design, or combination thereof that identifies a seller’s products and differentiates them from competitors’ produ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362320"/>
            <a:ext cx="7772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80880" y="2666880"/>
            <a:ext cx="8229600" cy="3961800"/>
            <a:chOff x="380880" y="2666880"/>
            <a:chExt cx="8229600" cy="3961800"/>
          </a:xfrm>
        </p:grpSpPr>
        <p:grpSp>
          <p:nvGrpSpPr>
            <p:cNvPr id="379" name=""/>
            <p:cNvGrpSpPr/>
            <p:nvPr/>
          </p:nvGrpSpPr>
          <p:grpSpPr>
            <a:xfrm>
              <a:off x="380880" y="2666880"/>
              <a:ext cx="1932120" cy="3961800"/>
              <a:chOff x="380880" y="2666880"/>
              <a:chExt cx="1932120" cy="3961800"/>
            </a:xfrm>
          </p:grpSpPr>
          <p:sp>
            <p:nvSpPr>
              <p:cNvPr id="380" name=""/>
              <p:cNvSpPr/>
              <p:nvPr/>
            </p:nvSpPr>
            <p:spPr>
              <a:xfrm>
                <a:off x="380880" y="2666880"/>
                <a:ext cx="1932120" cy="98532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0880" y="3663720"/>
                <a:ext cx="1932120" cy="98640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0880" y="4660920"/>
                <a:ext cx="1932120" cy="98208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qu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0880" y="5643360"/>
                <a:ext cx="1932120" cy="98532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s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292480" y="2666880"/>
              <a:ext cx="6318000" cy="9846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at part of a brand that can be spoken, including letters, words, and numbers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92480" y="3663720"/>
              <a:ext cx="6318000" cy="9860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 elements of a brand that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annot be spoke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92480" y="4662000"/>
              <a:ext cx="6318000" cy="9828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 value of company and brand names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92480" y="5644800"/>
              <a:ext cx="6318000" cy="9838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 brand so dominant that it comes to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ind immediately when a product category, use, attribute, or benefit is mentioned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-763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ffective Brand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13160"/>
            <a:ext cx="8153280" cy="46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easy to pronou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easy to recognize and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short, distinctive, and u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Describes the product, use, and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Has a positive con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Reinforces the product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legally protec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3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ufacturers’ Brands Vers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ate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85840" y="1933560"/>
            <a:ext cx="2837880" cy="2333520"/>
            <a:chOff x="285840" y="1933560"/>
            <a:chExt cx="2837880" cy="2333520"/>
          </a:xfrm>
        </p:grpSpPr>
        <p:sp>
          <p:nvSpPr>
            <p:cNvPr id="392" name=""/>
            <p:cNvSpPr/>
            <p:nvPr/>
          </p:nvSpPr>
          <p:spPr>
            <a:xfrm>
              <a:off x="285840" y="1933560"/>
              <a:ext cx="2837880" cy="115740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Manufacturers’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ran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5840" y="3107520"/>
              <a:ext cx="2837880" cy="115956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rivat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ran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124080" y="1933560"/>
            <a:ext cx="5695920" cy="2333520"/>
            <a:chOff x="3124080" y="1933560"/>
            <a:chExt cx="5695920" cy="2333520"/>
          </a:xfrm>
        </p:grpSpPr>
        <p:sp>
          <p:nvSpPr>
            <p:cNvPr id="395" name=""/>
            <p:cNvSpPr/>
            <p:nvPr/>
          </p:nvSpPr>
          <p:spPr>
            <a:xfrm>
              <a:off x="3124080" y="1933560"/>
              <a:ext cx="5695920" cy="11574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brand name of a manufactur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24080" y="3107520"/>
              <a:ext cx="5695920" cy="11595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brand name owned by a  wholesaler or a retail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0" y="502920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B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4495680"/>
            <a:ext cx="5715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o-frills, no-brand-name, low-cost product that is simply identified by its product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-228600"/>
            <a:ext cx="922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 Manufacturers’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customer loy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act new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 presti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 rapid delivery, can carry less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 dealer loy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380880" y="289548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tages of  Private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38862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Earn higher pro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Less pressure to mark down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Manufacturer may drop a brand or become a direct competitor to dea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Ties to wholesaler or ret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No control over distribution of manufacturers’ b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4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839440" cy="5181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04920" y="6248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brand Group, August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15228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obal Brand Scorecar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70480" y="2036880"/>
            <a:ext cx="2706480" cy="104112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0" y="0"/>
                </a:moveTo>
                <a:lnTo>
                  <a:pt x="960" y="0"/>
                </a:lnTo>
                <a:lnTo>
                  <a:pt x="1704" y="744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42360" y="1657440"/>
            <a:ext cx="4120920" cy="92844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 and Pro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70480" y="4621320"/>
            <a:ext cx="2706480" cy="104112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0" y="744"/>
                </a:moveTo>
                <a:lnTo>
                  <a:pt x="960" y="744"/>
                </a:lnTo>
                <a:lnTo>
                  <a:pt x="1704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867280" y="2597040"/>
            <a:ext cx="2959200" cy="25718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a7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42360" y="2832120"/>
            <a:ext cx="4120920" cy="927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2360" y="4005360"/>
            <a:ext cx="4120920" cy="9284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Storage, 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42360" y="5180040"/>
            <a:ext cx="4120920" cy="92700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Re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70480" y="3262320"/>
            <a:ext cx="1449360" cy="36972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0" y="0"/>
                </a:moveTo>
                <a:lnTo>
                  <a:pt x="516" y="0"/>
                </a:lnTo>
                <a:lnTo>
                  <a:pt x="912" y="264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70480" y="4084560"/>
            <a:ext cx="1449360" cy="37008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0" y="264"/>
                </a:moveTo>
                <a:lnTo>
                  <a:pt x="516" y="264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b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09480" y="1752480"/>
            <a:ext cx="3581640" cy="3724560"/>
            <a:chOff x="609480" y="1752480"/>
            <a:chExt cx="3581640" cy="3724560"/>
          </a:xfrm>
        </p:grpSpPr>
        <p:sp>
          <p:nvSpPr>
            <p:cNvPr id="418" name=""/>
            <p:cNvSpPr/>
            <p:nvPr/>
          </p:nvSpPr>
          <p:spPr>
            <a:xfrm>
              <a:off x="685800" y="1752480"/>
              <a:ext cx="3505320" cy="939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rsuasi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9480" y="2751120"/>
              <a:ext cx="3200400" cy="27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Focuses on promotional theme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Information is secondar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029200" y="1752480"/>
            <a:ext cx="3809880" cy="4046760"/>
            <a:chOff x="5029200" y="1752480"/>
            <a:chExt cx="3809880" cy="4046760"/>
          </a:xfrm>
        </p:grpSpPr>
        <p:sp>
          <p:nvSpPr>
            <p:cNvPr id="421" name=""/>
            <p:cNvSpPr/>
            <p:nvPr/>
          </p:nvSpPr>
          <p:spPr>
            <a:xfrm>
              <a:off x="5029200" y="1752480"/>
              <a:ext cx="3505320" cy="9399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formatio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29200" y="2703240"/>
              <a:ext cx="3809880" cy="30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Helps make proper selections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Lowers cognitive dissonance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Includes use/car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76600" y="2557440"/>
            <a:ext cx="2209680" cy="2209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2720" y="14907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ll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1520" y="95724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67520" y="1143000"/>
            <a:ext cx="1985760" cy="11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of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4720" y="26337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77000" y="3852720"/>
            <a:ext cx="1600200" cy="838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1520" y="56055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9640" y="5068800"/>
            <a:ext cx="1600200" cy="838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47800" y="49197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warra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633760"/>
            <a:ext cx="144288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ll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re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3854520"/>
            <a:ext cx="124596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60640" y="3090960"/>
          <a:ext cx="177336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60640" y="3090960"/>
                    <a:ext cx="1773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16200000">
            <a:off x="4186080" y="2100240"/>
            <a:ext cx="990720" cy="380880"/>
          </a:xfrm>
          <a:prstGeom prst="rightArrow">
            <a:avLst>
              <a:gd name="adj1" fmla="val 50000"/>
              <a:gd name="adj2" fmla="val 13006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rot="16200000">
            <a:off x="4186080" y="499572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rot="13320000">
            <a:off x="5252040" y="4538160"/>
            <a:ext cx="990360" cy="381240"/>
          </a:xfrm>
          <a:prstGeom prst="rightArrow">
            <a:avLst>
              <a:gd name="adj1" fmla="val 50000"/>
              <a:gd name="adj2" fmla="val 12989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rot="18720000">
            <a:off x="3150720" y="460836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080000">
            <a:off x="5252760" y="240480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3680000">
            <a:off x="3195360" y="2404800"/>
            <a:ext cx="990720" cy="381240"/>
          </a:xfrm>
          <a:prstGeom prst="rightArrow">
            <a:avLst>
              <a:gd name="adj1" fmla="val 50000"/>
              <a:gd name="adj2" fmla="val 129946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0700000">
            <a:off x="5688000" y="2968200"/>
            <a:ext cx="990720" cy="381240"/>
          </a:xfrm>
          <a:prstGeom prst="rightArrow">
            <a:avLst>
              <a:gd name="adj1" fmla="val 50000"/>
              <a:gd name="adj2" fmla="val 129946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1160000">
            <a:off x="2661840" y="3090960"/>
            <a:ext cx="990720" cy="380880"/>
          </a:xfrm>
          <a:prstGeom prst="rightArrow">
            <a:avLst>
              <a:gd name="adj1" fmla="val 50000"/>
              <a:gd name="adj2" fmla="val 13006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20220000">
            <a:off x="2738160" y="392904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rot="11640000">
            <a:off x="5633640" y="3928680"/>
            <a:ext cx="990720" cy="380880"/>
          </a:xfrm>
          <a:prstGeom prst="rightArrow">
            <a:avLst>
              <a:gd name="adj1" fmla="val 50000"/>
              <a:gd name="adj2" fmla="val 13006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ttributes / B</a:t>
            </a:r>
            <a:r>
              <a:rPr b="1" lang="en-AU" sz="4000" spc="-1" strike="noStrike">
                <a:solidFill>
                  <a:srgbClr val="000000"/>
                </a:solidFill>
                <a:latin typeface="Times New Roman"/>
              </a:rPr>
              <a:t>enefits of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AU" sz="4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Warran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406240" y="3651120"/>
            <a:ext cx="33660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2558880"/>
            <a:ext cx="2133720" cy="2184480"/>
          </a:xfrm>
          <a:prstGeom prst="ellipse">
            <a:avLst/>
          </a:prstGeom>
          <a:solidFill>
            <a:srgbClr val="f9fbcd"/>
          </a:solidFill>
          <a:ln w="38160">
            <a:solidFill>
              <a:srgbClr val="5f5f5f"/>
            </a:solidFill>
            <a:miter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rran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4840200"/>
            <a:ext cx="253800" cy="273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2230560"/>
            <a:ext cx="515880" cy="3049560"/>
          </a:xfrm>
          <a:custGeom>
            <a:avLst/>
            <a:gdLst/>
            <a:ahLst/>
            <a:rect l="l" t="t" r="r" b="b"/>
            <a:pathLst>
              <a:path w="325" h="1781">
                <a:moveTo>
                  <a:pt x="324" y="0"/>
                </a:moveTo>
                <a:lnTo>
                  <a:pt x="0" y="0"/>
                </a:lnTo>
                <a:lnTo>
                  <a:pt x="0" y="1780"/>
                </a:lnTo>
                <a:lnTo>
                  <a:pt x="314" y="178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1860480"/>
            <a:ext cx="3505320" cy="738360"/>
          </a:xfrm>
          <a:prstGeom prst="rect">
            <a:avLst/>
          </a:prstGeom>
          <a:solidFill>
            <a:srgbClr val="feca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ritten Guarante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09960" y="4675320"/>
            <a:ext cx="2101680" cy="1116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mplied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arran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09960" y="1676520"/>
            <a:ext cx="210168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xpres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arran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900680"/>
            <a:ext cx="3505320" cy="738000"/>
          </a:xfrm>
          <a:prstGeom prst="rect">
            <a:avLst/>
          </a:prstGeom>
          <a:solidFill>
            <a:srgbClr val="feca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written Guarante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029200" y="2251080"/>
            <a:ext cx="533520" cy="0"/>
          </a:xfrm>
          <a:prstGeom prst="line">
            <a:avLst/>
          </a:prstGeom>
          <a:ln w="3816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029200" y="5291280"/>
            <a:ext cx="533520" cy="0"/>
          </a:xfrm>
          <a:prstGeom prst="line">
            <a:avLst/>
          </a:prstGeom>
          <a:ln w="3816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 of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03040" y="1569960"/>
            <a:ext cx="8788680" cy="4457880"/>
            <a:chOff x="203040" y="1569960"/>
            <a:chExt cx="8788680" cy="4457880"/>
          </a:xfrm>
        </p:grpSpPr>
        <p:sp>
          <p:nvSpPr>
            <p:cNvPr id="74" name=""/>
            <p:cNvSpPr/>
            <p:nvPr/>
          </p:nvSpPr>
          <p:spPr>
            <a:xfrm>
              <a:off x="3471840" y="4776840"/>
              <a:ext cx="0" cy="4316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66920" y="4205160"/>
              <a:ext cx="0" cy="5461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83320" y="4789440"/>
              <a:ext cx="0" cy="43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0640" y="4770360"/>
              <a:ext cx="6875280" cy="344520"/>
            </a:xfrm>
            <a:custGeom>
              <a:avLst/>
              <a:gdLst/>
              <a:ahLst/>
              <a:rect l="l" t="t" r="r" b="b"/>
              <a:pathLst>
                <a:path w="4105" h="217">
                  <a:moveTo>
                    <a:pt x="0" y="216"/>
                  </a:moveTo>
                  <a:lnTo>
                    <a:pt x="0" y="0"/>
                  </a:lnTo>
                  <a:lnTo>
                    <a:pt x="4104" y="0"/>
                  </a:lnTo>
                  <a:lnTo>
                    <a:pt x="4104" y="199"/>
                  </a:lnTo>
                </a:path>
              </a:pathLst>
            </a:custGeom>
            <a:noFill/>
            <a:ln cap="rnd"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2967120"/>
              <a:ext cx="4603680" cy="344520"/>
            </a:xfrm>
            <a:custGeom>
              <a:avLst/>
              <a:gdLst/>
              <a:ahLst/>
              <a:rect l="l" t="t" r="r" b="b"/>
              <a:pathLst>
                <a:path w="2749" h="217">
                  <a:moveTo>
                    <a:pt x="0" y="216"/>
                  </a:moveTo>
                  <a:lnTo>
                    <a:pt x="0" y="0"/>
                  </a:lnTo>
                  <a:lnTo>
                    <a:pt x="2748" y="0"/>
                  </a:lnTo>
                  <a:lnTo>
                    <a:pt x="2748" y="199"/>
                  </a:lnTo>
                </a:path>
              </a:pathLst>
            </a:custGeom>
            <a:noFill/>
            <a:ln cap="rnd"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15320" y="5087880"/>
              <a:ext cx="197640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sou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45160" y="5087880"/>
              <a:ext cx="197640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ial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73200" y="5087880"/>
              <a:ext cx="197640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3040" y="5087880"/>
              <a:ext cx="197676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ven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08240" y="3220920"/>
              <a:ext cx="1976400" cy="939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89600" y="3220920"/>
              <a:ext cx="1976400" cy="9399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97560" y="2529000"/>
              <a:ext cx="0" cy="4316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9840" y="1569960"/>
              <a:ext cx="1974960" cy="939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077320" y="335268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152280"/>
            <a:ext cx="8991720" cy="559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lassification of Consumer Produc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95280" y="1352520"/>
          <a:ext cx="6477120" cy="493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352520"/>
                    <a:ext cx="647712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496400" y="175248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s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22240" y="4473720"/>
            <a:ext cx="213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mogeneou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, Portable 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terogeneou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Fit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5760" y="2378160"/>
            <a:ext cx="16484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xury Ca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igner Cloth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F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22360" y="4498920"/>
            <a:ext cx="2243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ulse Item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ple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, B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mergency Item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dag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d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124080"/>
            <a:ext cx="1438200" cy="1349640"/>
          </a:xfrm>
          <a:prstGeom prst="ellipse">
            <a:avLst/>
          </a:prstGeom>
          <a:gradFill rotWithShape="0">
            <a:gsLst>
              <a:gs pos="0">
                <a:srgbClr val="fefeb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590920"/>
            <a:ext cx="2133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fe Insuran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f-Improvement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r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metery P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752480"/>
            <a:ext cx="20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al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809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440" y="3835440"/>
            <a:ext cx="13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pp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2800" y="4746600"/>
            <a:ext cx="360684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rison of price and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49640" y="4746600"/>
            <a:ext cx="161928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68920" y="4746600"/>
            <a:ext cx="144000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id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08920" y="4746600"/>
            <a:ext cx="136692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2800" y="4226040"/>
            <a:ext cx="360684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ce of convenient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2800" y="3668760"/>
            <a:ext cx="360684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rchas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800" y="3094200"/>
            <a:ext cx="360684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anning time involved in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9640" y="4226040"/>
            <a:ext cx="161928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68920" y="4226040"/>
            <a:ext cx="144000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8920" y="4226040"/>
            <a:ext cx="136692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49640" y="3668760"/>
            <a:ext cx="161928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49640" y="3094200"/>
            <a:ext cx="161928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68920" y="3668760"/>
            <a:ext cx="144000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ss fr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68920" y="3094200"/>
            <a:ext cx="144000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id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08920" y="3668760"/>
            <a:ext cx="136692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r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08920" y="3094200"/>
            <a:ext cx="136692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800" y="2617920"/>
            <a:ext cx="8033040" cy="476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UM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800" y="1814400"/>
            <a:ext cx="360684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9640" y="1814400"/>
            <a:ext cx="161928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nience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68920" y="1814400"/>
            <a:ext cx="144000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pping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08920" y="1814400"/>
            <a:ext cx="138420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cialty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"/>
            <a:ext cx="9144000" cy="7779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 Impact of the Consumer Products Classif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3360" y="5678640"/>
            <a:ext cx="315108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ce of store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63920" y="5678640"/>
            <a:ext cx="162072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84640" y="5678640"/>
            <a:ext cx="176220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6840" y="5678640"/>
            <a:ext cx="162576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360" y="4803840"/>
            <a:ext cx="315108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mber of retail out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63920" y="4803840"/>
            <a:ext cx="162072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84640" y="4803840"/>
            <a:ext cx="176220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6840" y="4803840"/>
            <a:ext cx="162576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few; often one per market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3360" y="4248000"/>
            <a:ext cx="315108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ibution channel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360" y="3192480"/>
            <a:ext cx="315108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360" y="2789280"/>
            <a:ext cx="315108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63920" y="4248000"/>
            <a:ext cx="162072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84640" y="4248000"/>
            <a:ext cx="176220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tively 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6840" y="4248000"/>
            <a:ext cx="162576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84440" y="3192480"/>
            <a:ext cx="162108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ertising and promotion by produ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84440" y="2789280"/>
            <a:ext cx="162108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92480"/>
            <a:ext cx="176184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onal selling and advertising by both producer and 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2789280"/>
            <a:ext cx="176184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tively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67360" y="3192480"/>
            <a:ext cx="162576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onal selling and advertising by producer and 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7360" y="2789280"/>
            <a:ext cx="162576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3360" y="2313000"/>
            <a:ext cx="8159760" cy="476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KETING MIX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3360" y="1509840"/>
            <a:ext cx="315108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84440" y="1509840"/>
            <a:ext cx="162108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nience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1509840"/>
            <a:ext cx="176184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pping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46840" y="1509840"/>
            <a:ext cx="164628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cialty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2280"/>
            <a:ext cx="9144000" cy="7779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 Impact of the Consumer Products Classif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Items, Lines, and M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920" y="1295280"/>
            <a:ext cx="2590200" cy="4647960"/>
            <a:chOff x="304920" y="1295280"/>
            <a:chExt cx="2590200" cy="4647960"/>
          </a:xfrm>
        </p:grpSpPr>
        <p:sp>
          <p:nvSpPr>
            <p:cNvPr id="150" name=""/>
            <p:cNvSpPr/>
            <p:nvPr/>
          </p:nvSpPr>
          <p:spPr>
            <a:xfrm>
              <a:off x="304920" y="1295280"/>
              <a:ext cx="2590200" cy="153504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 I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2851920"/>
              <a:ext cx="2590200" cy="153864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 Li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4408560"/>
              <a:ext cx="2590200" cy="153468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 Mi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895480" y="1295280"/>
            <a:ext cx="5867640" cy="4647960"/>
            <a:chOff x="2895480" y="1295280"/>
            <a:chExt cx="5867640" cy="4647960"/>
          </a:xfrm>
        </p:grpSpPr>
        <p:sp>
          <p:nvSpPr>
            <p:cNvPr id="154" name=""/>
            <p:cNvSpPr/>
            <p:nvPr/>
          </p:nvSpPr>
          <p:spPr>
            <a:xfrm>
              <a:off x="2895480" y="1295280"/>
              <a:ext cx="5867640" cy="15350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 specific version of a product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that can be designated as a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distinct offering among an organization’s product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5480" y="2851920"/>
              <a:ext cx="5867640" cy="15386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 group of closely-related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product item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95480" y="4408560"/>
              <a:ext cx="5867640" cy="15346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ll products that an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organization sell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nefits of Product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1447920"/>
            <a:ext cx="8305560" cy="4978080"/>
            <a:chOff x="457200" y="1447920"/>
            <a:chExt cx="8305560" cy="4978080"/>
          </a:xfrm>
        </p:grpSpPr>
        <p:sp>
          <p:nvSpPr>
            <p:cNvPr id="159" name=""/>
            <p:cNvSpPr/>
            <p:nvPr/>
          </p:nvSpPr>
          <p:spPr>
            <a:xfrm>
              <a:off x="4722840" y="5576760"/>
              <a:ext cx="4039920" cy="849240"/>
            </a:xfrm>
            <a:prstGeom prst="rect">
              <a:avLst/>
            </a:prstGeom>
            <a:solidFill>
              <a:srgbClr val="fecaed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quivalent Qual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22840" y="4544280"/>
              <a:ext cx="4039920" cy="849240"/>
            </a:xfrm>
            <a:prstGeom prst="rect">
              <a:avLst/>
            </a:prstGeom>
            <a:solidFill>
              <a:srgbClr val="ba7df1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fficient Sales and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2840" y="3512160"/>
              <a:ext cx="4039920" cy="849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tandardized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2840" y="2479680"/>
              <a:ext cx="4039920" cy="849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ckage Uniform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2840" y="1447920"/>
              <a:ext cx="4039920" cy="849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dvertising Econom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8440" y="3918960"/>
              <a:ext cx="258372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06880" y="2853000"/>
              <a:ext cx="2653200" cy="106776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0"/>
                  </a:moveTo>
                  <a:lnTo>
                    <a:pt x="744" y="0"/>
                  </a:lnTo>
                  <a:lnTo>
                    <a:pt x="0" y="744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06880" y="3918960"/>
              <a:ext cx="2653200" cy="106884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744"/>
                  </a:moveTo>
                  <a:lnTo>
                    <a:pt x="744" y="7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06880" y="1837080"/>
              <a:ext cx="2653200" cy="106884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0"/>
                  </a:moveTo>
                  <a:lnTo>
                    <a:pt x="744" y="0"/>
                  </a:lnTo>
                  <a:lnTo>
                    <a:pt x="0" y="744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6880" y="4951440"/>
              <a:ext cx="2653200" cy="106884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744"/>
                  </a:moveTo>
                  <a:lnTo>
                    <a:pt x="744" y="7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491920"/>
              <a:ext cx="3151080" cy="281628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af83d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hy Form 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oduct Lin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33360" y="1739520"/>
              <a:ext cx="250200" cy="23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33360" y="2755800"/>
              <a:ext cx="2502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33360" y="3805560"/>
              <a:ext cx="250200" cy="22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33360" y="4854240"/>
              <a:ext cx="250200" cy="23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33360" y="5904360"/>
              <a:ext cx="250200" cy="23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 flipV="1" rot="16200000">
            <a:off x="-1410120" y="3846960"/>
            <a:ext cx="4343400" cy="304920"/>
          </a:xfrm>
          <a:prstGeom prst="leftRightArrow">
            <a:avLst>
              <a:gd name="adj1" fmla="val 50000"/>
              <a:gd name="adj2" fmla="val 283569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1:06:47Z</dcterms:created>
  <dc:creator>kristof</dc:creator>
  <dc:description/>
  <dc:language>en-US</dc:language>
  <cp:lastModifiedBy>Martin Krištof</cp:lastModifiedBy>
  <dcterms:modified xsi:type="dcterms:W3CDTF">2007-04-01T22:03:09Z</dcterms:modified>
  <cp:revision>11</cp:revision>
  <dc:subject/>
  <dc:title>Prezentace aplikace PowerPoint</dc:title>
</cp:coreProperties>
</file>