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51E-03F4-472B-B96A-7262E2AB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D12-E420-4E9D-91A5-733C9A9E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370-782C-491E-8764-022A32E1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FEB-5D61-42E5-90C4-1A25915E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52E-2044-4147-B185-2B61F59D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045-A68C-4CE0-BCB2-85C2B51D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BB0-6CDF-4BB5-A674-3BBB702B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60D-1965-4B45-A7FD-69B7EC5B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319-50DF-43FE-8C31-636458FF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E01-FE5F-4479-BC85-B7380102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ED2-AD74-4CF8-9308-9D697A46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A7A8-D9F6-4A87-BBEF-82F34CFB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18A1-90E2-4791-959D-24FBB6F86D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MARKETING RESEARCH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66"/>
                </a:solidFill>
                <a:latin typeface="Times New Roman"/>
              </a:rPr>
              <a:t>?     </a:t>
            </a:r>
            <a:r>
              <a:rPr b="1" lang="cs-CZ" sz="4000" spc="-1" strike="noStrike">
                <a:solidFill>
                  <a:srgbClr val="0033cc"/>
                </a:solidFill>
                <a:latin typeface="Times New Roman"/>
              </a:rPr>
              <a:t>?    </a:t>
            </a:r>
            <a:r>
              <a:rPr b="1" lang="cs-CZ" sz="4000" spc="-1" strike="noStrike">
                <a:solidFill>
                  <a:srgbClr val="08822e"/>
                </a:solidFill>
                <a:latin typeface="Times New Roman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5c402e"/>
                </a:solidFill>
                <a:latin typeface="Times New Roman"/>
              </a:rPr>
              <a:t>? </a:t>
            </a:r>
            <a:r>
              <a:rPr b="1" lang="cs-CZ" sz="4000" spc="-1" strike="noStrike">
                <a:solidFill>
                  <a:srgbClr val="ff9933"/>
                </a:solidFill>
                <a:latin typeface="Times New Roman"/>
              </a:rPr>
              <a:t>   ?   </a:t>
            </a:r>
            <a:r>
              <a:rPr b="1" lang="cs-CZ" sz="4000" spc="-1" strike="noStrike">
                <a:solidFill>
                  <a:srgbClr val="3399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04924_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5257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What is every management about?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What do managers need for these activit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D06663_" descr=""/>
          <p:cNvPicPr/>
          <p:nvPr/>
        </p:nvPicPr>
        <p:blipFill>
          <a:blip r:embed="rId1"/>
          <a:stretch/>
        </p:blipFill>
        <p:spPr>
          <a:xfrm>
            <a:off x="6858000" y="762120"/>
            <a:ext cx="1928880" cy="1673280"/>
          </a:xfrm>
          <a:prstGeom prst="rect">
            <a:avLst/>
          </a:prstGeom>
          <a:ln w="0">
            <a:noFill/>
          </a:ln>
        </p:spPr>
      </p:pic>
      <p:pic>
        <p:nvPicPr>
          <p:cNvPr id="47" name="PE01616_" descr=""/>
          <p:cNvPicPr/>
          <p:nvPr/>
        </p:nvPicPr>
        <p:blipFill>
          <a:blip r:embed="rId2"/>
          <a:stretch/>
        </p:blipFill>
        <p:spPr>
          <a:xfrm>
            <a:off x="6781680" y="2514600"/>
            <a:ext cx="2057400" cy="175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4114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What is marketing management ab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S02064_" descr=""/>
          <p:cNvPicPr/>
          <p:nvPr/>
        </p:nvPicPr>
        <p:blipFill>
          <a:blip r:embed="rId3"/>
          <a:stretch/>
        </p:blipFill>
        <p:spPr>
          <a:xfrm>
            <a:off x="1371600" y="4724280"/>
            <a:ext cx="1720800" cy="1524240"/>
          </a:xfrm>
          <a:prstGeom prst="rect">
            <a:avLst/>
          </a:prstGeom>
          <a:ln w="0">
            <a:noFill/>
          </a:ln>
        </p:spPr>
      </p:pic>
      <p:pic>
        <p:nvPicPr>
          <p:cNvPr id="50" name="BD04897_" descr=""/>
          <p:cNvPicPr/>
          <p:nvPr/>
        </p:nvPicPr>
        <p:blipFill>
          <a:blip r:embed="rId4"/>
          <a:stretch/>
        </p:blipFill>
        <p:spPr>
          <a:xfrm>
            <a:off x="3733920" y="4648320"/>
            <a:ext cx="1981080" cy="1676160"/>
          </a:xfrm>
          <a:prstGeom prst="rect">
            <a:avLst/>
          </a:prstGeom>
          <a:ln w="0">
            <a:noFill/>
          </a:ln>
        </p:spPr>
      </p:pic>
      <p:pic>
        <p:nvPicPr>
          <p:cNvPr id="51" name="BD05584_" descr=""/>
          <p:cNvPicPr/>
          <p:nvPr/>
        </p:nvPicPr>
        <p:blipFill>
          <a:blip r:embed="rId5"/>
          <a:stretch/>
        </p:blipFill>
        <p:spPr>
          <a:xfrm>
            <a:off x="6324480" y="472428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formation -processing behavior</a:t>
            </a:r>
            <a:r>
              <a:rPr b="0" lang="cs-CZ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1. information 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2. information acquisition  +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3. information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4. information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5. (marketing)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MARKETING RESEARCH –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arketing research is the function which links the consumer, customer and public to the marketer through the information – information used to identify and define marketing opportunities and problems; generate, refine, and evaluate marketing actions; monitor marketing performance; and improve our understanding of marketing as a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MARKETING RESEARCH – definition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arketing research is the function which link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nsumer, customer and public to the markete</a:t>
            </a:r>
            <a:r>
              <a:rPr b="1" i="1" lang="cs-CZ" sz="2800" spc="-1" strike="noStrike">
                <a:solidFill>
                  <a:srgbClr val="cc33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rough the information – information us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dentify and define marketing opportunitie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roblems; generate, refine, and evaluate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ctions; monitor marketing performance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mprove our understanding of marketing 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MARKETING INFORMATION SYSTEM</a:t>
            </a:r>
            <a:br>
              <a:rPr sz="2800"/>
            </a:b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(or Marketing decision support system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=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internal databases + marketing research + information analysis + gathering and asssortment of marke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E01460_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19520" y="3962520"/>
            <a:ext cx="2514600" cy="2209680"/>
          </a:xfrm>
          <a:prstGeom prst="rect">
            <a:avLst/>
          </a:prstGeom>
          <a:ln w="0">
            <a:noFill/>
          </a:ln>
        </p:spPr>
      </p:pic>
      <p:pic>
        <p:nvPicPr>
          <p:cNvPr id="59" name="BD06670_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1981080" cy="2209680"/>
          </a:xfrm>
          <a:prstGeom prst="rect">
            <a:avLst/>
          </a:prstGeom>
          <a:ln w="0">
            <a:noFill/>
          </a:ln>
        </p:spPr>
      </p:pic>
      <p:pic>
        <p:nvPicPr>
          <p:cNvPr id="60" name="PE01561_" descr=""/>
          <p:cNvPicPr/>
          <p:nvPr/>
        </p:nvPicPr>
        <p:blipFill>
          <a:blip r:embed="rId3"/>
          <a:stretch/>
        </p:blipFill>
        <p:spPr>
          <a:xfrm>
            <a:off x="5410080" y="3581280"/>
            <a:ext cx="2667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TAGES IN THE RESEARCH PROCESS</a:t>
            </a: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81080"/>
            <a:ext cx="2743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mulate problem and research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3886200"/>
            <a:ext cx="2743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termine research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5181480"/>
            <a:ext cx="2743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termine data collec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2514600"/>
            <a:ext cx="28195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sign data collection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3886200"/>
            <a:ext cx="28195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sign sample and collec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5181480"/>
            <a:ext cx="2971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alyze and interprete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733920" y="2971800"/>
            <a:ext cx="106668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Formulate problem and research obj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initial decis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2. redefined as research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3. redefined as research hypo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4. research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II. </a:t>
            </a: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research desig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cc3300"/>
                </a:solidFill>
                <a:latin typeface="Times New Roman"/>
              </a:rPr>
              <a:t>methods, procedures – sampling, schedule, budget,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3300"/>
                </a:solidFill>
                <a:latin typeface="Times New Roman"/>
              </a:rPr>
              <a:t>           </a:t>
            </a:r>
            <a:r>
              <a:rPr b="0" lang="cs-CZ" sz="2800" spc="-1" strike="noStrike">
                <a:solidFill>
                  <a:srgbClr val="cc3300"/>
                </a:solidFill>
                <a:latin typeface="Times New Roman"/>
              </a:rPr>
              <a:t>exploratory, descriptive, casual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II. and  IV. Data collection models and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imary and secondar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hods and techniques for collecting the data: survey, observation and experimen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. sampling and collecting th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fining the target population – census or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I. Analyzing and interpreting th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06:42:22Z</dcterms:created>
  <dc:creator>PC</dc:creator>
  <dc:description/>
  <dc:language>en-US</dc:language>
  <cp:lastModifiedBy>PC</cp:lastModifiedBy>
  <dcterms:modified xsi:type="dcterms:W3CDTF">2006-04-02T17:05:39Z</dcterms:modified>
  <cp:revision>9</cp:revision>
  <dc:subject/>
  <dc:title>MARKETING RESEARCH</dc:title>
</cp:coreProperties>
</file>