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9440" y="351000"/>
            <a:ext cx="35686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6720" y="9468000"/>
            <a:ext cx="28018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es for LHM 16-</a:t>
            </a:r>
            <a:fld id="{CDE030C9-A6F2-40BA-BEFC-189B9A91B2EC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9526680"/>
            <a:ext cx="212724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marL="301680" indent="-301680">
              <a:lnSpc>
                <a:spcPct val="115000"/>
              </a:lnSpc>
              <a:spcAft>
                <a:spcPts val="561"/>
              </a:spcAft>
              <a:tabLst>
                <a:tab algn="l" pos="0"/>
                <a:tab algn="l" pos="4017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1997 South-Western College Publi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480" y="142920"/>
            <a:ext cx="3236760" cy="249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480" y="2919240"/>
            <a:ext cx="6486480" cy="64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080" y="235080"/>
            <a:ext cx="1914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or’s 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6360" y="4669920"/>
            <a:ext cx="5330520" cy="44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03320" y="560520"/>
            <a:ext cx="3227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360" y="2434680"/>
            <a:ext cx="928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480" y="63360"/>
            <a:ext cx="9023040" cy="673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176480" y="75528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5120"/>
            <a:ext cx="815328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b7a5"/>
                  </a:solidFill>
                  <a:miter/>
                </a:ln>
                <a:solidFill>
                  <a:srgbClr val="00b7a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PROMOTION</a:t>
            </a:r>
            <a:endParaRPr b="0" lang="en-US" sz="2400" spc="1" strike="noStrike">
              <a:ln w="12600">
                <a:solidFill>
                  <a:srgbClr val="00b7a5"/>
                </a:solidFill>
                <a:miter/>
              </a:ln>
              <a:solidFill>
                <a:srgbClr val="00b7a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6360" y="1231920"/>
            <a:ext cx="8613720" cy="4930920"/>
            <a:chOff x="306360" y="1231920"/>
            <a:chExt cx="8613720" cy="4930920"/>
          </a:xfrm>
        </p:grpSpPr>
        <p:grpSp>
          <p:nvGrpSpPr>
            <p:cNvPr id="201" name=""/>
            <p:cNvGrpSpPr/>
            <p:nvPr/>
          </p:nvGrpSpPr>
          <p:grpSpPr>
            <a:xfrm>
              <a:off x="6402240" y="1231920"/>
              <a:ext cx="2517840" cy="4930920"/>
              <a:chOff x="6402240" y="1231920"/>
              <a:chExt cx="2517840" cy="4930920"/>
            </a:xfrm>
          </p:grpSpPr>
          <p:sp>
            <p:nvSpPr>
              <p:cNvPr id="202" name=""/>
              <p:cNvSpPr/>
              <p:nvPr/>
            </p:nvSpPr>
            <p:spPr>
              <a:xfrm>
                <a:off x="6402240" y="123192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Yellow P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2240" y="415620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Outdo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872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02240" y="2693880"/>
                <a:ext cx="251172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Magaz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06360" y="1231920"/>
              <a:ext cx="2517840" cy="4930920"/>
              <a:chOff x="306360" y="1231920"/>
              <a:chExt cx="2517840" cy="49309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6360" y="123192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Televi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360" y="415620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Direct 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284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Rad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6360" y="269388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Newspap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68320" y="1504800"/>
              <a:ext cx="2129040" cy="4370040"/>
              <a:chOff x="1768320" y="1504800"/>
              <a:chExt cx="2129040" cy="4370040"/>
            </a:xfrm>
          </p:grpSpPr>
          <p:sp>
            <p:nvSpPr>
              <p:cNvPr id="212" name=""/>
              <p:cNvSpPr/>
              <p:nvPr/>
            </p:nvSpPr>
            <p:spPr>
              <a:xfrm>
                <a:off x="1768320" y="150480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49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4988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1776600" y="151308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6832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31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3142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1776600" y="2826360"/>
                <a:ext cx="2120760" cy="159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331240" y="1506600"/>
              <a:ext cx="2128320" cy="4368240"/>
              <a:chOff x="5331240" y="1506600"/>
              <a:chExt cx="2128320" cy="4368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338800" y="1506600"/>
                <a:ext cx="2120760" cy="43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996" swAng="5389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996" swAng="538985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5331240" y="1513080"/>
                <a:ext cx="212040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880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8"/>
                    </a:moveTo>
                    <a:arcTo wR="10800" hR="10800" stAng="-10793152" swAng="5388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8"/>
                    </a:moveTo>
                    <a:arcTo wR="10800" hR="10800" stAng="-10793152" swAng="538800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0800000">
                <a:off x="5331240" y="2826000"/>
                <a:ext cx="212040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421080" y="2838600"/>
              <a:ext cx="23796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800" spc="-1" strike="noStrike">
                  <a:solidFill>
                    <a:srgbClr val="edc246"/>
                  </a:solidFill>
                  <a:latin typeface="Arial"/>
                </a:rPr>
                <a:t>Major Kinds of Me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osing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6320" y="1165320"/>
            <a:ext cx="7721280" cy="4997520"/>
            <a:chOff x="706320" y="1165320"/>
            <a:chExt cx="7721280" cy="4997520"/>
          </a:xfrm>
        </p:grpSpPr>
        <p:grpSp>
          <p:nvGrpSpPr>
            <p:cNvPr id="224" name=""/>
            <p:cNvGrpSpPr/>
            <p:nvPr/>
          </p:nvGrpSpPr>
          <p:grpSpPr>
            <a:xfrm>
              <a:off x="4839840" y="1165320"/>
              <a:ext cx="3587760" cy="4997520"/>
              <a:chOff x="4839840" y="1165320"/>
              <a:chExt cx="3587760" cy="49975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4858560" y="1165320"/>
                <a:ext cx="3568680" cy="4791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ny For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858560" y="2062080"/>
                <a:ext cx="3568680" cy="4939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eek Direct Respon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858560" y="2975040"/>
                <a:ext cx="3568680" cy="4935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ore Expos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858560" y="388620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Better Targ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839480" y="478476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Context Ads/Pointcas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849200" y="568332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Pay for 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73480" y="1398600"/>
              <a:ext cx="3117600" cy="4522680"/>
              <a:chOff x="3273480" y="1398600"/>
              <a:chExt cx="3117600" cy="4522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279600" y="1398600"/>
                <a:ext cx="3111480" cy="45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5"/>
                    </a:moveTo>
                    <a:arcTo wR="10800" hR="10800" stAng="-10795165" swAng="53916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5"/>
                    </a:moveTo>
                    <a:arcTo wR="10800" hR="10800" stAng="-10795165" swAng="5391657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3273480" y="1407240"/>
                <a:ext cx="3110400" cy="45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273480" y="2309760"/>
              <a:ext cx="3118680" cy="2730600"/>
              <a:chOff x="3273480" y="2309760"/>
              <a:chExt cx="3118680" cy="273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3281400" y="2309760"/>
                <a:ext cx="311076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7"/>
                    </a:moveTo>
                    <a:arcTo wR="10800" hR="10800" stAng="-10795994" swAng="53924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7"/>
                    </a:moveTo>
                    <a:arcTo wR="10800" hR="10800" stAng="-10795994" swAng="5392485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800000">
                <a:off x="3273480" y="2315880"/>
                <a:ext cx="311040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273480" y="3224160"/>
              <a:ext cx="3118680" cy="901800"/>
              <a:chOff x="3273480" y="3224160"/>
              <a:chExt cx="3118680" cy="901800"/>
            </a:xfrm>
          </p:grpSpPr>
          <p:sp>
            <p:nvSpPr>
              <p:cNvPr id="238" name=""/>
              <p:cNvSpPr/>
              <p:nvPr/>
            </p:nvSpPr>
            <p:spPr>
              <a:xfrm>
                <a:off x="3281400" y="3224160"/>
                <a:ext cx="311076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62"/>
                    </a:moveTo>
                    <a:arcTo wR="10800" hR="10800" stAng="-10787810" swAng="5384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62"/>
                    </a:moveTo>
                    <a:arcTo wR="10800" hR="10800" stAng="-10787810" swAng="5384301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0800000">
                <a:off x="3273480" y="3230640"/>
                <a:ext cx="311040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06320" y="1273320"/>
              <a:ext cx="2489400" cy="4311360"/>
              <a:chOff x="706320" y="1273320"/>
              <a:chExt cx="2489400" cy="4311360"/>
            </a:xfrm>
          </p:grpSpPr>
          <p:sp>
            <p:nvSpPr>
              <p:cNvPr id="241" name=""/>
              <p:cNvSpPr/>
              <p:nvPr/>
            </p:nvSpPr>
            <p:spPr>
              <a:xfrm>
                <a:off x="706320" y="1273320"/>
                <a:ext cx="2489400" cy="4311360"/>
              </a:xfrm>
              <a:prstGeom prst="rect">
                <a:avLst/>
              </a:prstGeom>
              <a:gradFill rotWithShape="0">
                <a:gsLst>
                  <a:gs pos="0">
                    <a:srgbClr val="84df84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1595520" y="2786040"/>
                <a:ext cx="1520640" cy="1063800"/>
                <a:chOff x="1595520" y="2786040"/>
                <a:chExt cx="1520640" cy="10638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1941480" y="2786040"/>
                  <a:ext cx="1174680" cy="963720"/>
                  <a:chOff x="1941480" y="2786040"/>
                  <a:chExt cx="1174680" cy="96372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941480" y="2786040"/>
                    <a:ext cx="1174680" cy="963720"/>
                    <a:chOff x="1941480" y="2786040"/>
                    <a:chExt cx="1174680" cy="96372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1941480" y="3327480"/>
                      <a:ext cx="1174680" cy="422280"/>
                      <a:chOff x="1941480" y="3327480"/>
                      <a:chExt cx="1174680" cy="42228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941480" y="3327480"/>
                        <a:ext cx="673200" cy="42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4" h="266">
                            <a:moveTo>
                              <a:pt x="423" y="82"/>
                            </a:moveTo>
                            <a:lnTo>
                              <a:pt x="423" y="265"/>
                            </a:lnTo>
                            <a:lnTo>
                              <a:pt x="0" y="130"/>
                            </a:lnTo>
                            <a:lnTo>
                              <a:pt x="0" y="0"/>
                            </a:lnTo>
                            <a:lnTo>
                              <a:pt x="423" y="8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612880" y="3429000"/>
                        <a:ext cx="503280" cy="32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202">
                            <a:moveTo>
                              <a:pt x="0" y="18"/>
                            </a:moveTo>
                            <a:lnTo>
                              <a:pt x="0" y="201"/>
                            </a:lnTo>
                            <a:lnTo>
                              <a:pt x="316" y="156"/>
                            </a:lnTo>
                            <a:lnTo>
                              <a:pt x="316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1941480" y="3327480"/>
                        <a:ext cx="11746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83">
                            <a:moveTo>
                              <a:pt x="739" y="64"/>
                            </a:moveTo>
                            <a:lnTo>
                              <a:pt x="420" y="82"/>
                            </a:lnTo>
                            <a:lnTo>
                              <a:pt x="0" y="0"/>
                            </a:lnTo>
                            <a:lnTo>
                              <a:pt x="309" y="0"/>
                            </a:lnTo>
                            <a:lnTo>
                              <a:pt x="739" y="6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306520" y="3294000"/>
                      <a:ext cx="4273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" h="76">
                          <a:moveTo>
                            <a:pt x="268" y="42"/>
                          </a:moveTo>
                          <a:lnTo>
                            <a:pt x="268" y="67"/>
                          </a:lnTo>
                          <a:lnTo>
                            <a:pt x="144" y="75"/>
                          </a:lnTo>
                          <a:lnTo>
                            <a:pt x="0" y="48"/>
                          </a:lnTo>
                          <a:lnTo>
                            <a:pt x="0" y="0"/>
                          </a:lnTo>
                          <a:lnTo>
                            <a:pt x="268" y="4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2075040" y="2786040"/>
                      <a:ext cx="949320" cy="601560"/>
                      <a:chOff x="2075040" y="2786040"/>
                      <a:chExt cx="949320" cy="6015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075040" y="2786040"/>
                        <a:ext cx="54432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3" h="370">
                            <a:moveTo>
                              <a:pt x="294" y="369"/>
                            </a:moveTo>
                            <a:lnTo>
                              <a:pt x="342" y="12"/>
                            </a:lnTo>
                            <a:lnTo>
                              <a:pt x="48" y="0"/>
                            </a:lnTo>
                            <a:lnTo>
                              <a:pt x="0" y="318"/>
                            </a:lnTo>
                            <a:lnTo>
                              <a:pt x="294" y="36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541600" y="2803680"/>
                        <a:ext cx="482760" cy="58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4" h="368">
                            <a:moveTo>
                              <a:pt x="48" y="0"/>
                            </a:moveTo>
                            <a:lnTo>
                              <a:pt x="303" y="82"/>
                            </a:lnTo>
                            <a:lnTo>
                              <a:pt x="267" y="367"/>
                            </a:lnTo>
                            <a:lnTo>
                              <a:pt x="0" y="358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2138400" y="2843280"/>
                        <a:ext cx="390600" cy="44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79">
                            <a:moveTo>
                              <a:pt x="245" y="13"/>
                            </a:moveTo>
                            <a:lnTo>
                              <a:pt x="210" y="278"/>
                            </a:lnTo>
                            <a:lnTo>
                              <a:pt x="0" y="247"/>
                            </a:lnTo>
                            <a:lnTo>
                              <a:pt x="35" y="0"/>
                            </a:lnTo>
                            <a:lnTo>
                              <a:pt x="245" y="1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983960" y="3373560"/>
                    <a:ext cx="389520" cy="274680"/>
                    <a:chOff x="1983960" y="3373560"/>
                    <a:chExt cx="389520" cy="2746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989000" y="3373560"/>
                      <a:ext cx="3844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73">
                          <a:moveTo>
                            <a:pt x="0" y="0"/>
                          </a:moveTo>
                          <a:lnTo>
                            <a:pt x="241" y="51"/>
                          </a:lnTo>
                          <a:lnTo>
                            <a:pt x="241" y="172"/>
                          </a:lnTo>
                          <a:lnTo>
                            <a:pt x="0" y="9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flipV="1">
                      <a:off x="2011320" y="3427560"/>
                      <a:ext cx="125280" cy="48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90600" y="3490920"/>
                      <a:ext cx="106560" cy="3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49560" y="3414600"/>
                      <a:ext cx="0" cy="16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333520" y="3456000"/>
                      <a:ext cx="0" cy="177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1998720" y="3451320"/>
                      <a:ext cx="333360" cy="75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>
                      <a:off x="1983960" y="3409920"/>
                      <a:ext cx="360360" cy="9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1595520" y="3379680"/>
                  <a:ext cx="917640" cy="470160"/>
                  <a:chOff x="1595520" y="3379680"/>
                  <a:chExt cx="917640" cy="47016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303640" y="3633840"/>
                    <a:ext cx="150480" cy="112680"/>
                    <a:chOff x="2303640" y="3633840"/>
                    <a:chExt cx="150480" cy="1126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409840" y="3633840"/>
                      <a:ext cx="442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1">
                          <a:moveTo>
                            <a:pt x="19" y="0"/>
                          </a:moveTo>
                          <a:lnTo>
                            <a:pt x="27" y="66"/>
                          </a:lnTo>
                          <a:lnTo>
                            <a:pt x="7" y="70"/>
                          </a:lnTo>
                          <a:lnTo>
                            <a:pt x="0" y="4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303640" y="3648240"/>
                      <a:ext cx="1188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62">
                          <a:moveTo>
                            <a:pt x="68" y="3"/>
                          </a:moveTo>
                          <a:lnTo>
                            <a:pt x="74" y="61"/>
                          </a:lnTo>
                          <a:lnTo>
                            <a:pt x="0" y="31"/>
                          </a:lnTo>
                          <a:lnTo>
                            <a:pt x="29" y="22"/>
                          </a:lnTo>
                          <a:lnTo>
                            <a:pt x="55" y="35"/>
                          </a:lnTo>
                          <a:lnTo>
                            <a:pt x="47" y="0"/>
                          </a:lnTo>
                          <a:lnTo>
                            <a:pt x="68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1595520" y="3379680"/>
                    <a:ext cx="917640" cy="470160"/>
                    <a:chOff x="1595520" y="3379680"/>
                    <a:chExt cx="917640" cy="470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1598760" y="3379680"/>
                      <a:ext cx="896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5" h="262">
                          <a:moveTo>
                            <a:pt x="564" y="111"/>
                          </a:moveTo>
                          <a:lnTo>
                            <a:pt x="294" y="261"/>
                          </a:lnTo>
                          <a:lnTo>
                            <a:pt x="0" y="114"/>
                          </a:lnTo>
                          <a:lnTo>
                            <a:pt x="225" y="0"/>
                          </a:lnTo>
                          <a:lnTo>
                            <a:pt x="564" y="11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062080" y="3554280"/>
                      <a:ext cx="451080" cy="29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85">
                          <a:moveTo>
                            <a:pt x="273" y="0"/>
                          </a:moveTo>
                          <a:lnTo>
                            <a:pt x="0" y="153"/>
                          </a:lnTo>
                          <a:lnTo>
                            <a:pt x="8" y="184"/>
                          </a:lnTo>
                          <a:lnTo>
                            <a:pt x="283" y="28"/>
                          </a:lnTo>
                          <a:lnTo>
                            <a:pt x="273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1595520" y="3560760"/>
                      <a:ext cx="4809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182">
                          <a:moveTo>
                            <a:pt x="302" y="181"/>
                          </a:moveTo>
                          <a:lnTo>
                            <a:pt x="293" y="147"/>
                          </a:lnTo>
                          <a:lnTo>
                            <a:pt x="0" y="0"/>
                          </a:lnTo>
                          <a:lnTo>
                            <a:pt x="10" y="27"/>
                          </a:lnTo>
                          <a:lnTo>
                            <a:pt x="302" y="18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1959120" y="3575160"/>
                      <a:ext cx="34740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8">
                          <a:moveTo>
                            <a:pt x="218" y="28"/>
                          </a:moveTo>
                          <a:lnTo>
                            <a:pt x="143" y="0"/>
                          </a:lnTo>
                          <a:lnTo>
                            <a:pt x="0" y="74"/>
                          </a:lnTo>
                          <a:lnTo>
                            <a:pt x="72" y="107"/>
                          </a:lnTo>
                          <a:lnTo>
                            <a:pt x="218" y="2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639800" y="3446640"/>
                      <a:ext cx="5209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147">
                          <a:moveTo>
                            <a:pt x="327" y="71"/>
                          </a:moveTo>
                          <a:lnTo>
                            <a:pt x="184" y="146"/>
                          </a:lnTo>
                          <a:lnTo>
                            <a:pt x="0" y="63"/>
                          </a:lnTo>
                          <a:lnTo>
                            <a:pt x="134" y="0"/>
                          </a:lnTo>
                          <a:lnTo>
                            <a:pt x="327" y="7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865160" y="3392640"/>
                      <a:ext cx="57492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34">
                          <a:moveTo>
                            <a:pt x="286" y="133"/>
                          </a:moveTo>
                          <a:lnTo>
                            <a:pt x="361" y="96"/>
                          </a:lnTo>
                          <a:lnTo>
                            <a:pt x="59" y="0"/>
                          </a:lnTo>
                          <a:lnTo>
                            <a:pt x="0" y="27"/>
                          </a:lnTo>
                          <a:lnTo>
                            <a:pt x="286" y="13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flipV="1">
                      <a:off x="1928520" y="3395160"/>
                      <a:ext cx="517320" cy="187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flipV="1">
                      <a:off x="1902960" y="3408480"/>
                      <a:ext cx="500040" cy="1886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 flipV="1">
                      <a:off x="1882800" y="3422520"/>
                      <a:ext cx="488880" cy="193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flipV="1">
                      <a:off x="1821960" y="3452760"/>
                      <a:ext cx="48132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1785600" y="3473280"/>
                      <a:ext cx="4762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 flipV="1">
                      <a:off x="1765080" y="3495240"/>
                      <a:ext cx="447480" cy="198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flipV="1">
                      <a:off x="1736280" y="3511440"/>
                      <a:ext cx="4366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1698120" y="3534840"/>
                      <a:ext cx="422280" cy="1969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2036880" y="3614760"/>
                      <a:ext cx="247680" cy="120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1988640" y="3597120"/>
                      <a:ext cx="243000" cy="1144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>
                      <a:off x="1890720" y="3556080"/>
                      <a:ext cx="241200" cy="109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>
                      <a:off x="1837800" y="3535200"/>
                      <a:ext cx="235080" cy="106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1789200" y="3514680"/>
                      <a:ext cx="231840" cy="1080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1744200" y="3495600"/>
                      <a:ext cx="227160" cy="1033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H="1">
                      <a:off x="1696680" y="3475080"/>
                      <a:ext cx="230040" cy="982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2260080" y="3538440"/>
                      <a:ext cx="12708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2192040" y="3513240"/>
                      <a:ext cx="11916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2124000" y="3492360"/>
                      <a:ext cx="115920" cy="39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2057040" y="3468600"/>
                      <a:ext cx="1206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995120" y="3444840"/>
                      <a:ext cx="11124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1920600" y="341964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844560" y="2548080"/>
                <a:ext cx="1217520" cy="1763640"/>
                <a:chOff x="844560" y="2548080"/>
                <a:chExt cx="1217520" cy="17636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966960" y="2548080"/>
                  <a:ext cx="1095120" cy="1763640"/>
                  <a:chOff x="966960" y="2548080"/>
                  <a:chExt cx="1095120" cy="176364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069920" y="2585880"/>
                    <a:ext cx="407880" cy="474840"/>
                    <a:chOff x="1069920" y="2585880"/>
                    <a:chExt cx="407880" cy="47484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1069920" y="2585880"/>
                      <a:ext cx="407880" cy="474840"/>
                      <a:chOff x="1069920" y="2585880"/>
                      <a:chExt cx="407880" cy="47484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1069920" y="2585880"/>
                        <a:ext cx="407880" cy="47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299">
                            <a:moveTo>
                              <a:pt x="178" y="9"/>
                            </a:moveTo>
                            <a:lnTo>
                              <a:pt x="211" y="21"/>
                            </a:lnTo>
                            <a:lnTo>
                              <a:pt x="223" y="46"/>
                            </a:lnTo>
                            <a:lnTo>
                              <a:pt x="233" y="79"/>
                            </a:lnTo>
                            <a:lnTo>
                              <a:pt x="235" y="93"/>
                            </a:lnTo>
                            <a:lnTo>
                              <a:pt x="233" y="106"/>
                            </a:lnTo>
                            <a:lnTo>
                              <a:pt x="229" y="116"/>
                            </a:lnTo>
                            <a:lnTo>
                              <a:pt x="236" y="134"/>
                            </a:lnTo>
                            <a:lnTo>
                              <a:pt x="244" y="151"/>
                            </a:lnTo>
                            <a:lnTo>
                              <a:pt x="248" y="157"/>
                            </a:lnTo>
                            <a:lnTo>
                              <a:pt x="252" y="161"/>
                            </a:lnTo>
                            <a:lnTo>
                              <a:pt x="255" y="165"/>
                            </a:lnTo>
                            <a:lnTo>
                              <a:pt x="256" y="171"/>
                            </a:lnTo>
                            <a:lnTo>
                              <a:pt x="254" y="176"/>
                            </a:lnTo>
                            <a:lnTo>
                              <a:pt x="251" y="178"/>
                            </a:lnTo>
                            <a:lnTo>
                              <a:pt x="241" y="180"/>
                            </a:lnTo>
                            <a:lnTo>
                              <a:pt x="236" y="183"/>
                            </a:lnTo>
                            <a:lnTo>
                              <a:pt x="234" y="189"/>
                            </a:lnTo>
                            <a:lnTo>
                              <a:pt x="236" y="196"/>
                            </a:lnTo>
                            <a:lnTo>
                              <a:pt x="240" y="208"/>
                            </a:lnTo>
                            <a:lnTo>
                              <a:pt x="238" y="213"/>
                            </a:lnTo>
                            <a:lnTo>
                              <a:pt x="233" y="218"/>
                            </a:lnTo>
                            <a:lnTo>
                              <a:pt x="235" y="222"/>
                            </a:lnTo>
                            <a:lnTo>
                              <a:pt x="236" y="226"/>
                            </a:lnTo>
                            <a:lnTo>
                              <a:pt x="233" y="230"/>
                            </a:lnTo>
                            <a:lnTo>
                              <a:pt x="229" y="232"/>
                            </a:lnTo>
                            <a:lnTo>
                              <a:pt x="226" y="238"/>
                            </a:lnTo>
                            <a:lnTo>
                              <a:pt x="226" y="247"/>
                            </a:lnTo>
                            <a:lnTo>
                              <a:pt x="224" y="252"/>
                            </a:lnTo>
                            <a:lnTo>
                              <a:pt x="219" y="257"/>
                            </a:lnTo>
                            <a:lnTo>
                              <a:pt x="215" y="260"/>
                            </a:lnTo>
                            <a:lnTo>
                              <a:pt x="208" y="262"/>
                            </a:lnTo>
                            <a:lnTo>
                              <a:pt x="200" y="263"/>
                            </a:lnTo>
                            <a:lnTo>
                              <a:pt x="181" y="262"/>
                            </a:lnTo>
                            <a:lnTo>
                              <a:pt x="164" y="260"/>
                            </a:lnTo>
                            <a:lnTo>
                              <a:pt x="139" y="298"/>
                            </a:lnTo>
                            <a:lnTo>
                              <a:pt x="34" y="252"/>
                            </a:lnTo>
                            <a:lnTo>
                              <a:pt x="44" y="236"/>
                            </a:lnTo>
                            <a:lnTo>
                              <a:pt x="50" y="222"/>
                            </a:lnTo>
                            <a:lnTo>
                              <a:pt x="50" y="201"/>
                            </a:lnTo>
                            <a:lnTo>
                              <a:pt x="0" y="158"/>
                            </a:lnTo>
                            <a:lnTo>
                              <a:pt x="0" y="56"/>
                            </a:lnTo>
                            <a:lnTo>
                              <a:pt x="26" y="28"/>
                            </a:lnTo>
                            <a:lnTo>
                              <a:pt x="59" y="13"/>
                            </a:lnTo>
                            <a:lnTo>
                              <a:pt x="92" y="0"/>
                            </a:lnTo>
                            <a:lnTo>
                              <a:pt x="137" y="6"/>
                            </a:lnTo>
                            <a:lnTo>
                              <a:pt x="178" y="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1241280" y="2884320"/>
                        <a:ext cx="367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9">
                            <a:moveTo>
                              <a:pt x="0" y="0"/>
                            </a:moveTo>
                            <a:lnTo>
                              <a:pt x="7" y="18"/>
                            </a:lnTo>
                            <a:lnTo>
                              <a:pt x="12" y="27"/>
                            </a:lnTo>
                            <a:lnTo>
                              <a:pt x="22" y="38"/>
                            </a:lnTo>
                            <a:lnTo>
                              <a:pt x="9" y="29"/>
                            </a:lnTo>
                            <a:lnTo>
                              <a:pt x="3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335240" y="2739960"/>
                      <a:ext cx="107640" cy="208080"/>
                      <a:chOff x="1335240" y="2739960"/>
                      <a:chExt cx="107640" cy="20808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1362240" y="2773440"/>
                        <a:ext cx="37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2">
                            <a:moveTo>
                              <a:pt x="21" y="0"/>
                            </a:moveTo>
                            <a:lnTo>
                              <a:pt x="19" y="2"/>
                            </a:lnTo>
                            <a:lnTo>
                              <a:pt x="23" y="3"/>
                            </a:lnTo>
                            <a:lnTo>
                              <a:pt x="19" y="2"/>
                            </a:lnTo>
                            <a:lnTo>
                              <a:pt x="17" y="6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9" y="11"/>
                            </a:lnTo>
                            <a:lnTo>
                              <a:pt x="16" y="8"/>
                            </a:lnTo>
                            <a:lnTo>
                              <a:pt x="11" y="8"/>
                            </a:lnTo>
                            <a:lnTo>
                              <a:pt x="7" y="6"/>
                            </a:lnTo>
                            <a:lnTo>
                              <a:pt x="0" y="6"/>
                            </a:lnTo>
                            <a:lnTo>
                              <a:pt x="7" y="2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1335240" y="2739960"/>
                        <a:ext cx="75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5">
                            <a:moveTo>
                              <a:pt x="47" y="2"/>
                            </a:move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2" y="3"/>
                            </a:lnTo>
                            <a:lnTo>
                              <a:pt x="23" y="2"/>
                            </a:lnTo>
                            <a:lnTo>
                              <a:pt x="7" y="2"/>
                            </a:lnTo>
                            <a:lnTo>
                              <a:pt x="0" y="2"/>
                            </a:lnTo>
                            <a:lnTo>
                              <a:pt x="12" y="1"/>
                            </a:lnTo>
                            <a:lnTo>
                              <a:pt x="21" y="1"/>
                            </a:lnTo>
                            <a:lnTo>
                              <a:pt x="19" y="0"/>
                            </a:lnTo>
                            <a:lnTo>
                              <a:pt x="27" y="1"/>
                            </a:lnTo>
                            <a:lnTo>
                              <a:pt x="26" y="0"/>
                            </a:lnTo>
                            <a:lnTo>
                              <a:pt x="33" y="1"/>
                            </a:lnTo>
                            <a:lnTo>
                              <a:pt x="39" y="1"/>
                            </a:lnTo>
                            <a:lnTo>
                              <a:pt x="4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1409760" y="2913120"/>
                        <a:ext cx="284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">
                            <a:moveTo>
                              <a:pt x="17" y="2"/>
                            </a:moveTo>
                            <a:lnTo>
                              <a:pt x="14" y="1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4" y="5"/>
                            </a:lnTo>
                            <a:lnTo>
                              <a:pt x="1" y="5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0" y="9"/>
                            </a:lnTo>
                            <a:lnTo>
                              <a:pt x="0" y="11"/>
                            </a:lnTo>
                            <a:lnTo>
                              <a:pt x="1" y="12"/>
                            </a:lnTo>
                            <a:lnTo>
                              <a:pt x="1" y="10"/>
                            </a:lnTo>
                            <a:lnTo>
                              <a:pt x="1" y="7"/>
                            </a:lnTo>
                            <a:lnTo>
                              <a:pt x="7" y="5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6" y="4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1425600" y="294012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1" y="3"/>
                            </a:moveTo>
                            <a:lnTo>
                              <a:pt x="0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1438200" y="2855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2" y="4"/>
                            </a:move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1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1417680" y="2855880"/>
                        <a:ext cx="6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2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1374840" y="277668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0" y="4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1198440" y="2755800"/>
                      <a:ext cx="46080" cy="88920"/>
                      <a:chOff x="1198440" y="2755800"/>
                      <a:chExt cx="46080" cy="889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211400" y="2766960"/>
                        <a:ext cx="2376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40">
                            <a:moveTo>
                              <a:pt x="14" y="7"/>
                            </a:moveTo>
                            <a:lnTo>
                              <a:pt x="10" y="3"/>
                            </a:lnTo>
                            <a:lnTo>
                              <a:pt x="4" y="4"/>
                            </a:lnTo>
                            <a:lnTo>
                              <a:pt x="2" y="11"/>
                            </a:lnTo>
                            <a:lnTo>
                              <a:pt x="1" y="19"/>
                            </a:lnTo>
                            <a:lnTo>
                              <a:pt x="2" y="27"/>
                            </a:lnTo>
                            <a:lnTo>
                              <a:pt x="4" y="32"/>
                            </a:lnTo>
                            <a:lnTo>
                              <a:pt x="6" y="23"/>
                            </a:lnTo>
                            <a:lnTo>
                              <a:pt x="8" y="18"/>
                            </a:lnTo>
                            <a:lnTo>
                              <a:pt x="13" y="15"/>
                            </a:lnTo>
                            <a:lnTo>
                              <a:pt x="10" y="22"/>
                            </a:lnTo>
                            <a:lnTo>
                              <a:pt x="6" y="27"/>
                            </a:lnTo>
                            <a:lnTo>
                              <a:pt x="5" y="34"/>
                            </a:lnTo>
                            <a:lnTo>
                              <a:pt x="7" y="38"/>
                            </a:lnTo>
                            <a:lnTo>
                              <a:pt x="9" y="39"/>
                            </a:lnTo>
                            <a:lnTo>
                              <a:pt x="3" y="37"/>
                            </a:lnTo>
                            <a:lnTo>
                              <a:pt x="0" y="29"/>
                            </a:lnTo>
                            <a:lnTo>
                              <a:pt x="0" y="19"/>
                            </a:lnTo>
                            <a:lnTo>
                              <a:pt x="0" y="9"/>
                            </a:ln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  <a:lnTo>
                              <a:pt x="12" y="2"/>
                            </a:lnTo>
                            <a:lnTo>
                              <a:pt x="14" y="7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98440" y="2755800"/>
                        <a:ext cx="460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56">
                            <a:moveTo>
                              <a:pt x="28" y="14"/>
                            </a:moveTo>
                            <a:lnTo>
                              <a:pt x="23" y="4"/>
                            </a:lnTo>
                            <a:lnTo>
                              <a:pt x="16" y="3"/>
                            </a:lnTo>
                            <a:lnTo>
                              <a:pt x="7" y="3"/>
                            </a:lnTo>
                            <a:lnTo>
                              <a:pt x="5" y="9"/>
                            </a:lnTo>
                            <a:lnTo>
                              <a:pt x="2" y="17"/>
                            </a:lnTo>
                            <a:lnTo>
                              <a:pt x="2" y="24"/>
                            </a:lnTo>
                            <a:lnTo>
                              <a:pt x="3" y="29"/>
                            </a:lnTo>
                            <a:lnTo>
                              <a:pt x="3" y="36"/>
                            </a:lnTo>
                            <a:lnTo>
                              <a:pt x="5" y="43"/>
                            </a:lnTo>
                            <a:lnTo>
                              <a:pt x="11" y="51"/>
                            </a:lnTo>
                            <a:lnTo>
                              <a:pt x="15" y="51"/>
                            </a:lnTo>
                            <a:lnTo>
                              <a:pt x="19" y="51"/>
                            </a:lnTo>
                            <a:lnTo>
                              <a:pt x="19" y="52"/>
                            </a:lnTo>
                            <a:lnTo>
                              <a:pt x="16" y="55"/>
                            </a:lnTo>
                            <a:lnTo>
                              <a:pt x="12" y="55"/>
                            </a:lnTo>
                            <a:lnTo>
                              <a:pt x="6" y="52"/>
                            </a:lnTo>
                            <a:lnTo>
                              <a:pt x="2" y="44"/>
                            </a:lnTo>
                            <a:lnTo>
                              <a:pt x="2" y="31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8"/>
                            </a:lnTo>
                            <a:lnTo>
                              <a:pt x="5" y="3"/>
                            </a:lnTo>
                            <a:lnTo>
                              <a:pt x="13" y="0"/>
                            </a:lnTo>
                            <a:lnTo>
                              <a:pt x="23" y="2"/>
                            </a:lnTo>
                            <a:lnTo>
                              <a:pt x="27" y="4"/>
                            </a:lnTo>
                            <a:lnTo>
                              <a:pt x="28" y="1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966960" y="2962440"/>
                    <a:ext cx="106668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850">
                        <a:moveTo>
                          <a:pt x="84" y="44"/>
                        </a:moveTo>
                        <a:lnTo>
                          <a:pt x="99" y="0"/>
                        </a:lnTo>
                        <a:lnTo>
                          <a:pt x="213" y="55"/>
                        </a:lnTo>
                        <a:lnTo>
                          <a:pt x="201" y="90"/>
                        </a:lnTo>
                        <a:lnTo>
                          <a:pt x="216" y="124"/>
                        </a:lnTo>
                        <a:lnTo>
                          <a:pt x="234" y="155"/>
                        </a:lnTo>
                        <a:lnTo>
                          <a:pt x="260" y="210"/>
                        </a:lnTo>
                        <a:lnTo>
                          <a:pt x="292" y="256"/>
                        </a:lnTo>
                        <a:lnTo>
                          <a:pt x="302" y="283"/>
                        </a:lnTo>
                        <a:lnTo>
                          <a:pt x="305" y="301"/>
                        </a:lnTo>
                        <a:lnTo>
                          <a:pt x="304" y="322"/>
                        </a:lnTo>
                        <a:lnTo>
                          <a:pt x="299" y="341"/>
                        </a:lnTo>
                        <a:lnTo>
                          <a:pt x="295" y="358"/>
                        </a:lnTo>
                        <a:lnTo>
                          <a:pt x="295" y="378"/>
                        </a:lnTo>
                        <a:lnTo>
                          <a:pt x="403" y="405"/>
                        </a:lnTo>
                        <a:lnTo>
                          <a:pt x="464" y="412"/>
                        </a:lnTo>
                        <a:lnTo>
                          <a:pt x="508" y="409"/>
                        </a:lnTo>
                        <a:lnTo>
                          <a:pt x="514" y="424"/>
                        </a:lnTo>
                        <a:lnTo>
                          <a:pt x="518" y="442"/>
                        </a:lnTo>
                        <a:lnTo>
                          <a:pt x="521" y="461"/>
                        </a:lnTo>
                        <a:lnTo>
                          <a:pt x="477" y="476"/>
                        </a:lnTo>
                        <a:lnTo>
                          <a:pt x="425" y="482"/>
                        </a:lnTo>
                        <a:lnTo>
                          <a:pt x="383" y="482"/>
                        </a:lnTo>
                        <a:lnTo>
                          <a:pt x="332" y="488"/>
                        </a:lnTo>
                        <a:lnTo>
                          <a:pt x="299" y="482"/>
                        </a:lnTo>
                        <a:lnTo>
                          <a:pt x="299" y="525"/>
                        </a:lnTo>
                        <a:lnTo>
                          <a:pt x="289" y="548"/>
                        </a:lnTo>
                        <a:lnTo>
                          <a:pt x="293" y="572"/>
                        </a:lnTo>
                        <a:lnTo>
                          <a:pt x="290" y="589"/>
                        </a:lnTo>
                        <a:lnTo>
                          <a:pt x="308" y="590"/>
                        </a:lnTo>
                        <a:lnTo>
                          <a:pt x="319" y="598"/>
                        </a:lnTo>
                        <a:lnTo>
                          <a:pt x="349" y="602"/>
                        </a:lnTo>
                        <a:lnTo>
                          <a:pt x="370" y="617"/>
                        </a:lnTo>
                        <a:lnTo>
                          <a:pt x="392" y="623"/>
                        </a:lnTo>
                        <a:lnTo>
                          <a:pt x="529" y="671"/>
                        </a:lnTo>
                        <a:lnTo>
                          <a:pt x="575" y="688"/>
                        </a:lnTo>
                        <a:lnTo>
                          <a:pt x="604" y="700"/>
                        </a:lnTo>
                        <a:lnTo>
                          <a:pt x="624" y="729"/>
                        </a:lnTo>
                        <a:lnTo>
                          <a:pt x="647" y="774"/>
                        </a:lnTo>
                        <a:lnTo>
                          <a:pt x="671" y="849"/>
                        </a:lnTo>
                        <a:lnTo>
                          <a:pt x="415" y="848"/>
                        </a:lnTo>
                        <a:lnTo>
                          <a:pt x="336" y="826"/>
                        </a:lnTo>
                        <a:lnTo>
                          <a:pt x="219" y="824"/>
                        </a:lnTo>
                        <a:lnTo>
                          <a:pt x="145" y="824"/>
                        </a:lnTo>
                        <a:lnTo>
                          <a:pt x="104" y="826"/>
                        </a:lnTo>
                        <a:lnTo>
                          <a:pt x="57" y="814"/>
                        </a:lnTo>
                        <a:lnTo>
                          <a:pt x="40" y="806"/>
                        </a:lnTo>
                        <a:lnTo>
                          <a:pt x="17" y="782"/>
                        </a:lnTo>
                        <a:lnTo>
                          <a:pt x="11" y="765"/>
                        </a:lnTo>
                        <a:lnTo>
                          <a:pt x="4" y="731"/>
                        </a:lnTo>
                        <a:lnTo>
                          <a:pt x="9" y="700"/>
                        </a:lnTo>
                        <a:lnTo>
                          <a:pt x="25" y="646"/>
                        </a:lnTo>
                        <a:lnTo>
                          <a:pt x="46" y="592"/>
                        </a:lnTo>
                        <a:lnTo>
                          <a:pt x="49" y="571"/>
                        </a:lnTo>
                        <a:lnTo>
                          <a:pt x="42" y="556"/>
                        </a:lnTo>
                        <a:lnTo>
                          <a:pt x="45" y="513"/>
                        </a:lnTo>
                        <a:lnTo>
                          <a:pt x="51" y="495"/>
                        </a:lnTo>
                        <a:lnTo>
                          <a:pt x="47" y="457"/>
                        </a:lnTo>
                        <a:lnTo>
                          <a:pt x="32" y="403"/>
                        </a:lnTo>
                        <a:lnTo>
                          <a:pt x="9" y="328"/>
                        </a:lnTo>
                        <a:lnTo>
                          <a:pt x="0" y="262"/>
                        </a:lnTo>
                        <a:lnTo>
                          <a:pt x="0" y="205"/>
                        </a:lnTo>
                        <a:lnTo>
                          <a:pt x="5" y="164"/>
                        </a:lnTo>
                        <a:lnTo>
                          <a:pt x="14" y="140"/>
                        </a:lnTo>
                        <a:lnTo>
                          <a:pt x="27" y="111"/>
                        </a:lnTo>
                        <a:lnTo>
                          <a:pt x="41" y="80"/>
                        </a:lnTo>
                        <a:lnTo>
                          <a:pt x="84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973080" y="3033720"/>
                    <a:ext cx="1089000" cy="1258920"/>
                    <a:chOff x="973080" y="3033720"/>
                    <a:chExt cx="1089000" cy="12589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743120" y="3521160"/>
                      <a:ext cx="318960" cy="168120"/>
                      <a:chOff x="1743120" y="3521160"/>
                      <a:chExt cx="318960" cy="1681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743120" y="3521160"/>
                        <a:ext cx="31896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6">
                            <a:moveTo>
                              <a:pt x="0" y="62"/>
                            </a:moveTo>
                            <a:lnTo>
                              <a:pt x="24" y="57"/>
                            </a:lnTo>
                            <a:lnTo>
                              <a:pt x="33" y="56"/>
                            </a:lnTo>
                            <a:lnTo>
                              <a:pt x="39" y="51"/>
                            </a:lnTo>
                            <a:lnTo>
                              <a:pt x="45" y="45"/>
                            </a:lnTo>
                            <a:lnTo>
                              <a:pt x="57" y="35"/>
                            </a:lnTo>
                            <a:lnTo>
                              <a:pt x="79" y="20"/>
                            </a:lnTo>
                            <a:lnTo>
                              <a:pt x="82" y="14"/>
                            </a:lnTo>
                            <a:lnTo>
                              <a:pt x="88" y="10"/>
                            </a:lnTo>
                            <a:lnTo>
                              <a:pt x="100" y="8"/>
                            </a:lnTo>
                            <a:lnTo>
                              <a:pt x="135" y="2"/>
                            </a:lnTo>
                            <a:lnTo>
                              <a:pt x="145" y="0"/>
                            </a:lnTo>
                            <a:lnTo>
                              <a:pt x="153" y="4"/>
                            </a:lnTo>
                            <a:lnTo>
                              <a:pt x="158" y="7"/>
                            </a:lnTo>
                            <a:lnTo>
                              <a:pt x="170" y="11"/>
                            </a:lnTo>
                            <a:lnTo>
                              <a:pt x="177" y="14"/>
                            </a:lnTo>
                            <a:lnTo>
                              <a:pt x="183" y="16"/>
                            </a:lnTo>
                            <a:lnTo>
                              <a:pt x="186" y="19"/>
                            </a:lnTo>
                            <a:lnTo>
                              <a:pt x="191" y="25"/>
                            </a:lnTo>
                            <a:lnTo>
                              <a:pt x="195" y="29"/>
                            </a:lnTo>
                            <a:lnTo>
                              <a:pt x="196" y="34"/>
                            </a:lnTo>
                            <a:lnTo>
                              <a:pt x="197" y="36"/>
                            </a:lnTo>
                            <a:lnTo>
                              <a:pt x="200" y="40"/>
                            </a:lnTo>
                            <a:lnTo>
                              <a:pt x="197" y="44"/>
                            </a:lnTo>
                            <a:lnTo>
                              <a:pt x="194" y="45"/>
                            </a:lnTo>
                            <a:lnTo>
                              <a:pt x="187" y="45"/>
                            </a:lnTo>
                            <a:lnTo>
                              <a:pt x="182" y="43"/>
                            </a:lnTo>
                            <a:lnTo>
                              <a:pt x="176" y="40"/>
                            </a:lnTo>
                            <a:lnTo>
                              <a:pt x="171" y="40"/>
                            </a:lnTo>
                            <a:lnTo>
                              <a:pt x="165" y="39"/>
                            </a:lnTo>
                            <a:lnTo>
                              <a:pt x="159" y="37"/>
                            </a:lnTo>
                            <a:lnTo>
                              <a:pt x="150" y="38"/>
                            </a:lnTo>
                            <a:lnTo>
                              <a:pt x="143" y="40"/>
                            </a:lnTo>
                            <a:lnTo>
                              <a:pt x="159" y="44"/>
                            </a:lnTo>
                            <a:lnTo>
                              <a:pt x="170" y="47"/>
                            </a:lnTo>
                            <a:lnTo>
                              <a:pt x="183" y="51"/>
                            </a:lnTo>
                            <a:lnTo>
                              <a:pt x="186" y="54"/>
                            </a:lnTo>
                            <a:lnTo>
                              <a:pt x="187" y="58"/>
                            </a:lnTo>
                            <a:lnTo>
                              <a:pt x="184" y="60"/>
                            </a:lnTo>
                            <a:lnTo>
                              <a:pt x="180" y="62"/>
                            </a:lnTo>
                            <a:lnTo>
                              <a:pt x="175" y="61"/>
                            </a:lnTo>
                            <a:lnTo>
                              <a:pt x="157" y="57"/>
                            </a:lnTo>
                            <a:lnTo>
                              <a:pt x="141" y="57"/>
                            </a:lnTo>
                            <a:lnTo>
                              <a:pt x="129" y="57"/>
                            </a:lnTo>
                            <a:lnTo>
                              <a:pt x="121" y="61"/>
                            </a:lnTo>
                            <a:lnTo>
                              <a:pt x="114" y="67"/>
                            </a:lnTo>
                            <a:lnTo>
                              <a:pt x="107" y="74"/>
                            </a:lnTo>
                            <a:lnTo>
                              <a:pt x="101" y="82"/>
                            </a:lnTo>
                            <a:lnTo>
                              <a:pt x="94" y="88"/>
                            </a:lnTo>
                            <a:lnTo>
                              <a:pt x="85" y="92"/>
                            </a:lnTo>
                            <a:lnTo>
                              <a:pt x="77" y="93"/>
                            </a:lnTo>
                            <a:lnTo>
                              <a:pt x="67" y="93"/>
                            </a:lnTo>
                            <a:lnTo>
                              <a:pt x="55" y="94"/>
                            </a:lnTo>
                            <a:lnTo>
                              <a:pt x="42" y="95"/>
                            </a:lnTo>
                            <a:lnTo>
                              <a:pt x="32" y="99"/>
                            </a:lnTo>
                            <a:lnTo>
                              <a:pt x="0" y="105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943280" y="3551400"/>
                        <a:ext cx="903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5">
                            <a:moveTo>
                              <a:pt x="56" y="4"/>
                            </a:moveTo>
                            <a:lnTo>
                              <a:pt x="46" y="3"/>
                            </a:lnTo>
                            <a:lnTo>
                              <a:pt x="39" y="2"/>
                            </a:lnTo>
                            <a:lnTo>
                              <a:pt x="29" y="1"/>
                            </a:lnTo>
                            <a:lnTo>
                              <a:pt x="21" y="1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lnTo>
                              <a:pt x="13" y="1"/>
                            </a:lnTo>
                            <a:lnTo>
                              <a:pt x="25" y="0"/>
                            </a:lnTo>
                            <a:lnTo>
                              <a:pt x="39" y="2"/>
                            </a:lnTo>
                            <a:lnTo>
                              <a:pt x="46" y="2"/>
                            </a:lnTo>
                            <a:lnTo>
                              <a:pt x="55" y="4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1903320" y="3529080"/>
                        <a:ext cx="748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1">
                            <a:moveTo>
                              <a:pt x="33" y="0"/>
                            </a:moveTo>
                            <a:lnTo>
                              <a:pt x="39" y="0"/>
                            </a:lnTo>
                            <a:lnTo>
                              <a:pt x="46" y="0"/>
                            </a:lnTo>
                            <a:lnTo>
                              <a:pt x="42" y="0"/>
                            </a:lnTo>
                            <a:lnTo>
                              <a:pt x="34" y="0"/>
                            </a:lnTo>
                            <a:lnTo>
                              <a:pt x="20" y="0"/>
                            </a:lnTo>
                            <a:lnTo>
                              <a:pt x="11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22" y="0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1938240" y="3573360"/>
                        <a:ext cx="23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5">
                            <a:moveTo>
                              <a:pt x="14" y="2"/>
                            </a:moveTo>
                            <a:lnTo>
                              <a:pt x="12" y="0"/>
                            </a:lnTo>
                            <a:lnTo>
                              <a:pt x="8" y="1"/>
                            </a:lnTo>
                            <a:lnTo>
                              <a:pt x="2" y="1"/>
                            </a:lnTo>
                            <a:lnTo>
                              <a:pt x="0" y="4"/>
                            </a:lnTo>
                            <a:lnTo>
                              <a:pt x="4" y="3"/>
                            </a:lnTo>
                            <a:lnTo>
                              <a:pt x="14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009880" y="3598920"/>
                        <a:ext cx="61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3" y="4"/>
                            </a:move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1890720" y="356220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2" y="0"/>
                            </a:move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913040" y="3591000"/>
                        <a:ext cx="93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035080" y="357336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654200" y="3416400"/>
                      <a:ext cx="338040" cy="150840"/>
                      <a:chOff x="1654200" y="3416400"/>
                      <a:chExt cx="338040" cy="150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654200" y="3416400"/>
                        <a:ext cx="33804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95">
                            <a:moveTo>
                              <a:pt x="21" y="94"/>
                            </a:moveTo>
                            <a:lnTo>
                              <a:pt x="32" y="92"/>
                            </a:lnTo>
                            <a:lnTo>
                              <a:pt x="43" y="88"/>
                            </a:lnTo>
                            <a:lnTo>
                              <a:pt x="54" y="86"/>
                            </a:lnTo>
                            <a:lnTo>
                              <a:pt x="72" y="88"/>
                            </a:lnTo>
                            <a:lnTo>
                              <a:pt x="85" y="87"/>
                            </a:lnTo>
                            <a:lnTo>
                              <a:pt x="93" y="83"/>
                            </a:lnTo>
                            <a:lnTo>
                              <a:pt x="101" y="80"/>
                            </a:lnTo>
                            <a:lnTo>
                              <a:pt x="109" y="79"/>
                            </a:lnTo>
                            <a:lnTo>
                              <a:pt x="117" y="75"/>
                            </a:lnTo>
                            <a:lnTo>
                              <a:pt x="124" y="70"/>
                            </a:lnTo>
                            <a:lnTo>
                              <a:pt x="134" y="65"/>
                            </a:lnTo>
                            <a:lnTo>
                              <a:pt x="140" y="64"/>
                            </a:lnTo>
                            <a:lnTo>
                              <a:pt x="147" y="62"/>
                            </a:lnTo>
                            <a:lnTo>
                              <a:pt x="156" y="62"/>
                            </a:lnTo>
                            <a:lnTo>
                              <a:pt x="161" y="60"/>
                            </a:lnTo>
                            <a:lnTo>
                              <a:pt x="164" y="58"/>
                            </a:lnTo>
                            <a:lnTo>
                              <a:pt x="165" y="55"/>
                            </a:lnTo>
                            <a:lnTo>
                              <a:pt x="164" y="54"/>
                            </a:lnTo>
                            <a:lnTo>
                              <a:pt x="161" y="51"/>
                            </a:lnTo>
                            <a:lnTo>
                              <a:pt x="155" y="50"/>
                            </a:lnTo>
                            <a:lnTo>
                              <a:pt x="147" y="48"/>
                            </a:lnTo>
                            <a:lnTo>
                              <a:pt x="140" y="49"/>
                            </a:lnTo>
                            <a:lnTo>
                              <a:pt x="133" y="51"/>
                            </a:lnTo>
                            <a:lnTo>
                              <a:pt x="118" y="51"/>
                            </a:lnTo>
                            <a:lnTo>
                              <a:pt x="131" y="43"/>
                            </a:lnTo>
                            <a:lnTo>
                              <a:pt x="142" y="35"/>
                            </a:lnTo>
                            <a:lnTo>
                              <a:pt x="156" y="30"/>
                            </a:lnTo>
                            <a:lnTo>
                              <a:pt x="167" y="30"/>
                            </a:lnTo>
                            <a:lnTo>
                              <a:pt x="181" y="28"/>
                            </a:lnTo>
                            <a:lnTo>
                              <a:pt x="190" y="31"/>
                            </a:lnTo>
                            <a:lnTo>
                              <a:pt x="194" y="32"/>
                            </a:lnTo>
                            <a:lnTo>
                              <a:pt x="198" y="32"/>
                            </a:lnTo>
                            <a:lnTo>
                              <a:pt x="201" y="30"/>
                            </a:lnTo>
                            <a:lnTo>
                              <a:pt x="204" y="29"/>
                            </a:lnTo>
                            <a:lnTo>
                              <a:pt x="204" y="26"/>
                            </a:lnTo>
                            <a:lnTo>
                              <a:pt x="208" y="26"/>
                            </a:lnTo>
                            <a:lnTo>
                              <a:pt x="211" y="24"/>
                            </a:lnTo>
                            <a:lnTo>
                              <a:pt x="211" y="22"/>
                            </a:lnTo>
                            <a:lnTo>
                              <a:pt x="212" y="20"/>
                            </a:lnTo>
                            <a:lnTo>
                              <a:pt x="211" y="18"/>
                            </a:lnTo>
                            <a:lnTo>
                              <a:pt x="208" y="17"/>
                            </a:lnTo>
                            <a:lnTo>
                              <a:pt x="204" y="14"/>
                            </a:lnTo>
                            <a:lnTo>
                              <a:pt x="199" y="11"/>
                            </a:lnTo>
                            <a:lnTo>
                              <a:pt x="195" y="9"/>
                            </a:lnTo>
                            <a:lnTo>
                              <a:pt x="188" y="8"/>
                            </a:lnTo>
                            <a:lnTo>
                              <a:pt x="183" y="7"/>
                            </a:lnTo>
                            <a:lnTo>
                              <a:pt x="157" y="3"/>
                            </a:lnTo>
                            <a:lnTo>
                              <a:pt x="151" y="2"/>
                            </a:lnTo>
                            <a:lnTo>
                              <a:pt x="145" y="0"/>
                            </a:lnTo>
                            <a:lnTo>
                              <a:pt x="139" y="1"/>
                            </a:lnTo>
                            <a:lnTo>
                              <a:pt x="133" y="5"/>
                            </a:lnTo>
                            <a:lnTo>
                              <a:pt x="112" y="11"/>
                            </a:lnTo>
                            <a:lnTo>
                              <a:pt x="100" y="12"/>
                            </a:lnTo>
                            <a:lnTo>
                              <a:pt x="88" y="21"/>
                            </a:lnTo>
                            <a:lnTo>
                              <a:pt x="63" y="38"/>
                            </a:lnTo>
                            <a:lnTo>
                              <a:pt x="53" y="46"/>
                            </a:lnTo>
                            <a:lnTo>
                              <a:pt x="44" y="54"/>
                            </a:lnTo>
                            <a:lnTo>
                              <a:pt x="32" y="57"/>
                            </a:lnTo>
                            <a:lnTo>
                              <a:pt x="0" y="58"/>
                            </a:lnTo>
                            <a:lnTo>
                              <a:pt x="21" y="9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933560" y="3440160"/>
                        <a:ext cx="363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">
                            <a:moveTo>
                              <a:pt x="22" y="3"/>
                            </a:moveTo>
                            <a:lnTo>
                              <a:pt x="20" y="3"/>
                            </a:lnTo>
                            <a:lnTo>
                              <a:pt x="16" y="2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8" y="1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2" y="1"/>
                            </a:lnTo>
                            <a:lnTo>
                              <a:pt x="14" y="1"/>
                            </a:lnTo>
                            <a:lnTo>
                              <a:pt x="22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1714680" y="3527280"/>
                        <a:ext cx="9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0" y="0"/>
                            </a:moveTo>
                            <a:lnTo>
                              <a:pt x="3" y="0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1846440" y="3433680"/>
                        <a:ext cx="63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2">
                            <a:moveTo>
                              <a:pt x="39" y="0"/>
                            </a:moveTo>
                            <a:lnTo>
                              <a:pt x="27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5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0" y="1"/>
                            </a:lnTo>
                            <a:lnTo>
                              <a:pt x="4" y="1"/>
                            </a:lnTo>
                            <a:lnTo>
                              <a:pt x="11" y="1"/>
                            </a:lnTo>
                            <a:lnTo>
                              <a:pt x="17" y="0"/>
                            </a:lnTo>
                            <a:lnTo>
                              <a:pt x="21" y="0"/>
                            </a:lnTo>
                            <a:lnTo>
                              <a:pt x="24" y="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881360" y="349560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0" y="4"/>
                            </a:move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1960560" y="345132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1" y="0"/>
                            </a:moveTo>
                            <a:lnTo>
                              <a:pt x="0" y="1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1973160" y="3438360"/>
                        <a:ext cx="5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6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2" y="5"/>
                            </a:lnTo>
                            <a:lnTo>
                              <a:pt x="1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811160" y="3486240"/>
                        <a:ext cx="19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4">
                            <a:moveTo>
                              <a:pt x="11" y="1"/>
                            </a:moveTo>
                            <a:lnTo>
                              <a:pt x="10" y="0"/>
                            </a:lnTo>
                            <a:lnTo>
                              <a:pt x="9" y="1"/>
                            </a:lnTo>
                            <a:lnTo>
                              <a:pt x="5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3" y="1"/>
                            </a:lnTo>
                            <a:lnTo>
                              <a:pt x="6" y="2"/>
                            </a:lnTo>
                            <a:lnTo>
                              <a:pt x="8" y="3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1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389240" y="3479760"/>
                      <a:ext cx="3268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3">
                          <a:moveTo>
                            <a:pt x="29" y="9"/>
                          </a:moveTo>
                          <a:lnTo>
                            <a:pt x="83" y="14"/>
                          </a:lnTo>
                          <a:lnTo>
                            <a:pt x="124" y="18"/>
                          </a:lnTo>
                          <a:lnTo>
                            <a:pt x="146" y="17"/>
                          </a:lnTo>
                          <a:lnTo>
                            <a:pt x="188" y="16"/>
                          </a:lnTo>
                          <a:lnTo>
                            <a:pt x="200" y="33"/>
                          </a:lnTo>
                          <a:lnTo>
                            <a:pt x="205" y="58"/>
                          </a:lnTo>
                          <a:lnTo>
                            <a:pt x="175" y="63"/>
                          </a:lnTo>
                          <a:lnTo>
                            <a:pt x="119" y="78"/>
                          </a:lnTo>
                          <a:lnTo>
                            <a:pt x="6" y="92"/>
                          </a:lnTo>
                          <a:lnTo>
                            <a:pt x="0" y="0"/>
                          </a:lnTo>
                          <a:lnTo>
                            <a:pt x="29" y="9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401840" y="3495600"/>
                      <a:ext cx="288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67">
                          <a:moveTo>
                            <a:pt x="21" y="0"/>
                          </a:moveTo>
                          <a:lnTo>
                            <a:pt x="63" y="6"/>
                          </a:lnTo>
                          <a:lnTo>
                            <a:pt x="118" y="11"/>
                          </a:lnTo>
                          <a:lnTo>
                            <a:pt x="153" y="10"/>
                          </a:lnTo>
                          <a:lnTo>
                            <a:pt x="170" y="11"/>
                          </a:lnTo>
                          <a:lnTo>
                            <a:pt x="178" y="21"/>
                          </a:lnTo>
                          <a:lnTo>
                            <a:pt x="181" y="37"/>
                          </a:lnTo>
                          <a:lnTo>
                            <a:pt x="137" y="49"/>
                          </a:lnTo>
                          <a:lnTo>
                            <a:pt x="144" y="39"/>
                          </a:lnTo>
                          <a:lnTo>
                            <a:pt x="150" y="26"/>
                          </a:lnTo>
                          <a:lnTo>
                            <a:pt x="139" y="38"/>
                          </a:lnTo>
                          <a:lnTo>
                            <a:pt x="120" y="52"/>
                          </a:lnTo>
                          <a:lnTo>
                            <a:pt x="75" y="66"/>
                          </a:lnTo>
                          <a:lnTo>
                            <a:pt x="42" y="66"/>
                          </a:lnTo>
                          <a:lnTo>
                            <a:pt x="86" y="53"/>
                          </a:lnTo>
                          <a:lnTo>
                            <a:pt x="114" y="36"/>
                          </a:lnTo>
                          <a:lnTo>
                            <a:pt x="79" y="48"/>
                          </a:lnTo>
                          <a:lnTo>
                            <a:pt x="45" y="58"/>
                          </a:lnTo>
                          <a:lnTo>
                            <a:pt x="0" y="66"/>
                          </a:lnTo>
                          <a:lnTo>
                            <a:pt x="2" y="25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084320" y="3086280"/>
                      <a:ext cx="6858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397">
                          <a:moveTo>
                            <a:pt x="41" y="0"/>
                          </a:moveTo>
                          <a:lnTo>
                            <a:pt x="67" y="4"/>
                          </a:lnTo>
                          <a:lnTo>
                            <a:pt x="90" y="19"/>
                          </a:lnTo>
                          <a:lnTo>
                            <a:pt x="102" y="40"/>
                          </a:lnTo>
                          <a:lnTo>
                            <a:pt x="104" y="70"/>
                          </a:lnTo>
                          <a:lnTo>
                            <a:pt x="113" y="112"/>
                          </a:lnTo>
                          <a:lnTo>
                            <a:pt x="126" y="149"/>
                          </a:lnTo>
                          <a:lnTo>
                            <a:pt x="143" y="193"/>
                          </a:lnTo>
                          <a:lnTo>
                            <a:pt x="153" y="227"/>
                          </a:lnTo>
                          <a:lnTo>
                            <a:pt x="167" y="263"/>
                          </a:lnTo>
                          <a:lnTo>
                            <a:pt x="128" y="276"/>
                          </a:lnTo>
                          <a:lnTo>
                            <a:pt x="171" y="271"/>
                          </a:lnTo>
                          <a:lnTo>
                            <a:pt x="182" y="284"/>
                          </a:lnTo>
                          <a:lnTo>
                            <a:pt x="162" y="301"/>
                          </a:lnTo>
                          <a:lnTo>
                            <a:pt x="189" y="291"/>
                          </a:lnTo>
                          <a:lnTo>
                            <a:pt x="220" y="302"/>
                          </a:lnTo>
                          <a:lnTo>
                            <a:pt x="260" y="311"/>
                          </a:lnTo>
                          <a:lnTo>
                            <a:pt x="310" y="324"/>
                          </a:lnTo>
                          <a:lnTo>
                            <a:pt x="348" y="328"/>
                          </a:lnTo>
                          <a:lnTo>
                            <a:pt x="392" y="332"/>
                          </a:lnTo>
                          <a:lnTo>
                            <a:pt x="421" y="330"/>
                          </a:lnTo>
                          <a:lnTo>
                            <a:pt x="426" y="340"/>
                          </a:lnTo>
                          <a:lnTo>
                            <a:pt x="431" y="359"/>
                          </a:lnTo>
                          <a:lnTo>
                            <a:pt x="431" y="372"/>
                          </a:lnTo>
                          <a:lnTo>
                            <a:pt x="401" y="384"/>
                          </a:lnTo>
                          <a:lnTo>
                            <a:pt x="396" y="373"/>
                          </a:lnTo>
                          <a:lnTo>
                            <a:pt x="388" y="384"/>
                          </a:lnTo>
                          <a:lnTo>
                            <a:pt x="344" y="389"/>
                          </a:lnTo>
                          <a:lnTo>
                            <a:pt x="259" y="396"/>
                          </a:lnTo>
                          <a:lnTo>
                            <a:pt x="151" y="376"/>
                          </a:lnTo>
                          <a:lnTo>
                            <a:pt x="128" y="370"/>
                          </a:lnTo>
                          <a:lnTo>
                            <a:pt x="94" y="317"/>
                          </a:lnTo>
                          <a:lnTo>
                            <a:pt x="48" y="224"/>
                          </a:lnTo>
                          <a:lnTo>
                            <a:pt x="15" y="123"/>
                          </a:lnTo>
                          <a:lnTo>
                            <a:pt x="0" y="83"/>
                          </a:lnTo>
                          <a:lnTo>
                            <a:pt x="5" y="42"/>
                          </a:lnTo>
                          <a:lnTo>
                            <a:pt x="21" y="12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173240" y="3063960"/>
                      <a:ext cx="25380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06">
                          <a:moveTo>
                            <a:pt x="22" y="0"/>
                          </a:moveTo>
                          <a:lnTo>
                            <a:pt x="0" y="17"/>
                          </a:lnTo>
                          <a:lnTo>
                            <a:pt x="11" y="23"/>
                          </a:lnTo>
                          <a:lnTo>
                            <a:pt x="26" y="43"/>
                          </a:lnTo>
                          <a:lnTo>
                            <a:pt x="48" y="59"/>
                          </a:lnTo>
                          <a:lnTo>
                            <a:pt x="61" y="112"/>
                          </a:lnTo>
                          <a:lnTo>
                            <a:pt x="74" y="143"/>
                          </a:lnTo>
                          <a:lnTo>
                            <a:pt x="91" y="169"/>
                          </a:lnTo>
                          <a:lnTo>
                            <a:pt x="107" y="191"/>
                          </a:lnTo>
                          <a:lnTo>
                            <a:pt x="85" y="173"/>
                          </a:lnTo>
                          <a:lnTo>
                            <a:pt x="70" y="147"/>
                          </a:lnTo>
                          <a:lnTo>
                            <a:pt x="85" y="188"/>
                          </a:lnTo>
                          <a:lnTo>
                            <a:pt x="98" y="224"/>
                          </a:lnTo>
                          <a:lnTo>
                            <a:pt x="109" y="259"/>
                          </a:lnTo>
                          <a:lnTo>
                            <a:pt x="117" y="279"/>
                          </a:lnTo>
                          <a:lnTo>
                            <a:pt x="126" y="289"/>
                          </a:lnTo>
                          <a:lnTo>
                            <a:pt x="135" y="299"/>
                          </a:lnTo>
                          <a:lnTo>
                            <a:pt x="151" y="305"/>
                          </a:lnTo>
                          <a:lnTo>
                            <a:pt x="152" y="286"/>
                          </a:lnTo>
                          <a:lnTo>
                            <a:pt x="154" y="265"/>
                          </a:lnTo>
                          <a:lnTo>
                            <a:pt x="159" y="243"/>
                          </a:lnTo>
                          <a:lnTo>
                            <a:pt x="159" y="221"/>
                          </a:lnTo>
                          <a:lnTo>
                            <a:pt x="151" y="195"/>
                          </a:lnTo>
                          <a:lnTo>
                            <a:pt x="141" y="175"/>
                          </a:lnTo>
                          <a:lnTo>
                            <a:pt x="129" y="162"/>
                          </a:lnTo>
                          <a:lnTo>
                            <a:pt x="111" y="147"/>
                          </a:lnTo>
                          <a:lnTo>
                            <a:pt x="91" y="121"/>
                          </a:lnTo>
                          <a:lnTo>
                            <a:pt x="73" y="90"/>
                          </a:lnTo>
                          <a:lnTo>
                            <a:pt x="89" y="106"/>
                          </a:lnTo>
                          <a:lnTo>
                            <a:pt x="104" y="130"/>
                          </a:lnTo>
                          <a:lnTo>
                            <a:pt x="123" y="152"/>
                          </a:lnTo>
                          <a:lnTo>
                            <a:pt x="105" y="120"/>
                          </a:lnTo>
                          <a:lnTo>
                            <a:pt x="86" y="78"/>
                          </a:lnTo>
                          <a:lnTo>
                            <a:pt x="63" y="32"/>
                          </a:lnTo>
                          <a:lnTo>
                            <a:pt x="51" y="18"/>
                          </a:lnTo>
                          <a:lnTo>
                            <a:pt x="2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973080" y="3033720"/>
                      <a:ext cx="1035000" cy="12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793">
                          <a:moveTo>
                            <a:pt x="139" y="17"/>
                          </a:moveTo>
                          <a:lnTo>
                            <a:pt x="121" y="35"/>
                          </a:lnTo>
                          <a:lnTo>
                            <a:pt x="101" y="43"/>
                          </a:lnTo>
                          <a:lnTo>
                            <a:pt x="78" y="70"/>
                          </a:lnTo>
                          <a:lnTo>
                            <a:pt x="74" y="88"/>
                          </a:lnTo>
                          <a:lnTo>
                            <a:pt x="73" y="113"/>
                          </a:lnTo>
                          <a:lnTo>
                            <a:pt x="72" y="136"/>
                          </a:lnTo>
                          <a:lnTo>
                            <a:pt x="67" y="170"/>
                          </a:lnTo>
                          <a:lnTo>
                            <a:pt x="60" y="208"/>
                          </a:lnTo>
                          <a:lnTo>
                            <a:pt x="56" y="248"/>
                          </a:lnTo>
                          <a:lnTo>
                            <a:pt x="67" y="206"/>
                          </a:lnTo>
                          <a:lnTo>
                            <a:pt x="71" y="176"/>
                          </a:lnTo>
                          <a:lnTo>
                            <a:pt x="76" y="156"/>
                          </a:lnTo>
                          <a:lnTo>
                            <a:pt x="85" y="191"/>
                          </a:lnTo>
                          <a:lnTo>
                            <a:pt x="97" y="227"/>
                          </a:lnTo>
                          <a:lnTo>
                            <a:pt x="103" y="249"/>
                          </a:lnTo>
                          <a:lnTo>
                            <a:pt x="100" y="286"/>
                          </a:lnTo>
                          <a:lnTo>
                            <a:pt x="99" y="329"/>
                          </a:lnTo>
                          <a:lnTo>
                            <a:pt x="102" y="368"/>
                          </a:lnTo>
                          <a:lnTo>
                            <a:pt x="104" y="325"/>
                          </a:lnTo>
                          <a:lnTo>
                            <a:pt x="106" y="293"/>
                          </a:lnTo>
                          <a:lnTo>
                            <a:pt x="112" y="266"/>
                          </a:lnTo>
                          <a:lnTo>
                            <a:pt x="138" y="331"/>
                          </a:lnTo>
                          <a:lnTo>
                            <a:pt x="160" y="368"/>
                          </a:lnTo>
                          <a:lnTo>
                            <a:pt x="171" y="384"/>
                          </a:lnTo>
                          <a:lnTo>
                            <a:pt x="187" y="411"/>
                          </a:lnTo>
                          <a:lnTo>
                            <a:pt x="241" y="426"/>
                          </a:lnTo>
                          <a:lnTo>
                            <a:pt x="267" y="429"/>
                          </a:lnTo>
                          <a:lnTo>
                            <a:pt x="259" y="443"/>
                          </a:lnTo>
                          <a:lnTo>
                            <a:pt x="242" y="455"/>
                          </a:lnTo>
                          <a:lnTo>
                            <a:pt x="187" y="487"/>
                          </a:lnTo>
                          <a:lnTo>
                            <a:pt x="233" y="470"/>
                          </a:lnTo>
                          <a:lnTo>
                            <a:pt x="262" y="450"/>
                          </a:lnTo>
                          <a:lnTo>
                            <a:pt x="286" y="433"/>
                          </a:lnTo>
                          <a:lnTo>
                            <a:pt x="285" y="472"/>
                          </a:lnTo>
                          <a:lnTo>
                            <a:pt x="275" y="494"/>
                          </a:lnTo>
                          <a:lnTo>
                            <a:pt x="246" y="508"/>
                          </a:lnTo>
                          <a:lnTo>
                            <a:pt x="277" y="507"/>
                          </a:lnTo>
                          <a:lnTo>
                            <a:pt x="278" y="522"/>
                          </a:lnTo>
                          <a:lnTo>
                            <a:pt x="275" y="535"/>
                          </a:lnTo>
                          <a:lnTo>
                            <a:pt x="262" y="545"/>
                          </a:lnTo>
                          <a:lnTo>
                            <a:pt x="215" y="569"/>
                          </a:lnTo>
                          <a:lnTo>
                            <a:pt x="277" y="547"/>
                          </a:lnTo>
                          <a:lnTo>
                            <a:pt x="291" y="545"/>
                          </a:lnTo>
                          <a:lnTo>
                            <a:pt x="303" y="547"/>
                          </a:lnTo>
                          <a:lnTo>
                            <a:pt x="302" y="559"/>
                          </a:lnTo>
                          <a:lnTo>
                            <a:pt x="287" y="571"/>
                          </a:lnTo>
                          <a:lnTo>
                            <a:pt x="252" y="590"/>
                          </a:lnTo>
                          <a:lnTo>
                            <a:pt x="303" y="571"/>
                          </a:lnTo>
                          <a:lnTo>
                            <a:pt x="318" y="554"/>
                          </a:lnTo>
                          <a:lnTo>
                            <a:pt x="332" y="558"/>
                          </a:lnTo>
                          <a:lnTo>
                            <a:pt x="345" y="563"/>
                          </a:lnTo>
                          <a:lnTo>
                            <a:pt x="340" y="576"/>
                          </a:lnTo>
                          <a:lnTo>
                            <a:pt x="329" y="586"/>
                          </a:lnTo>
                          <a:lnTo>
                            <a:pt x="302" y="602"/>
                          </a:lnTo>
                          <a:lnTo>
                            <a:pt x="340" y="589"/>
                          </a:lnTo>
                          <a:lnTo>
                            <a:pt x="361" y="572"/>
                          </a:lnTo>
                          <a:lnTo>
                            <a:pt x="386" y="580"/>
                          </a:lnTo>
                          <a:lnTo>
                            <a:pt x="467" y="608"/>
                          </a:lnTo>
                          <a:lnTo>
                            <a:pt x="536" y="634"/>
                          </a:lnTo>
                          <a:lnTo>
                            <a:pt x="588" y="654"/>
                          </a:lnTo>
                          <a:lnTo>
                            <a:pt x="606" y="683"/>
                          </a:lnTo>
                          <a:lnTo>
                            <a:pt x="627" y="722"/>
                          </a:lnTo>
                          <a:lnTo>
                            <a:pt x="651" y="792"/>
                          </a:lnTo>
                          <a:lnTo>
                            <a:pt x="414" y="792"/>
                          </a:lnTo>
                          <a:lnTo>
                            <a:pt x="396" y="787"/>
                          </a:lnTo>
                          <a:lnTo>
                            <a:pt x="456" y="775"/>
                          </a:lnTo>
                          <a:lnTo>
                            <a:pt x="551" y="739"/>
                          </a:lnTo>
                          <a:lnTo>
                            <a:pt x="440" y="773"/>
                          </a:lnTo>
                          <a:lnTo>
                            <a:pt x="388" y="783"/>
                          </a:lnTo>
                          <a:lnTo>
                            <a:pt x="352" y="775"/>
                          </a:lnTo>
                          <a:lnTo>
                            <a:pt x="408" y="765"/>
                          </a:lnTo>
                          <a:lnTo>
                            <a:pt x="526" y="727"/>
                          </a:lnTo>
                          <a:lnTo>
                            <a:pt x="398" y="761"/>
                          </a:lnTo>
                          <a:lnTo>
                            <a:pt x="343" y="773"/>
                          </a:lnTo>
                          <a:lnTo>
                            <a:pt x="334" y="768"/>
                          </a:lnTo>
                          <a:lnTo>
                            <a:pt x="384" y="750"/>
                          </a:lnTo>
                          <a:lnTo>
                            <a:pt x="471" y="710"/>
                          </a:lnTo>
                          <a:lnTo>
                            <a:pt x="370" y="751"/>
                          </a:lnTo>
                          <a:lnTo>
                            <a:pt x="318" y="766"/>
                          </a:lnTo>
                          <a:lnTo>
                            <a:pt x="94" y="764"/>
                          </a:lnTo>
                          <a:lnTo>
                            <a:pt x="66" y="757"/>
                          </a:lnTo>
                          <a:lnTo>
                            <a:pt x="41" y="748"/>
                          </a:lnTo>
                          <a:lnTo>
                            <a:pt x="15" y="724"/>
                          </a:lnTo>
                          <a:lnTo>
                            <a:pt x="9" y="697"/>
                          </a:lnTo>
                          <a:lnTo>
                            <a:pt x="7" y="674"/>
                          </a:lnTo>
                          <a:lnTo>
                            <a:pt x="13" y="638"/>
                          </a:lnTo>
                          <a:lnTo>
                            <a:pt x="30" y="593"/>
                          </a:lnTo>
                          <a:lnTo>
                            <a:pt x="42" y="556"/>
                          </a:lnTo>
                          <a:lnTo>
                            <a:pt x="47" y="525"/>
                          </a:lnTo>
                          <a:lnTo>
                            <a:pt x="67" y="521"/>
                          </a:lnTo>
                          <a:lnTo>
                            <a:pt x="84" y="544"/>
                          </a:lnTo>
                          <a:lnTo>
                            <a:pt x="132" y="579"/>
                          </a:lnTo>
                          <a:lnTo>
                            <a:pt x="89" y="541"/>
                          </a:lnTo>
                          <a:lnTo>
                            <a:pt x="76" y="518"/>
                          </a:lnTo>
                          <a:lnTo>
                            <a:pt x="81" y="494"/>
                          </a:lnTo>
                          <a:lnTo>
                            <a:pt x="139" y="478"/>
                          </a:lnTo>
                          <a:lnTo>
                            <a:pt x="180" y="454"/>
                          </a:lnTo>
                          <a:lnTo>
                            <a:pt x="131" y="474"/>
                          </a:lnTo>
                          <a:lnTo>
                            <a:pt x="82" y="486"/>
                          </a:lnTo>
                          <a:lnTo>
                            <a:pt x="85" y="452"/>
                          </a:lnTo>
                          <a:lnTo>
                            <a:pt x="106" y="429"/>
                          </a:lnTo>
                          <a:lnTo>
                            <a:pt x="122" y="392"/>
                          </a:lnTo>
                          <a:lnTo>
                            <a:pt x="102" y="426"/>
                          </a:lnTo>
                          <a:lnTo>
                            <a:pt x="78" y="447"/>
                          </a:lnTo>
                          <a:lnTo>
                            <a:pt x="54" y="445"/>
                          </a:lnTo>
                          <a:lnTo>
                            <a:pt x="41" y="383"/>
                          </a:lnTo>
                          <a:lnTo>
                            <a:pt x="23" y="321"/>
                          </a:lnTo>
                          <a:lnTo>
                            <a:pt x="14" y="279"/>
                          </a:lnTo>
                          <a:lnTo>
                            <a:pt x="15" y="242"/>
                          </a:lnTo>
                          <a:lnTo>
                            <a:pt x="21" y="196"/>
                          </a:lnTo>
                          <a:lnTo>
                            <a:pt x="14" y="221"/>
                          </a:lnTo>
                          <a:lnTo>
                            <a:pt x="9" y="248"/>
                          </a:lnTo>
                          <a:lnTo>
                            <a:pt x="8" y="270"/>
                          </a:lnTo>
                          <a:lnTo>
                            <a:pt x="3" y="232"/>
                          </a:lnTo>
                          <a:lnTo>
                            <a:pt x="1" y="201"/>
                          </a:lnTo>
                          <a:lnTo>
                            <a:pt x="1" y="180"/>
                          </a:lnTo>
                          <a:lnTo>
                            <a:pt x="9" y="149"/>
                          </a:lnTo>
                          <a:lnTo>
                            <a:pt x="23" y="121"/>
                          </a:lnTo>
                          <a:lnTo>
                            <a:pt x="42" y="94"/>
                          </a:lnTo>
                          <a:lnTo>
                            <a:pt x="22" y="116"/>
                          </a:lnTo>
                          <a:lnTo>
                            <a:pt x="12" y="136"/>
                          </a:lnTo>
                          <a:lnTo>
                            <a:pt x="0" y="170"/>
                          </a:lnTo>
                          <a:lnTo>
                            <a:pt x="3" y="146"/>
                          </a:lnTo>
                          <a:lnTo>
                            <a:pt x="9" y="113"/>
                          </a:lnTo>
                          <a:lnTo>
                            <a:pt x="26" y="76"/>
                          </a:lnTo>
                          <a:lnTo>
                            <a:pt x="41" y="40"/>
                          </a:lnTo>
                          <a:lnTo>
                            <a:pt x="59" y="21"/>
                          </a:lnTo>
                          <a:lnTo>
                            <a:pt x="85" y="0"/>
                          </a:lnTo>
                          <a:lnTo>
                            <a:pt x="113" y="3"/>
                          </a:lnTo>
                          <a:lnTo>
                            <a:pt x="139" y="1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042920" y="3754440"/>
                      <a:ext cx="396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62">
                          <a:moveTo>
                            <a:pt x="5" y="0"/>
                          </a:moveTo>
                          <a:lnTo>
                            <a:pt x="23" y="3"/>
                          </a:lnTo>
                          <a:lnTo>
                            <a:pt x="24" y="27"/>
                          </a:lnTo>
                          <a:lnTo>
                            <a:pt x="22" y="53"/>
                          </a:lnTo>
                          <a:lnTo>
                            <a:pt x="5" y="61"/>
                          </a:lnTo>
                          <a:lnTo>
                            <a:pt x="0" y="51"/>
                          </a:lnTo>
                          <a:lnTo>
                            <a:pt x="0" y="1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116000" y="4108320"/>
                      <a:ext cx="4809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2">
                          <a:moveTo>
                            <a:pt x="302" y="0"/>
                          </a:moveTo>
                          <a:lnTo>
                            <a:pt x="220" y="15"/>
                          </a:lnTo>
                          <a:lnTo>
                            <a:pt x="158" y="22"/>
                          </a:lnTo>
                          <a:lnTo>
                            <a:pt x="94" y="26"/>
                          </a:lnTo>
                          <a:lnTo>
                            <a:pt x="47" y="28"/>
                          </a:lnTo>
                          <a:lnTo>
                            <a:pt x="0" y="26"/>
                          </a:lnTo>
                          <a:lnTo>
                            <a:pt x="44" y="31"/>
                          </a:lnTo>
                          <a:lnTo>
                            <a:pt x="118" y="31"/>
                          </a:lnTo>
                          <a:lnTo>
                            <a:pt x="196" y="23"/>
                          </a:lnTo>
                          <a:lnTo>
                            <a:pt x="237" y="17"/>
                          </a:lnTo>
                          <a:lnTo>
                            <a:pt x="30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8" name=""/>
                  <p:cNvSpPr/>
                  <p:nvPr/>
                </p:nvSpPr>
                <p:spPr>
                  <a:xfrm>
                    <a:off x="1015920" y="2548080"/>
                    <a:ext cx="43200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81">
                        <a:moveTo>
                          <a:pt x="149" y="149"/>
                        </a:moveTo>
                        <a:lnTo>
                          <a:pt x="140" y="130"/>
                        </a:lnTo>
                        <a:lnTo>
                          <a:pt x="128" y="129"/>
                        </a:lnTo>
                        <a:lnTo>
                          <a:pt x="119" y="132"/>
                        </a:lnTo>
                        <a:lnTo>
                          <a:pt x="114" y="143"/>
                        </a:lnTo>
                        <a:lnTo>
                          <a:pt x="112" y="153"/>
                        </a:lnTo>
                        <a:lnTo>
                          <a:pt x="115" y="177"/>
                        </a:lnTo>
                        <a:lnTo>
                          <a:pt x="120" y="188"/>
                        </a:lnTo>
                        <a:lnTo>
                          <a:pt x="123" y="203"/>
                        </a:lnTo>
                        <a:lnTo>
                          <a:pt x="127" y="220"/>
                        </a:lnTo>
                        <a:lnTo>
                          <a:pt x="136" y="242"/>
                        </a:lnTo>
                        <a:lnTo>
                          <a:pt x="151" y="268"/>
                        </a:lnTo>
                        <a:lnTo>
                          <a:pt x="163" y="295"/>
                        </a:lnTo>
                        <a:lnTo>
                          <a:pt x="177" y="330"/>
                        </a:lnTo>
                        <a:lnTo>
                          <a:pt x="185" y="356"/>
                        </a:lnTo>
                        <a:lnTo>
                          <a:pt x="186" y="380"/>
                        </a:lnTo>
                        <a:lnTo>
                          <a:pt x="152" y="345"/>
                        </a:lnTo>
                        <a:lnTo>
                          <a:pt x="119" y="323"/>
                        </a:lnTo>
                        <a:lnTo>
                          <a:pt x="101" y="312"/>
                        </a:lnTo>
                        <a:lnTo>
                          <a:pt x="78" y="305"/>
                        </a:lnTo>
                        <a:lnTo>
                          <a:pt x="52" y="306"/>
                        </a:lnTo>
                        <a:lnTo>
                          <a:pt x="26" y="321"/>
                        </a:lnTo>
                        <a:lnTo>
                          <a:pt x="3" y="350"/>
                        </a:lnTo>
                        <a:lnTo>
                          <a:pt x="0" y="325"/>
                        </a:lnTo>
                        <a:lnTo>
                          <a:pt x="14" y="298"/>
                        </a:lnTo>
                        <a:lnTo>
                          <a:pt x="31" y="264"/>
                        </a:lnTo>
                        <a:lnTo>
                          <a:pt x="39" y="241"/>
                        </a:lnTo>
                        <a:lnTo>
                          <a:pt x="40" y="216"/>
                        </a:lnTo>
                        <a:lnTo>
                          <a:pt x="36" y="198"/>
                        </a:lnTo>
                        <a:lnTo>
                          <a:pt x="25" y="184"/>
                        </a:lnTo>
                        <a:lnTo>
                          <a:pt x="17" y="161"/>
                        </a:lnTo>
                        <a:lnTo>
                          <a:pt x="16" y="144"/>
                        </a:lnTo>
                        <a:lnTo>
                          <a:pt x="10" y="124"/>
                        </a:lnTo>
                        <a:lnTo>
                          <a:pt x="9" y="100"/>
                        </a:lnTo>
                        <a:lnTo>
                          <a:pt x="14" y="81"/>
                        </a:lnTo>
                        <a:lnTo>
                          <a:pt x="21" y="66"/>
                        </a:lnTo>
                        <a:lnTo>
                          <a:pt x="29" y="44"/>
                        </a:lnTo>
                        <a:lnTo>
                          <a:pt x="46" y="25"/>
                        </a:lnTo>
                        <a:lnTo>
                          <a:pt x="62" y="15"/>
                        </a:lnTo>
                        <a:lnTo>
                          <a:pt x="87" y="7"/>
                        </a:lnTo>
                        <a:lnTo>
                          <a:pt x="115" y="1"/>
                        </a:lnTo>
                        <a:lnTo>
                          <a:pt x="160" y="0"/>
                        </a:lnTo>
                        <a:lnTo>
                          <a:pt x="184" y="3"/>
                        </a:lnTo>
                        <a:lnTo>
                          <a:pt x="208" y="11"/>
                        </a:lnTo>
                        <a:lnTo>
                          <a:pt x="230" y="19"/>
                        </a:lnTo>
                        <a:lnTo>
                          <a:pt x="245" y="31"/>
                        </a:lnTo>
                        <a:lnTo>
                          <a:pt x="262" y="47"/>
                        </a:lnTo>
                        <a:lnTo>
                          <a:pt x="270" y="71"/>
                        </a:lnTo>
                        <a:lnTo>
                          <a:pt x="271" y="92"/>
                        </a:lnTo>
                        <a:lnTo>
                          <a:pt x="264" y="110"/>
                        </a:lnTo>
                        <a:lnTo>
                          <a:pt x="247" y="92"/>
                        </a:lnTo>
                        <a:lnTo>
                          <a:pt x="224" y="83"/>
                        </a:lnTo>
                        <a:lnTo>
                          <a:pt x="193" y="78"/>
                        </a:lnTo>
                        <a:lnTo>
                          <a:pt x="201" y="110"/>
                        </a:lnTo>
                        <a:lnTo>
                          <a:pt x="167" y="99"/>
                        </a:lnTo>
                        <a:lnTo>
                          <a:pt x="177" y="123"/>
                        </a:lnTo>
                        <a:lnTo>
                          <a:pt x="153" y="121"/>
                        </a:lnTo>
                        <a:lnTo>
                          <a:pt x="149" y="14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844560" y="3505320"/>
                  <a:ext cx="341280" cy="644400"/>
                  <a:chOff x="844560" y="3505320"/>
                  <a:chExt cx="341280" cy="644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4560" y="3505320"/>
                    <a:ext cx="34128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406">
                        <a:moveTo>
                          <a:pt x="119" y="59"/>
                        </a:moveTo>
                        <a:lnTo>
                          <a:pt x="80" y="55"/>
                        </a:lnTo>
                        <a:lnTo>
                          <a:pt x="56" y="46"/>
                        </a:lnTo>
                        <a:lnTo>
                          <a:pt x="48" y="31"/>
                        </a:lnTo>
                        <a:lnTo>
                          <a:pt x="48" y="17"/>
                        </a:lnTo>
                        <a:lnTo>
                          <a:pt x="42" y="6"/>
                        </a:lnTo>
                        <a:lnTo>
                          <a:pt x="20" y="0"/>
                        </a:lnTo>
                        <a:lnTo>
                          <a:pt x="0" y="2"/>
                        </a:lnTo>
                        <a:lnTo>
                          <a:pt x="25" y="315"/>
                        </a:lnTo>
                        <a:lnTo>
                          <a:pt x="42" y="344"/>
                        </a:lnTo>
                        <a:lnTo>
                          <a:pt x="64" y="373"/>
                        </a:lnTo>
                        <a:lnTo>
                          <a:pt x="95" y="394"/>
                        </a:lnTo>
                        <a:lnTo>
                          <a:pt x="131" y="401"/>
                        </a:lnTo>
                        <a:lnTo>
                          <a:pt x="179" y="405"/>
                        </a:lnTo>
                        <a:lnTo>
                          <a:pt x="208" y="399"/>
                        </a:lnTo>
                        <a:lnTo>
                          <a:pt x="214" y="377"/>
                        </a:lnTo>
                        <a:lnTo>
                          <a:pt x="211" y="349"/>
                        </a:lnTo>
                        <a:lnTo>
                          <a:pt x="190" y="261"/>
                        </a:lnTo>
                        <a:lnTo>
                          <a:pt x="173" y="173"/>
                        </a:lnTo>
                        <a:lnTo>
                          <a:pt x="166" y="107"/>
                        </a:lnTo>
                        <a:lnTo>
                          <a:pt x="166" y="90"/>
                        </a:lnTo>
                        <a:lnTo>
                          <a:pt x="154" y="65"/>
                        </a:lnTo>
                        <a:lnTo>
                          <a:pt x="142" y="59"/>
                        </a:lnTo>
                        <a:lnTo>
                          <a:pt x="119" y="5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52480" y="3537000"/>
                    <a:ext cx="2793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64">
                        <a:moveTo>
                          <a:pt x="114" y="72"/>
                        </a:moveTo>
                        <a:lnTo>
                          <a:pt x="81" y="70"/>
                        </a:lnTo>
                        <a:lnTo>
                          <a:pt x="47" y="62"/>
                        </a:lnTo>
                        <a:lnTo>
                          <a:pt x="27" y="47"/>
                        </a:lnTo>
                        <a:lnTo>
                          <a:pt x="14" y="34"/>
                        </a:lnTo>
                        <a:lnTo>
                          <a:pt x="0" y="0"/>
                        </a:lnTo>
                        <a:lnTo>
                          <a:pt x="22" y="280"/>
                        </a:lnTo>
                        <a:lnTo>
                          <a:pt x="37" y="305"/>
                        </a:lnTo>
                        <a:lnTo>
                          <a:pt x="54" y="329"/>
                        </a:lnTo>
                        <a:lnTo>
                          <a:pt x="74" y="346"/>
                        </a:lnTo>
                        <a:lnTo>
                          <a:pt x="92" y="355"/>
                        </a:lnTo>
                        <a:lnTo>
                          <a:pt x="114" y="359"/>
                        </a:lnTo>
                        <a:lnTo>
                          <a:pt x="135" y="363"/>
                        </a:lnTo>
                        <a:lnTo>
                          <a:pt x="159" y="363"/>
                        </a:lnTo>
                        <a:lnTo>
                          <a:pt x="169" y="359"/>
                        </a:lnTo>
                        <a:lnTo>
                          <a:pt x="175" y="346"/>
                        </a:lnTo>
                        <a:lnTo>
                          <a:pt x="172" y="325"/>
                        </a:lnTo>
                        <a:lnTo>
                          <a:pt x="157" y="276"/>
                        </a:lnTo>
                        <a:lnTo>
                          <a:pt x="132" y="109"/>
                        </a:lnTo>
                        <a:lnTo>
                          <a:pt x="127" y="85"/>
                        </a:lnTo>
                        <a:lnTo>
                          <a:pt x="114" y="7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dvertising o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8881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Relations and Publ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relations: shape the public’s perceptions of and attitudes towards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s with stakeholders in manners other than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ity: non-paid for media exposure for the firm: both positive and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52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eople in a purchasing situation trying to influence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t has its own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wants to minimise costs or buy the best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wants to maximise price, sales and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a well-prepared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approach is relationship s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434880" y="1073160"/>
            <a:ext cx="8454960" cy="5234040"/>
            <a:chOff x="434880" y="1073160"/>
            <a:chExt cx="8454960" cy="5234040"/>
          </a:xfrm>
        </p:grpSpPr>
        <p:sp>
          <p:nvSpPr>
            <p:cNvPr id="348" name=""/>
            <p:cNvSpPr/>
            <p:nvPr/>
          </p:nvSpPr>
          <p:spPr>
            <a:xfrm>
              <a:off x="6896160" y="4848120"/>
              <a:ext cx="658800" cy="211320"/>
            </a:xfrm>
            <a:custGeom>
              <a:avLst/>
              <a:gdLst/>
              <a:ahLst/>
              <a:rect l="l" t="t" r="r" b="b"/>
              <a:pathLst>
                <a:path w="415" h="133">
                  <a:moveTo>
                    <a:pt x="414" y="132"/>
                  </a:moveTo>
                  <a:lnTo>
                    <a:pt x="414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34880" y="1073160"/>
              <a:ext cx="8454960" cy="5234040"/>
              <a:chOff x="434880" y="1073160"/>
              <a:chExt cx="8454960" cy="523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521080" y="1400040"/>
                <a:ext cx="5035320" cy="4907160"/>
                <a:chOff x="2521080" y="1400040"/>
                <a:chExt cx="5035320" cy="490716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443480" y="1758960"/>
                  <a:ext cx="12600" cy="2908440"/>
                  <a:chOff x="4443480" y="1758960"/>
                  <a:chExt cx="12600" cy="29084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4443480" y="255888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443480" y="339732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456080" y="424188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443480" y="1758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3197160" y="5052960"/>
                  <a:ext cx="2504880" cy="398520"/>
                  <a:chOff x="3197160" y="5052960"/>
                  <a:chExt cx="2504880" cy="39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19716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70204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3276720" y="6153120"/>
                  <a:ext cx="1144440" cy="154080"/>
                </a:xfrm>
                <a:custGeom>
                  <a:avLst/>
                  <a:gdLst/>
                  <a:ahLst/>
                  <a:rect l="l" t="t" r="r" b="b"/>
                  <a:pathLst>
                    <a:path w="72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72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91320" y="6143760"/>
                  <a:ext cx="477720" cy="153720"/>
                </a:xfrm>
                <a:custGeom>
                  <a:avLst/>
                  <a:gdLst/>
                  <a:ahLst/>
                  <a:rect l="l" t="t" r="r" b="b"/>
                  <a:pathLst>
                    <a:path w="30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30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73720" y="6305400"/>
                  <a:ext cx="1234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5143680"/>
                  <a:ext cx="1249560" cy="1144440"/>
                </a:xfrm>
                <a:custGeom>
                  <a:avLst/>
                  <a:gdLst/>
                  <a:ahLst/>
                  <a:rect l="l" t="t" r="r" b="b"/>
                  <a:pathLst>
                    <a:path w="787" h="721">
                      <a:moveTo>
                        <a:pt x="0" y="720"/>
                      </a:moveTo>
                      <a:lnTo>
                        <a:pt x="786" y="720"/>
                      </a:lnTo>
                      <a:lnTo>
                        <a:pt x="786" y="0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296120" y="2219400"/>
                  <a:ext cx="258840" cy="2697120"/>
                  <a:chOff x="7296120" y="2219400"/>
                  <a:chExt cx="258840" cy="269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7296120" y="409572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96120" y="3143160"/>
                    <a:ext cx="258840" cy="86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47">
                        <a:moveTo>
                          <a:pt x="402" y="54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96120" y="221940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>
                  <a:off x="5086080" y="1409760"/>
                  <a:ext cx="958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521080" y="1400040"/>
                  <a:ext cx="1287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547040" y="1746000"/>
                  <a:ext cx="9360" cy="392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054840" y="1073160"/>
                <a:ext cx="283500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Evaluate needs of established custo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4880" y="107316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Prospect for new 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17800" y="1073160"/>
                <a:ext cx="1263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Set effort prior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616040" y="2146320"/>
              <a:ext cx="5667480" cy="2916360"/>
              <a:chOff x="1616040" y="2146320"/>
              <a:chExt cx="5667480" cy="2916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616040" y="21463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lect target custom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16040" y="2975040"/>
                <a:ext cx="5667480" cy="42840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eplan sales call and presentation(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16040" y="380520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ke sales presen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16040" y="46339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ose s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127240" y="5464080"/>
              <a:ext cx="4645080" cy="673200"/>
              <a:chOff x="2127240" y="5464080"/>
              <a:chExt cx="4645080" cy="67320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7240" y="5464080"/>
                <a:ext cx="208260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estab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9360" y="546408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maint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16200000">
              <a:off x="7111080" y="3471120"/>
              <a:ext cx="1585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 in the Personal Sell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99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marketing activities other than advertising, personal selling and public relations, that stimulates sales and dealer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, immediate stimulation of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aimed at consumers, intermediaries or employ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free samples, coupon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7808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middl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808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ice 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motion allow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i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rchandising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1680" y="1720800"/>
            <a:ext cx="287316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consumers o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680" y="2330280"/>
            <a:ext cx="287316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isle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int-of-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nne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rea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ing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980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compan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own sales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4980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n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8088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es Promo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44480" y="3429000"/>
            <a:ext cx="585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5120" y="165240"/>
            <a:ext cx="56948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1212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6424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1636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848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060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1359000"/>
            <a:ext cx="15112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6360" y="5187960"/>
            <a:ext cx="1511280" cy="7491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60440" y="1854360"/>
            <a:ext cx="4863960" cy="372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8640" y="1949760"/>
            <a:ext cx="4786920" cy="360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21680" y="1722600"/>
            <a:ext cx="322488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17600" y="1722600"/>
            <a:ext cx="322596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6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61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2420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820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256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52800" y="30672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0320" y="36846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21640" y="36734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1476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12076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74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Marketing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ly communication from each promotional element ought to be integ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ssage reaching the consumer must be consistent irrespective of the medium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rrangements must ensure I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ility of the marketing communications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3320" y="165240"/>
            <a:ext cx="59662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and Tasks of Pr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024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fdf0db"/>
              </a:gs>
              <a:gs pos="100000">
                <a:srgbClr val="fde3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0068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c4f8f3"/>
              </a:gs>
              <a:gs pos="100000">
                <a:srgbClr val="8cf4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29080" y="2714760"/>
            <a:ext cx="3886200" cy="3543120"/>
          </a:xfrm>
          <a:prstGeom prst="ellipse">
            <a:avLst/>
          </a:pr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u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7240" y="2819520"/>
            <a:ext cx="74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3600" y="2362320"/>
            <a:ext cx="2476800" cy="2133360"/>
          </a:xfrm>
          <a:prstGeom prst="ellipse">
            <a:avLst/>
          </a:prstGeom>
          <a:gradFill rotWithShape="0">
            <a:gsLst>
              <a:gs pos="0">
                <a:srgbClr val="fcfddb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56080" y="1981080"/>
            <a:ext cx="779760" cy="1001880"/>
            <a:chOff x="5356080" y="1981080"/>
            <a:chExt cx="779760" cy="1001880"/>
          </a:xfrm>
        </p:grpSpPr>
        <p:sp>
          <p:nvSpPr>
            <p:cNvPr id="424" name=""/>
            <p:cNvSpPr/>
            <p:nvPr/>
          </p:nvSpPr>
          <p:spPr>
            <a:xfrm>
              <a:off x="5626080" y="1982880"/>
              <a:ext cx="507960" cy="57456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319" y="0"/>
                  </a:moveTo>
                  <a:lnTo>
                    <a:pt x="296" y="0"/>
                  </a:lnTo>
                  <a:lnTo>
                    <a:pt x="289" y="26"/>
                  </a:lnTo>
                  <a:lnTo>
                    <a:pt x="282" y="49"/>
                  </a:lnTo>
                  <a:lnTo>
                    <a:pt x="271" y="72"/>
                  </a:lnTo>
                  <a:lnTo>
                    <a:pt x="262" y="94"/>
                  </a:lnTo>
                  <a:lnTo>
                    <a:pt x="253" y="113"/>
                  </a:lnTo>
                  <a:lnTo>
                    <a:pt x="243" y="129"/>
                  </a:lnTo>
                  <a:lnTo>
                    <a:pt x="235" y="144"/>
                  </a:lnTo>
                  <a:lnTo>
                    <a:pt x="223" y="160"/>
                  </a:lnTo>
                  <a:lnTo>
                    <a:pt x="212" y="175"/>
                  </a:lnTo>
                  <a:lnTo>
                    <a:pt x="195" y="192"/>
                  </a:lnTo>
                  <a:lnTo>
                    <a:pt x="181" y="206"/>
                  </a:lnTo>
                  <a:lnTo>
                    <a:pt x="167" y="220"/>
                  </a:lnTo>
                  <a:lnTo>
                    <a:pt x="151" y="232"/>
                  </a:lnTo>
                  <a:lnTo>
                    <a:pt x="133" y="248"/>
                  </a:lnTo>
                  <a:lnTo>
                    <a:pt x="111" y="266"/>
                  </a:lnTo>
                  <a:lnTo>
                    <a:pt x="94" y="275"/>
                  </a:lnTo>
                  <a:lnTo>
                    <a:pt x="77" y="285"/>
                  </a:lnTo>
                  <a:lnTo>
                    <a:pt x="62" y="296"/>
                  </a:lnTo>
                  <a:lnTo>
                    <a:pt x="45" y="305"/>
                  </a:lnTo>
                  <a:lnTo>
                    <a:pt x="21" y="316"/>
                  </a:lnTo>
                  <a:lnTo>
                    <a:pt x="0" y="323"/>
                  </a:lnTo>
                  <a:lnTo>
                    <a:pt x="6" y="361"/>
                  </a:lnTo>
                  <a:lnTo>
                    <a:pt x="41" y="349"/>
                  </a:lnTo>
                  <a:lnTo>
                    <a:pt x="77" y="330"/>
                  </a:lnTo>
                  <a:lnTo>
                    <a:pt x="108" y="311"/>
                  </a:lnTo>
                  <a:lnTo>
                    <a:pt x="142" y="285"/>
                  </a:lnTo>
                  <a:lnTo>
                    <a:pt x="189" y="252"/>
                  </a:lnTo>
                  <a:lnTo>
                    <a:pt x="229" y="215"/>
                  </a:lnTo>
                  <a:lnTo>
                    <a:pt x="262" y="174"/>
                  </a:lnTo>
                  <a:lnTo>
                    <a:pt x="283" y="139"/>
                  </a:lnTo>
                  <a:lnTo>
                    <a:pt x="304" y="95"/>
                  </a:lnTo>
                  <a:lnTo>
                    <a:pt x="311" y="59"/>
                  </a:lnTo>
                  <a:lnTo>
                    <a:pt x="31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6080" y="2689200"/>
              <a:ext cx="358920" cy="29376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52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16"/>
                  </a:lnTo>
                  <a:lnTo>
                    <a:pt x="41" y="27"/>
                  </a:lnTo>
                  <a:lnTo>
                    <a:pt x="57" y="40"/>
                  </a:lnTo>
                  <a:lnTo>
                    <a:pt x="75" y="53"/>
                  </a:lnTo>
                  <a:lnTo>
                    <a:pt x="92" y="67"/>
                  </a:lnTo>
                  <a:lnTo>
                    <a:pt x="106" y="79"/>
                  </a:lnTo>
                  <a:lnTo>
                    <a:pt x="117" y="90"/>
                  </a:lnTo>
                  <a:lnTo>
                    <a:pt x="128" y="103"/>
                  </a:lnTo>
                  <a:lnTo>
                    <a:pt x="140" y="115"/>
                  </a:lnTo>
                  <a:lnTo>
                    <a:pt x="153" y="130"/>
                  </a:lnTo>
                  <a:lnTo>
                    <a:pt x="161" y="144"/>
                  </a:lnTo>
                  <a:lnTo>
                    <a:pt x="169" y="157"/>
                  </a:lnTo>
                  <a:lnTo>
                    <a:pt x="178" y="173"/>
                  </a:lnTo>
                  <a:lnTo>
                    <a:pt x="186" y="184"/>
                  </a:lnTo>
                  <a:lnTo>
                    <a:pt x="225" y="184"/>
                  </a:lnTo>
                  <a:lnTo>
                    <a:pt x="217" y="164"/>
                  </a:lnTo>
                  <a:lnTo>
                    <a:pt x="200" y="135"/>
                  </a:lnTo>
                  <a:lnTo>
                    <a:pt x="177" y="97"/>
                  </a:lnTo>
                  <a:lnTo>
                    <a:pt x="154" y="70"/>
                  </a:lnTo>
                  <a:lnTo>
                    <a:pt x="119" y="44"/>
                  </a:lnTo>
                  <a:lnTo>
                    <a:pt x="92" y="19"/>
                  </a:lnTo>
                  <a:lnTo>
                    <a:pt x="64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7880" y="2327400"/>
              <a:ext cx="217440" cy="35064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136" y="0"/>
                  </a:moveTo>
                  <a:lnTo>
                    <a:pt x="94" y="0"/>
                  </a:lnTo>
                  <a:lnTo>
                    <a:pt x="90" y="14"/>
                  </a:lnTo>
                  <a:lnTo>
                    <a:pt x="87" y="29"/>
                  </a:lnTo>
                  <a:lnTo>
                    <a:pt x="83" y="42"/>
                  </a:lnTo>
                  <a:lnTo>
                    <a:pt x="78" y="56"/>
                  </a:lnTo>
                  <a:lnTo>
                    <a:pt x="72" y="73"/>
                  </a:lnTo>
                  <a:lnTo>
                    <a:pt x="67" y="91"/>
                  </a:lnTo>
                  <a:lnTo>
                    <a:pt x="57" y="113"/>
                  </a:lnTo>
                  <a:lnTo>
                    <a:pt x="49" y="135"/>
                  </a:lnTo>
                  <a:lnTo>
                    <a:pt x="42" y="149"/>
                  </a:lnTo>
                  <a:lnTo>
                    <a:pt x="33" y="167"/>
                  </a:lnTo>
                  <a:lnTo>
                    <a:pt x="23" y="185"/>
                  </a:lnTo>
                  <a:lnTo>
                    <a:pt x="14" y="202"/>
                  </a:lnTo>
                  <a:lnTo>
                    <a:pt x="5" y="214"/>
                  </a:lnTo>
                  <a:lnTo>
                    <a:pt x="0" y="220"/>
                  </a:lnTo>
                  <a:lnTo>
                    <a:pt x="52" y="220"/>
                  </a:lnTo>
                  <a:lnTo>
                    <a:pt x="64" y="206"/>
                  </a:lnTo>
                  <a:lnTo>
                    <a:pt x="83" y="179"/>
                  </a:lnTo>
                  <a:lnTo>
                    <a:pt x="101" y="146"/>
                  </a:lnTo>
                  <a:lnTo>
                    <a:pt x="111" y="118"/>
                  </a:lnTo>
                  <a:lnTo>
                    <a:pt x="124" y="85"/>
                  </a:lnTo>
                  <a:lnTo>
                    <a:pt x="132" y="51"/>
                  </a:lnTo>
                  <a:lnTo>
                    <a:pt x="135" y="28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1981080"/>
              <a:ext cx="692280" cy="100188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432" y="0"/>
                  </a:moveTo>
                  <a:lnTo>
                    <a:pt x="435" y="35"/>
                  </a:lnTo>
                  <a:lnTo>
                    <a:pt x="435" y="52"/>
                  </a:lnTo>
                  <a:lnTo>
                    <a:pt x="435" y="72"/>
                  </a:lnTo>
                  <a:lnTo>
                    <a:pt x="434" y="92"/>
                  </a:lnTo>
                  <a:lnTo>
                    <a:pt x="432" y="112"/>
                  </a:lnTo>
                  <a:lnTo>
                    <a:pt x="429" y="131"/>
                  </a:lnTo>
                  <a:lnTo>
                    <a:pt x="425" y="148"/>
                  </a:lnTo>
                  <a:lnTo>
                    <a:pt x="419" y="167"/>
                  </a:lnTo>
                  <a:lnTo>
                    <a:pt x="412" y="190"/>
                  </a:lnTo>
                  <a:lnTo>
                    <a:pt x="403" y="211"/>
                  </a:lnTo>
                  <a:lnTo>
                    <a:pt x="393" y="230"/>
                  </a:lnTo>
                  <a:lnTo>
                    <a:pt x="383" y="252"/>
                  </a:lnTo>
                  <a:lnTo>
                    <a:pt x="370" y="273"/>
                  </a:lnTo>
                  <a:lnTo>
                    <a:pt x="357" y="293"/>
                  </a:lnTo>
                  <a:lnTo>
                    <a:pt x="345" y="310"/>
                  </a:lnTo>
                  <a:lnTo>
                    <a:pt x="332" y="330"/>
                  </a:lnTo>
                  <a:lnTo>
                    <a:pt x="321" y="347"/>
                  </a:lnTo>
                  <a:lnTo>
                    <a:pt x="306" y="365"/>
                  </a:lnTo>
                  <a:lnTo>
                    <a:pt x="292" y="384"/>
                  </a:lnTo>
                  <a:lnTo>
                    <a:pt x="275" y="402"/>
                  </a:lnTo>
                  <a:lnTo>
                    <a:pt x="261" y="417"/>
                  </a:lnTo>
                  <a:lnTo>
                    <a:pt x="242" y="435"/>
                  </a:lnTo>
                  <a:lnTo>
                    <a:pt x="225" y="451"/>
                  </a:lnTo>
                  <a:lnTo>
                    <a:pt x="206" y="466"/>
                  </a:lnTo>
                  <a:lnTo>
                    <a:pt x="187" y="479"/>
                  </a:lnTo>
                  <a:lnTo>
                    <a:pt x="171" y="489"/>
                  </a:lnTo>
                  <a:lnTo>
                    <a:pt x="153" y="496"/>
                  </a:lnTo>
                  <a:lnTo>
                    <a:pt x="177" y="630"/>
                  </a:lnTo>
                  <a:lnTo>
                    <a:pt x="165" y="611"/>
                  </a:lnTo>
                  <a:lnTo>
                    <a:pt x="152" y="590"/>
                  </a:lnTo>
                  <a:lnTo>
                    <a:pt x="142" y="572"/>
                  </a:lnTo>
                  <a:lnTo>
                    <a:pt x="132" y="559"/>
                  </a:lnTo>
                  <a:lnTo>
                    <a:pt x="122" y="545"/>
                  </a:lnTo>
                  <a:lnTo>
                    <a:pt x="113" y="533"/>
                  </a:lnTo>
                  <a:lnTo>
                    <a:pt x="103" y="523"/>
                  </a:lnTo>
                  <a:lnTo>
                    <a:pt x="91" y="512"/>
                  </a:lnTo>
                  <a:lnTo>
                    <a:pt x="78" y="500"/>
                  </a:lnTo>
                  <a:lnTo>
                    <a:pt x="62" y="487"/>
                  </a:lnTo>
                  <a:lnTo>
                    <a:pt x="47" y="475"/>
                  </a:lnTo>
                  <a:lnTo>
                    <a:pt x="32" y="464"/>
                  </a:lnTo>
                  <a:lnTo>
                    <a:pt x="14" y="451"/>
                  </a:lnTo>
                  <a:lnTo>
                    <a:pt x="0" y="441"/>
                  </a:lnTo>
                  <a:lnTo>
                    <a:pt x="6" y="431"/>
                  </a:lnTo>
                  <a:lnTo>
                    <a:pt x="14" y="420"/>
                  </a:lnTo>
                  <a:lnTo>
                    <a:pt x="22" y="409"/>
                  </a:lnTo>
                  <a:lnTo>
                    <a:pt x="29" y="396"/>
                  </a:lnTo>
                  <a:lnTo>
                    <a:pt x="36" y="383"/>
                  </a:lnTo>
                  <a:lnTo>
                    <a:pt x="43" y="370"/>
                  </a:lnTo>
                  <a:lnTo>
                    <a:pt x="47" y="358"/>
                  </a:lnTo>
                  <a:lnTo>
                    <a:pt x="53" y="345"/>
                  </a:lnTo>
                  <a:lnTo>
                    <a:pt x="57" y="331"/>
                  </a:lnTo>
                  <a:lnTo>
                    <a:pt x="62" y="316"/>
                  </a:lnTo>
                  <a:lnTo>
                    <a:pt x="68" y="303"/>
                  </a:lnTo>
                  <a:lnTo>
                    <a:pt x="73" y="290"/>
                  </a:lnTo>
                  <a:lnTo>
                    <a:pt x="75" y="276"/>
                  </a:lnTo>
                  <a:lnTo>
                    <a:pt x="79" y="262"/>
                  </a:lnTo>
                  <a:lnTo>
                    <a:pt x="83" y="250"/>
                  </a:lnTo>
                  <a:lnTo>
                    <a:pt x="88" y="235"/>
                  </a:lnTo>
                  <a:lnTo>
                    <a:pt x="91" y="214"/>
                  </a:lnTo>
                  <a:lnTo>
                    <a:pt x="123" y="353"/>
                  </a:lnTo>
                  <a:lnTo>
                    <a:pt x="149" y="343"/>
                  </a:lnTo>
                  <a:lnTo>
                    <a:pt x="168" y="333"/>
                  </a:lnTo>
                  <a:lnTo>
                    <a:pt x="204" y="313"/>
                  </a:lnTo>
                  <a:lnTo>
                    <a:pt x="219" y="302"/>
                  </a:lnTo>
                  <a:lnTo>
                    <a:pt x="235" y="290"/>
                  </a:lnTo>
                  <a:lnTo>
                    <a:pt x="262" y="269"/>
                  </a:lnTo>
                  <a:lnTo>
                    <a:pt x="278" y="257"/>
                  </a:lnTo>
                  <a:lnTo>
                    <a:pt x="297" y="242"/>
                  </a:lnTo>
                  <a:lnTo>
                    <a:pt x="312" y="228"/>
                  </a:lnTo>
                  <a:lnTo>
                    <a:pt x="323" y="216"/>
                  </a:lnTo>
                  <a:lnTo>
                    <a:pt x="336" y="205"/>
                  </a:lnTo>
                  <a:lnTo>
                    <a:pt x="348" y="191"/>
                  </a:lnTo>
                  <a:lnTo>
                    <a:pt x="361" y="176"/>
                  </a:lnTo>
                  <a:lnTo>
                    <a:pt x="370" y="162"/>
                  </a:lnTo>
                  <a:lnTo>
                    <a:pt x="382" y="147"/>
                  </a:lnTo>
                  <a:lnTo>
                    <a:pt x="391" y="129"/>
                  </a:lnTo>
                  <a:lnTo>
                    <a:pt x="399" y="112"/>
                  </a:lnTo>
                  <a:lnTo>
                    <a:pt x="405" y="92"/>
                  </a:lnTo>
                  <a:lnTo>
                    <a:pt x="412" y="73"/>
                  </a:lnTo>
                  <a:lnTo>
                    <a:pt x="418" y="55"/>
                  </a:lnTo>
                  <a:lnTo>
                    <a:pt x="422" y="34"/>
                  </a:lnTo>
                  <a:lnTo>
                    <a:pt x="43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27320" y="2076480"/>
            <a:ext cx="779400" cy="1001520"/>
            <a:chOff x="3127320" y="2076480"/>
            <a:chExt cx="779400" cy="1001520"/>
          </a:xfrm>
        </p:grpSpPr>
        <p:sp>
          <p:nvSpPr>
            <p:cNvPr id="429" name=""/>
            <p:cNvSpPr/>
            <p:nvPr/>
          </p:nvSpPr>
          <p:spPr>
            <a:xfrm>
              <a:off x="3129120" y="2077920"/>
              <a:ext cx="507960" cy="57492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0" y="0"/>
                  </a:moveTo>
                  <a:lnTo>
                    <a:pt x="23" y="0"/>
                  </a:lnTo>
                  <a:lnTo>
                    <a:pt x="30" y="26"/>
                  </a:lnTo>
                  <a:lnTo>
                    <a:pt x="37" y="49"/>
                  </a:lnTo>
                  <a:lnTo>
                    <a:pt x="48" y="72"/>
                  </a:lnTo>
                  <a:lnTo>
                    <a:pt x="57" y="94"/>
                  </a:lnTo>
                  <a:lnTo>
                    <a:pt x="66" y="113"/>
                  </a:lnTo>
                  <a:lnTo>
                    <a:pt x="76" y="129"/>
                  </a:lnTo>
                  <a:lnTo>
                    <a:pt x="84" y="144"/>
                  </a:lnTo>
                  <a:lnTo>
                    <a:pt x="96" y="160"/>
                  </a:lnTo>
                  <a:lnTo>
                    <a:pt x="107" y="175"/>
                  </a:lnTo>
                  <a:lnTo>
                    <a:pt x="124" y="192"/>
                  </a:lnTo>
                  <a:lnTo>
                    <a:pt x="138" y="206"/>
                  </a:lnTo>
                  <a:lnTo>
                    <a:pt x="152" y="220"/>
                  </a:lnTo>
                  <a:lnTo>
                    <a:pt x="168" y="232"/>
                  </a:lnTo>
                  <a:lnTo>
                    <a:pt x="186" y="248"/>
                  </a:lnTo>
                  <a:lnTo>
                    <a:pt x="208" y="266"/>
                  </a:lnTo>
                  <a:lnTo>
                    <a:pt x="225" y="275"/>
                  </a:lnTo>
                  <a:lnTo>
                    <a:pt x="242" y="285"/>
                  </a:lnTo>
                  <a:lnTo>
                    <a:pt x="257" y="296"/>
                  </a:lnTo>
                  <a:lnTo>
                    <a:pt x="274" y="305"/>
                  </a:lnTo>
                  <a:lnTo>
                    <a:pt x="298" y="316"/>
                  </a:lnTo>
                  <a:lnTo>
                    <a:pt x="319" y="323"/>
                  </a:lnTo>
                  <a:lnTo>
                    <a:pt x="313" y="361"/>
                  </a:lnTo>
                  <a:lnTo>
                    <a:pt x="278" y="349"/>
                  </a:lnTo>
                  <a:lnTo>
                    <a:pt x="242" y="330"/>
                  </a:lnTo>
                  <a:lnTo>
                    <a:pt x="211" y="311"/>
                  </a:lnTo>
                  <a:lnTo>
                    <a:pt x="177" y="285"/>
                  </a:lnTo>
                  <a:lnTo>
                    <a:pt x="130" y="252"/>
                  </a:lnTo>
                  <a:lnTo>
                    <a:pt x="90" y="215"/>
                  </a:lnTo>
                  <a:lnTo>
                    <a:pt x="57" y="174"/>
                  </a:lnTo>
                  <a:lnTo>
                    <a:pt x="36" y="139"/>
                  </a:lnTo>
                  <a:lnTo>
                    <a:pt x="15" y="95"/>
                  </a:lnTo>
                  <a:lnTo>
                    <a:pt x="8" y="5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8160" y="2784600"/>
              <a:ext cx="35856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173" y="0"/>
                  </a:moveTo>
                  <a:lnTo>
                    <a:pt x="225" y="0"/>
                  </a:lnTo>
                  <a:lnTo>
                    <a:pt x="211" y="7"/>
                  </a:lnTo>
                  <a:lnTo>
                    <a:pt x="198" y="16"/>
                  </a:lnTo>
                  <a:lnTo>
                    <a:pt x="184" y="27"/>
                  </a:lnTo>
                  <a:lnTo>
                    <a:pt x="168" y="40"/>
                  </a:lnTo>
                  <a:lnTo>
                    <a:pt x="150" y="53"/>
                  </a:lnTo>
                  <a:lnTo>
                    <a:pt x="133" y="67"/>
                  </a:lnTo>
                  <a:lnTo>
                    <a:pt x="119" y="79"/>
                  </a:lnTo>
                  <a:lnTo>
                    <a:pt x="108" y="90"/>
                  </a:lnTo>
                  <a:lnTo>
                    <a:pt x="97" y="103"/>
                  </a:lnTo>
                  <a:lnTo>
                    <a:pt x="85" y="115"/>
                  </a:lnTo>
                  <a:lnTo>
                    <a:pt x="72" y="130"/>
                  </a:lnTo>
                  <a:lnTo>
                    <a:pt x="64" y="144"/>
                  </a:lnTo>
                  <a:lnTo>
                    <a:pt x="56" y="157"/>
                  </a:lnTo>
                  <a:lnTo>
                    <a:pt x="47" y="173"/>
                  </a:lnTo>
                  <a:lnTo>
                    <a:pt x="39" y="184"/>
                  </a:lnTo>
                  <a:lnTo>
                    <a:pt x="0" y="184"/>
                  </a:lnTo>
                  <a:lnTo>
                    <a:pt x="8" y="164"/>
                  </a:lnTo>
                  <a:lnTo>
                    <a:pt x="25" y="135"/>
                  </a:lnTo>
                  <a:lnTo>
                    <a:pt x="48" y="97"/>
                  </a:lnTo>
                  <a:lnTo>
                    <a:pt x="71" y="70"/>
                  </a:lnTo>
                  <a:lnTo>
                    <a:pt x="106" y="44"/>
                  </a:lnTo>
                  <a:lnTo>
                    <a:pt x="133" y="19"/>
                  </a:lnTo>
                  <a:lnTo>
                    <a:pt x="161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17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7840" y="2422440"/>
              <a:ext cx="217440" cy="35100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0" y="0"/>
                  </a:moveTo>
                  <a:lnTo>
                    <a:pt x="42" y="0"/>
                  </a:lnTo>
                  <a:lnTo>
                    <a:pt x="46" y="14"/>
                  </a:lnTo>
                  <a:lnTo>
                    <a:pt x="49" y="29"/>
                  </a:lnTo>
                  <a:lnTo>
                    <a:pt x="53" y="42"/>
                  </a:lnTo>
                  <a:lnTo>
                    <a:pt x="58" y="56"/>
                  </a:lnTo>
                  <a:lnTo>
                    <a:pt x="64" y="73"/>
                  </a:lnTo>
                  <a:lnTo>
                    <a:pt x="69" y="91"/>
                  </a:lnTo>
                  <a:lnTo>
                    <a:pt x="79" y="113"/>
                  </a:lnTo>
                  <a:lnTo>
                    <a:pt x="87" y="135"/>
                  </a:lnTo>
                  <a:lnTo>
                    <a:pt x="94" y="149"/>
                  </a:lnTo>
                  <a:lnTo>
                    <a:pt x="103" y="167"/>
                  </a:lnTo>
                  <a:lnTo>
                    <a:pt x="113" y="185"/>
                  </a:lnTo>
                  <a:lnTo>
                    <a:pt x="122" y="202"/>
                  </a:lnTo>
                  <a:lnTo>
                    <a:pt x="131" y="214"/>
                  </a:lnTo>
                  <a:lnTo>
                    <a:pt x="136" y="220"/>
                  </a:lnTo>
                  <a:lnTo>
                    <a:pt x="84" y="220"/>
                  </a:lnTo>
                  <a:lnTo>
                    <a:pt x="72" y="206"/>
                  </a:lnTo>
                  <a:lnTo>
                    <a:pt x="53" y="179"/>
                  </a:lnTo>
                  <a:lnTo>
                    <a:pt x="35" y="146"/>
                  </a:lnTo>
                  <a:lnTo>
                    <a:pt x="25" y="118"/>
                  </a:lnTo>
                  <a:lnTo>
                    <a:pt x="12" y="85"/>
                  </a:lnTo>
                  <a:lnTo>
                    <a:pt x="4" y="51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7320" y="2076480"/>
              <a:ext cx="692280" cy="100152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3" y="0"/>
                  </a:moveTo>
                  <a:lnTo>
                    <a:pt x="0" y="35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3" y="112"/>
                  </a:lnTo>
                  <a:lnTo>
                    <a:pt x="6" y="131"/>
                  </a:lnTo>
                  <a:lnTo>
                    <a:pt x="10" y="148"/>
                  </a:lnTo>
                  <a:lnTo>
                    <a:pt x="16" y="167"/>
                  </a:lnTo>
                  <a:lnTo>
                    <a:pt x="23" y="190"/>
                  </a:lnTo>
                  <a:lnTo>
                    <a:pt x="32" y="211"/>
                  </a:lnTo>
                  <a:lnTo>
                    <a:pt x="42" y="230"/>
                  </a:lnTo>
                  <a:lnTo>
                    <a:pt x="52" y="252"/>
                  </a:lnTo>
                  <a:lnTo>
                    <a:pt x="65" y="273"/>
                  </a:lnTo>
                  <a:lnTo>
                    <a:pt x="78" y="293"/>
                  </a:lnTo>
                  <a:lnTo>
                    <a:pt x="90" y="310"/>
                  </a:lnTo>
                  <a:lnTo>
                    <a:pt x="103" y="330"/>
                  </a:lnTo>
                  <a:lnTo>
                    <a:pt x="114" y="347"/>
                  </a:lnTo>
                  <a:lnTo>
                    <a:pt x="129" y="365"/>
                  </a:lnTo>
                  <a:lnTo>
                    <a:pt x="143" y="384"/>
                  </a:lnTo>
                  <a:lnTo>
                    <a:pt x="160" y="402"/>
                  </a:lnTo>
                  <a:lnTo>
                    <a:pt x="174" y="417"/>
                  </a:lnTo>
                  <a:lnTo>
                    <a:pt x="193" y="435"/>
                  </a:lnTo>
                  <a:lnTo>
                    <a:pt x="210" y="451"/>
                  </a:lnTo>
                  <a:lnTo>
                    <a:pt x="229" y="466"/>
                  </a:lnTo>
                  <a:lnTo>
                    <a:pt x="248" y="479"/>
                  </a:lnTo>
                  <a:lnTo>
                    <a:pt x="264" y="489"/>
                  </a:lnTo>
                  <a:lnTo>
                    <a:pt x="282" y="496"/>
                  </a:lnTo>
                  <a:lnTo>
                    <a:pt x="258" y="630"/>
                  </a:lnTo>
                  <a:lnTo>
                    <a:pt x="270" y="611"/>
                  </a:lnTo>
                  <a:lnTo>
                    <a:pt x="283" y="590"/>
                  </a:lnTo>
                  <a:lnTo>
                    <a:pt x="293" y="572"/>
                  </a:lnTo>
                  <a:lnTo>
                    <a:pt x="303" y="559"/>
                  </a:lnTo>
                  <a:lnTo>
                    <a:pt x="313" y="545"/>
                  </a:lnTo>
                  <a:lnTo>
                    <a:pt x="322" y="533"/>
                  </a:lnTo>
                  <a:lnTo>
                    <a:pt x="332" y="523"/>
                  </a:lnTo>
                  <a:lnTo>
                    <a:pt x="344" y="512"/>
                  </a:lnTo>
                  <a:lnTo>
                    <a:pt x="357" y="500"/>
                  </a:lnTo>
                  <a:lnTo>
                    <a:pt x="373" y="487"/>
                  </a:lnTo>
                  <a:lnTo>
                    <a:pt x="388" y="475"/>
                  </a:lnTo>
                  <a:lnTo>
                    <a:pt x="403" y="464"/>
                  </a:lnTo>
                  <a:lnTo>
                    <a:pt x="421" y="451"/>
                  </a:lnTo>
                  <a:lnTo>
                    <a:pt x="435" y="441"/>
                  </a:lnTo>
                  <a:lnTo>
                    <a:pt x="429" y="431"/>
                  </a:lnTo>
                  <a:lnTo>
                    <a:pt x="421" y="420"/>
                  </a:lnTo>
                  <a:lnTo>
                    <a:pt x="413" y="409"/>
                  </a:lnTo>
                  <a:lnTo>
                    <a:pt x="406" y="396"/>
                  </a:lnTo>
                  <a:lnTo>
                    <a:pt x="399" y="383"/>
                  </a:lnTo>
                  <a:lnTo>
                    <a:pt x="392" y="370"/>
                  </a:lnTo>
                  <a:lnTo>
                    <a:pt x="388" y="358"/>
                  </a:lnTo>
                  <a:lnTo>
                    <a:pt x="382" y="345"/>
                  </a:lnTo>
                  <a:lnTo>
                    <a:pt x="378" y="331"/>
                  </a:lnTo>
                  <a:lnTo>
                    <a:pt x="373" y="316"/>
                  </a:lnTo>
                  <a:lnTo>
                    <a:pt x="367" y="303"/>
                  </a:lnTo>
                  <a:lnTo>
                    <a:pt x="362" y="290"/>
                  </a:lnTo>
                  <a:lnTo>
                    <a:pt x="360" y="276"/>
                  </a:lnTo>
                  <a:lnTo>
                    <a:pt x="356" y="262"/>
                  </a:lnTo>
                  <a:lnTo>
                    <a:pt x="352" y="250"/>
                  </a:lnTo>
                  <a:lnTo>
                    <a:pt x="347" y="235"/>
                  </a:lnTo>
                  <a:lnTo>
                    <a:pt x="344" y="214"/>
                  </a:lnTo>
                  <a:lnTo>
                    <a:pt x="312" y="353"/>
                  </a:lnTo>
                  <a:lnTo>
                    <a:pt x="286" y="343"/>
                  </a:lnTo>
                  <a:lnTo>
                    <a:pt x="267" y="333"/>
                  </a:lnTo>
                  <a:lnTo>
                    <a:pt x="231" y="313"/>
                  </a:lnTo>
                  <a:lnTo>
                    <a:pt x="216" y="302"/>
                  </a:lnTo>
                  <a:lnTo>
                    <a:pt x="200" y="290"/>
                  </a:lnTo>
                  <a:lnTo>
                    <a:pt x="173" y="269"/>
                  </a:lnTo>
                  <a:lnTo>
                    <a:pt x="157" y="257"/>
                  </a:lnTo>
                  <a:lnTo>
                    <a:pt x="138" y="242"/>
                  </a:lnTo>
                  <a:lnTo>
                    <a:pt x="123" y="228"/>
                  </a:lnTo>
                  <a:lnTo>
                    <a:pt x="112" y="216"/>
                  </a:lnTo>
                  <a:lnTo>
                    <a:pt x="99" y="205"/>
                  </a:lnTo>
                  <a:lnTo>
                    <a:pt x="87" y="191"/>
                  </a:lnTo>
                  <a:lnTo>
                    <a:pt x="74" y="176"/>
                  </a:lnTo>
                  <a:lnTo>
                    <a:pt x="65" y="162"/>
                  </a:lnTo>
                  <a:lnTo>
                    <a:pt x="53" y="147"/>
                  </a:lnTo>
                  <a:lnTo>
                    <a:pt x="44" y="129"/>
                  </a:lnTo>
                  <a:lnTo>
                    <a:pt x="36" y="112"/>
                  </a:lnTo>
                  <a:lnTo>
                    <a:pt x="30" y="92"/>
                  </a:lnTo>
                  <a:lnTo>
                    <a:pt x="23" y="73"/>
                  </a:lnTo>
                  <a:lnTo>
                    <a:pt x="17" y="55"/>
                  </a:lnTo>
                  <a:lnTo>
                    <a:pt x="13" y="34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167360" y="4178160"/>
            <a:ext cx="812520" cy="971640"/>
            <a:chOff x="4167360" y="4178160"/>
            <a:chExt cx="812520" cy="971640"/>
          </a:xfrm>
        </p:grpSpPr>
        <p:sp>
          <p:nvSpPr>
            <p:cNvPr id="434" name=""/>
            <p:cNvSpPr/>
            <p:nvPr/>
          </p:nvSpPr>
          <p:spPr>
            <a:xfrm>
              <a:off x="4167360" y="4486320"/>
              <a:ext cx="382320" cy="663480"/>
            </a:xfrm>
            <a:custGeom>
              <a:avLst/>
              <a:gdLst/>
              <a:ahLst/>
              <a:rect l="l" t="t" r="r" b="b"/>
              <a:pathLst>
                <a:path w="241" h="418">
                  <a:moveTo>
                    <a:pt x="7" y="417"/>
                  </a:moveTo>
                  <a:lnTo>
                    <a:pt x="0" y="396"/>
                  </a:lnTo>
                  <a:lnTo>
                    <a:pt x="21" y="380"/>
                  </a:lnTo>
                  <a:lnTo>
                    <a:pt x="41" y="367"/>
                  </a:lnTo>
                  <a:lnTo>
                    <a:pt x="59" y="348"/>
                  </a:lnTo>
                  <a:lnTo>
                    <a:pt x="76" y="332"/>
                  </a:lnTo>
                  <a:lnTo>
                    <a:pt x="91" y="317"/>
                  </a:lnTo>
                  <a:lnTo>
                    <a:pt x="102" y="302"/>
                  </a:lnTo>
                  <a:lnTo>
                    <a:pt x="114" y="289"/>
                  </a:lnTo>
                  <a:lnTo>
                    <a:pt x="125" y="273"/>
                  </a:lnTo>
                  <a:lnTo>
                    <a:pt x="135" y="258"/>
                  </a:lnTo>
                  <a:lnTo>
                    <a:pt x="145" y="236"/>
                  </a:lnTo>
                  <a:lnTo>
                    <a:pt x="154" y="218"/>
                  </a:lnTo>
                  <a:lnTo>
                    <a:pt x="162" y="199"/>
                  </a:lnTo>
                  <a:lnTo>
                    <a:pt x="168" y="180"/>
                  </a:lnTo>
                  <a:lnTo>
                    <a:pt x="177" y="159"/>
                  </a:lnTo>
                  <a:lnTo>
                    <a:pt x="186" y="131"/>
                  </a:lnTo>
                  <a:lnTo>
                    <a:pt x="188" y="112"/>
                  </a:lnTo>
                  <a:lnTo>
                    <a:pt x="193" y="93"/>
                  </a:lnTo>
                  <a:lnTo>
                    <a:pt x="198" y="75"/>
                  </a:lnTo>
                  <a:lnTo>
                    <a:pt x="201" y="56"/>
                  </a:lnTo>
                  <a:lnTo>
                    <a:pt x="203" y="29"/>
                  </a:lnTo>
                  <a:lnTo>
                    <a:pt x="201" y="8"/>
                  </a:lnTo>
                  <a:lnTo>
                    <a:pt x="239" y="0"/>
                  </a:lnTo>
                  <a:lnTo>
                    <a:pt x="240" y="37"/>
                  </a:lnTo>
                  <a:lnTo>
                    <a:pt x="235" y="78"/>
                  </a:lnTo>
                  <a:lnTo>
                    <a:pt x="227" y="113"/>
                  </a:lnTo>
                  <a:lnTo>
                    <a:pt x="215" y="154"/>
                  </a:lnTo>
                  <a:lnTo>
                    <a:pt x="200" y="209"/>
                  </a:lnTo>
                  <a:lnTo>
                    <a:pt x="179" y="260"/>
                  </a:lnTo>
                  <a:lnTo>
                    <a:pt x="151" y="305"/>
                  </a:lnTo>
                  <a:lnTo>
                    <a:pt x="126" y="336"/>
                  </a:lnTo>
                  <a:lnTo>
                    <a:pt x="91" y="371"/>
                  </a:lnTo>
                  <a:lnTo>
                    <a:pt x="60" y="390"/>
                  </a:lnTo>
                  <a:lnTo>
                    <a:pt x="7" y="4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680" y="4178160"/>
              <a:ext cx="398520" cy="236520"/>
            </a:xfrm>
            <a:custGeom>
              <a:avLst/>
              <a:gdLst/>
              <a:ahLst/>
              <a:rect l="l" t="t" r="r" b="b"/>
              <a:pathLst>
                <a:path w="251" h="149">
                  <a:moveTo>
                    <a:pt x="18" y="49"/>
                  </a:moveTo>
                  <a:lnTo>
                    <a:pt x="0" y="0"/>
                  </a:lnTo>
                  <a:lnTo>
                    <a:pt x="12" y="11"/>
                  </a:lnTo>
                  <a:lnTo>
                    <a:pt x="24" y="20"/>
                  </a:lnTo>
                  <a:lnTo>
                    <a:pt x="39" y="29"/>
                  </a:lnTo>
                  <a:lnTo>
                    <a:pt x="58" y="40"/>
                  </a:lnTo>
                  <a:lnTo>
                    <a:pt x="76" y="52"/>
                  </a:lnTo>
                  <a:lnTo>
                    <a:pt x="95" y="63"/>
                  </a:lnTo>
                  <a:lnTo>
                    <a:pt x="110" y="72"/>
                  </a:lnTo>
                  <a:lnTo>
                    <a:pt x="125" y="79"/>
                  </a:lnTo>
                  <a:lnTo>
                    <a:pt x="141" y="85"/>
                  </a:lnTo>
                  <a:lnTo>
                    <a:pt x="156" y="92"/>
                  </a:lnTo>
                  <a:lnTo>
                    <a:pt x="175" y="100"/>
                  </a:lnTo>
                  <a:lnTo>
                    <a:pt x="190" y="102"/>
                  </a:lnTo>
                  <a:lnTo>
                    <a:pt x="206" y="106"/>
                  </a:lnTo>
                  <a:lnTo>
                    <a:pt x="224" y="108"/>
                  </a:lnTo>
                  <a:lnTo>
                    <a:pt x="237" y="112"/>
                  </a:lnTo>
                  <a:lnTo>
                    <a:pt x="250" y="148"/>
                  </a:lnTo>
                  <a:lnTo>
                    <a:pt x="228" y="148"/>
                  </a:lnTo>
                  <a:lnTo>
                    <a:pt x="196" y="142"/>
                  </a:lnTo>
                  <a:lnTo>
                    <a:pt x="152" y="133"/>
                  </a:lnTo>
                  <a:lnTo>
                    <a:pt x="119" y="120"/>
                  </a:lnTo>
                  <a:lnTo>
                    <a:pt x="82" y="97"/>
                  </a:lnTo>
                  <a:lnTo>
                    <a:pt x="50" y="80"/>
                  </a:lnTo>
                  <a:lnTo>
                    <a:pt x="22" y="6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8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9400" y="4184640"/>
              <a:ext cx="306360" cy="32400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14" y="203"/>
                  </a:moveTo>
                  <a:lnTo>
                    <a:pt x="0" y="163"/>
                  </a:lnTo>
                  <a:lnTo>
                    <a:pt x="11" y="154"/>
                  </a:lnTo>
                  <a:lnTo>
                    <a:pt x="24" y="146"/>
                  </a:lnTo>
                  <a:lnTo>
                    <a:pt x="35" y="139"/>
                  </a:lnTo>
                  <a:lnTo>
                    <a:pt x="46" y="129"/>
                  </a:lnTo>
                  <a:lnTo>
                    <a:pt x="60" y="117"/>
                  </a:lnTo>
                  <a:lnTo>
                    <a:pt x="75" y="107"/>
                  </a:lnTo>
                  <a:lnTo>
                    <a:pt x="93" y="90"/>
                  </a:lnTo>
                  <a:lnTo>
                    <a:pt x="111" y="75"/>
                  </a:lnTo>
                  <a:lnTo>
                    <a:pt x="122" y="63"/>
                  </a:lnTo>
                  <a:lnTo>
                    <a:pt x="136" y="49"/>
                  </a:lnTo>
                  <a:lnTo>
                    <a:pt x="149" y="33"/>
                  </a:lnTo>
                  <a:lnTo>
                    <a:pt x="162" y="19"/>
                  </a:lnTo>
                  <a:lnTo>
                    <a:pt x="170" y="6"/>
                  </a:lnTo>
                  <a:lnTo>
                    <a:pt x="175" y="0"/>
                  </a:lnTo>
                  <a:lnTo>
                    <a:pt x="192" y="49"/>
                  </a:lnTo>
                  <a:lnTo>
                    <a:pt x="182" y="65"/>
                  </a:lnTo>
                  <a:lnTo>
                    <a:pt x="164" y="92"/>
                  </a:lnTo>
                  <a:lnTo>
                    <a:pt x="139" y="120"/>
                  </a:lnTo>
                  <a:lnTo>
                    <a:pt x="117" y="139"/>
                  </a:lnTo>
                  <a:lnTo>
                    <a:pt x="90" y="162"/>
                  </a:lnTo>
                  <a:lnTo>
                    <a:pt x="61" y="182"/>
                  </a:lnTo>
                  <a:lnTo>
                    <a:pt x="40" y="193"/>
                  </a:lnTo>
                  <a:lnTo>
                    <a:pt x="14" y="20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6720" y="4262400"/>
              <a:ext cx="803160" cy="885960"/>
            </a:xfrm>
            <a:custGeom>
              <a:avLst/>
              <a:gdLst/>
              <a:ahLst/>
              <a:rect l="l" t="t" r="r" b="b"/>
              <a:pathLst>
                <a:path w="506" h="558">
                  <a:moveTo>
                    <a:pt x="0" y="557"/>
                  </a:moveTo>
                  <a:lnTo>
                    <a:pt x="34" y="548"/>
                  </a:lnTo>
                  <a:lnTo>
                    <a:pt x="50" y="542"/>
                  </a:lnTo>
                  <a:lnTo>
                    <a:pt x="69" y="535"/>
                  </a:lnTo>
                  <a:lnTo>
                    <a:pt x="86" y="527"/>
                  </a:lnTo>
                  <a:lnTo>
                    <a:pt x="105" y="518"/>
                  </a:lnTo>
                  <a:lnTo>
                    <a:pt x="122" y="510"/>
                  </a:lnTo>
                  <a:lnTo>
                    <a:pt x="136" y="500"/>
                  </a:lnTo>
                  <a:lnTo>
                    <a:pt x="152" y="488"/>
                  </a:lnTo>
                  <a:lnTo>
                    <a:pt x="172" y="474"/>
                  </a:lnTo>
                  <a:lnTo>
                    <a:pt x="188" y="458"/>
                  </a:lnTo>
                  <a:lnTo>
                    <a:pt x="202" y="442"/>
                  </a:lnTo>
                  <a:lnTo>
                    <a:pt x="220" y="425"/>
                  </a:lnTo>
                  <a:lnTo>
                    <a:pt x="236" y="405"/>
                  </a:lnTo>
                  <a:lnTo>
                    <a:pt x="249" y="387"/>
                  </a:lnTo>
                  <a:lnTo>
                    <a:pt x="261" y="370"/>
                  </a:lnTo>
                  <a:lnTo>
                    <a:pt x="276" y="350"/>
                  </a:lnTo>
                  <a:lnTo>
                    <a:pt x="288" y="334"/>
                  </a:lnTo>
                  <a:lnTo>
                    <a:pt x="300" y="314"/>
                  </a:lnTo>
                  <a:lnTo>
                    <a:pt x="313" y="294"/>
                  </a:lnTo>
                  <a:lnTo>
                    <a:pt x="324" y="272"/>
                  </a:lnTo>
                  <a:lnTo>
                    <a:pt x="333" y="254"/>
                  </a:lnTo>
                  <a:lnTo>
                    <a:pt x="344" y="230"/>
                  </a:lnTo>
                  <a:lnTo>
                    <a:pt x="353" y="208"/>
                  </a:lnTo>
                  <a:lnTo>
                    <a:pt x="360" y="185"/>
                  </a:lnTo>
                  <a:lnTo>
                    <a:pt x="366" y="163"/>
                  </a:lnTo>
                  <a:lnTo>
                    <a:pt x="371" y="144"/>
                  </a:lnTo>
                  <a:lnTo>
                    <a:pt x="370" y="125"/>
                  </a:lnTo>
                  <a:lnTo>
                    <a:pt x="505" y="102"/>
                  </a:lnTo>
                  <a:lnTo>
                    <a:pt x="482" y="98"/>
                  </a:lnTo>
                  <a:lnTo>
                    <a:pt x="458" y="92"/>
                  </a:lnTo>
                  <a:lnTo>
                    <a:pt x="438" y="89"/>
                  </a:lnTo>
                  <a:lnTo>
                    <a:pt x="422" y="84"/>
                  </a:lnTo>
                  <a:lnTo>
                    <a:pt x="406" y="79"/>
                  </a:lnTo>
                  <a:lnTo>
                    <a:pt x="392" y="75"/>
                  </a:lnTo>
                  <a:lnTo>
                    <a:pt x="378" y="69"/>
                  </a:lnTo>
                  <a:lnTo>
                    <a:pt x="364" y="62"/>
                  </a:lnTo>
                  <a:lnTo>
                    <a:pt x="349" y="54"/>
                  </a:lnTo>
                  <a:lnTo>
                    <a:pt x="331" y="43"/>
                  </a:lnTo>
                  <a:lnTo>
                    <a:pt x="314" y="33"/>
                  </a:lnTo>
                  <a:lnTo>
                    <a:pt x="299" y="23"/>
                  </a:lnTo>
                  <a:lnTo>
                    <a:pt x="281" y="10"/>
                  </a:lnTo>
                  <a:lnTo>
                    <a:pt x="266" y="0"/>
                  </a:lnTo>
                  <a:lnTo>
                    <a:pt x="259" y="9"/>
                  </a:lnTo>
                  <a:lnTo>
                    <a:pt x="252" y="21"/>
                  </a:lnTo>
                  <a:lnTo>
                    <a:pt x="244" y="32"/>
                  </a:lnTo>
                  <a:lnTo>
                    <a:pt x="234" y="43"/>
                  </a:lnTo>
                  <a:lnTo>
                    <a:pt x="224" y="54"/>
                  </a:lnTo>
                  <a:lnTo>
                    <a:pt x="215" y="65"/>
                  </a:lnTo>
                  <a:lnTo>
                    <a:pt x="204" y="73"/>
                  </a:lnTo>
                  <a:lnTo>
                    <a:pt x="194" y="83"/>
                  </a:lnTo>
                  <a:lnTo>
                    <a:pt x="183" y="92"/>
                  </a:lnTo>
                  <a:lnTo>
                    <a:pt x="170" y="102"/>
                  </a:lnTo>
                  <a:lnTo>
                    <a:pt x="160" y="111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6"/>
                  </a:lnTo>
                  <a:lnTo>
                    <a:pt x="115" y="143"/>
                  </a:lnTo>
                  <a:lnTo>
                    <a:pt x="103" y="153"/>
                  </a:lnTo>
                  <a:lnTo>
                    <a:pt x="84" y="164"/>
                  </a:lnTo>
                  <a:lnTo>
                    <a:pt x="226" y="146"/>
                  </a:lnTo>
                  <a:lnTo>
                    <a:pt x="225" y="173"/>
                  </a:lnTo>
                  <a:lnTo>
                    <a:pt x="222" y="195"/>
                  </a:lnTo>
                  <a:lnTo>
                    <a:pt x="216" y="236"/>
                  </a:lnTo>
                  <a:lnTo>
                    <a:pt x="211" y="253"/>
                  </a:lnTo>
                  <a:lnTo>
                    <a:pt x="205" y="273"/>
                  </a:lnTo>
                  <a:lnTo>
                    <a:pt x="195" y="306"/>
                  </a:lnTo>
                  <a:lnTo>
                    <a:pt x="188" y="325"/>
                  </a:lnTo>
                  <a:lnTo>
                    <a:pt x="181" y="348"/>
                  </a:lnTo>
                  <a:lnTo>
                    <a:pt x="173" y="367"/>
                  </a:lnTo>
                  <a:lnTo>
                    <a:pt x="165" y="381"/>
                  </a:lnTo>
                  <a:lnTo>
                    <a:pt x="160" y="397"/>
                  </a:lnTo>
                  <a:lnTo>
                    <a:pt x="150" y="412"/>
                  </a:lnTo>
                  <a:lnTo>
                    <a:pt x="140" y="431"/>
                  </a:lnTo>
                  <a:lnTo>
                    <a:pt x="131" y="443"/>
                  </a:lnTo>
                  <a:lnTo>
                    <a:pt x="121" y="459"/>
                  </a:lnTo>
                  <a:lnTo>
                    <a:pt x="107" y="475"/>
                  </a:lnTo>
                  <a:lnTo>
                    <a:pt x="93" y="487"/>
                  </a:lnTo>
                  <a:lnTo>
                    <a:pt x="77" y="500"/>
                  </a:lnTo>
                  <a:lnTo>
                    <a:pt x="62" y="514"/>
                  </a:lnTo>
                  <a:lnTo>
                    <a:pt x="47" y="525"/>
                  </a:lnTo>
                  <a:lnTo>
                    <a:pt x="28" y="536"/>
                  </a:lnTo>
                  <a:lnTo>
                    <a:pt x="0" y="55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24606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on is communication with actual and potential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 convince target market of the product’s differential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CESSARY PREREQUISIT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ught be guided by a promotional strategy: a plan for the optimal use of the promotional m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5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DA and the Hierarchy of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857840"/>
            <a:ext cx="1619280" cy="933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86040" y="4172040"/>
            <a:ext cx="1066680" cy="1619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52720" y="3276720"/>
            <a:ext cx="110484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590920"/>
            <a:ext cx="1104840" cy="3200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62400" y="1733400"/>
            <a:ext cx="1105200" cy="4057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67600" y="1276200"/>
            <a:ext cx="2000160" cy="451512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54259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7480" y="5425920"/>
            <a:ext cx="110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95880" y="5425920"/>
            <a:ext cx="96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0320" y="5425920"/>
            <a:ext cx="9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8280" y="449568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85080" y="3808440"/>
            <a:ext cx="140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4160" y="2913120"/>
            <a:ext cx="85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6000" y="2246400"/>
            <a:ext cx="13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0520" y="1370160"/>
            <a:ext cx="136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72600" y="988920"/>
            <a:ext cx="120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54280" y="57927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72080" y="579276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8480" y="5792760"/>
            <a:ext cx="125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16160" y="59626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73480" y="59626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8360" y="209520"/>
            <a:ext cx="7866000" cy="465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lements of Promotion Are Most Use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98440" y="944640"/>
            <a:ext cx="8547120" cy="5435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4027320"/>
            <a:ext cx="18144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32320" y="1557360"/>
            <a:ext cx="129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40600" y="2151000"/>
            <a:ext cx="103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23680" y="2897280"/>
            <a:ext cx="1181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34120" y="3665520"/>
            <a:ext cx="102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68200" y="5737320"/>
            <a:ext cx="139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71800" y="5091120"/>
            <a:ext cx="149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4600" y="5413320"/>
            <a:ext cx="207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a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3960" y="435456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2160" y="4354560"/>
            <a:ext cx="112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62080" y="4354560"/>
            <a:ext cx="7056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7560" y="4354560"/>
            <a:ext cx="1103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9000" y="4354560"/>
            <a:ext cx="110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-16560" y="2616840"/>
            <a:ext cx="148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73400" y="4354560"/>
            <a:ext cx="983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446200" y="933480"/>
            <a:ext cx="4569120" cy="579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7331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Affect the Promotion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46920" y="5913360"/>
            <a:ext cx="2670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–and–Pull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4320" y="990720"/>
            <a:ext cx="225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e of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1600" y="1927080"/>
            <a:ext cx="21502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in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44400" y="2895480"/>
            <a:ext cx="3031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Marke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54840" y="3875040"/>
            <a:ext cx="254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of Buying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59160" y="4923000"/>
            <a:ext cx="1734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4200" y="4941720"/>
            <a:ext cx="1198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$ $ 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0" y="158760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1926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 Promotion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11360" y="5511960"/>
            <a:ext cx="4121280" cy="8632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Promotio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11360" y="4368960"/>
            <a:ext cx="4121280" cy="86328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Promoti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1360" y="3225960"/>
            <a:ext cx="4121280" cy="863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Promotion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1360" y="2082960"/>
            <a:ext cx="4121280" cy="863280"/>
          </a:xfrm>
          <a:prstGeom prst="rect">
            <a:avLst/>
          </a:prstGeom>
          <a:solidFill>
            <a:srgbClr val="ec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arge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1360" y="939960"/>
            <a:ext cx="4121280" cy="863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the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44920" y="2006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44920" y="3092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44920" y="4292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5378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8360" y="187200"/>
            <a:ext cx="7485120" cy="4953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iteria for Setting Promotion Obj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241720" y="1263600"/>
            <a:ext cx="4752720" cy="5114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073240" y="4754520"/>
            <a:ext cx="1814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3080" y="1461960"/>
            <a:ext cx="375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 objectiv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53600" y="2585880"/>
            <a:ext cx="28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easurable,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33040" y="3578400"/>
            <a:ext cx="4122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based on sound research,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-defined target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75040" y="4826160"/>
            <a:ext cx="137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7080" y="5816520"/>
            <a:ext cx="4590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force the overall marketing pla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 to specific marketing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7928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romotion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58720" y="1073160"/>
            <a:ext cx="7831080" cy="5227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801720" y="5025960"/>
            <a:ext cx="7210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nder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ind consumers that Black Cat peanut butter is the creamiest peanut butter and is available at their nearest grocery and convenience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22240" y="1370160"/>
            <a:ext cx="7134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ve (Awareness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top-of-mind awareness level for Black Cat peanut butter from 16 percent to 24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6920" y="3179880"/>
            <a:ext cx="71852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uasion (Attitudinal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percentage of parents who feel that Black Cat peanut butter is the best peanut butter for their children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percent to 35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455920" y="2009880"/>
            <a:ext cx="4232160" cy="37861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240" y="187200"/>
            <a:ext cx="7863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ques for Setting Promotion Budg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6480" y="2200320"/>
            <a:ext cx="364536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- You - Can - A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an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3867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of the Promotional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6960" y="15429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8480" y="1111320"/>
            <a:ext cx="4120920" cy="10540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8480" y="14349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8480" y="2444760"/>
            <a:ext cx="4120920" cy="10540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8480" y="3778200"/>
            <a:ext cx="4120920" cy="1054080"/>
          </a:xfrm>
          <a:prstGeom prst="rect">
            <a:avLst/>
          </a:prstGeom>
          <a:solidFill>
            <a:srgbClr val="ff6d6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8480" y="5111640"/>
            <a:ext cx="4120920" cy="10540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8480" y="28065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8480" y="41781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8480" y="5511960"/>
            <a:ext cx="2538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3364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86712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419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ffects (outcomes) of Advert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 influe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umers’ behavi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tions of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417816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8400" y="1217520"/>
            <a:ext cx="2701800" cy="2212920"/>
          </a:xfrm>
          <a:custGeom>
            <a:avLst/>
            <a:gdLst/>
            <a:ahLst/>
            <a:rect l="l" t="t" r="r" b="b"/>
            <a:pathLst>
              <a:path w="1702" h="1679">
                <a:moveTo>
                  <a:pt x="0" y="0"/>
                </a:moveTo>
                <a:lnTo>
                  <a:pt x="0" y="1678"/>
                </a:lnTo>
                <a:lnTo>
                  <a:pt x="1701" y="16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81000" y="2315880"/>
            <a:ext cx="0" cy="10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25520" y="3633840"/>
            <a:ext cx="12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34005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80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4840" y="34941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3560" y="1427040"/>
            <a:ext cx="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92440" y="1554120"/>
            <a:ext cx="861840" cy="10317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0200" y="1397160"/>
            <a:ext cx="6346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5920" y="27097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0800" y="24559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3863880"/>
            <a:ext cx="349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in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440" y="4648320"/>
            <a:ext cx="352404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otion efforts may be targeted to make demand for the firm’s products more inelastic and so more resistant to counter-moves by the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762120"/>
            <a:ext cx="395460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52960" y="1209600"/>
            <a:ext cx="2306880" cy="186696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4080" y="2138040"/>
            <a:ext cx="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7840" y="3249720"/>
            <a:ext cx="10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9080" y="3051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96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1320" y="31305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97320" y="27576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54280" y="2075040"/>
            <a:ext cx="862200" cy="6681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68720" y="182196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83240" y="213192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30920" y="240048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7160" y="2519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390996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4648320"/>
            <a:ext cx="365760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increase the  demand for the firm’s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890640"/>
            <a:ext cx="3911400" cy="2843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2360" y="1165320"/>
            <a:ext cx="2306520" cy="145260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03480" y="188748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2751120"/>
            <a:ext cx="10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25988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7000" y="113652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10720" y="26589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09200" y="1752480"/>
            <a:ext cx="862200" cy="51912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180880" y="1347480"/>
            <a:ext cx="500040" cy="70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721520" y="1389240"/>
            <a:ext cx="11012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800000">
            <a:off x="2122560" y="1734120"/>
            <a:ext cx="78012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3520" y="22827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9000" y="20480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3174840"/>
            <a:ext cx="3286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.  Both to the right and more in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3389040" cy="17524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both increase  demand for the firm’s products and to make demand more  inelas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956040"/>
            <a:ext cx="8424720" cy="2673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450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2560" y="5624640"/>
            <a:ext cx="10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1440" y="54910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292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60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52959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4262400"/>
            <a:ext cx="218304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414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62464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0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88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424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6588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5240" y="5624640"/>
            <a:ext cx="10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088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0" y="42354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7016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1760" y="440640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812960" y="4491000"/>
            <a:ext cx="814320" cy="69048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84240" y="4386240"/>
            <a:ext cx="60012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5920" y="526248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9760" y="509580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137120" y="4839840"/>
            <a:ext cx="815760" cy="4460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624560" y="4671720"/>
            <a:ext cx="815760" cy="4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751800" y="4765680"/>
            <a:ext cx="815760" cy="4478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91440" y="4417920"/>
            <a:ext cx="473040" cy="60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800000">
            <a:off x="6855480" y="4442400"/>
            <a:ext cx="104076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00000">
            <a:off x="7232760" y="4741200"/>
            <a:ext cx="7390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4560" y="487836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505764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8280" y="51372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27520" y="52214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7520" y="5021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84600" y="6027840"/>
            <a:ext cx="254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040" y="6027840"/>
            <a:ext cx="287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9200" y="6026040"/>
            <a:ext cx="263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C.  Both to the right and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4400" y="165240"/>
            <a:ext cx="5310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8880" y="132084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68880" y="244476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ocacy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784520" y="344808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70120" y="2209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8880" y="254016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46353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1542960"/>
            <a:ext cx="363600" cy="1144800"/>
          </a:xfrm>
          <a:custGeom>
            <a:avLst/>
            <a:gdLst/>
            <a:ahLst/>
            <a:rect l="l" t="t" r="r" b="b"/>
            <a:pathLst>
              <a:path w="229" h="721">
                <a:moveTo>
                  <a:pt x="228" y="0"/>
                </a:moveTo>
                <a:lnTo>
                  <a:pt x="0" y="0"/>
                </a:lnTo>
                <a:lnTo>
                  <a:pt x="0" y="720"/>
                </a:lnTo>
                <a:lnTo>
                  <a:pt x="221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4349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784680"/>
            <a:ext cx="346104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475632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8880" y="563256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82720" y="5010120"/>
            <a:ext cx="685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87972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68880" y="57276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398772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880" y="48704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87520" y="4883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20638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654048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stablish, change or maintain the firm’s identity - not an attempt to sell any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oneering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demand for a new product: primary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increase sales: brand insis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ly or indirectly compares two br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34880" y="954000"/>
            <a:ext cx="8436240" cy="5378400"/>
            <a:chOff x="434880" y="954000"/>
            <a:chExt cx="8436240" cy="5378400"/>
          </a:xfrm>
        </p:grpSpPr>
        <p:grpSp>
          <p:nvGrpSpPr>
            <p:cNvPr id="181" name=""/>
            <p:cNvGrpSpPr/>
            <p:nvPr/>
          </p:nvGrpSpPr>
          <p:grpSpPr>
            <a:xfrm>
              <a:off x="1506600" y="993600"/>
              <a:ext cx="7364520" cy="5189760"/>
              <a:chOff x="1506600" y="993600"/>
              <a:chExt cx="7364520" cy="518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1506600" y="9936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Introduce New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74760" y="1752480"/>
                <a:ext cx="328320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Position Bra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6520" y="25272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btain Outl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1400" y="33004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ngoing Conta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30720" y="407520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upport Sales Fo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19760" y="48340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Get Immediate 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87920" y="5608800"/>
                <a:ext cx="328320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intain Relationshi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34880" y="954000"/>
              <a:ext cx="4692600" cy="5378400"/>
            </a:xfrm>
            <a:prstGeom prst="rtTriangle">
              <a:avLst/>
            </a:prstGeom>
            <a:gradFill rotWithShape="0">
              <a:gsLst>
                <a:gs pos="0">
                  <a:srgbClr val="f6e5b4"/>
                </a:gs>
                <a:gs pos="100000">
                  <a:srgbClr val="edc24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Strateg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Decis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in Sett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Adverti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Objecti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6640" y="1089000"/>
              <a:ext cx="4975200" cy="4995720"/>
              <a:chOff x="566640" y="1089000"/>
              <a:chExt cx="4975200" cy="499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66640" y="10890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46320" y="18525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25640" y="26226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04960" y="339264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4640" y="416232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63960" y="49323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3280" y="570240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824960" y="307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tting Advertising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9:09:40Z</dcterms:created>
  <dc:creator>Lewis Hershey</dc:creator>
  <dc:description/>
  <dc:language>en-US</dc:language>
  <cp:lastModifiedBy>Martin Krištof</cp:lastModifiedBy>
  <cp:lastPrinted>1999-12-08T10:36:28Z</cp:lastPrinted>
  <dcterms:modified xsi:type="dcterms:W3CDTF">2007-04-01T22:02:27Z</dcterms:modified>
  <cp:revision>24</cp:revision>
  <dc:subject>LHM, Marketing 4th Edition</dc:subject>
  <dc:title>Chapter 16:  Promotion Strategy and Marketing Communication</dc:title>
</cp:coreProperties>
</file>