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9F4-D1D6-43FC-AC05-374A0CCB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30A-4936-45F6-9EB9-C5B68F9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191-C92F-4433-BA86-04DA2ED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6B7-2877-485A-8E0E-E9DB86F5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E79-2670-4F52-9043-B07ACD0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93A-6F15-417C-AFF5-1BE1B88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A43-59A3-4859-B20D-EF7A7D48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6E4-56E1-4A76-ABD3-1F6E394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6B1-C613-407E-AE9E-1B9C51E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031-EE0D-4D45-99DA-789965D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2C1-AECD-4F0F-A5F6-3C3F540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1ED-DBE8-46F9-BE73-EA23079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CD5-8534-4216-9F46-021CEDA0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52280"/>
            <a:ext cx="8534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arketing Mix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48640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051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PRODUC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Mix 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800" y="1677960"/>
            <a:ext cx="5464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fies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stablished re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lines an organization of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66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ne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5812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items in a produc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3960" y="4251240"/>
            <a:ext cx="56062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acts buyers with different pre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sales/profits by fur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egmen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conomies of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s out seasonal sale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illette’s Product Lines and Mi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8600" y="1066680"/>
            <a:ext cx="9219960" cy="4768560"/>
            <a:chOff x="-228600" y="1066680"/>
            <a:chExt cx="9219960" cy="4768560"/>
          </a:xfrm>
        </p:grpSpPr>
        <p:sp>
          <p:nvSpPr>
            <p:cNvPr id="184" name=""/>
            <p:cNvSpPr/>
            <p:nvPr/>
          </p:nvSpPr>
          <p:spPr>
            <a:xfrm>
              <a:off x="804600" y="1576800"/>
              <a:ext cx="8186760" cy="10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" y="2597760"/>
              <a:ext cx="8145000" cy="31474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228600" y="1917000"/>
              <a:ext cx="917208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lades an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ri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zor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iletri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strumen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gh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 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per M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or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i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.T. Dup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c I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n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r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ht Gu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wive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lki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Edg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ft and Dri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dy Gillet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amy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er Speed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L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win Inje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Ide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matic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ush Plu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67520" y="1066680"/>
              <a:ext cx="40784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idth of the product mi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4600" y="259776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6200000">
              <a:off x="-1585080" y="3471120"/>
              <a:ext cx="428256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th of the product l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1600200"/>
            <a:ext cx="5943600" cy="304920"/>
          </a:xfrm>
          <a:prstGeom prst="leftRightArrow">
            <a:avLst>
              <a:gd name="adj1" fmla="val 50000"/>
              <a:gd name="adj2" fmla="val 38804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 rot="16200000">
            <a:off x="-800640" y="3543120"/>
            <a:ext cx="4191120" cy="304920"/>
          </a:xfrm>
          <a:prstGeom prst="leftRightArrow">
            <a:avLst>
              <a:gd name="adj1" fmla="val 50000"/>
              <a:gd name="adj2" fmla="val 273627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ter &amp; Gamble Product M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roduct Portfolio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oston (BCG)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10666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Child/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C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0948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6668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8006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4952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286000"/>
            <a:ext cx="457200" cy="4572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267080"/>
            <a:ext cx="762120" cy="762120"/>
          </a:xfrm>
          <a:prstGeom prst="donut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990720" cy="990720"/>
          </a:xfrm>
          <a:prstGeom prst="donut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809880"/>
            <a:ext cx="698400" cy="69876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752480"/>
            <a:ext cx="306360" cy="3049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962520"/>
            <a:ext cx="1094040" cy="1093680"/>
          </a:xfrm>
          <a:prstGeom prst="donut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78040" cy="878040"/>
          </a:xfrm>
          <a:prstGeom prst="donut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209680"/>
            <a:ext cx="582840" cy="582840"/>
          </a:xfrm>
          <a:prstGeom prst="donut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54100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743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2200" y="623268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Size = proportion of total revenue business contributes to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46160"/>
            <a:ext cx="86868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product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rategic Business Unit (SBU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igned to a c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u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rowth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igh = 10% +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ow = &lt;10%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rket sh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 of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marker share to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st competitor’s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= 1.0-10.0    Low = 0.01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20%, share of own company 5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0.25 (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5%, share of own company 20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4.0 (Hi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vals highly dependable on type of market, etc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-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eneral Electric’s Industry Attractiveness-Business  Strength  Matri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22424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79276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7353360" y="2857320"/>
            <a:ext cx="109836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22424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579276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735948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228920" y="48387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276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35948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545616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05000" y="3513240"/>
            <a:ext cx="87660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05000" y="445140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843280"/>
            <a:ext cx="8762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2140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120" y="2949480"/>
            <a:ext cx="268056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sity of  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 &amp;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2040" y="1601640"/>
            <a:ext cx="6141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/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gaining 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Match Quality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01640"/>
            <a:ext cx="192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 with KS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800" y="2057400"/>
            <a:ext cx="228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62560" y="1147680"/>
            <a:ext cx="287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63244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 Scale:  1 = Weak ; 10 = St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4320" y="39909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4320" y="4995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4320" y="595800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31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5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114800" y="3594240"/>
            <a:ext cx="4270320" cy="2120760"/>
            <a:chOff x="4114800" y="3594240"/>
            <a:chExt cx="4270320" cy="2120760"/>
          </a:xfrm>
        </p:grpSpPr>
        <p:grpSp>
          <p:nvGrpSpPr>
            <p:cNvPr id="250" name=""/>
            <p:cNvGrpSpPr/>
            <p:nvPr/>
          </p:nvGrpSpPr>
          <p:grpSpPr>
            <a:xfrm>
              <a:off x="4114800" y="3594240"/>
              <a:ext cx="520560" cy="520560"/>
              <a:chOff x="4114800" y="3594240"/>
              <a:chExt cx="52056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4114800" y="3594240"/>
                <a:ext cx="52056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9760" y="36133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94160" y="3846600"/>
                <a:ext cx="231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767120" y="4046400"/>
              <a:ext cx="414360" cy="414360"/>
              <a:chOff x="4767120" y="4046400"/>
              <a:chExt cx="414360" cy="414360"/>
            </a:xfrm>
          </p:grpSpPr>
          <p:sp>
            <p:nvSpPr>
              <p:cNvPr id="255" name=""/>
              <p:cNvSpPr/>
              <p:nvPr/>
            </p:nvSpPr>
            <p:spPr>
              <a:xfrm>
                <a:off x="4767120" y="4046400"/>
                <a:ext cx="414360" cy="4143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8440" y="4064040"/>
                <a:ext cx="0" cy="17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991040" y="4119480"/>
                <a:ext cx="138240" cy="14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24320" y="4518000"/>
              <a:ext cx="600120" cy="600120"/>
              <a:chOff x="4324320" y="4518000"/>
              <a:chExt cx="600120" cy="600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4320" y="4518000"/>
                <a:ext cx="600120" cy="600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29240" y="4538520"/>
                <a:ext cx="0" cy="26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0400" y="4830840"/>
                <a:ext cx="249120" cy="8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238720" y="5292720"/>
              <a:ext cx="308160" cy="308160"/>
              <a:chOff x="5238720" y="5292720"/>
              <a:chExt cx="308160" cy="30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238720" y="529272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96040" y="530856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5442120"/>
                <a:ext cx="128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962680" y="3753000"/>
              <a:ext cx="253800" cy="253800"/>
              <a:chOff x="5962680" y="3753000"/>
              <a:chExt cx="253800" cy="253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962680" y="3753000"/>
                <a:ext cx="253800" cy="2538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93000" y="3767040"/>
                <a:ext cx="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00920" y="3887640"/>
                <a:ext cx="88920" cy="32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59520" y="5194440"/>
              <a:ext cx="520920" cy="520560"/>
              <a:chOff x="6959520" y="5194440"/>
              <a:chExt cx="520920" cy="520560"/>
            </a:xfrm>
          </p:grpSpPr>
          <p:sp>
            <p:nvSpPr>
              <p:cNvPr id="271" name=""/>
              <p:cNvSpPr/>
              <p:nvPr/>
            </p:nvSpPr>
            <p:spPr>
              <a:xfrm>
                <a:off x="6959520" y="5194440"/>
                <a:ext cx="52092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24840" y="52135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236000" y="5214960"/>
                <a:ext cx="10152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240" y="3909960"/>
              <a:ext cx="308160" cy="308160"/>
              <a:chOff x="7491240" y="3909960"/>
              <a:chExt cx="308160" cy="30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7491240" y="390996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48560" y="392580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62960" y="405936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731000" y="4518000"/>
              <a:ext cx="654120" cy="654120"/>
              <a:chOff x="7731000" y="4518000"/>
              <a:chExt cx="654120" cy="654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731000" y="4518000"/>
                <a:ext cx="654120" cy="654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64360" y="454032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075520" y="4627080"/>
                <a:ext cx="22536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35760" y="4346640"/>
              <a:ext cx="681120" cy="681120"/>
              <a:chOff x="6035760" y="4346640"/>
              <a:chExt cx="681120" cy="68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6035760" y="4346640"/>
                <a:ext cx="681120" cy="681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75240" y="4371840"/>
                <a:ext cx="0" cy="314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3160" y="4702320"/>
                <a:ext cx="21456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3733920" y="1066680"/>
            <a:ext cx="5181480" cy="152640"/>
          </a:xfrm>
          <a:prstGeom prst="leftRightArrow">
            <a:avLst>
              <a:gd name="adj1" fmla="val 50000"/>
              <a:gd name="adj2" fmla="val 67577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6200000">
            <a:off x="-1943640" y="4000320"/>
            <a:ext cx="4191120" cy="152280"/>
          </a:xfrm>
          <a:prstGeom prst="leftRightArrow">
            <a:avLst>
              <a:gd name="adj1" fmla="val 50000"/>
              <a:gd name="adj2" fmla="val 547900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53716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666880"/>
            <a:ext cx="6553440" cy="2870280"/>
          </a:xfrm>
          <a:custGeom>
            <a:avLst/>
            <a:gdLst/>
            <a:ahLst/>
            <a:rect l="l" t="t" r="r" b="b"/>
            <a:pathLst>
              <a:path w="4128" h="1808">
                <a:moveTo>
                  <a:pt x="0" y="1808"/>
                </a:moveTo>
                <a:cubicBezTo>
                  <a:pt x="244" y="1804"/>
                  <a:pt x="488" y="1800"/>
                  <a:pt x="672" y="1712"/>
                </a:cubicBezTo>
                <a:cubicBezTo>
                  <a:pt x="856" y="1624"/>
                  <a:pt x="960" y="1504"/>
                  <a:pt x="1104" y="1280"/>
                </a:cubicBezTo>
                <a:cubicBezTo>
                  <a:pt x="1248" y="1056"/>
                  <a:pt x="1376" y="576"/>
                  <a:pt x="1536" y="368"/>
                </a:cubicBezTo>
                <a:cubicBezTo>
                  <a:pt x="1696" y="160"/>
                  <a:pt x="1872" y="64"/>
                  <a:pt x="2064" y="32"/>
                </a:cubicBezTo>
                <a:cubicBezTo>
                  <a:pt x="2256" y="0"/>
                  <a:pt x="2512" y="32"/>
                  <a:pt x="2688" y="176"/>
                </a:cubicBezTo>
                <a:cubicBezTo>
                  <a:pt x="2864" y="320"/>
                  <a:pt x="3016" y="712"/>
                  <a:pt x="3120" y="896"/>
                </a:cubicBezTo>
                <a:cubicBezTo>
                  <a:pt x="3224" y="1080"/>
                  <a:pt x="3232" y="1168"/>
                  <a:pt x="3312" y="1280"/>
                </a:cubicBezTo>
                <a:cubicBezTo>
                  <a:pt x="3392" y="1392"/>
                  <a:pt x="3504" y="1488"/>
                  <a:pt x="3600" y="1568"/>
                </a:cubicBezTo>
                <a:cubicBezTo>
                  <a:pt x="3696" y="1648"/>
                  <a:pt x="3800" y="1720"/>
                  <a:pt x="3888" y="1760"/>
                </a:cubicBezTo>
                <a:cubicBezTo>
                  <a:pt x="3976" y="1800"/>
                  <a:pt x="4052" y="1804"/>
                  <a:pt x="4128" y="1808"/>
                </a:cubicBez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60000">
            <a:off x="1066680" y="4648320"/>
            <a:ext cx="7162920" cy="1257120"/>
          </a:xfrm>
          <a:custGeom>
            <a:avLst/>
            <a:gdLst/>
            <a:ahLst/>
            <a:rect l="l" t="t" r="r" b="b"/>
            <a:pathLst>
              <a:path w="4512" h="792">
                <a:moveTo>
                  <a:pt x="0" y="576"/>
                </a:moveTo>
                <a:cubicBezTo>
                  <a:pt x="64" y="660"/>
                  <a:pt x="128" y="744"/>
                  <a:pt x="240" y="768"/>
                </a:cubicBezTo>
                <a:cubicBezTo>
                  <a:pt x="352" y="792"/>
                  <a:pt x="552" y="760"/>
                  <a:pt x="672" y="720"/>
                </a:cubicBezTo>
                <a:cubicBezTo>
                  <a:pt x="792" y="680"/>
                  <a:pt x="864" y="616"/>
                  <a:pt x="960" y="528"/>
                </a:cubicBezTo>
                <a:cubicBezTo>
                  <a:pt x="1056" y="440"/>
                  <a:pt x="1144" y="272"/>
                  <a:pt x="1248" y="192"/>
                </a:cubicBezTo>
                <a:cubicBezTo>
                  <a:pt x="1352" y="112"/>
                  <a:pt x="1456" y="80"/>
                  <a:pt x="1584" y="48"/>
                </a:cubicBezTo>
                <a:cubicBezTo>
                  <a:pt x="1712" y="16"/>
                  <a:pt x="1880" y="0"/>
                  <a:pt x="2016" y="0"/>
                </a:cubicBezTo>
                <a:cubicBezTo>
                  <a:pt x="2152" y="0"/>
                  <a:pt x="2264" y="8"/>
                  <a:pt x="2400" y="48"/>
                </a:cubicBezTo>
                <a:cubicBezTo>
                  <a:pt x="2536" y="88"/>
                  <a:pt x="2696" y="160"/>
                  <a:pt x="2832" y="240"/>
                </a:cubicBezTo>
                <a:cubicBezTo>
                  <a:pt x="2968" y="320"/>
                  <a:pt x="3096" y="464"/>
                  <a:pt x="3216" y="528"/>
                </a:cubicBezTo>
                <a:cubicBezTo>
                  <a:pt x="3336" y="592"/>
                  <a:pt x="3448" y="592"/>
                  <a:pt x="3552" y="624"/>
                </a:cubicBezTo>
                <a:cubicBezTo>
                  <a:pt x="3656" y="656"/>
                  <a:pt x="3728" y="712"/>
                  <a:pt x="3840" y="720"/>
                </a:cubicBezTo>
                <a:cubicBezTo>
                  <a:pt x="3952" y="728"/>
                  <a:pt x="4112" y="704"/>
                  <a:pt x="4224" y="672"/>
                </a:cubicBezTo>
                <a:cubicBezTo>
                  <a:pt x="4336" y="640"/>
                  <a:pt x="4424" y="584"/>
                  <a:pt x="4512" y="528"/>
                </a:cubicBezTo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01880" y="1981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560" y="1981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1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91680" y="1981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167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5791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/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76520" y="571464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520" y="49528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6960" y="3276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4876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95280" y="380880"/>
            <a:ext cx="6624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ping Life Cycles for Two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9440" y="1295280"/>
            <a:ext cx="7846920" cy="3766680"/>
            <a:chOff x="379440" y="1295280"/>
            <a:chExt cx="7846920" cy="3766680"/>
          </a:xfrm>
        </p:grpSpPr>
        <p:sp>
          <p:nvSpPr>
            <p:cNvPr id="309" name=""/>
            <p:cNvSpPr/>
            <p:nvPr/>
          </p:nvSpPr>
          <p:spPr>
            <a:xfrm>
              <a:off x="814320" y="2611440"/>
              <a:ext cx="7324920" cy="1992600"/>
            </a:xfrm>
            <a:custGeom>
              <a:avLst/>
              <a:gdLst/>
              <a:ahLst/>
              <a:rect l="l" t="t" r="r" b="b"/>
              <a:pathLst>
                <a:path w="3770" h="1173">
                  <a:moveTo>
                    <a:pt x="0" y="1173"/>
                  </a:moveTo>
                  <a:cubicBezTo>
                    <a:pt x="100" y="1161"/>
                    <a:pt x="200" y="1129"/>
                    <a:pt x="300" y="1118"/>
                  </a:cubicBezTo>
                  <a:cubicBezTo>
                    <a:pt x="467" y="1063"/>
                    <a:pt x="640" y="1016"/>
                    <a:pt x="811" y="973"/>
                  </a:cubicBezTo>
                  <a:cubicBezTo>
                    <a:pt x="886" y="954"/>
                    <a:pt x="980" y="926"/>
                    <a:pt x="1056" y="907"/>
                  </a:cubicBezTo>
                  <a:cubicBezTo>
                    <a:pt x="1151" y="884"/>
                    <a:pt x="1207" y="870"/>
                    <a:pt x="1300" y="840"/>
                  </a:cubicBezTo>
                  <a:cubicBezTo>
                    <a:pt x="1362" y="799"/>
                    <a:pt x="1449" y="744"/>
                    <a:pt x="1518" y="708"/>
                  </a:cubicBezTo>
                  <a:cubicBezTo>
                    <a:pt x="1564" y="662"/>
                    <a:pt x="1602" y="631"/>
                    <a:pt x="1656" y="595"/>
                  </a:cubicBezTo>
                  <a:cubicBezTo>
                    <a:pt x="1681" y="557"/>
                    <a:pt x="1690" y="566"/>
                    <a:pt x="1723" y="540"/>
                  </a:cubicBezTo>
                  <a:cubicBezTo>
                    <a:pt x="1764" y="508"/>
                    <a:pt x="1751" y="519"/>
                    <a:pt x="1789" y="462"/>
                  </a:cubicBezTo>
                  <a:cubicBezTo>
                    <a:pt x="1808" y="438"/>
                    <a:pt x="1825" y="411"/>
                    <a:pt x="1839" y="396"/>
                  </a:cubicBezTo>
                  <a:cubicBezTo>
                    <a:pt x="1853" y="381"/>
                    <a:pt x="1849" y="389"/>
                    <a:pt x="1872" y="369"/>
                  </a:cubicBezTo>
                  <a:cubicBezTo>
                    <a:pt x="1905" y="342"/>
                    <a:pt x="1942" y="304"/>
                    <a:pt x="1978" y="273"/>
                  </a:cubicBezTo>
                  <a:cubicBezTo>
                    <a:pt x="2014" y="242"/>
                    <a:pt x="2052" y="210"/>
                    <a:pt x="2089" y="184"/>
                  </a:cubicBezTo>
                  <a:cubicBezTo>
                    <a:pt x="2125" y="149"/>
                    <a:pt x="2153" y="132"/>
                    <a:pt x="2201" y="118"/>
                  </a:cubicBezTo>
                  <a:cubicBezTo>
                    <a:pt x="2223" y="111"/>
                    <a:pt x="2127" y="144"/>
                    <a:pt x="2250" y="93"/>
                  </a:cubicBezTo>
                  <a:cubicBezTo>
                    <a:pt x="2280" y="85"/>
                    <a:pt x="2239" y="90"/>
                    <a:pt x="2271" y="81"/>
                  </a:cubicBezTo>
                  <a:cubicBezTo>
                    <a:pt x="2284" y="74"/>
                    <a:pt x="2311" y="59"/>
                    <a:pt x="2328" y="51"/>
                  </a:cubicBezTo>
                  <a:cubicBezTo>
                    <a:pt x="2345" y="43"/>
                    <a:pt x="2360" y="38"/>
                    <a:pt x="2373" y="33"/>
                  </a:cubicBezTo>
                  <a:cubicBezTo>
                    <a:pt x="2386" y="28"/>
                    <a:pt x="2397" y="24"/>
                    <a:pt x="2409" y="21"/>
                  </a:cubicBezTo>
                  <a:cubicBezTo>
                    <a:pt x="2421" y="18"/>
                    <a:pt x="2428" y="15"/>
                    <a:pt x="2445" y="12"/>
                  </a:cubicBezTo>
                  <a:cubicBezTo>
                    <a:pt x="2462" y="9"/>
                    <a:pt x="2480" y="1"/>
                    <a:pt x="2514" y="3"/>
                  </a:cubicBezTo>
                  <a:cubicBezTo>
                    <a:pt x="2548" y="5"/>
                    <a:pt x="2594" y="0"/>
                    <a:pt x="2649" y="21"/>
                  </a:cubicBezTo>
                  <a:cubicBezTo>
                    <a:pt x="2704" y="42"/>
                    <a:pt x="2787" y="97"/>
                    <a:pt x="2845" y="129"/>
                  </a:cubicBezTo>
                  <a:cubicBezTo>
                    <a:pt x="2873" y="131"/>
                    <a:pt x="2970" y="205"/>
                    <a:pt x="2997" y="213"/>
                  </a:cubicBezTo>
                  <a:cubicBezTo>
                    <a:pt x="3019" y="220"/>
                    <a:pt x="3102" y="294"/>
                    <a:pt x="3102" y="294"/>
                  </a:cubicBezTo>
                  <a:cubicBezTo>
                    <a:pt x="3139" y="319"/>
                    <a:pt x="3108" y="297"/>
                    <a:pt x="3147" y="327"/>
                  </a:cubicBezTo>
                  <a:cubicBezTo>
                    <a:pt x="3172" y="345"/>
                    <a:pt x="3215" y="377"/>
                    <a:pt x="3234" y="393"/>
                  </a:cubicBezTo>
                  <a:cubicBezTo>
                    <a:pt x="3258" y="409"/>
                    <a:pt x="3272" y="413"/>
                    <a:pt x="3288" y="423"/>
                  </a:cubicBezTo>
                  <a:cubicBezTo>
                    <a:pt x="3296" y="430"/>
                    <a:pt x="3320" y="448"/>
                    <a:pt x="3330" y="453"/>
                  </a:cubicBezTo>
                  <a:cubicBezTo>
                    <a:pt x="3360" y="462"/>
                    <a:pt x="3369" y="480"/>
                    <a:pt x="3369" y="480"/>
                  </a:cubicBezTo>
                  <a:cubicBezTo>
                    <a:pt x="3453" y="513"/>
                    <a:pt x="3424" y="506"/>
                    <a:pt x="3480" y="534"/>
                  </a:cubicBezTo>
                  <a:cubicBezTo>
                    <a:pt x="3514" y="551"/>
                    <a:pt x="3486" y="534"/>
                    <a:pt x="3513" y="561"/>
                  </a:cubicBezTo>
                  <a:cubicBezTo>
                    <a:pt x="3502" y="541"/>
                    <a:pt x="3579" y="594"/>
                    <a:pt x="3606" y="609"/>
                  </a:cubicBezTo>
                  <a:cubicBezTo>
                    <a:pt x="3633" y="624"/>
                    <a:pt x="3657" y="637"/>
                    <a:pt x="3678" y="651"/>
                  </a:cubicBezTo>
                  <a:cubicBezTo>
                    <a:pt x="3756" y="699"/>
                    <a:pt x="3709" y="686"/>
                    <a:pt x="3734" y="695"/>
                  </a:cubicBezTo>
                  <a:cubicBezTo>
                    <a:pt x="3770" y="708"/>
                    <a:pt x="3767" y="695"/>
                    <a:pt x="3767" y="718"/>
                  </a:cubicBezTo>
                  <a:lnTo>
                    <a:pt x="3767" y="1173"/>
                  </a:lnTo>
                  <a:lnTo>
                    <a:pt x="0" y="117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38160" y="129528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77960" y="12967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3200" y="129672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30120" y="129672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27760" y="4909320"/>
              <a:ext cx="15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0080" y="46630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203040" y="317916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0840" y="2850840"/>
              <a:ext cx="3305160" cy="1753200"/>
            </a:xfrm>
            <a:custGeom>
              <a:avLst/>
              <a:gdLst/>
              <a:ahLst/>
              <a:rect l="l" t="t" r="r" b="b"/>
              <a:pathLst>
                <a:path w="1701" h="1032">
                  <a:moveTo>
                    <a:pt x="0" y="1032"/>
                  </a:moveTo>
                  <a:cubicBezTo>
                    <a:pt x="125" y="1017"/>
                    <a:pt x="243" y="981"/>
                    <a:pt x="367" y="966"/>
                  </a:cubicBezTo>
                  <a:cubicBezTo>
                    <a:pt x="449" y="944"/>
                    <a:pt x="529" y="919"/>
                    <a:pt x="611" y="899"/>
                  </a:cubicBezTo>
                  <a:cubicBezTo>
                    <a:pt x="626" y="895"/>
                    <a:pt x="641" y="892"/>
                    <a:pt x="656" y="888"/>
                  </a:cubicBezTo>
                  <a:cubicBezTo>
                    <a:pt x="679" y="882"/>
                    <a:pt x="722" y="866"/>
                    <a:pt x="722" y="866"/>
                  </a:cubicBezTo>
                  <a:cubicBezTo>
                    <a:pt x="764" y="838"/>
                    <a:pt x="808" y="826"/>
                    <a:pt x="856" y="810"/>
                  </a:cubicBezTo>
                  <a:cubicBezTo>
                    <a:pt x="911" y="792"/>
                    <a:pt x="927" y="749"/>
                    <a:pt x="978" y="732"/>
                  </a:cubicBezTo>
                  <a:cubicBezTo>
                    <a:pt x="989" y="721"/>
                    <a:pt x="999" y="709"/>
                    <a:pt x="1011" y="699"/>
                  </a:cubicBezTo>
                  <a:cubicBezTo>
                    <a:pt x="1021" y="690"/>
                    <a:pt x="1035" y="686"/>
                    <a:pt x="1045" y="677"/>
                  </a:cubicBezTo>
                  <a:cubicBezTo>
                    <a:pt x="1102" y="627"/>
                    <a:pt x="1148" y="574"/>
                    <a:pt x="1211" y="532"/>
                  </a:cubicBezTo>
                  <a:cubicBezTo>
                    <a:pt x="1249" y="478"/>
                    <a:pt x="1225" y="509"/>
                    <a:pt x="1289" y="443"/>
                  </a:cubicBezTo>
                  <a:cubicBezTo>
                    <a:pt x="1326" y="406"/>
                    <a:pt x="1344" y="362"/>
                    <a:pt x="1389" y="332"/>
                  </a:cubicBezTo>
                  <a:cubicBezTo>
                    <a:pt x="1426" y="276"/>
                    <a:pt x="1474" y="242"/>
                    <a:pt x="1523" y="199"/>
                  </a:cubicBezTo>
                  <a:cubicBezTo>
                    <a:pt x="1573" y="155"/>
                    <a:pt x="1599" y="78"/>
                    <a:pt x="1665" y="54"/>
                  </a:cubicBezTo>
                  <a:cubicBezTo>
                    <a:pt x="1692" y="21"/>
                    <a:pt x="1687" y="0"/>
                    <a:pt x="1692" y="3"/>
                  </a:cubicBezTo>
                  <a:cubicBezTo>
                    <a:pt x="1697" y="6"/>
                    <a:pt x="1697" y="51"/>
                    <a:pt x="1698" y="72"/>
                  </a:cubicBezTo>
                  <a:lnTo>
                    <a:pt x="1698" y="132"/>
                  </a:lnTo>
                  <a:lnTo>
                    <a:pt x="1701" y="513"/>
                  </a:lnTo>
                  <a:lnTo>
                    <a:pt x="1700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49760" y="2589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4960" y="403344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320" y="1716480"/>
              <a:ext cx="26352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9520" y="1716480"/>
              <a:ext cx="13590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1716480"/>
              <a:ext cx="166356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64160" y="1708920"/>
              <a:ext cx="166392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920" y="5181480"/>
            <a:ext cx="457200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ife cycle exten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hions and f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life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duct 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362320" y="304920"/>
            <a:ext cx="46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17600" y="1600200"/>
            <a:ext cx="830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fe Cycle and the Marketing M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514600"/>
            <a:ext cx="693396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bundle of physical, service, and symbolic attributes designed to enhance buyers want satisf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0" y="15228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- defin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6324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, both favorable and unfavorable, that a person receives in an exchang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or price pa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191120"/>
            <a:ext cx="7315200" cy="1981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product is a set of tangible and intangible attributes including packaging, colour, price, quality and brand, plus the services and reputation of the se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rvice Marketing versus Goods Marke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0" y="4971960"/>
            <a:ext cx="260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586260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7320" y="4083120"/>
            <a:ext cx="22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8240" y="3095640"/>
            <a:ext cx="223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0360" y="1663560"/>
            <a:ext cx="1996920" cy="717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0120" y="1835280"/>
            <a:ext cx="2066760" cy="3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4880" y="1676520"/>
            <a:ext cx="5942160" cy="71748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4640" y="1687680"/>
            <a:ext cx="20671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Servi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1695600"/>
            <a:ext cx="186048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Goo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2646360"/>
            <a:ext cx="2003400" cy="3633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6960" y="2654280"/>
            <a:ext cx="1874880" cy="3621240"/>
          </a:xfrm>
          <a:prstGeom prst="rect">
            <a:avLst/>
          </a:prstGeom>
          <a:gradFill rotWithShape="0">
            <a:gsLst>
              <a:gs pos="0">
                <a:srgbClr val="e08500"/>
              </a:gs>
              <a:gs pos="100000">
                <a:srgbClr val="875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5120" y="2662200"/>
            <a:ext cx="1555920" cy="362124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989000" cy="3621240"/>
          </a:xfrm>
          <a:prstGeom prst="rect">
            <a:avLst/>
          </a:prstGeom>
          <a:solidFill>
            <a:srgbClr val="e0cb3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400" y="2819520"/>
            <a:ext cx="20671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Tangi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roduction/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Consum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Standard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erish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5040" y="3470400"/>
            <a:ext cx="198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4400" y="4575240"/>
            <a:ext cx="197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6480" y="5487840"/>
            <a:ext cx="19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1120" y="2666880"/>
            <a:ext cx="18972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80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the 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ater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36720" y="347832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66960" y="4572000"/>
            <a:ext cx="18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4640" y="5486400"/>
            <a:ext cx="18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73680" y="2565360"/>
            <a:ext cx="20671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differen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8320" y="348624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4572000"/>
            <a:ext cx="194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19760" y="548640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81600" y="3654360"/>
            <a:ext cx="15192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ybr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anagement Perspectives on “New”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12193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to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category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lin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8760" y="60976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31240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umers’ Perspectives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“New”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495680"/>
            <a:ext cx="2598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311800"/>
            <a:ext cx="4108320" cy="1317600"/>
          </a:xfrm>
          <a:prstGeom prst="leftArrow">
            <a:avLst>
              <a:gd name="adj1" fmla="val 50000"/>
              <a:gd name="adj2" fmla="val 155887"/>
            </a:avLst>
          </a:prstGeom>
          <a:gradFill rotWithShape="0">
            <a:gsLst>
              <a:gs pos="0">
                <a:srgbClr val="fc0128"/>
              </a:gs>
              <a:gs pos="100000">
                <a:srgbClr val="960017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8480" y="5311800"/>
            <a:ext cx="4108320" cy="1317600"/>
          </a:xfrm>
          <a:prstGeom prst="rightArrow">
            <a:avLst>
              <a:gd name="adj1" fmla="val 50000"/>
              <a:gd name="adj2" fmla="val 155916"/>
            </a:avLst>
          </a:prstGeom>
          <a:gradFill rotWithShape="0">
            <a:gsLst>
              <a:gs pos="0">
                <a:srgbClr val="fb1a3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1520" y="576900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5440" y="4419720"/>
            <a:ext cx="1669320" cy="100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579132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8120" y="4419720"/>
            <a:ext cx="1599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28320" y="556272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-76320" y="-304920"/>
            <a:ext cx="92203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Characteristics of New Product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685800"/>
            <a:ext cx="4360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ition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re fun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76320" y="3962520"/>
            <a:ext cx="5562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mpatibility wi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xisting habits and behavi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Trial-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ly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 special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ree samples or cou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962520"/>
            <a:ext cx="5715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Visible c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Communicate hidden qu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6386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5.  Simplic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ser friendly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derstandable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 E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sy to grasp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/u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9144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ame, term, symbol, design, or combination thereof that identifies a seller’s products and differentiates them from competitors’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362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880" y="2666880"/>
            <a:ext cx="8229600" cy="3961800"/>
            <a:chOff x="380880" y="2666880"/>
            <a:chExt cx="8229600" cy="3961800"/>
          </a:xfrm>
        </p:grpSpPr>
        <p:grpSp>
          <p:nvGrpSpPr>
            <p:cNvPr id="379" name=""/>
            <p:cNvGrpSpPr/>
            <p:nvPr/>
          </p:nvGrpSpPr>
          <p:grpSpPr>
            <a:xfrm>
              <a:off x="380880" y="2666880"/>
              <a:ext cx="1932120" cy="3961800"/>
              <a:chOff x="380880" y="2666880"/>
              <a:chExt cx="1932120" cy="3961800"/>
            </a:xfrm>
          </p:grpSpPr>
          <p:sp>
            <p:nvSpPr>
              <p:cNvPr id="380" name=""/>
              <p:cNvSpPr/>
              <p:nvPr/>
            </p:nvSpPr>
            <p:spPr>
              <a:xfrm>
                <a:off x="380880" y="266688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880" y="3663720"/>
                <a:ext cx="1932120" cy="98640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880" y="4660920"/>
                <a:ext cx="1932120" cy="98208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qu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880" y="564336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292480" y="2666880"/>
              <a:ext cx="6318000" cy="9846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at part of a brand that can be spoken, including letters, words, and number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2480" y="3663720"/>
              <a:ext cx="6318000" cy="986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elements of a brand tha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nnot be spoke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92480" y="4662000"/>
              <a:ext cx="6318000" cy="982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value of company and brand name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92480" y="5644800"/>
              <a:ext cx="6318000" cy="983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 brand so dominant that it comes 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nd immediately when a product category, use, attribute, or benefit is mentioned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76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ffective Brand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13160"/>
            <a:ext cx="815328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pro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recognize and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short, distinctive, and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Describes the product, use, and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as a positive co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Reinforces the produc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legally prote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3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rs’ Brands Ver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5840" y="1933560"/>
            <a:ext cx="2837880" cy="2333520"/>
            <a:chOff x="285840" y="1933560"/>
            <a:chExt cx="2837880" cy="2333520"/>
          </a:xfrm>
        </p:grpSpPr>
        <p:sp>
          <p:nvSpPr>
            <p:cNvPr id="392" name=""/>
            <p:cNvSpPr/>
            <p:nvPr/>
          </p:nvSpPr>
          <p:spPr>
            <a:xfrm>
              <a:off x="285840" y="1933560"/>
              <a:ext cx="2837880" cy="115740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Manufacturers’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840" y="3107520"/>
              <a:ext cx="2837880" cy="115956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vat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124080" y="1933560"/>
            <a:ext cx="5695920" cy="2333520"/>
            <a:chOff x="3124080" y="1933560"/>
            <a:chExt cx="5695920" cy="2333520"/>
          </a:xfrm>
        </p:grpSpPr>
        <p:sp>
          <p:nvSpPr>
            <p:cNvPr id="395" name=""/>
            <p:cNvSpPr/>
            <p:nvPr/>
          </p:nvSpPr>
          <p:spPr>
            <a:xfrm>
              <a:off x="3124080" y="1933560"/>
              <a:ext cx="5695920" cy="1157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brand name of a manufactur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24080" y="3107520"/>
              <a:ext cx="5695920" cy="11595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brand name owned by a  wholesaler or a retail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5029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B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495680"/>
            <a:ext cx="5715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-frills, no-brand-name, low-cost product that is simply identified by its product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22860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 Manufacturers’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ustom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 new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rapid delivery, can carry less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deal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380880" y="2895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of  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3886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arn higher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ess pressure to mark down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Manufacturer may drop a brand or become a direct competitor to dea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ies to wholesaler or 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o control over distribution of manufacturers’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04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brand Group, August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5228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obal Brand Scorec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0480" y="203688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0"/>
                </a:moveTo>
                <a:lnTo>
                  <a:pt x="960" y="0"/>
                </a:lnTo>
                <a:lnTo>
                  <a:pt x="1704" y="74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42360" y="1657440"/>
            <a:ext cx="4120920" cy="928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 and 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70480" y="462132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744"/>
                </a:moveTo>
                <a:lnTo>
                  <a:pt x="960" y="744"/>
                </a:lnTo>
                <a:lnTo>
                  <a:pt x="1704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867280" y="2597040"/>
            <a:ext cx="2959200" cy="2571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a7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2360" y="2832120"/>
            <a:ext cx="4120920" cy="927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2360" y="4005360"/>
            <a:ext cx="4120920" cy="928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Storage, 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42360" y="5180040"/>
            <a:ext cx="4120920" cy="9270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0480" y="3262320"/>
            <a:ext cx="1449360" cy="36972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0"/>
                </a:moveTo>
                <a:lnTo>
                  <a:pt x="516" y="0"/>
                </a:lnTo>
                <a:lnTo>
                  <a:pt x="912" y="26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70480" y="4084560"/>
            <a:ext cx="1449360" cy="3700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264"/>
                </a:moveTo>
                <a:lnTo>
                  <a:pt x="516" y="264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9480" y="1752480"/>
            <a:ext cx="3581640" cy="3724560"/>
            <a:chOff x="609480" y="1752480"/>
            <a:chExt cx="3581640" cy="3724560"/>
          </a:xfrm>
        </p:grpSpPr>
        <p:sp>
          <p:nvSpPr>
            <p:cNvPr id="418" name=""/>
            <p:cNvSpPr/>
            <p:nvPr/>
          </p:nvSpPr>
          <p:spPr>
            <a:xfrm>
              <a:off x="685800" y="1752480"/>
              <a:ext cx="350532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uas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80" y="2751120"/>
              <a:ext cx="320040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Focuses on promotional them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formation is seconda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1752480"/>
            <a:ext cx="3809880" cy="4046760"/>
            <a:chOff x="5029200" y="1752480"/>
            <a:chExt cx="3809880" cy="4046760"/>
          </a:xfrm>
        </p:grpSpPr>
        <p:sp>
          <p:nvSpPr>
            <p:cNvPr id="421" name=""/>
            <p:cNvSpPr/>
            <p:nvPr/>
          </p:nvSpPr>
          <p:spPr>
            <a:xfrm>
              <a:off x="5029200" y="1752480"/>
              <a:ext cx="350532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29200" y="2703240"/>
              <a:ext cx="3809880" cy="30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Helps make proper selections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Lowers cognitive dissonanc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cludes use/car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76600" y="2557440"/>
            <a:ext cx="2209680" cy="2209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1490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95724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67520" y="1143000"/>
            <a:ext cx="1985760" cy="11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of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4720" y="2633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7000" y="385272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1520" y="56055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9640" y="506880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7800" y="4919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33760"/>
            <a:ext cx="144288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854520"/>
            <a:ext cx="124596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60640" y="3090960"/>
          <a:ext cx="17733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60640" y="3090960"/>
                    <a:ext cx="1773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16200000">
            <a:off x="4186080" y="210024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6200000">
            <a:off x="4186080" y="499572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3320000">
            <a:off x="5252040" y="4538160"/>
            <a:ext cx="990360" cy="381240"/>
          </a:xfrm>
          <a:prstGeom prst="rightArrow">
            <a:avLst>
              <a:gd name="adj1" fmla="val 50000"/>
              <a:gd name="adj2" fmla="val 12989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rot="18720000">
            <a:off x="3150720" y="460836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080000">
            <a:off x="5252760" y="240480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680000">
            <a:off x="3195360" y="24048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00000">
            <a:off x="5688000" y="29682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1160000">
            <a:off x="2661840" y="309096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20220000">
            <a:off x="2738160" y="392904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1640000">
            <a:off x="5633640" y="392868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ttributes / B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enefits of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Warra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406240" y="3651120"/>
            <a:ext cx="3366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558880"/>
            <a:ext cx="2133720" cy="2184480"/>
          </a:xfrm>
          <a:prstGeom prst="ellipse">
            <a:avLst/>
          </a:prstGeom>
          <a:solidFill>
            <a:srgbClr val="f9fbcd"/>
          </a:solidFill>
          <a:ln w="38160">
            <a:solidFill>
              <a:srgbClr val="5f5f5f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840200"/>
            <a:ext cx="253800" cy="273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2230560"/>
            <a:ext cx="515880" cy="304956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1860480"/>
            <a:ext cx="3505320" cy="73836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9960" y="4675320"/>
            <a:ext cx="2101680" cy="111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mplied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9960" y="1676520"/>
            <a:ext cx="210168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00680"/>
            <a:ext cx="3505320" cy="73800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29200" y="22510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29200" y="52912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3040" y="1569960"/>
            <a:ext cx="8788680" cy="4457880"/>
            <a:chOff x="203040" y="1569960"/>
            <a:chExt cx="8788680" cy="4457880"/>
          </a:xfrm>
        </p:grpSpPr>
        <p:sp>
          <p:nvSpPr>
            <p:cNvPr id="74" name=""/>
            <p:cNvSpPr/>
            <p:nvPr/>
          </p:nvSpPr>
          <p:spPr>
            <a:xfrm>
              <a:off x="3471840" y="477684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6920" y="4205160"/>
              <a:ext cx="0" cy="5461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3320" y="4789440"/>
              <a:ext cx="0" cy="43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4770360"/>
              <a:ext cx="6875280" cy="344520"/>
            </a:xfrm>
            <a:custGeom>
              <a:avLst/>
              <a:gdLst/>
              <a:ahLst/>
              <a:rect l="l" t="t" r="r" b="b"/>
              <a:pathLst>
                <a:path w="4105" h="217">
                  <a:moveTo>
                    <a:pt x="0" y="216"/>
                  </a:moveTo>
                  <a:lnTo>
                    <a:pt x="0" y="0"/>
                  </a:lnTo>
                  <a:lnTo>
                    <a:pt x="4104" y="0"/>
                  </a:lnTo>
                  <a:lnTo>
                    <a:pt x="4104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2967120"/>
              <a:ext cx="4603680" cy="34452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532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516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320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040" y="5087880"/>
              <a:ext cx="197676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8240" y="3220920"/>
              <a:ext cx="197640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9600" y="32209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97560" y="252900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9840" y="1569960"/>
              <a:ext cx="197496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077320" y="335268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991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lassification of Consumer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352520"/>
          <a:ext cx="64771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352520"/>
                    <a:ext cx="64771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96400" y="17524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2240" y="4473720"/>
            <a:ext cx="213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mogeneou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, Portable 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terogeneo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5760" y="2378160"/>
            <a:ext cx="16484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xury Ca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r Cloth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2360" y="4498920"/>
            <a:ext cx="2243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ulse Item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pl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, B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mergency It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da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124080"/>
            <a:ext cx="1438200" cy="1349640"/>
          </a:xfrm>
          <a:prstGeom prst="ellipse">
            <a:avLst/>
          </a:prstGeom>
          <a:gradFill rotWithShape="0">
            <a:gsLst>
              <a:gs pos="0">
                <a:srgbClr val="fefeb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590920"/>
            <a:ext cx="2133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fe Insur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-Improvement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metery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09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440" y="38354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2800" y="4746600"/>
            <a:ext cx="360684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ison of price and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4746600"/>
            <a:ext cx="161928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8920" y="4746600"/>
            <a:ext cx="144000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8920" y="4746600"/>
            <a:ext cx="136692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" y="4226040"/>
            <a:ext cx="360684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convenient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800" y="3668760"/>
            <a:ext cx="360684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chas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800" y="3094200"/>
            <a:ext cx="360684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ning time involved in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9640" y="4226040"/>
            <a:ext cx="16192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8920" y="4226040"/>
            <a:ext cx="1440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8920" y="4226040"/>
            <a:ext cx="136692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49640" y="3668760"/>
            <a:ext cx="161928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9640" y="3094200"/>
            <a:ext cx="16192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8920" y="3668760"/>
            <a:ext cx="144000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ss 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920" y="3094200"/>
            <a:ext cx="14400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8920" y="3668760"/>
            <a:ext cx="136692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3094200"/>
            <a:ext cx="13669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2617920"/>
            <a:ext cx="803304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1814400"/>
            <a:ext cx="360684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9640" y="1814400"/>
            <a:ext cx="161928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8920" y="1814400"/>
            <a:ext cx="14400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08920" y="1814400"/>
            <a:ext cx="13842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3360" y="5678640"/>
            <a:ext cx="31510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store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3920" y="5678640"/>
            <a:ext cx="16207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84640" y="5678640"/>
            <a:ext cx="17622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6840" y="5678640"/>
            <a:ext cx="162576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4803840"/>
            <a:ext cx="315108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ber of retail out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3920" y="4803840"/>
            <a:ext cx="162072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4640" y="4803840"/>
            <a:ext cx="176220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4803840"/>
            <a:ext cx="162576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few; often one per marke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" y="4248000"/>
            <a:ext cx="315108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 channel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3192480"/>
            <a:ext cx="315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2789280"/>
            <a:ext cx="315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63920" y="4248000"/>
            <a:ext cx="162072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84640" y="4248000"/>
            <a:ext cx="176220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6840" y="4248000"/>
            <a:ext cx="162576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3192480"/>
            <a:ext cx="162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and promotion by pro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4440" y="2789280"/>
            <a:ext cx="162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92480"/>
            <a:ext cx="176184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both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789280"/>
            <a:ext cx="176184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67360" y="3192480"/>
            <a:ext cx="162576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7360" y="2789280"/>
            <a:ext cx="162576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" y="2313000"/>
            <a:ext cx="815976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ING MIX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360" y="1509840"/>
            <a:ext cx="315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1509840"/>
            <a:ext cx="162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509840"/>
            <a:ext cx="176184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6840" y="1509840"/>
            <a:ext cx="16462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28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Items, Lines, and M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295280"/>
            <a:ext cx="2590200" cy="4647960"/>
            <a:chOff x="304920" y="1295280"/>
            <a:chExt cx="2590200" cy="4647960"/>
          </a:xfrm>
        </p:grpSpPr>
        <p:sp>
          <p:nvSpPr>
            <p:cNvPr id="150" name=""/>
            <p:cNvSpPr/>
            <p:nvPr/>
          </p:nvSpPr>
          <p:spPr>
            <a:xfrm>
              <a:off x="304920" y="1295280"/>
              <a:ext cx="2590200" cy="15350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I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851920"/>
              <a:ext cx="2590200" cy="15386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L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4408560"/>
              <a:ext cx="2590200" cy="153468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M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1295280"/>
            <a:ext cx="5867640" cy="4647960"/>
            <a:chOff x="2895480" y="1295280"/>
            <a:chExt cx="5867640" cy="4647960"/>
          </a:xfrm>
        </p:grpSpPr>
        <p:sp>
          <p:nvSpPr>
            <p:cNvPr id="154" name=""/>
            <p:cNvSpPr/>
            <p:nvPr/>
          </p:nvSpPr>
          <p:spPr>
            <a:xfrm>
              <a:off x="2895480" y="1295280"/>
              <a:ext cx="5867640" cy="1535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specific version of a product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that can be designated as a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stinct offering among an organization’s product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51920"/>
              <a:ext cx="5867640" cy="15386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group of closely-related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roduct item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5480" y="4408560"/>
              <a:ext cx="5867640" cy="15346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ll products that an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organization sell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nefits of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1447920"/>
            <a:ext cx="8305560" cy="4978080"/>
            <a:chOff x="457200" y="1447920"/>
            <a:chExt cx="8305560" cy="4978080"/>
          </a:xfrm>
        </p:grpSpPr>
        <p:sp>
          <p:nvSpPr>
            <p:cNvPr id="159" name=""/>
            <p:cNvSpPr/>
            <p:nvPr/>
          </p:nvSpPr>
          <p:spPr>
            <a:xfrm>
              <a:off x="4722840" y="5576760"/>
              <a:ext cx="4039920" cy="849240"/>
            </a:xfrm>
            <a:prstGeom prst="rect">
              <a:avLst/>
            </a:prstGeom>
            <a:solidFill>
              <a:srgbClr val="fecaed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quivalent Qua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2840" y="4544280"/>
              <a:ext cx="4039920" cy="849240"/>
            </a:xfrm>
            <a:prstGeom prst="rect">
              <a:avLst/>
            </a:prstGeom>
            <a:solidFill>
              <a:srgbClr val="ba7df1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fficient Sales an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2840" y="3512160"/>
              <a:ext cx="4039920" cy="849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ndardize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2840" y="2479680"/>
              <a:ext cx="4039920" cy="849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ckage Uniform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2840" y="1447920"/>
              <a:ext cx="4039920" cy="849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vertising Econom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8440" y="3918960"/>
              <a:ext cx="25837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6880" y="2853000"/>
              <a:ext cx="2653200" cy="106776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06880" y="391896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6880" y="183708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6880" y="495144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491920"/>
              <a:ext cx="3151080" cy="28162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af83d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hy Form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duct Lin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33360" y="173952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2755800"/>
              <a:ext cx="2502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3360" y="3805560"/>
              <a:ext cx="2502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33360" y="485424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3360" y="590436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 flipV="1" rot="16200000">
            <a:off x="-1410120" y="3846960"/>
            <a:ext cx="4343400" cy="304920"/>
          </a:xfrm>
          <a:prstGeom prst="leftRightArrow">
            <a:avLst>
              <a:gd name="adj1" fmla="val 50000"/>
              <a:gd name="adj2" fmla="val 283569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06:47Z</dcterms:created>
  <dc:creator>kristof</dc:creator>
  <dc:description/>
  <dc:language>en-US</dc:language>
  <cp:lastModifiedBy>Martin Krištof</cp:lastModifiedBy>
  <dcterms:modified xsi:type="dcterms:W3CDTF">2007-04-01T22:03:09Z</dcterms:modified>
  <cp:revision>11</cp:revision>
  <dc:subject/>
  <dc:title>Prezentace aplikace PowerPoint</dc:title>
</cp:coreProperties>
</file>