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914400"/>
            <a:ext cx="8991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ffff"/>
                </a:solidFill>
                <a:latin typeface="Book Antiqua"/>
                <a:ea typeface="新細明體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External Environment: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新細明體"/>
              </a:rPr>
              <a:t>Opportunities, Threats, Competition, and Competitor Analysi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</a:rPr>
              <a:t>&amp;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Book Antiqua"/>
              </a:rPr>
              <a:t>Introduction to Marketing MIX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522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ECTURE 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86728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pring 200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15920"/>
            <a:ext cx="914400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Bargaining Power of Buy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64240" y="1657440"/>
            <a:ext cx="3985560" cy="3962160"/>
            <a:chOff x="4764240" y="1657440"/>
            <a:chExt cx="3985560" cy="3962160"/>
          </a:xfrm>
        </p:grpSpPr>
        <p:sp>
          <p:nvSpPr>
            <p:cNvPr id="157" name=""/>
            <p:cNvSpPr/>
            <p:nvPr/>
          </p:nvSpPr>
          <p:spPr>
            <a:xfrm flipH="1">
              <a:off x="5396760" y="1657440"/>
              <a:ext cx="3352680" cy="3962160"/>
            </a:xfrm>
            <a:custGeom>
              <a:avLst/>
              <a:gdLst>
                <a:gd name="textAreaLeft" fmla="*/ -360 w 3352680"/>
                <a:gd name="textAreaRight" fmla="*/ 3352680 w 335268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764240" y="1935000"/>
              <a:ext cx="3984480" cy="3080160"/>
              <a:chOff x="4764240" y="1935000"/>
              <a:chExt cx="3984480" cy="3080160"/>
            </a:xfrm>
          </p:grpSpPr>
          <p:sp>
            <p:nvSpPr>
              <p:cNvPr id="159" name=""/>
              <p:cNvSpPr/>
              <p:nvPr/>
            </p:nvSpPr>
            <p:spPr>
              <a:xfrm>
                <a:off x="5992920" y="1935000"/>
                <a:ext cx="2755800" cy="1186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Buyers compete with the supplying industry by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64240" y="3397320"/>
                <a:ext cx="3927240" cy="39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* 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Bargaining down pric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11680" y="3865680"/>
                <a:ext cx="3137040" cy="39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TW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* 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Forcing higher qualit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95960" y="4334040"/>
                <a:ext cx="2552760" cy="39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TW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* 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Playing firms off of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53440" y="4621320"/>
                <a:ext cx="1295280" cy="39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each oth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192960" y="857160"/>
            <a:ext cx="556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uyer groups are likely to be powerful i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1558800"/>
            <a:ext cx="5429160" cy="5223600"/>
            <a:chOff x="304920" y="1558800"/>
            <a:chExt cx="5429160" cy="5223600"/>
          </a:xfrm>
        </p:grpSpPr>
        <p:sp>
          <p:nvSpPr>
            <p:cNvPr id="166" name=""/>
            <p:cNvSpPr/>
            <p:nvPr/>
          </p:nvSpPr>
          <p:spPr>
            <a:xfrm>
              <a:off x="527040" y="1558800"/>
              <a:ext cx="51274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uyers are concentrated or purchases are large relative to seller’s s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040" y="2479680"/>
              <a:ext cx="52070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urchase accounts for a significant fraction of supplier’s s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0560" y="3394080"/>
              <a:ext cx="3727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roducts are undifferenti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040" y="3925800"/>
              <a:ext cx="4800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uyers face few switching cos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2360" y="4459320"/>
              <a:ext cx="4354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uyers’ industry earns low prof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7040" y="499284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uyer presents a credible threat of backward 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0200" y="5830920"/>
              <a:ext cx="393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roduct unimportant to 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640" y="6364440"/>
              <a:ext cx="3430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uyer has full infor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1752480"/>
              <a:ext cx="17136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2571840"/>
              <a:ext cx="17136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920" y="3486240"/>
              <a:ext cx="17136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4019400"/>
              <a:ext cx="17136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920" y="4552920"/>
              <a:ext cx="17136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920" y="5086440"/>
              <a:ext cx="17136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20" y="5924520"/>
              <a:ext cx="17136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6458040"/>
              <a:ext cx="17136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124080" y="4876920"/>
            <a:ext cx="2895840" cy="1828800"/>
            <a:chOff x="3124080" y="4876920"/>
            <a:chExt cx="2895840" cy="1828800"/>
          </a:xfrm>
        </p:grpSpPr>
        <p:sp>
          <p:nvSpPr>
            <p:cNvPr id="18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625920" y="4876920"/>
              <a:ext cx="1828800" cy="18288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65520" y="5388120"/>
              <a:ext cx="174960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Threat of Substitute Produc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65520" y="1295280"/>
            <a:ext cx="144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rot="16200000">
            <a:off x="3630960" y="1323720"/>
            <a:ext cx="1815840" cy="1816200"/>
          </a:xfrm>
          <a:custGeom>
            <a:avLst/>
            <a:gdLst>
              <a:gd name="textAreaLeft" fmla="*/ 360 w 1815840"/>
              <a:gd name="textAreaRight" fmla="*/ 1816560 w 181584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51400" y="1498680"/>
            <a:ext cx="19778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920" y="3003480"/>
            <a:ext cx="1815840" cy="1816200"/>
          </a:xfrm>
          <a:custGeom>
            <a:avLst/>
            <a:gdLst>
              <a:gd name="textAreaLeft" fmla="*/ 360 w 1815840"/>
              <a:gd name="textAreaRight" fmla="*/ 1816560 w 181584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1920" y="3003480"/>
            <a:ext cx="1816200" cy="18162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05680" y="3341520"/>
            <a:ext cx="17492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Bargaining Power of Buy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25360" y="3341520"/>
            <a:ext cx="1737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Bargaining Power of Supp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Porter’s Five For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Model of Competi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3120"/>
            <a:ext cx="914400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Threat of Substitute Produc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480" y="1828800"/>
            <a:ext cx="2590920" cy="3048120"/>
            <a:chOff x="609480" y="1828800"/>
            <a:chExt cx="2590920" cy="3048120"/>
          </a:xfrm>
        </p:grpSpPr>
        <p:sp>
          <p:nvSpPr>
            <p:cNvPr id="196" name=""/>
            <p:cNvSpPr/>
            <p:nvPr/>
          </p:nvSpPr>
          <p:spPr>
            <a:xfrm>
              <a:off x="609480" y="1828800"/>
              <a:ext cx="2590920" cy="304812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6560" y="2197080"/>
              <a:ext cx="1930320" cy="228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roducts with similar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function</a:t>
              </a:r>
              <a:r>
                <a:rPr b="1" i="1" lang="en-US" sz="2400" spc="-1" strike="noStrike">
                  <a:solidFill>
                    <a:srgbClr val="ef9100"/>
                  </a:solidFill>
                  <a:latin typeface="Times New Roman"/>
                  <a:ea typeface="新細明體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limit the prices firms can char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488040" y="1511280"/>
            <a:ext cx="499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Keys to evaluate substitute produ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176720" y="2197080"/>
            <a:ext cx="5384880" cy="4205160"/>
            <a:chOff x="4176720" y="2197080"/>
            <a:chExt cx="5384880" cy="4205160"/>
          </a:xfrm>
        </p:grpSpPr>
        <p:sp>
          <p:nvSpPr>
            <p:cNvPr id="200" name=""/>
            <p:cNvSpPr/>
            <p:nvPr/>
          </p:nvSpPr>
          <p:spPr>
            <a:xfrm>
              <a:off x="4176720" y="2197080"/>
              <a:ext cx="43560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roducts with improving price/performance tradeoffs relative to present industry produc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76720" y="4138560"/>
              <a:ext cx="444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Example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4633920"/>
              <a:ext cx="4532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lectronic security systems in place of security guar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5581800"/>
              <a:ext cx="4532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Fax machines in place of overnight mail delive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480060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4280" y="577224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3632040" y="4882680"/>
            <a:ext cx="1816200" cy="18162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65520" y="5388120"/>
            <a:ext cx="17496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e"/>
                </a:solidFill>
                <a:latin typeface="Times New Roman"/>
                <a:ea typeface="新細明體"/>
              </a:rPr>
              <a:t>Threat of Substitute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65520" y="1355760"/>
            <a:ext cx="144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16200000">
            <a:off x="3630960" y="1384200"/>
            <a:ext cx="1816200" cy="1816200"/>
          </a:xfrm>
          <a:custGeom>
            <a:avLst/>
            <a:gdLst>
              <a:gd name="textAreaLeft" fmla="*/ -360 w 1816200"/>
              <a:gd name="textAreaRight" fmla="*/ 181620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51400" y="1558800"/>
            <a:ext cx="19778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e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095160" y="3003480"/>
            <a:ext cx="1816200" cy="1816200"/>
          </a:xfrm>
          <a:custGeom>
            <a:avLst/>
            <a:gdLst>
              <a:gd name="textAreaLeft" fmla="*/ -360 w 1816200"/>
              <a:gd name="textAreaRight" fmla="*/ 181620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5600" y="3003480"/>
            <a:ext cx="1816200" cy="18162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174840" y="3352680"/>
            <a:ext cx="2730600" cy="1314360"/>
            <a:chOff x="3174840" y="3352680"/>
            <a:chExt cx="2730600" cy="1314360"/>
          </a:xfrm>
        </p:grpSpPr>
        <p:sp>
          <p:nvSpPr>
            <p:cNvPr id="215" name=""/>
            <p:cNvSpPr/>
            <p:nvPr/>
          </p:nvSpPr>
          <p:spPr>
            <a:xfrm>
              <a:off x="3174840" y="3352680"/>
              <a:ext cx="2730600" cy="1314360"/>
            </a:xfrm>
            <a:prstGeom prst="octagon">
              <a:avLst>
                <a:gd name="adj" fmla="val 29264"/>
              </a:avLst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8320" y="3429000"/>
              <a:ext cx="266400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ivalry Among Competing Firms in Indust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281640" y="3341520"/>
            <a:ext cx="17496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e"/>
                </a:solidFill>
                <a:latin typeface="Times New Roman"/>
                <a:ea typeface="新細明體"/>
              </a:rPr>
              <a:t>Bargaining Power of Buy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9400" y="3341520"/>
            <a:ext cx="17366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e"/>
                </a:solidFill>
                <a:latin typeface="Times New Roman"/>
                <a:ea typeface="新細明體"/>
              </a:rPr>
              <a:t>Bargaining Power of Supp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Porter’s Five For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Model of Competi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Rivalry Among Existing Competi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20840" y="1143000"/>
            <a:ext cx="8305560" cy="2942280"/>
            <a:chOff x="420840" y="1143000"/>
            <a:chExt cx="8305560" cy="2942280"/>
          </a:xfrm>
        </p:grpSpPr>
        <p:sp>
          <p:nvSpPr>
            <p:cNvPr id="222" name=""/>
            <p:cNvSpPr/>
            <p:nvPr/>
          </p:nvSpPr>
          <p:spPr>
            <a:xfrm>
              <a:off x="420840" y="1143000"/>
              <a:ext cx="830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Intense rivalry often plays out in the following way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803240"/>
              <a:ext cx="48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Jockeying for strategic 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2260440"/>
              <a:ext cx="48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Using price compet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2717640"/>
              <a:ext cx="48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taging advertising batt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3630600"/>
              <a:ext cx="664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Making new product introdu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04840" y="3174840"/>
              <a:ext cx="580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Increasing consumer warranties or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19810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24382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28954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8080" y="333360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379080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20840" y="4253040"/>
            <a:ext cx="8619840" cy="1915560"/>
            <a:chOff x="420840" y="4253040"/>
            <a:chExt cx="8619840" cy="1915560"/>
          </a:xfrm>
        </p:grpSpPr>
        <p:sp>
          <p:nvSpPr>
            <p:cNvPr id="234" name=""/>
            <p:cNvSpPr/>
            <p:nvPr/>
          </p:nvSpPr>
          <p:spPr>
            <a:xfrm>
              <a:off x="420840" y="4253040"/>
              <a:ext cx="8619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Occurs when a firm is pressured or sees an opportun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3400" y="482436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rice competition often leaves the entire industry worse of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400" y="5348160"/>
              <a:ext cx="75182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Advertising battles may increase total industry demand, but may be costly to smaller compet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9528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546732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7720" y="109224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utthro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mpet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is more likely to occur wh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Rivalry Among Existing Competi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585800" y="1795320"/>
            <a:ext cx="7315200" cy="4833720"/>
            <a:chOff x="1585800" y="1795320"/>
            <a:chExt cx="7315200" cy="4833720"/>
          </a:xfrm>
        </p:grpSpPr>
        <p:sp>
          <p:nvSpPr>
            <p:cNvPr id="243" name=""/>
            <p:cNvSpPr/>
            <p:nvPr/>
          </p:nvSpPr>
          <p:spPr>
            <a:xfrm>
              <a:off x="1585800" y="1795320"/>
              <a:ext cx="7315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Numerous or equally balanced competito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87600" y="2328840"/>
              <a:ext cx="4889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low growth indust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87600" y="2862360"/>
              <a:ext cx="4889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igh fixed co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85800" y="397980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Lack of differentiation or switching co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87600" y="3394080"/>
              <a:ext cx="3517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igh storage co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85800" y="451332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Capacity added in large incremen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85800" y="558000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igh strategic stak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85800" y="611352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igh exit barrie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85800" y="504684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Diverse competito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295280" y="1998720"/>
            <a:ext cx="171720" cy="4419720"/>
            <a:chOff x="1295280" y="1998720"/>
            <a:chExt cx="171720" cy="4419720"/>
          </a:xfrm>
        </p:grpSpPr>
        <p:sp>
          <p:nvSpPr>
            <p:cNvPr id="253" name=""/>
            <p:cNvSpPr/>
            <p:nvPr/>
          </p:nvSpPr>
          <p:spPr>
            <a:xfrm>
              <a:off x="1295280" y="199872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5280" y="251316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280" y="304632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5280" y="357984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280" y="411336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280" y="464652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518004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5280" y="571356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5280" y="624672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47720" y="1092240"/>
            <a:ext cx="816624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 exit barriers</a:t>
            </a:r>
            <a:r>
              <a:rPr b="1" i="1" lang="en-US" sz="2800" spc="-1" strike="noStrike">
                <a:solidFill>
                  <a:srgbClr val="ef91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 economic, strategic and emotional factors which cause companies to remain in an industry even when future profitability is question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585800" y="3211560"/>
            <a:ext cx="6642360" cy="2725200"/>
            <a:chOff x="1585800" y="3211560"/>
            <a:chExt cx="6642360" cy="2725200"/>
          </a:xfrm>
        </p:grpSpPr>
        <p:sp>
          <p:nvSpPr>
            <p:cNvPr id="264" name=""/>
            <p:cNvSpPr/>
            <p:nvPr/>
          </p:nvSpPr>
          <p:spPr>
            <a:xfrm>
              <a:off x="1585800" y="321156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pecialized asse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85800" y="374508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Fixed cost of exit (e.g., labor agreement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7600" y="4888080"/>
              <a:ext cx="3340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motional barrie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85800" y="542124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Government and social restri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85800" y="4278240"/>
              <a:ext cx="664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trategic interrelationship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Rivalry Among Existing Competi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3429000"/>
            <a:ext cx="171720" cy="2305080"/>
            <a:chOff x="1295280" y="3429000"/>
            <a:chExt cx="171720" cy="2305080"/>
          </a:xfrm>
        </p:grpSpPr>
        <p:sp>
          <p:nvSpPr>
            <p:cNvPr id="271" name=""/>
            <p:cNvSpPr/>
            <p:nvPr/>
          </p:nvSpPr>
          <p:spPr>
            <a:xfrm>
              <a:off x="1295280" y="342900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95280" y="396252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95280" y="44956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5280" y="502920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5280" y="556272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5408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Effects of Entry Barriers and Exit Barriers on Industry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800" y="4213080"/>
            <a:ext cx="1308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ntr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66440" y="160020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it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1800" y="537048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19920" y="339084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7320" y="205740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9840" y="205740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59160" y="2692440"/>
            <a:ext cx="271764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78320" y="269244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59160" y="4673520"/>
            <a:ext cx="271764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78320" y="467352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459160" y="2692440"/>
            <a:ext cx="2717640" cy="1879560"/>
          </a:xfrm>
          <a:prstGeom prst="rect">
            <a:avLst/>
          </a:prstGeom>
          <a:solidFill>
            <a:srgbClr val="ef91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78320" y="269244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59160" y="4673520"/>
            <a:ext cx="271764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78320" y="467352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5680" y="316080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213080"/>
            <a:ext cx="1308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ntr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66440" y="160020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it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1800" y="537048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19920" y="339084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77320" y="205740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89840" y="205740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5408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Effects of Entry Barriers and Exit Barriers on Industry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459160" y="2730600"/>
            <a:ext cx="2717640" cy="1879560"/>
          </a:xfrm>
          <a:prstGeom prst="rect">
            <a:avLst/>
          </a:prstGeom>
          <a:solidFill>
            <a:srgbClr val="919191"/>
          </a:solidFill>
          <a:ln w="2556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78320" y="273060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59160" y="4711680"/>
            <a:ext cx="2717640" cy="1879560"/>
          </a:xfrm>
          <a:prstGeom prst="rect">
            <a:avLst/>
          </a:prstGeom>
          <a:solidFill>
            <a:srgbClr val="ef91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78320" y="471168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95680" y="51800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2800" y="4251240"/>
            <a:ext cx="1308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ntr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66440" y="163836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it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1800" y="540864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19920" y="342900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7320" y="209556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89840" y="209556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95680" y="319896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Low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5408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Effects of Entry Barriers and Exit Barriers on Industry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>
            <a:off x="2858760" y="4693320"/>
            <a:ext cx="453960" cy="290880"/>
          </a:xfrm>
          <a:prstGeom prst="line">
            <a:avLst/>
          </a:prstGeom>
          <a:ln w="3816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4876920"/>
            <a:ext cx="2171880" cy="820440"/>
            <a:chOff x="685800" y="4876920"/>
            <a:chExt cx="2171880" cy="820440"/>
          </a:xfrm>
        </p:grpSpPr>
        <p:sp>
          <p:nvSpPr>
            <p:cNvPr id="46" name=""/>
            <p:cNvSpPr/>
            <p:nvPr/>
          </p:nvSpPr>
          <p:spPr>
            <a:xfrm>
              <a:off x="685800" y="4940280"/>
              <a:ext cx="2171880" cy="72396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5760" y="4876920"/>
              <a:ext cx="1373400" cy="82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olitical/Leg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463920" y="990720"/>
            <a:ext cx="2171880" cy="723960"/>
            <a:chOff x="3463920" y="990720"/>
            <a:chExt cx="2171880" cy="723960"/>
          </a:xfrm>
        </p:grpSpPr>
        <p:sp>
          <p:nvSpPr>
            <p:cNvPr id="49" name=""/>
            <p:cNvSpPr/>
            <p:nvPr/>
          </p:nvSpPr>
          <p:spPr>
            <a:xfrm>
              <a:off x="3463920" y="990720"/>
              <a:ext cx="2171880" cy="72396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9880" y="1095480"/>
              <a:ext cx="14814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conom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 flipV="1">
            <a:off x="4532400" y="1826280"/>
            <a:ext cx="2880" cy="538560"/>
          </a:xfrm>
          <a:prstGeom prst="line">
            <a:avLst/>
          </a:prstGeom>
          <a:ln w="3816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89200" y="5981760"/>
            <a:ext cx="2171880" cy="723960"/>
            <a:chOff x="3589200" y="5981760"/>
            <a:chExt cx="2171880" cy="723960"/>
          </a:xfrm>
        </p:grpSpPr>
        <p:sp>
          <p:nvSpPr>
            <p:cNvPr id="53" name=""/>
            <p:cNvSpPr/>
            <p:nvPr/>
          </p:nvSpPr>
          <p:spPr>
            <a:xfrm>
              <a:off x="3589200" y="5981760"/>
              <a:ext cx="2171880" cy="72396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600" y="6095880"/>
              <a:ext cx="20397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Technologi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 flipH="1" flipV="1">
            <a:off x="4532400" y="5330880"/>
            <a:ext cx="2880" cy="538920"/>
          </a:xfrm>
          <a:prstGeom prst="line">
            <a:avLst/>
          </a:prstGeom>
          <a:ln w="3816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286680" y="5029200"/>
            <a:ext cx="2171520" cy="723960"/>
            <a:chOff x="6286680" y="5029200"/>
            <a:chExt cx="2171520" cy="723960"/>
          </a:xfrm>
        </p:grpSpPr>
        <p:sp>
          <p:nvSpPr>
            <p:cNvPr id="57" name=""/>
            <p:cNvSpPr/>
            <p:nvPr/>
          </p:nvSpPr>
          <p:spPr>
            <a:xfrm>
              <a:off x="6286680" y="5029200"/>
              <a:ext cx="2171520" cy="72396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92840" y="5121360"/>
              <a:ext cx="116388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Glob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907240" y="4693320"/>
            <a:ext cx="453600" cy="290880"/>
          </a:xfrm>
          <a:prstGeom prst="line">
            <a:avLst/>
          </a:prstGeom>
          <a:ln w="3816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1943280"/>
            <a:ext cx="2171880" cy="723600"/>
            <a:chOff x="838080" y="1943280"/>
            <a:chExt cx="2171880" cy="723600"/>
          </a:xfrm>
        </p:grpSpPr>
        <p:sp>
          <p:nvSpPr>
            <p:cNvPr id="61" name=""/>
            <p:cNvSpPr/>
            <p:nvPr/>
          </p:nvSpPr>
          <p:spPr>
            <a:xfrm>
              <a:off x="838080" y="1943280"/>
              <a:ext cx="2171880" cy="72360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4880" y="2048040"/>
              <a:ext cx="19731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Demograph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 flipV="1">
            <a:off x="2858760" y="2788200"/>
            <a:ext cx="453960" cy="290880"/>
          </a:xfrm>
          <a:prstGeom prst="line">
            <a:avLst/>
          </a:prstGeom>
          <a:ln w="3816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362640" y="2095560"/>
            <a:ext cx="2171880" cy="723960"/>
            <a:chOff x="6362640" y="2095560"/>
            <a:chExt cx="2171880" cy="723960"/>
          </a:xfrm>
        </p:grpSpPr>
        <p:sp>
          <p:nvSpPr>
            <p:cNvPr id="65" name=""/>
            <p:cNvSpPr/>
            <p:nvPr/>
          </p:nvSpPr>
          <p:spPr>
            <a:xfrm>
              <a:off x="6362640" y="2095560"/>
              <a:ext cx="2171880" cy="72396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5320" y="2209680"/>
              <a:ext cx="19479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ociocultu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5830920" y="2788200"/>
            <a:ext cx="453960" cy="290880"/>
          </a:xfrm>
          <a:prstGeom prst="line">
            <a:avLst/>
          </a:prstGeom>
          <a:ln w="38160">
            <a:solidFill>
              <a:srgbClr val="f6bf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124080" y="2438280"/>
            <a:ext cx="2971800" cy="2743200"/>
            <a:chOff x="3124080" y="2438280"/>
            <a:chExt cx="2971800" cy="2743200"/>
          </a:xfrm>
        </p:grpSpPr>
        <p:sp>
          <p:nvSpPr>
            <p:cNvPr id="69" name=""/>
            <p:cNvSpPr/>
            <p:nvPr/>
          </p:nvSpPr>
          <p:spPr>
            <a:xfrm>
              <a:off x="3124080" y="2438280"/>
              <a:ext cx="2971800" cy="2743200"/>
            </a:xfrm>
            <a:prstGeom prst="hexagon">
              <a:avLst>
                <a:gd name="adj" fmla="val 27083"/>
                <a:gd name="vf" fmla="val 115470"/>
              </a:avLst>
            </a:prstGeom>
            <a:solidFill>
              <a:srgbClr val="009688"/>
            </a:solidFill>
            <a:ln w="12600">
              <a:solidFill>
                <a:srgbClr val="00353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0080" y="3981600"/>
              <a:ext cx="2527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Competi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nviro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16400" y="2743200"/>
              <a:ext cx="2527200" cy="82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Industry Enviro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7040" y="3809880"/>
              <a:ext cx="2958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onents of the General Environmen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459160" y="2730600"/>
            <a:ext cx="2717640" cy="1879560"/>
          </a:xfrm>
          <a:prstGeom prst="rect">
            <a:avLst/>
          </a:prstGeom>
          <a:solidFill>
            <a:srgbClr val="919191"/>
          </a:solidFill>
          <a:ln w="2556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78320" y="2730600"/>
            <a:ext cx="2718000" cy="1879560"/>
          </a:xfrm>
          <a:prstGeom prst="rect">
            <a:avLst/>
          </a:prstGeom>
          <a:solidFill>
            <a:srgbClr val="ef91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9160" y="4711680"/>
            <a:ext cx="2717640" cy="1879560"/>
          </a:xfrm>
          <a:prstGeom prst="rect">
            <a:avLst/>
          </a:prstGeom>
          <a:solidFill>
            <a:srgbClr val="919191"/>
          </a:solidFill>
          <a:ln w="2556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8320" y="4711680"/>
            <a:ext cx="2718000" cy="1879560"/>
          </a:xfrm>
          <a:prstGeom prst="rect">
            <a:avLst/>
          </a:prstGeom>
          <a:gradFill rotWithShape="0">
            <a:gsLst>
              <a:gs pos="0">
                <a:srgbClr val="008679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14840" y="3198960"/>
            <a:ext cx="224496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, Risky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2800" y="4251240"/>
            <a:ext cx="1308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ntr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66440" y="163836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it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1800" y="540864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19920" y="342900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77320" y="209556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89840" y="209556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95680" y="319896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Low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95680" y="51800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High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5408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Effects of Entry Barriers and Exit Barriers on Industry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459160" y="2692440"/>
            <a:ext cx="2717640" cy="1879560"/>
          </a:xfrm>
          <a:prstGeom prst="rect">
            <a:avLst/>
          </a:prstGeom>
          <a:solidFill>
            <a:srgbClr val="919191"/>
          </a:solidFill>
          <a:ln w="2556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78320" y="2692440"/>
            <a:ext cx="2718000" cy="1879560"/>
          </a:xfrm>
          <a:prstGeom prst="rect">
            <a:avLst/>
          </a:prstGeom>
          <a:solidFill>
            <a:srgbClr val="919191"/>
          </a:solidFill>
          <a:ln w="2556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59160" y="4673520"/>
            <a:ext cx="2717640" cy="1879560"/>
          </a:xfrm>
          <a:prstGeom prst="rect">
            <a:avLst/>
          </a:prstGeom>
          <a:solidFill>
            <a:srgbClr val="919191"/>
          </a:solidFill>
          <a:ln w="2556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78320" y="4673520"/>
            <a:ext cx="2718000" cy="1879560"/>
          </a:xfrm>
          <a:prstGeom prst="rect">
            <a:avLst/>
          </a:prstGeom>
          <a:solidFill>
            <a:srgbClr val="ef91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14840" y="5141880"/>
            <a:ext cx="224496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, Risky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2800" y="4213080"/>
            <a:ext cx="1308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ntr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66440" y="160020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it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1800" y="537048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19920" y="339084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77320" y="205740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89840" y="205740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95680" y="316080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Low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95680" y="514188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High, Stabl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4840" y="3160800"/>
            <a:ext cx="224496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Low, Risky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5408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Effects of Entry Barriers and Exit Barriers on Industry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04920" y="1052640"/>
            <a:ext cx="6796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follow-up to Industry Analysis is effective analysis of a firm’s </a:t>
            </a:r>
            <a:r>
              <a:rPr b="1" i="1" lang="en-US" sz="2800" spc="-1" strike="noStrike">
                <a:solidFill>
                  <a:srgbClr val="ef9100"/>
                </a:solidFill>
                <a:latin typeface="Times New Roman"/>
                <a:ea typeface="新細明體"/>
              </a:rPr>
              <a:t>Compet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124080" y="2438280"/>
            <a:ext cx="2971800" cy="2743200"/>
            <a:chOff x="3124080" y="2438280"/>
            <a:chExt cx="2971800" cy="2743200"/>
          </a:xfrm>
        </p:grpSpPr>
        <p:sp>
          <p:nvSpPr>
            <p:cNvPr id="344" name=""/>
            <p:cNvSpPr/>
            <p:nvPr/>
          </p:nvSpPr>
          <p:spPr>
            <a:xfrm>
              <a:off x="3124080" y="2438280"/>
              <a:ext cx="2971800" cy="2743200"/>
            </a:xfrm>
            <a:prstGeom prst="hexagon">
              <a:avLst>
                <a:gd name="adj" fmla="val 27083"/>
                <a:gd name="vf" fmla="val 115470"/>
              </a:avLst>
            </a:prstGeom>
            <a:solidFill>
              <a:srgbClr val="009688"/>
            </a:solidFill>
            <a:ln w="12600">
              <a:solidFill>
                <a:srgbClr val="00353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0080" y="3981600"/>
              <a:ext cx="2527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f9100"/>
                  </a:solidFill>
                  <a:latin typeface="Times New Roman"/>
                  <a:ea typeface="新細明體"/>
                </a:rPr>
                <a:t>Competi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f9100"/>
                  </a:solidFill>
                  <a:latin typeface="Times New Roman"/>
                  <a:ea typeface="新細明體"/>
                </a:rPr>
                <a:t>Enviro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16400" y="2743200"/>
              <a:ext cx="2527200" cy="82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Industry Enviro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37040" y="3809880"/>
              <a:ext cx="2958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2280" y="968400"/>
            <a:ext cx="4800600" cy="1740600"/>
            <a:chOff x="152280" y="968400"/>
            <a:chExt cx="4800600" cy="1740600"/>
          </a:xfrm>
        </p:grpSpPr>
        <p:grpSp>
          <p:nvGrpSpPr>
            <p:cNvPr id="350" name=""/>
            <p:cNvGrpSpPr/>
            <p:nvPr/>
          </p:nvGrpSpPr>
          <p:grpSpPr>
            <a:xfrm>
              <a:off x="152280" y="968400"/>
              <a:ext cx="4800600" cy="1447920"/>
              <a:chOff x="152280" y="968400"/>
              <a:chExt cx="4800600" cy="1447920"/>
            </a:xfrm>
          </p:grpSpPr>
          <p:sp>
            <p:nvSpPr>
              <p:cNvPr id="351" name=""/>
              <p:cNvSpPr/>
              <p:nvPr/>
            </p:nvSpPr>
            <p:spPr>
              <a:xfrm>
                <a:off x="152280" y="968400"/>
                <a:ext cx="4800600" cy="1447920"/>
              </a:xfrm>
              <a:prstGeom prst="bevel">
                <a:avLst>
                  <a:gd name="adj" fmla="val 5681"/>
                </a:avLst>
              </a:prstGeom>
              <a:solidFill>
                <a:srgbClr val="003530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960" y="968400"/>
                <a:ext cx="2124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6bf69"/>
                    </a:solidFill>
                    <a:latin typeface="Times New Roman"/>
                    <a:ea typeface="新細明體"/>
                  </a:rPr>
                  <a:t>Assumption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23800" y="1322280"/>
              <a:ext cx="4353120" cy="13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What assumptions do our competitors hold about the future of industry and themselves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52280" y="2514600"/>
            <a:ext cx="4800600" cy="1456920"/>
            <a:chOff x="152280" y="2514600"/>
            <a:chExt cx="4800600" cy="1456920"/>
          </a:xfrm>
        </p:grpSpPr>
        <p:sp>
          <p:nvSpPr>
            <p:cNvPr id="355" name=""/>
            <p:cNvSpPr/>
            <p:nvPr/>
          </p:nvSpPr>
          <p:spPr>
            <a:xfrm>
              <a:off x="152280" y="2514600"/>
              <a:ext cx="4800600" cy="1447920"/>
            </a:xfrm>
            <a:prstGeom prst="bevel">
              <a:avLst>
                <a:gd name="adj" fmla="val 5681"/>
              </a:avLst>
            </a:prstGeom>
            <a:solidFill>
              <a:srgbClr val="003530"/>
            </a:solidFill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7960" y="2514600"/>
              <a:ext cx="302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Current Strate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800" y="2895480"/>
              <a:ext cx="4353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Does our current strategy support changes in the competitive environmen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2280" y="4038480"/>
            <a:ext cx="4876920" cy="1447920"/>
            <a:chOff x="152280" y="4038480"/>
            <a:chExt cx="4876920" cy="1447920"/>
          </a:xfrm>
        </p:grpSpPr>
        <p:sp>
          <p:nvSpPr>
            <p:cNvPr id="359" name=""/>
            <p:cNvSpPr/>
            <p:nvPr/>
          </p:nvSpPr>
          <p:spPr>
            <a:xfrm>
              <a:off x="152280" y="4038480"/>
              <a:ext cx="4800600" cy="1447920"/>
            </a:xfrm>
            <a:prstGeom prst="bevel">
              <a:avLst>
                <a:gd name="adj" fmla="val 5681"/>
              </a:avLst>
            </a:prstGeom>
            <a:solidFill>
              <a:srgbClr val="003530"/>
            </a:solidFill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7960" y="4038480"/>
              <a:ext cx="4334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Future Objec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520" y="4419720"/>
              <a:ext cx="44956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ow do our goals compare to our competitors’ goals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52280" y="5562720"/>
            <a:ext cx="4800600" cy="1127880"/>
            <a:chOff x="152280" y="5562720"/>
            <a:chExt cx="4800600" cy="1127880"/>
          </a:xfrm>
        </p:grpSpPr>
        <p:sp>
          <p:nvSpPr>
            <p:cNvPr id="363" name=""/>
            <p:cNvSpPr/>
            <p:nvPr/>
          </p:nvSpPr>
          <p:spPr>
            <a:xfrm>
              <a:off x="152280" y="5562720"/>
              <a:ext cx="4800600" cy="1066680"/>
            </a:xfrm>
            <a:prstGeom prst="bevel">
              <a:avLst>
                <a:gd name="adj" fmla="val 5681"/>
              </a:avLst>
            </a:prstGeom>
            <a:solidFill>
              <a:srgbClr val="003530"/>
            </a:solidFill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7960" y="5562720"/>
              <a:ext cx="302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Capabil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3800" y="5943600"/>
              <a:ext cx="4353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ow do our capabilities compare to our competitors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486400" y="1676520"/>
            <a:ext cx="3390840" cy="4178880"/>
            <a:chOff x="5486400" y="1676520"/>
            <a:chExt cx="3390840" cy="4178880"/>
          </a:xfrm>
        </p:grpSpPr>
        <p:sp>
          <p:nvSpPr>
            <p:cNvPr id="367" name=""/>
            <p:cNvSpPr/>
            <p:nvPr/>
          </p:nvSpPr>
          <p:spPr>
            <a:xfrm>
              <a:off x="5486400" y="1678320"/>
              <a:ext cx="3390840" cy="4177080"/>
            </a:xfrm>
            <a:custGeom>
              <a:avLst/>
              <a:gdLst>
                <a:gd name="textAreaLeft" fmla="*/ 123480 w 3390840"/>
                <a:gd name="textAreaRight" fmla="*/ 3267360 w 3390840"/>
                <a:gd name="textAreaTop" fmla="*/ 123480 h 4177080"/>
                <a:gd name="textAreaBottom" fmla="*/ 4053600 h 4177080"/>
              </a:gdLst>
              <a:ahLst/>
              <a:rect l="textAreaLeft" t="textAreaTop" r="textAreaRight" b="textAreaBottom"/>
              <a:pathLst>
                <a:path w="21600" h="26608">
                  <a:moveTo>
                    <a:pt x="2691" y="0"/>
                  </a:moveTo>
                  <a:arcTo wR="2691" hR="2691" stAng="16200000" swAng="-5400000"/>
                  <a:lnTo>
                    <a:pt x="0" y="23917"/>
                  </a:lnTo>
                  <a:arcTo wR="2691" hR="2691" stAng="10800000" swAng="-5400000"/>
                  <a:lnTo>
                    <a:pt x="18909" y="26608"/>
                  </a:lnTo>
                  <a:arcTo wR="2691" hR="2691" stAng="5400000" swAng="-5400000"/>
                  <a:lnTo>
                    <a:pt x="21600" y="2691"/>
                  </a:lnTo>
                  <a:arcTo wR="2691" hR="2691" stAng="0" swAng="-5400000"/>
                  <a:close/>
                </a:path>
              </a:pathLst>
            </a:custGeom>
            <a:solidFill>
              <a:srgbClr val="003530"/>
            </a:solidFill>
            <a:ln w="12600">
              <a:solidFill>
                <a:srgbClr val="00353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18280" y="1676520"/>
              <a:ext cx="212400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espons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613480" y="2173320"/>
            <a:ext cx="3249360" cy="1076040"/>
            <a:chOff x="5613480" y="2173320"/>
            <a:chExt cx="3249360" cy="1076040"/>
          </a:xfrm>
        </p:grpSpPr>
        <p:sp>
          <p:nvSpPr>
            <p:cNvPr id="370" name=""/>
            <p:cNvSpPr/>
            <p:nvPr/>
          </p:nvSpPr>
          <p:spPr>
            <a:xfrm>
              <a:off x="5613480" y="2287800"/>
              <a:ext cx="152280" cy="1522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9240" y="2173320"/>
              <a:ext cx="3063600" cy="1076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What will our competitors do in the futu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613480" y="3328920"/>
            <a:ext cx="3173400" cy="1076040"/>
            <a:chOff x="5613480" y="3328920"/>
            <a:chExt cx="3173400" cy="1076040"/>
          </a:xfrm>
        </p:grpSpPr>
        <p:sp>
          <p:nvSpPr>
            <p:cNvPr id="373" name="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9240" y="3328920"/>
              <a:ext cx="2987640" cy="1076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Where do we have a competitive advantag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613480" y="4476600"/>
            <a:ext cx="3173400" cy="1076040"/>
            <a:chOff x="5613480" y="4476600"/>
            <a:chExt cx="3173400" cy="1076040"/>
          </a:xfrm>
        </p:grpSpPr>
        <p:sp>
          <p:nvSpPr>
            <p:cNvPr id="376" name="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9240" y="4476600"/>
              <a:ext cx="2987640" cy="1076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ow will this change our relationship with our competi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trips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159080" y="1060560"/>
            <a:ext cx="4775400" cy="67284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1023840"/>
            <a:ext cx="2810160" cy="2535480"/>
          </a:xfrm>
          <a:prstGeom prst="rect">
            <a:avLst/>
          </a:pr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1023840"/>
            <a:ext cx="744480" cy="2536920"/>
          </a:xfrm>
          <a:custGeom>
            <a:avLst/>
            <a:gdLst/>
            <a:ahLst/>
            <a:rect l="l" t="t" r="r" b="b"/>
            <a:pathLst>
              <a:path w="469" h="1598">
                <a:moveTo>
                  <a:pt x="0" y="0"/>
                </a:moveTo>
                <a:lnTo>
                  <a:pt x="468" y="774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5240" y="1708200"/>
            <a:ext cx="177840" cy="16488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6840" y="1090440"/>
            <a:ext cx="294336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uture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9600" y="1612800"/>
            <a:ext cx="308772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do our goals compare to our competitors’ goa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9600" y="2222640"/>
            <a:ext cx="30877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here will emphasis be placed in the futur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9600" y="2908440"/>
            <a:ext cx="30877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hat is the attitude toward ris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5240" y="2330280"/>
            <a:ext cx="17784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5240" y="2978280"/>
            <a:ext cx="177840" cy="16488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0560" y="1197000"/>
            <a:ext cx="396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What Drives the competit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59080" y="1060560"/>
            <a:ext cx="4788000" cy="111744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76600" y="1197000"/>
            <a:ext cx="41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新細明體"/>
              </a:rPr>
              <a:t>What is the competitor do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76600" y="1628640"/>
            <a:ext cx="41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新細明體"/>
              </a:rPr>
              <a:t>What can the competitor 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5400" y="976320"/>
            <a:ext cx="2850840" cy="26305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6440" y="1023840"/>
            <a:ext cx="2809800" cy="2535480"/>
          </a:xfrm>
          <a:prstGeom prst="rect">
            <a:avLst/>
          </a:pr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52720" y="971640"/>
            <a:ext cx="789120" cy="2636640"/>
          </a:xfrm>
          <a:custGeom>
            <a:avLst/>
            <a:gdLst/>
            <a:ahLst/>
            <a:rect l="l" t="t" r="r" b="b"/>
            <a:pathLst>
              <a:path w="497" h="1661">
                <a:moveTo>
                  <a:pt x="0" y="0"/>
                </a:moveTo>
                <a:lnTo>
                  <a:pt x="496" y="805"/>
                </a:lnTo>
                <a:lnTo>
                  <a:pt x="0" y="166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46240" y="1023840"/>
            <a:ext cx="744840" cy="2536920"/>
          </a:xfrm>
          <a:custGeom>
            <a:avLst/>
            <a:gdLst/>
            <a:ahLst/>
            <a:rect l="l" t="t" r="r" b="b"/>
            <a:pathLst>
              <a:path w="469" h="1598">
                <a:moveTo>
                  <a:pt x="0" y="0"/>
                </a:moveTo>
                <a:lnTo>
                  <a:pt x="468" y="774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5240" y="1670040"/>
            <a:ext cx="177840" cy="165240"/>
          </a:xfrm>
          <a:prstGeom prst="star5">
            <a:avLst/>
          </a:prstGeom>
          <a:solidFill>
            <a:srgbClr val="cecece"/>
          </a:solidFill>
          <a:ln w="1260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6840" y="1052640"/>
            <a:ext cx="294336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Future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9600" y="1574640"/>
            <a:ext cx="308772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How do our goals compare to our competitors’ goa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9600" y="2184480"/>
            <a:ext cx="30877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Where will emphasis be placed in the futur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9600" y="2870280"/>
            <a:ext cx="30877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What is the attitude toward ris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5240" y="2292480"/>
            <a:ext cx="177840" cy="164880"/>
          </a:xfrm>
          <a:prstGeom prst="star5">
            <a:avLst/>
          </a:prstGeom>
          <a:solidFill>
            <a:srgbClr val="cecece"/>
          </a:solidFill>
          <a:ln w="1260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5240" y="2940120"/>
            <a:ext cx="177840" cy="164880"/>
          </a:xfrm>
          <a:prstGeom prst="star5">
            <a:avLst/>
          </a:prstGeom>
          <a:solidFill>
            <a:srgbClr val="cecece"/>
          </a:solidFill>
          <a:ln w="12600">
            <a:solidFill>
              <a:srgbClr val="1b5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74880" y="1982880"/>
            <a:ext cx="2809800" cy="2535120"/>
          </a:xfrm>
          <a:prstGeom prst="rect">
            <a:avLst/>
          </a:pr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84680" y="1982880"/>
            <a:ext cx="744480" cy="2536560"/>
          </a:xfrm>
          <a:custGeom>
            <a:avLst/>
            <a:gdLst/>
            <a:ahLst/>
            <a:rect l="l" t="t" r="r" b="b"/>
            <a:pathLst>
              <a:path w="469" h="1598">
                <a:moveTo>
                  <a:pt x="0" y="0"/>
                </a:moveTo>
                <a:lnTo>
                  <a:pt x="468" y="774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73160" y="2087640"/>
            <a:ext cx="28051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urrent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27240" y="2610000"/>
            <a:ext cx="295740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are we currently compet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27240" y="3370320"/>
            <a:ext cx="295740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oes this strategy support changes in the competitive structur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920" y="2717640"/>
            <a:ext cx="177840" cy="16524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15920" y="3479760"/>
            <a:ext cx="17784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159080" y="1060560"/>
            <a:ext cx="4788000" cy="111744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16400" y="1197000"/>
            <a:ext cx="4559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新細明體"/>
              </a:rPr>
              <a:t>What does the competitor believe about itself and the industr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5400" y="971640"/>
            <a:ext cx="3646440" cy="2636640"/>
            <a:chOff x="95400" y="971640"/>
            <a:chExt cx="3646440" cy="2636640"/>
          </a:xfrm>
        </p:grpSpPr>
        <p:sp>
          <p:nvSpPr>
            <p:cNvPr id="415" name=""/>
            <p:cNvSpPr/>
            <p:nvPr/>
          </p:nvSpPr>
          <p:spPr>
            <a:xfrm>
              <a:off x="95400" y="976320"/>
              <a:ext cx="285084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6440" y="1023840"/>
              <a:ext cx="2809800" cy="2535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52720" y="97164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46240" y="1023840"/>
              <a:ext cx="74484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5240" y="167004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6840" y="1052640"/>
              <a:ext cx="294336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Future Objectiv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9600" y="1574640"/>
              <a:ext cx="308772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do our goals compare to our competitors’ goal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600" y="2184480"/>
              <a:ext cx="3087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ere will emphasis be placed in the futu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9600" y="2870280"/>
              <a:ext cx="3087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at is the attitude toward risk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5240" y="229248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5240" y="294012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39960" y="1943280"/>
            <a:ext cx="3646440" cy="2636640"/>
            <a:chOff x="939960" y="1943280"/>
            <a:chExt cx="3646440" cy="2636640"/>
          </a:xfrm>
        </p:grpSpPr>
        <p:sp>
          <p:nvSpPr>
            <p:cNvPr id="427" name=""/>
            <p:cNvSpPr/>
            <p:nvPr/>
          </p:nvSpPr>
          <p:spPr>
            <a:xfrm>
              <a:off x="939960" y="1947960"/>
              <a:ext cx="285084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81000" y="1995480"/>
              <a:ext cx="2809800" cy="2535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97280" y="194328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90800" y="1995480"/>
              <a:ext cx="74484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92240" y="2106720"/>
              <a:ext cx="280512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Current Strate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35000" y="273672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35000" y="349884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46320" y="2629080"/>
              <a:ext cx="295740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are we currently competing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46320" y="3389400"/>
              <a:ext cx="295740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Does this strategy support changes in the competition structu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06480" y="2990880"/>
            <a:ext cx="2828880" cy="2773440"/>
          </a:xfrm>
          <a:prstGeom prst="rect">
            <a:avLst/>
          </a:pr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35360" y="2990880"/>
            <a:ext cx="749520" cy="2774880"/>
          </a:xfrm>
          <a:custGeom>
            <a:avLst/>
            <a:gdLst/>
            <a:ahLst/>
            <a:rect l="l" t="t" r="r" b="b"/>
            <a:pathLst>
              <a:path w="472" h="1748">
                <a:moveTo>
                  <a:pt x="0" y="0"/>
                </a:moveTo>
                <a:lnTo>
                  <a:pt x="471" y="847"/>
                </a:lnTo>
                <a:lnTo>
                  <a:pt x="0" y="1747"/>
                </a:lnTo>
                <a:lnTo>
                  <a:pt x="0" y="0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60720" y="3427560"/>
            <a:ext cx="288108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o we assume the future will be volati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03480" y="5046840"/>
            <a:ext cx="288144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 we assuming stable competitive condition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720" y="4113360"/>
            <a:ext cx="318600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hat assumptions do our competitors hold about the industry and themselv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36800" y="3537000"/>
            <a:ext cx="177840" cy="16488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36800" y="4235400"/>
            <a:ext cx="17784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36800" y="5213520"/>
            <a:ext cx="177840" cy="16488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95480" y="2970360"/>
            <a:ext cx="258768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ssum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59080" y="1060560"/>
            <a:ext cx="4788000" cy="111744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43360" y="1197000"/>
            <a:ext cx="3619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新細明體"/>
              </a:rPr>
              <a:t>What are the competitor’s capabil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95400" y="971640"/>
            <a:ext cx="3646440" cy="2636640"/>
            <a:chOff x="95400" y="971640"/>
            <a:chExt cx="3646440" cy="2636640"/>
          </a:xfrm>
        </p:grpSpPr>
        <p:sp>
          <p:nvSpPr>
            <p:cNvPr id="450" name=""/>
            <p:cNvSpPr/>
            <p:nvPr/>
          </p:nvSpPr>
          <p:spPr>
            <a:xfrm>
              <a:off x="95400" y="976320"/>
              <a:ext cx="285084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440" y="1023840"/>
              <a:ext cx="2809800" cy="2535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52720" y="97164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46240" y="1023840"/>
              <a:ext cx="74484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5240" y="167004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6840" y="1052640"/>
              <a:ext cx="294336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Future Objectiv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9600" y="1574640"/>
              <a:ext cx="308772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do our goals compare to our competitors’ goal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9600" y="2184480"/>
              <a:ext cx="3087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ere will emphasis be placed in the futu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9600" y="2870280"/>
              <a:ext cx="3087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at is the attitude toward risk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5240" y="229248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5240" y="294012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939960" y="1943280"/>
            <a:ext cx="3646440" cy="2636640"/>
            <a:chOff x="939960" y="1943280"/>
            <a:chExt cx="3646440" cy="2636640"/>
          </a:xfrm>
        </p:grpSpPr>
        <p:sp>
          <p:nvSpPr>
            <p:cNvPr id="462" name=""/>
            <p:cNvSpPr/>
            <p:nvPr/>
          </p:nvSpPr>
          <p:spPr>
            <a:xfrm>
              <a:off x="939960" y="1947960"/>
              <a:ext cx="285084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81000" y="1995480"/>
              <a:ext cx="2809800" cy="2535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97280" y="194328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90800" y="1995480"/>
              <a:ext cx="74484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92240" y="2106720"/>
              <a:ext cx="280512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Current Strate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35000" y="273672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35000" y="349884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46320" y="2629080"/>
              <a:ext cx="295740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are we currently competing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46320" y="3389400"/>
              <a:ext cx="295740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Does this strategy support changes in the competition structu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771560" y="2952720"/>
            <a:ext cx="3621240" cy="2878200"/>
            <a:chOff x="1771560" y="2952720"/>
            <a:chExt cx="3621240" cy="2878200"/>
          </a:xfrm>
        </p:grpSpPr>
        <p:sp>
          <p:nvSpPr>
            <p:cNvPr id="472" name=""/>
            <p:cNvSpPr/>
            <p:nvPr/>
          </p:nvSpPr>
          <p:spPr>
            <a:xfrm>
              <a:off x="1771560" y="2957400"/>
              <a:ext cx="2830680" cy="2872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12960" y="3009960"/>
              <a:ext cx="2789280" cy="2766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08360" y="2952720"/>
              <a:ext cx="784440" cy="2878200"/>
            </a:xfrm>
            <a:custGeom>
              <a:avLst/>
              <a:gdLst/>
              <a:ahLst/>
              <a:rect l="l" t="t" r="r" b="b"/>
              <a:pathLst>
                <a:path w="494" h="1813">
                  <a:moveTo>
                    <a:pt x="0" y="0"/>
                  </a:moveTo>
                  <a:lnTo>
                    <a:pt x="493" y="879"/>
                  </a:lnTo>
                  <a:lnTo>
                    <a:pt x="0" y="1812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02240" y="3009960"/>
              <a:ext cx="739800" cy="2768400"/>
            </a:xfrm>
            <a:custGeom>
              <a:avLst/>
              <a:gdLst/>
              <a:ahLst/>
              <a:rect l="l" t="t" r="r" b="b"/>
              <a:pathLst>
                <a:path w="466" h="1744">
                  <a:moveTo>
                    <a:pt x="0" y="0"/>
                  </a:moveTo>
                  <a:lnTo>
                    <a:pt x="465" y="845"/>
                  </a:lnTo>
                  <a:lnTo>
                    <a:pt x="0" y="174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84400" y="3427560"/>
              <a:ext cx="288144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Do we assume the future will be volatil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84400" y="5103720"/>
              <a:ext cx="288144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Are we operating under a status quo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84400" y="4113360"/>
              <a:ext cx="318600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at assumptions do our competitors hold about the industry and themselve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60480" y="353700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60480" y="423540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60480" y="521352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19160" y="2970360"/>
              <a:ext cx="258768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Assump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733840" y="4243320"/>
            <a:ext cx="2809800" cy="2535480"/>
          </a:xfrm>
          <a:prstGeom prst="rect">
            <a:avLst/>
          </a:pr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43640" y="4243320"/>
            <a:ext cx="744480" cy="2536920"/>
          </a:xfrm>
          <a:custGeom>
            <a:avLst/>
            <a:gdLst/>
            <a:ahLst/>
            <a:rect l="l" t="t" r="r" b="b"/>
            <a:pathLst>
              <a:path w="469" h="1598">
                <a:moveTo>
                  <a:pt x="0" y="0"/>
                </a:moveTo>
                <a:lnTo>
                  <a:pt x="468" y="774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24360" y="4944960"/>
            <a:ext cx="311436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hat are my competitors’ strengths and weakness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25800" y="5796000"/>
            <a:ext cx="303840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do our capabilities compare to our competito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94200" y="433548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74880" y="5060880"/>
            <a:ext cx="177840" cy="16524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32120" y="5911920"/>
            <a:ext cx="177840" cy="164880"/>
          </a:xfrm>
          <a:prstGeom prst="star5">
            <a:avLst/>
          </a:prstGeom>
          <a:solidFill>
            <a:srgbClr val="ffffff"/>
          </a:solidFill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5400" y="971640"/>
            <a:ext cx="3646440" cy="2636640"/>
            <a:chOff x="95400" y="971640"/>
            <a:chExt cx="3646440" cy="2636640"/>
          </a:xfrm>
        </p:grpSpPr>
        <p:sp>
          <p:nvSpPr>
            <p:cNvPr id="493" name=""/>
            <p:cNvSpPr/>
            <p:nvPr/>
          </p:nvSpPr>
          <p:spPr>
            <a:xfrm>
              <a:off x="95400" y="976320"/>
              <a:ext cx="285084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6440" y="1023840"/>
              <a:ext cx="2809800" cy="2535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52720" y="97164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46240" y="1023840"/>
              <a:ext cx="74484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5240" y="167004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840" y="1052640"/>
              <a:ext cx="294336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Future Objectiv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9600" y="1574640"/>
              <a:ext cx="308772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do our goals compare to our competitors’ goal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9600" y="2184480"/>
              <a:ext cx="3087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ere will emphasis be placed in the futu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9600" y="2870280"/>
              <a:ext cx="3087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at is the attitude toward risk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5240" y="229248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5240" y="294012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939960" y="1943280"/>
            <a:ext cx="3646440" cy="2636640"/>
            <a:chOff x="939960" y="1943280"/>
            <a:chExt cx="3646440" cy="2636640"/>
          </a:xfrm>
        </p:grpSpPr>
        <p:sp>
          <p:nvSpPr>
            <p:cNvPr id="505" name=""/>
            <p:cNvSpPr/>
            <p:nvPr/>
          </p:nvSpPr>
          <p:spPr>
            <a:xfrm>
              <a:off x="939960" y="1947960"/>
              <a:ext cx="285084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81000" y="1995480"/>
              <a:ext cx="2809800" cy="2535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97280" y="194328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90800" y="1995480"/>
              <a:ext cx="74484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92240" y="2106720"/>
              <a:ext cx="280512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Current Strate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35000" y="273672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35000" y="349884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46320" y="2629080"/>
              <a:ext cx="295740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are we currently competing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46320" y="3389400"/>
              <a:ext cx="295740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Does this strategy support changes in the competition structu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771560" y="2952720"/>
            <a:ext cx="3621240" cy="2878200"/>
            <a:chOff x="1771560" y="2952720"/>
            <a:chExt cx="3621240" cy="2878200"/>
          </a:xfrm>
        </p:grpSpPr>
        <p:sp>
          <p:nvSpPr>
            <p:cNvPr id="515" name=""/>
            <p:cNvSpPr/>
            <p:nvPr/>
          </p:nvSpPr>
          <p:spPr>
            <a:xfrm>
              <a:off x="1771560" y="2957400"/>
              <a:ext cx="2830680" cy="2872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12960" y="3009960"/>
              <a:ext cx="2789280" cy="2766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08360" y="2952720"/>
              <a:ext cx="784440" cy="2878200"/>
            </a:xfrm>
            <a:custGeom>
              <a:avLst/>
              <a:gdLst/>
              <a:ahLst/>
              <a:rect l="l" t="t" r="r" b="b"/>
              <a:pathLst>
                <a:path w="494" h="1813">
                  <a:moveTo>
                    <a:pt x="0" y="0"/>
                  </a:moveTo>
                  <a:lnTo>
                    <a:pt x="493" y="879"/>
                  </a:lnTo>
                  <a:lnTo>
                    <a:pt x="0" y="1812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02240" y="3009960"/>
              <a:ext cx="739800" cy="2768400"/>
            </a:xfrm>
            <a:custGeom>
              <a:avLst/>
              <a:gdLst/>
              <a:ahLst/>
              <a:rect l="l" t="t" r="r" b="b"/>
              <a:pathLst>
                <a:path w="466" h="1744">
                  <a:moveTo>
                    <a:pt x="0" y="0"/>
                  </a:moveTo>
                  <a:lnTo>
                    <a:pt x="465" y="845"/>
                  </a:lnTo>
                  <a:lnTo>
                    <a:pt x="0" y="174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84400" y="3427560"/>
              <a:ext cx="288144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Do we assume the future will be volatil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84400" y="5103720"/>
              <a:ext cx="288144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Are we operating under a status quo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4400" y="4113360"/>
              <a:ext cx="318600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at assumptions do our competitors hold about the industry and themselve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60480" y="353700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60480" y="4235400"/>
              <a:ext cx="177840" cy="16524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60480" y="521352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19160" y="2970360"/>
              <a:ext cx="258768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Assump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5664240" y="1028880"/>
            <a:ext cx="3390840" cy="2882880"/>
          </a:xfrm>
          <a:prstGeom prst="roundRect">
            <a:avLst>
              <a:gd name="adj" fmla="val 12458"/>
            </a:avLst>
          </a:prstGeom>
          <a:solidFill>
            <a:srgbClr val="00968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96120" y="1027080"/>
            <a:ext cx="212400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77080" y="1536840"/>
            <a:ext cx="306360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hat will our competitors do in the futur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77080" y="2184480"/>
            <a:ext cx="298764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here do we have a competitive advant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59280" y="1657440"/>
            <a:ext cx="177840" cy="16488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59280" y="2279520"/>
            <a:ext cx="17784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77080" y="2921040"/>
            <a:ext cx="298764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will this change our relationship with our competi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59280" y="3016080"/>
            <a:ext cx="177840" cy="165240"/>
          </a:xfrm>
          <a:prstGeom prst="star5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00360" y="1612800"/>
            <a:ext cx="1835280" cy="0"/>
          </a:xfrm>
          <a:prstGeom prst="line">
            <a:avLst/>
          </a:prstGeom>
          <a:ln w="25560">
            <a:solidFill>
              <a:srgbClr val="8cf4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27720" y="2614680"/>
            <a:ext cx="857160" cy="1440"/>
          </a:xfrm>
          <a:prstGeom prst="line">
            <a:avLst/>
          </a:prstGeom>
          <a:ln w="25560">
            <a:solidFill>
              <a:srgbClr val="8cf4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37200" y="3490920"/>
            <a:ext cx="387360" cy="1440"/>
          </a:xfrm>
          <a:prstGeom prst="line">
            <a:avLst/>
          </a:prstGeom>
          <a:ln w="25560">
            <a:solidFill>
              <a:srgbClr val="8cf4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286680" y="4149720"/>
            <a:ext cx="809280" cy="844560"/>
          </a:xfrm>
          <a:prstGeom prst="line">
            <a:avLst/>
          </a:prstGeom>
          <a:ln w="25560">
            <a:solidFill>
              <a:srgbClr val="8cf4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692440" y="4210200"/>
            <a:ext cx="3646440" cy="2636640"/>
            <a:chOff x="2692440" y="4210200"/>
            <a:chExt cx="3646440" cy="2636640"/>
          </a:xfrm>
        </p:grpSpPr>
        <p:sp>
          <p:nvSpPr>
            <p:cNvPr id="539" name=""/>
            <p:cNvSpPr/>
            <p:nvPr/>
          </p:nvSpPr>
          <p:spPr>
            <a:xfrm>
              <a:off x="2692440" y="4214880"/>
              <a:ext cx="2851200" cy="263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3840" y="4262400"/>
              <a:ext cx="2809800" cy="2535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49760" y="4210200"/>
              <a:ext cx="789120" cy="2636640"/>
            </a:xfrm>
            <a:custGeom>
              <a:avLst/>
              <a:gdLst/>
              <a:ahLst/>
              <a:rect l="l" t="t" r="r" b="b"/>
              <a:pathLst>
                <a:path w="497" h="1661">
                  <a:moveTo>
                    <a:pt x="0" y="0"/>
                  </a:moveTo>
                  <a:lnTo>
                    <a:pt x="496" y="805"/>
                  </a:ln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43640" y="4262400"/>
              <a:ext cx="744480" cy="2536920"/>
            </a:xfrm>
            <a:custGeom>
              <a:avLst/>
              <a:gdLst/>
              <a:ahLst/>
              <a:rect l="l" t="t" r="r" b="b"/>
              <a:pathLst>
                <a:path w="469" h="1598">
                  <a:moveTo>
                    <a:pt x="0" y="0"/>
                  </a:moveTo>
                  <a:lnTo>
                    <a:pt x="468" y="774"/>
                  </a:lnTo>
                  <a:lnTo>
                    <a:pt x="0" y="159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4200" y="4316400"/>
              <a:ext cx="212400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Capabiliti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68560" y="4925880"/>
              <a:ext cx="311472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What are my competitors’ strengths and weaknesse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43200" y="503568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5861160"/>
              <a:ext cx="177840" cy="164880"/>
            </a:xfrm>
            <a:prstGeom prst="star5">
              <a:avLst/>
            </a:prstGeom>
            <a:solidFill>
              <a:srgbClr val="cecece"/>
            </a:solidFill>
            <a:ln w="12600">
              <a:solidFill>
                <a:srgbClr val="1b5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25800" y="5796000"/>
              <a:ext cx="303840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533f"/>
                  </a:solidFill>
                  <a:latin typeface="Times New Roman"/>
                  <a:ea typeface="新細明體"/>
                </a:rPr>
                <a:t>How do our capabilities compare to our competitor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etitor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11280" y="30168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Elements of a Marketing Strate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126036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5440" indent="-55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elements of a marketing strategy consis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760" indent="396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rget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760" indent="396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rketing mix variables (el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92200" indent="-520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92200" indent="-520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(distribu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92200" indent="-520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92200" indent="-520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685800"/>
            <a:ext cx="7315200" cy="6172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Components of the General Environmen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762120"/>
          <a:ext cx="7162560" cy="61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71625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85800" y="0"/>
            <a:ext cx="6324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</a:rPr>
              <a:t>The Four Ps    v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1523880"/>
            <a:ext cx="2133720" cy="198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63400" y="2215800"/>
            <a:ext cx="3286440" cy="2127240"/>
            <a:chOff x="563400" y="2215800"/>
            <a:chExt cx="3286440" cy="2127240"/>
          </a:xfrm>
        </p:grpSpPr>
        <p:sp>
          <p:nvSpPr>
            <p:cNvPr id="554" name=""/>
            <p:cNvSpPr/>
            <p:nvPr/>
          </p:nvSpPr>
          <p:spPr>
            <a:xfrm>
              <a:off x="563400" y="2590560"/>
              <a:ext cx="1828800" cy="1752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4147800">
              <a:off x="2567160" y="2186640"/>
              <a:ext cx="914400" cy="1417680"/>
            </a:xfrm>
            <a:prstGeom prst="downArrow">
              <a:avLst>
                <a:gd name="adj1" fmla="val 50000"/>
                <a:gd name="adj2" fmla="val 3876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438280" y="3129120"/>
            <a:ext cx="2106000" cy="2778120"/>
            <a:chOff x="2438280" y="3129120"/>
            <a:chExt cx="2106000" cy="2778120"/>
          </a:xfrm>
        </p:grpSpPr>
        <p:sp>
          <p:nvSpPr>
            <p:cNvPr id="557" name=""/>
            <p:cNvSpPr/>
            <p:nvPr/>
          </p:nvSpPr>
          <p:spPr>
            <a:xfrm>
              <a:off x="2438280" y="4154760"/>
              <a:ext cx="1828800" cy="1752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519800">
              <a:off x="3460320" y="3276720"/>
              <a:ext cx="914400" cy="996840"/>
            </a:xfrm>
            <a:prstGeom prst="downArrow">
              <a:avLst>
                <a:gd name="adj1" fmla="val 50000"/>
                <a:gd name="adj2" fmla="val 2725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630320" y="3135960"/>
            <a:ext cx="2304000" cy="2891880"/>
            <a:chOff x="4630320" y="3135960"/>
            <a:chExt cx="2304000" cy="2891880"/>
          </a:xfrm>
        </p:grpSpPr>
        <p:sp>
          <p:nvSpPr>
            <p:cNvPr id="560" name=""/>
            <p:cNvSpPr/>
            <p:nvPr/>
          </p:nvSpPr>
          <p:spPr>
            <a:xfrm>
              <a:off x="5105520" y="4275360"/>
              <a:ext cx="1828800" cy="175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 Black"/>
                </a:rPr>
                <a:t>Pl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rot="20080200">
              <a:off x="4830480" y="3276360"/>
              <a:ext cx="914400" cy="1143000"/>
            </a:xfrm>
            <a:prstGeom prst="downArrow">
              <a:avLst>
                <a:gd name="adj1" fmla="val 50000"/>
                <a:gd name="adj2" fmla="val 3125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34280" y="2328840"/>
            <a:ext cx="3228840" cy="1946160"/>
            <a:chOff x="5534280" y="2328840"/>
            <a:chExt cx="3228840" cy="1946160"/>
          </a:xfrm>
        </p:grpSpPr>
        <p:sp>
          <p:nvSpPr>
            <p:cNvPr id="563" name=""/>
            <p:cNvSpPr/>
            <p:nvPr/>
          </p:nvSpPr>
          <p:spPr>
            <a:xfrm>
              <a:off x="6934320" y="2522520"/>
              <a:ext cx="1828800" cy="1752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omo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17257200">
              <a:off x="5868000" y="2286720"/>
              <a:ext cx="914400" cy="1370520"/>
            </a:xfrm>
            <a:prstGeom prst="downArrow">
              <a:avLst>
                <a:gd name="adj1" fmla="val 50000"/>
                <a:gd name="adj2" fmla="val 3747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581280" y="0"/>
            <a:ext cx="6324840" cy="571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ffff"/>
                </a:solidFill>
                <a:latin typeface="Times New Roman"/>
              </a:rPr>
              <a:t>The Four 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9840" y="441972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Sol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(Custom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Val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464560" y="594360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81680" y="4267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ffff"/>
                </a:solidFill>
                <a:latin typeface="Arial Black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5080" y="6095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ffff"/>
                </a:solidFill>
                <a:latin typeface="Arial Black"/>
              </a:rPr>
              <a:t>Conven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28600" y="152280"/>
            <a:ext cx="6324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</a:rPr>
              <a:t>Ps, Ps and the ot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520" y="1295280"/>
            <a:ext cx="289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2514600"/>
            <a:ext cx="2438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ales forc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24280" y="1219320"/>
            <a:ext cx="320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Personaliz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95680" y="419112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Politic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67080" y="2743200"/>
            <a:ext cx="381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Public relat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403848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Public opin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525780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Prospect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 are deeds, processes an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angible, but may have a tangible compon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produced and consumed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istinguish between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USTOME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" y="152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8960" y="15228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</a:rPr>
              <a:t>SERVI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13064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5]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6] PHYSICAL EVIDENCE</a:t>
            </a:r>
            <a:r>
              <a:rPr b="0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</a:t>
            </a:r>
            <a:r>
              <a:rPr b="0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nvironment in which the service is deliver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 any tangible goods that facilitate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erformance and communication of the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7] PROCESS (PROCEDU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</a:t>
            </a:r>
            <a:r>
              <a:rPr b="0" i="1" lang="en-GB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ocedures, mechanism and flow of activities by which a service is ac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46160" y="228600"/>
            <a:ext cx="879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</a:rPr>
              <a:t>The 7 Ps of Services Marketing M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04920" y="76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689040"/>
            <a:ext cx="7315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oduct Strateg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ing what goods or services the firm should offer to a group of consum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making decisions abo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ag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ma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an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cycle of a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ing the product in the market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duct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11280" y="30168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9880" y="1260360"/>
            <a:ext cx="7846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s that consumers find their products in the proper quantities at the right times and pl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 of 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eh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ory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marketing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11280" y="30168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9880" y="1260360"/>
            <a:ext cx="7846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unication link between sellers and bu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messages directly through salespeople or indirectly through advertisements and promo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use an approach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egrated marketing communications (IM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 consumer receives a unified and consistent mes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11280" y="30168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9880" y="1260360"/>
            <a:ext cx="7770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ing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of setting profitable and justifiable pr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ly regulated and subject to considerable public scruti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jor influence is compet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External Environmental Analysi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9907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external environmental analysis process should be conducted on a continuous basis.  This process includes four 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6520" y="2666880"/>
            <a:ext cx="8232120" cy="4191120"/>
            <a:chOff x="686520" y="2666880"/>
            <a:chExt cx="8232120" cy="4191120"/>
          </a:xfrm>
        </p:grpSpPr>
        <p:sp>
          <p:nvSpPr>
            <p:cNvPr id="81" name=""/>
            <p:cNvSpPr/>
            <p:nvPr/>
          </p:nvSpPr>
          <p:spPr>
            <a:xfrm>
              <a:off x="687240" y="2666880"/>
              <a:ext cx="15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Scann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6520" y="3672000"/>
              <a:ext cx="19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Monito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240" y="4648320"/>
              <a:ext cx="195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Forecast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6520" y="563868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6bf69"/>
                  </a:solidFill>
                  <a:latin typeface="Times New Roman"/>
                  <a:ea typeface="新細明體"/>
                </a:rPr>
                <a:t>Assess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87760" y="274788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Identifying early signals of environmental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changes and tren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66880" y="3782880"/>
              <a:ext cx="6251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Detecting meaning through ongoing observations of environmental changes and tren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70120" y="4724280"/>
              <a:ext cx="6248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Developing projections of anticipated outcomes based on monitored changes and tren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70120" y="5776920"/>
              <a:ext cx="60958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Determining the timing and importance of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nvironmental changes and trends for firms'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trategies and their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551400" y="1349280"/>
            <a:ext cx="1977840" cy="1851120"/>
            <a:chOff x="3551400" y="1349280"/>
            <a:chExt cx="1977840" cy="1851120"/>
          </a:xfrm>
        </p:grpSpPr>
        <p:sp>
          <p:nvSpPr>
            <p:cNvPr id="90" name=""/>
            <p:cNvSpPr/>
            <p:nvPr/>
          </p:nvSpPr>
          <p:spPr>
            <a:xfrm>
              <a:off x="3665520" y="1349280"/>
              <a:ext cx="144468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Threat of New Entra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6200000">
              <a:off x="3625920" y="1371600"/>
              <a:ext cx="1828800" cy="182880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51400" y="1552680"/>
              <a:ext cx="197784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Threat of New Entra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Porter’s Five For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Model of Competi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00160"/>
            <a:ext cx="914400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Threat of New Entra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1600200"/>
            <a:ext cx="2590920" cy="1600200"/>
            <a:chOff x="685800" y="1600200"/>
            <a:chExt cx="2590920" cy="1600200"/>
          </a:xfrm>
        </p:grpSpPr>
        <p:sp>
          <p:nvSpPr>
            <p:cNvPr id="96" name=""/>
            <p:cNvSpPr/>
            <p:nvPr/>
          </p:nvSpPr>
          <p:spPr>
            <a:xfrm>
              <a:off x="685800" y="1600200"/>
              <a:ext cx="2590920" cy="16002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0000" y="1967040"/>
              <a:ext cx="1689120" cy="82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arriers to Ent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262760" y="5870520"/>
            <a:ext cx="280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pected Retal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38480" y="1244520"/>
            <a:ext cx="4748400" cy="4466520"/>
            <a:chOff x="4038480" y="1244520"/>
            <a:chExt cx="4748400" cy="4466520"/>
          </a:xfrm>
        </p:grpSpPr>
        <p:sp>
          <p:nvSpPr>
            <p:cNvPr id="100" name=""/>
            <p:cNvSpPr/>
            <p:nvPr/>
          </p:nvSpPr>
          <p:spPr>
            <a:xfrm>
              <a:off x="4249800" y="5256360"/>
              <a:ext cx="269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Government Polic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038480" y="1244520"/>
              <a:ext cx="4748400" cy="4318200"/>
              <a:chOff x="4038480" y="1244520"/>
              <a:chExt cx="4748400" cy="4318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50520" y="1244520"/>
                <a:ext cx="2673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Economies of Sca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49800" y="1854360"/>
                <a:ext cx="3241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Product Differenti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51600" y="2463840"/>
                <a:ext cx="3054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Capital Requirement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53040" y="3073320"/>
                <a:ext cx="2257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Switching Cost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52320" y="3681360"/>
                <a:ext cx="4341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Access to Distribution Channe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53040" y="4348080"/>
                <a:ext cx="45338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Cost Disadvantages Independent of Sca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38480" y="1371600"/>
                <a:ext cx="171720" cy="17136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38480" y="1981080"/>
                <a:ext cx="171720" cy="17172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38480" y="2590920"/>
                <a:ext cx="171720" cy="17136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3181320"/>
                <a:ext cx="171720" cy="17136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38480" y="3790800"/>
                <a:ext cx="171720" cy="17172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38480" y="4476600"/>
                <a:ext cx="171720" cy="17172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38480" y="5391000"/>
                <a:ext cx="171720" cy="17172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4038480" y="6000840"/>
            <a:ext cx="171720" cy="171360"/>
          </a:xfrm>
          <a:prstGeom prst="ellipse">
            <a:avLst/>
          </a:prstGeom>
          <a:solidFill>
            <a:srgbClr val="f6bf6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62040" y="2997360"/>
            <a:ext cx="1928880" cy="1828800"/>
            <a:chOff x="662040" y="2997360"/>
            <a:chExt cx="1928880" cy="1828800"/>
          </a:xfrm>
        </p:grpSpPr>
        <p:sp>
          <p:nvSpPr>
            <p:cNvPr id="117" name=""/>
            <p:cNvSpPr/>
            <p:nvPr/>
          </p:nvSpPr>
          <p:spPr>
            <a:xfrm>
              <a:off x="762120" y="2997360"/>
              <a:ext cx="1828800" cy="18288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040" y="3341520"/>
              <a:ext cx="173664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argaining Power of Suppl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65520" y="1355760"/>
            <a:ext cx="144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rot="16200000">
            <a:off x="3630960" y="1384200"/>
            <a:ext cx="1816200" cy="1816200"/>
          </a:xfrm>
          <a:custGeom>
            <a:avLst/>
            <a:gdLst>
              <a:gd name="textAreaLeft" fmla="*/ -360 w 1816200"/>
              <a:gd name="textAreaRight" fmla="*/ 181620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51400" y="1558800"/>
            <a:ext cx="19778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Porter’s Five For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Model of Competi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68120"/>
            <a:ext cx="914400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Bargaining Power of Suppl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8000" y="1219320"/>
            <a:ext cx="3384360" cy="4343400"/>
            <a:chOff x="108000" y="1219320"/>
            <a:chExt cx="3384360" cy="4343400"/>
          </a:xfrm>
        </p:grpSpPr>
        <p:sp>
          <p:nvSpPr>
            <p:cNvPr id="125" name=""/>
            <p:cNvSpPr/>
            <p:nvPr/>
          </p:nvSpPr>
          <p:spPr>
            <a:xfrm>
              <a:off x="139680" y="1219320"/>
              <a:ext cx="3352680" cy="434340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3040" y="1689120"/>
              <a:ext cx="2692440" cy="698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s exert power in the industry by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2616120"/>
              <a:ext cx="32893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*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Threatening to rai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600" y="2921040"/>
              <a:ext cx="30607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rices or to reduce 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3040" y="3490920"/>
              <a:ext cx="2527560" cy="1613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owerful suppliers can squeeze industry profitability if firms are unable to recover cost increas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486240" y="857160"/>
            <a:ext cx="5030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uppliers are likely to be powerful i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62200" y="1490760"/>
            <a:ext cx="5567400" cy="5215680"/>
            <a:chOff x="3562200" y="1490760"/>
            <a:chExt cx="5567400" cy="5215680"/>
          </a:xfrm>
        </p:grpSpPr>
        <p:sp>
          <p:nvSpPr>
            <p:cNvPr id="132" name=""/>
            <p:cNvSpPr/>
            <p:nvPr/>
          </p:nvSpPr>
          <p:spPr>
            <a:xfrm>
              <a:off x="3836880" y="1490760"/>
              <a:ext cx="48135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 industry is dominated by a few fi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36880" y="2260440"/>
              <a:ext cx="5292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s’ products have few substitu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36880" y="2976480"/>
              <a:ext cx="4861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uyer is not an important customer to suppli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6880" y="3774960"/>
              <a:ext cx="48135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s’ product is an important input to buyers’ produ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36880" y="4613400"/>
              <a:ext cx="5292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s’ products are differenti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36880" y="5095800"/>
              <a:ext cx="4670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s’ products have high switching cos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36880" y="5959440"/>
              <a:ext cx="46609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upplier poses credible threat of forward 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533f"/>
            </a:gs>
            <a:gs pos="100000">
              <a:srgbClr val="0d291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6477120" y="3276720"/>
            <a:ext cx="1941480" cy="1828800"/>
            <a:chOff x="6477120" y="3276720"/>
            <a:chExt cx="1941480" cy="1828800"/>
          </a:xfrm>
        </p:grpSpPr>
        <p:sp>
          <p:nvSpPr>
            <p:cNvPr id="147" name=""/>
            <p:cNvSpPr/>
            <p:nvPr/>
          </p:nvSpPr>
          <p:spPr>
            <a:xfrm flipH="1">
              <a:off x="6477120" y="3276720"/>
              <a:ext cx="1828800" cy="182880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9000" y="3621240"/>
              <a:ext cx="174960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Bargaining Power of Buy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665520" y="1400040"/>
            <a:ext cx="144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rot="16200000">
            <a:off x="3630960" y="1428480"/>
            <a:ext cx="1815840" cy="1816200"/>
          </a:xfrm>
          <a:custGeom>
            <a:avLst/>
            <a:gdLst>
              <a:gd name="textAreaLeft" fmla="*/ 360 w 1815840"/>
              <a:gd name="textAreaRight" fmla="*/ 1816560 w 181584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51400" y="1603440"/>
            <a:ext cx="19778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Threat of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8240" y="3282840"/>
            <a:ext cx="1816200" cy="18162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143c2e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040" y="3621240"/>
            <a:ext cx="17366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33f"/>
                </a:solidFill>
                <a:latin typeface="Times New Roman"/>
                <a:ea typeface="新細明體"/>
              </a:rPr>
              <a:t>Bargaining Power of Supp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Porter’s Five For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Times New Roman"/>
                <a:ea typeface="新細明體"/>
              </a:rPr>
              <a:t>Model of Competi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9:49:32Z</dcterms:created>
  <dc:creator/>
  <dc:description/>
  <dc:language>en-US</dc:language>
  <cp:lastModifiedBy>Martin Krištof</cp:lastModifiedBy>
  <cp:lastPrinted>31137-06-10T12:17:59Z</cp:lastPrinted>
  <dcterms:modified xsi:type="dcterms:W3CDTF">2007-04-01T22:03:01Z</dcterms:modified>
  <cp:revision>74</cp:revision>
  <dc:subject/>
  <dc:title>Prezentace aplikace PowerPoint</dc:title>
</cp:coreProperties>
</file>