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BCD-E0F7-4003-9878-189C610B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9DB-CD8D-461C-9557-BA034353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649-FAC9-4A19-BA63-1B6B60CA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7BE-7D98-4130-9941-F4C5D03B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D99-77FE-42A7-BFE8-ABC10F99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37B-DC33-471B-A987-5BDC5365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9DC-0784-4A1F-9AFA-A4B3B051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C11-431D-4A08-93FE-F00DD256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B1B-5514-402A-8036-2B7CA4C1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FCF-4590-4E82-A7E4-8B5B818C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4D8-B0C5-4C99-85F3-AE338454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DEB-58AD-4661-A418-67654127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C3B1-DDE9-4DBB-A98D-9EC874A991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MARKETING RESEARC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Times New Roman"/>
              </a:rPr>
              <a:t>?     </a:t>
            </a:r>
            <a:r>
              <a:rPr b="1" lang="cs-CZ" sz="4000" spc="-1" strike="noStrike">
                <a:solidFill>
                  <a:srgbClr val="0033cc"/>
                </a:solidFill>
                <a:latin typeface="Times New Roman"/>
              </a:rPr>
              <a:t>?    </a:t>
            </a:r>
            <a:r>
              <a:rPr b="1" lang="cs-CZ" sz="4000" spc="-1" strike="noStrike">
                <a:solidFill>
                  <a:srgbClr val="08822e"/>
                </a:solidFill>
                <a:latin typeface="Times New Roman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5c402e"/>
                </a:solidFill>
                <a:latin typeface="Times New Roman"/>
              </a:rPr>
              <a:t>? </a:t>
            </a:r>
            <a:r>
              <a:rPr b="1" lang="cs-CZ" sz="4000" spc="-1" strike="noStrike">
                <a:solidFill>
                  <a:srgbClr val="ff9933"/>
                </a:solidFill>
                <a:latin typeface="Times New Roman"/>
              </a:rPr>
              <a:t>   ?   </a:t>
            </a:r>
            <a:r>
              <a:rPr b="1" lang="cs-CZ" sz="4000" spc="-1" strike="noStrike">
                <a:solidFill>
                  <a:srgbClr val="3399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4924_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5257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What is every management about?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What do managers need for these activi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06663_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1928880" cy="1673280"/>
          </a:xfrm>
          <a:prstGeom prst="rect">
            <a:avLst/>
          </a:prstGeom>
          <a:ln w="0">
            <a:noFill/>
          </a:ln>
        </p:spPr>
      </p:pic>
      <p:pic>
        <p:nvPicPr>
          <p:cNvPr id="47" name="PE01616_" descr=""/>
          <p:cNvPicPr/>
          <p:nvPr/>
        </p:nvPicPr>
        <p:blipFill>
          <a:blip r:embed="rId2"/>
          <a:stretch/>
        </p:blipFill>
        <p:spPr>
          <a:xfrm>
            <a:off x="6781680" y="2514600"/>
            <a:ext cx="205740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4114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What is marketing management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S02064_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1720800" cy="1524240"/>
          </a:xfrm>
          <a:prstGeom prst="rect">
            <a:avLst/>
          </a:prstGeom>
          <a:ln w="0">
            <a:noFill/>
          </a:ln>
        </p:spPr>
      </p:pic>
      <p:pic>
        <p:nvPicPr>
          <p:cNvPr id="50" name="BD04897_" descr=""/>
          <p:cNvPicPr/>
          <p:nvPr/>
        </p:nvPicPr>
        <p:blipFill>
          <a:blip r:embed="rId4"/>
          <a:stretch/>
        </p:blipFill>
        <p:spPr>
          <a:xfrm>
            <a:off x="3733920" y="4648320"/>
            <a:ext cx="198108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BD05584_" descr=""/>
          <p:cNvPicPr/>
          <p:nvPr/>
        </p:nvPicPr>
        <p:blipFill>
          <a:blip r:embed="rId5"/>
          <a:stretch/>
        </p:blipFill>
        <p:spPr>
          <a:xfrm>
            <a:off x="6324480" y="47242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formation -processing behavior</a:t>
            </a:r>
            <a:r>
              <a:rPr b="0" lang="cs-CZ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1. information 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2. information acquisition  +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3. information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4. information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5. (marketing)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MARKETING RESEARCH –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arketing research is the function which links the consumer, customer and public to the marketer through the information – information used to identify and define marketing opportunities and problems; generate, refine, and evaluate marketing actions; monitor marketing performance; and improve our understanding of marketing as a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MARKETING RESEARCH – definition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arketing research is the function which link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nsumer, customer and public to the markete</a:t>
            </a:r>
            <a:r>
              <a:rPr b="1" i="1" lang="cs-CZ" sz="2800" spc="-1" strike="noStrike">
                <a:solidFill>
                  <a:srgbClr val="cc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rough the information – information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dentify and define marketing opportuniti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blems; generate, refine, and evaluate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ctions; monitor marketing performance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mprove our understanding of marketing 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MARKETING INFORMATION SYSTEM</a:t>
            </a:r>
            <a:br>
              <a:rPr sz="2800"/>
            </a:b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(or Marketing decision support system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=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internal databases + marketing research + information analysis + gathering and asssortment of marke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E01460_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396252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BD06670_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198108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PE01561_" descr=""/>
          <p:cNvPicPr/>
          <p:nvPr/>
        </p:nvPicPr>
        <p:blipFill>
          <a:blip r:embed="rId3"/>
          <a:stretch/>
        </p:blipFill>
        <p:spPr>
          <a:xfrm>
            <a:off x="5410080" y="3581280"/>
            <a:ext cx="2667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TAGES IN THE RESEARCH PROCESS</a:t>
            </a: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81080"/>
            <a:ext cx="2743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ulate problem and research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3886200"/>
            <a:ext cx="2743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ermine research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5181480"/>
            <a:ext cx="2743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ermine data collec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2514600"/>
            <a:ext cx="2819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sign data collection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886200"/>
            <a:ext cx="2819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sign sample and colle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181480"/>
            <a:ext cx="297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alyze and interprete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733920" y="2971800"/>
            <a:ext cx="106668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Formulate problem and research 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initial decis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2. redefined as research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3. redefined as research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4. research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research desig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methods, procedures – sampling, schedule, budget,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exploratory, descriptive, casua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II. and  IV. Data collection models and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imary and seconda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hods and techniques for collecting the data: survey, observation and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 sampling and collecting th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ng the target population – census or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I. Analyzing and interpreting th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6:42:22Z</dcterms:created>
  <dc:creator>PC</dc:creator>
  <dc:description/>
  <dc:language>en-US</dc:language>
  <cp:lastModifiedBy>PC</cp:lastModifiedBy>
  <dcterms:modified xsi:type="dcterms:W3CDTF">2006-04-02T17:05:39Z</dcterms:modified>
  <cp:revision>9</cp:revision>
  <dc:subject/>
  <dc:title>MARKETING RESEARCH</dc:title>
</cp:coreProperties>
</file>