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D846-6C6E-4997-A1C6-622E319FB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AC71-DA57-4A1B-A3FB-AD05549EF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9217-82EA-4B85-9239-3644AFF14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7E67-E708-45CE-81E5-31241EC1A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570D-4B2F-4938-B422-19F601804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1D4A-05FC-44F0-A745-F061F4713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9283-57E0-4010-B220-AD3F39A2E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56B7-E95E-480F-AE3A-C18D93547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2496-13ED-4139-BA87-EF5B14FB0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7D60-E91F-4F17-BB7E-D871E1BA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37DD-AF76-4506-9D75-A1D6D945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3639-9BB4-405F-9942-CD9B6BAC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40F6B-17B0-4FE9-88FA-A5D051963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066680" y="1295280"/>
          <a:ext cx="6934320" cy="4043520"/>
        </p:xfrm>
        <a:graphic>
          <a:graphicData uri="http://schemas.openxmlformats.org/drawingml/2006/table">
            <a:tbl>
              <a:tblPr/>
              <a:tblGrid>
                <a:gridCol w="3467160"/>
                <a:gridCol w="3467160"/>
              </a:tblGrid>
              <a:tr h="206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voj produk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řazení baletních představení do nabídky divad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zšiřování, rozvoj trh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ení nových představení pro nový tr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erzifik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bídka nových typů zájezdových představen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67200" y="2556000"/>
            <a:ext cx="4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14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724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576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ÝROB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57150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5715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88160" y="727200"/>
            <a:ext cx="321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nikání na tr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sažení většího tržní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ílu mezi divá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řad student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32000" y="62064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plikace Ansoffovy matice pro regionální divad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1:42:18Z</dcterms:created>
  <dc:creator>simona</dc:creator>
  <dc:description/>
  <dc:language>en-US</dc:language>
  <cp:lastModifiedBy>simona</cp:lastModifiedBy>
  <dcterms:modified xsi:type="dcterms:W3CDTF">2005-11-28T11:42:59Z</dcterms:modified>
  <cp:revision>1</cp:revision>
  <dc:subject/>
  <dc:title>.</dc:title>
</cp:coreProperties>
</file>