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C803-11FB-4CF7-98C4-BB32A35C1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7AD5-5837-4F7B-901D-53DE548D6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4A50-C570-475F-82FC-80624BED3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77CE-DD49-4D12-A353-852394EDC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C26B-7DEB-4FD4-8507-E2131482C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C5B1-F4B1-4EA9-8469-0738643D0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9868-AB02-4BC5-A59C-7B1E53EB3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DD73-7CD6-42C2-8B29-860EE0D77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B0BB-928B-47A9-8CA0-156F028F2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C8F9-633D-4F88-ABD1-8301778A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2220-F594-4A05-9FB3-63BCE463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2236-CB9B-4D27-9C57-ACEA78EF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AD1F3-BC71-4F86-B722-FFCEF23F3E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5800" y="876240"/>
          <a:ext cx="7772400" cy="5105520"/>
        </p:xfrm>
        <a:graphic>
          <a:graphicData uri="http://schemas.openxmlformats.org/drawingml/2006/table">
            <a:tbl>
              <a:tblPr/>
              <a:tblGrid>
                <a:gridCol w="2475000"/>
                <a:gridCol w="5297400"/>
              </a:tblGrid>
              <a:tr h="31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ysílatel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ýrob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upina výrobc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chod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užst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pad – hlavně 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děle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rmativní – pouze informu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formační – mění posto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itucionální, vládní kampa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lektivní nebo obecně použitelné = podpora konkrétní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atické nebo zaměřené na druh, kategorii produktů =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landský sýr,belgické pralinky, jihoamerické hověz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jem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kaz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zipodnikové     prostřed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d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diovizuální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sk                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místa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má              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09:06Z</dcterms:created>
  <dc:creator>kozakova</dc:creator>
  <dc:description/>
  <dc:language>en-US</dc:language>
  <cp:lastModifiedBy>kozakova</cp:lastModifiedBy>
  <dcterms:modified xsi:type="dcterms:W3CDTF">2005-12-05T12:09:38Z</dcterms:modified>
  <cp:revision>1</cp:revision>
  <dc:subject/>
  <dc:title>Prezentace aplikace PowerPoint</dc:title>
</cp:coreProperties>
</file>