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F0E6-1E17-4B56-8FFD-9947894C8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1AF2-3FD9-4240-99EF-E6210D9EE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1DBC-1BF0-4943-AA58-941939C89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BBB3-1B42-4EC7-9869-E21FF8766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28CE-7A86-443B-B34D-7494B2C9B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8F4B-A181-4A72-9448-C864AAFBE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9C2E-1296-454C-AF24-611BA9340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C918-E689-41B8-8B25-A00A1AD83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F92F-4D2A-4959-888E-A9DFCA139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781D-E29B-482F-809E-768C32CA8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8DA6-CD84-4E2A-87BF-58C5D25F7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D776-2A01-4E27-8D7E-5897B76FA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FC807-D554-4BFF-892E-58E519ACEF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4120" y="259092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95480" y="4114800"/>
            <a:ext cx="495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20040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mpo růstu tr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6248520"/>
            <a:ext cx="886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ativní podíl organizace na trhu potř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860560"/>
            <a:ext cx="12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so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4537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zk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66880" y="2514600"/>
            <a:ext cx="24386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věz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írně pozitivní nebo negativní tok peněz. Rostouc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2438280"/>
            <a:ext cx="3276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azníky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émové dě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ýrazně negativní tok peněz. Nízký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66880" y="4191120"/>
            <a:ext cx="23623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Dojné) k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ýrazně pozitivní tok peněz. Nejvyšš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6400" y="4191120"/>
            <a:ext cx="3352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írně pozitivní nebo negativní tok peněz.Nejnižš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575640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so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5756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z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41760" y="551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057040" y="579132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59007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1828800" y="243828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8160" y="376704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2:56:43Z</dcterms:created>
  <dc:creator>simona</dc:creator>
  <dc:description/>
  <dc:language>en-US</dc:language>
  <cp:lastModifiedBy>simona</cp:lastModifiedBy>
  <dcterms:modified xsi:type="dcterms:W3CDTF">2005-11-28T12:57:08Z</dcterms:modified>
  <cp:revision>1</cp:revision>
  <dc:subject/>
  <dc:title>.</dc:title>
</cp:coreProperties>
</file>