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2846-4BD1-440E-966F-DA7FD6657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E290-9B8B-4342-BA72-381DAAEEC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9CB6-1E4E-4590-B89C-8DB471D17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4935-4F97-43EF-837B-EA98C40FA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FBD4-591F-45BE-9C5C-04507B381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48AD-34F7-4B24-A59D-54BEF2761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D4EE-BE42-4F8D-81F0-5293AB1DB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9696-974C-4F23-8008-4F355030B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BD26-ADE8-408C-B839-9E4AA103A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3014-0F55-4931-B48D-99B0D84C2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F218-60BB-4865-8714-8217EA764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8CAB-A416-4D0D-9FD0-B22038B76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23436-FD60-474E-AECA-E9AD0089E81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formační šumy v marketingové komunikac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zpor mezi očekáváním klienta a vnímáním poskytovatele služ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8120" y="3124080"/>
            <a:ext cx="281916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čekávaná služ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2286000"/>
            <a:ext cx="17528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ázory jiný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57600" y="22860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sobní potře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400800" y="22860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kuše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4114800"/>
            <a:ext cx="3886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nímání poskytnuté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62520" y="4724280"/>
            <a:ext cx="38862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kytnutí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5334120"/>
            <a:ext cx="3886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ikace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95280" y="5943600"/>
            <a:ext cx="65534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nímání tohoto očekávání poskytovate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81080" y="27432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9568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5714640" y="27432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95680" y="3809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95680" y="4495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35053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3880" y="35053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181480" y="5714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5181480" y="5105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181480" y="449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9120" y="3622680"/>
            <a:ext cx="107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zp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(R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53200" y="55278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24600" y="4917960"/>
            <a:ext cx="7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53200" y="43084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666880" y="3733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4:36:12Z</dcterms:created>
  <dc:creator>simona</dc:creator>
  <dc:description/>
  <dc:language>en-US</dc:language>
  <cp:lastModifiedBy>simona</cp:lastModifiedBy>
  <dcterms:modified xsi:type="dcterms:W3CDTF">2005-11-28T14:36:30Z</dcterms:modified>
  <cp:revision>1</cp:revision>
  <dc:subject/>
  <dc:title>Informační šumy v marketingové komunikaci</dc:title>
</cp:coreProperties>
</file>