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00654-409B-47F6-A395-A3E3877C3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F8799-BE6E-4E92-85D8-3D053CD6F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6FC25-F677-44F7-8287-89668FA3F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C9E05-1B0E-4A22-9418-E41F09EB9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B6168-EB2E-4ECF-93D4-9FFFD1E7A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81D68-41D9-437A-9CE1-16CB822A6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4E63F-3F4F-4318-B637-2C6A3D11A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44D06-B533-4E03-AC5E-890E58DC8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76F9E-DD13-4C53-807A-2D8DD8444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A66A7-D126-4D04-AA48-383350C85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475EE-0C9A-47BC-9BA8-75B4FE051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107CC-76B7-47C1-AF6C-DB2B27F4A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B4CB4-4364-4C7E-9AD1-3584122AC0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90440" y="990720"/>
          <a:ext cx="8763120" cy="4876560"/>
        </p:xfrm>
        <a:graphic>
          <a:graphicData uri="http://schemas.openxmlformats.org/drawingml/2006/table">
            <a:tbl>
              <a:tblPr/>
              <a:tblGrid>
                <a:gridCol w="2921040"/>
                <a:gridCol w="2921040"/>
                <a:gridCol w="2921040"/>
              </a:tblGrid>
              <a:tr h="301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čekávané přínos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bavy a omeze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k překonat obavy a omeze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604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působ, jakým chcete postupova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808080"/>
                        </a:buClr>
                        <a:buSzPct val="11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ahájit proces strategického plánová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808080"/>
                        </a:buClr>
                        <a:buSzPct val="11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čkat se strategickým plánováním a začít s ním za příhodnějších podmíne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808080"/>
                        </a:buClr>
                        <a:buSzPct val="11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stoupit od myšlenky strategického plánová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2T13:50:42Z</dcterms:created>
  <dc:creator>kozakova</dc:creator>
  <dc:description/>
  <dc:language>en-US</dc:language>
  <cp:lastModifiedBy>kozakova</cp:lastModifiedBy>
  <dcterms:modified xsi:type="dcterms:W3CDTF">2005-12-02T13:51:14Z</dcterms:modified>
  <cp:revision>1</cp:revision>
  <dc:subject/>
  <dc:title>Prezentace aplikace PowerPoint</dc:title>
</cp:coreProperties>
</file>