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E5F1-334E-4031-9351-387D2A242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1EEF-A4E2-4A49-916C-96B7A3B9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B2B2-57BB-475D-81A4-87EBCD4BF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7A43-EAD3-4595-95D8-F5CB8E5F0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F480-7BAF-42B1-BF1F-C8E2FCFF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0863-DA77-48C0-A333-067778DE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8461-6F72-4157-8005-7435FDE3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D114-DC6B-4BB7-940C-32773249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2476-320B-45CA-B9CD-749B66A2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C68A-A5E9-4349-BAD6-404E19DA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4EB9-CAF9-4674-ABAA-912F45D6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C6AA-F085-4AAC-BD49-1B422F55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266E-6B4D-4348-8EB2-1E3E81E73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87400"/>
          <a:ext cx="7769520" cy="5083200"/>
        </p:xfrm>
        <a:graphic>
          <a:graphicData uri="http://schemas.openxmlformats.org/drawingml/2006/table">
            <a:tbl>
              <a:tblPr/>
              <a:tblGrid>
                <a:gridCol w="3884760"/>
                <a:gridCol w="38847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gnitivní, poznávac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řeby v dané kategorii produ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ědomí o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alost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ektivní, emocionální a smysl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ity vyvolané reklam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 reklam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liba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or na znač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kojenost se znač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ativní, behaviorál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zá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akovaný 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jalita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0:50Z</dcterms:created>
  <dc:creator>kozakova</dc:creator>
  <dc:description/>
  <dc:language>en-US</dc:language>
  <cp:lastModifiedBy>kozakova</cp:lastModifiedBy>
  <dcterms:modified xsi:type="dcterms:W3CDTF">2005-12-05T12:11:04Z</dcterms:modified>
  <cp:revision>1</cp:revision>
  <dc:subject/>
  <dc:title>Prezentace aplikace PowerPoint</dc:title>
</cp:coreProperties>
</file>