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8436-D8F8-45BD-89F3-6EDE6C015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8C1F-ED7C-434C-9E3A-E2A6A5B8C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3703-F6F0-4961-8FE9-2D23C6D79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8E27-540E-410C-92B2-2CB112355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858A-9C60-40BA-8162-E420F7B33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AE08-4184-44D4-8AB6-45DA7A1BE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6893-05A6-4A1B-8CE2-9F4D4B115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B464-C361-4F01-BF6C-B2CBB51F1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A787-3040-464C-BC84-E67AD2E42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1B2D-BC22-4AC0-A2D8-FEC982A02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D2EF-5C45-4A37-8770-84C5EDB61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7F44-25B5-403D-85C8-805C5474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6484D-2E67-431B-98E5-9D192EE734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248520" y="2590920"/>
            <a:ext cx="2438280" cy="26668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324480" y="335268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am se chceme dost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3124080"/>
            <a:ext cx="2514600" cy="144792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05320" y="34290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ak se tam dostane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2666880"/>
            <a:ext cx="2361960" cy="2514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3581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de js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676520"/>
            <a:ext cx="914400" cy="5331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705720" y="1752480"/>
            <a:ext cx="914400" cy="533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9880" y="1752480"/>
            <a:ext cx="914400" cy="533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1752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934320" y="1828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1828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48:50Z</dcterms:created>
  <dc:creator>kozakova</dc:creator>
  <dc:description/>
  <dc:language>en-US</dc:language>
  <cp:lastModifiedBy>kozakova</cp:lastModifiedBy>
  <dcterms:modified xsi:type="dcterms:W3CDTF">2005-12-02T13:49:30Z</dcterms:modified>
  <cp:revision>1</cp:revision>
  <dc:subject/>
  <dc:title>Prezentace aplikace PowerPoint</dc:title>
</cp:coreProperties>
</file>