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6609-6F77-4E4A-9669-315EA2942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B263-141C-45F5-928A-66EBDF8CA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8A64-1AC4-4ADD-9769-56DB555ED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6B2B-2374-4B75-9D1B-A50115295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837B-70A3-4177-9AE4-BAD73266B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1D15-8E32-4EC7-B600-9B97E785C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680F-BFAC-4EC4-B672-069486641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1B6E-FBDD-4A23-BB64-FD661A298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D9C4-DAC3-4B86-B8BE-4805B54B0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6393-E81F-4B23-A60F-F0DCB4F1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496F-F0D2-4153-BF5E-E30AB226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8407-10C8-4AE0-BC35-A2A346C8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0B9B9-3BFE-4F02-BAB5-76507413819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ční šumy v marketingové komunika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zpor mezi očekáváním klienta a vnímáním poskytovatele služ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8120" y="3124080"/>
            <a:ext cx="281916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čekávaná služ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2286000"/>
            <a:ext cx="17528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ázory jiný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obní potře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008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kuše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411480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poskytnuté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4724280"/>
            <a:ext cx="3886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kytnutí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533412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kace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5943600"/>
            <a:ext cx="65534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tohoto očekávání poskytovat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71464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568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35053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35053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181480" y="571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181480" y="5105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181480" y="449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9120" y="3622680"/>
            <a:ext cx="107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z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(R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53200" y="55278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24600" y="4917960"/>
            <a:ext cx="7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53200" y="43084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4:36:12Z</dcterms:created>
  <dc:creator>simona</dc:creator>
  <dc:description/>
  <dc:language>en-US</dc:language>
  <cp:lastModifiedBy>simona</cp:lastModifiedBy>
  <dcterms:modified xsi:type="dcterms:W3CDTF">2005-11-28T14:36:30Z</dcterms:modified>
  <cp:revision>1</cp:revision>
  <dc:subject/>
  <dc:title>Informační šumy v marketingové komunikaci</dc:title>
</cp:coreProperties>
</file>