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4CD8-BEAA-4335-8184-21A9C356B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39C9-0830-49B7-AAC2-50AAA50D6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C076-1540-4493-B91B-A962CD8F8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442E-214C-4B90-B7FD-1CC665A11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0CD9-448F-4A1A-BAF7-073C5AACD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E428-A758-4BD1-A171-7D13B15F3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5082-B1B0-4944-B9DE-D20E260E4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5785-9FA1-4224-9CB9-FC3A83B34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1257-5C60-4E55-8AA0-1C62E3039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CADF-DACA-4C52-9F46-BC87A2DA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C452-A42E-46C1-95A3-645A647EF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968B-1AEA-4A50-9853-8900C7A3F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F8DE5-50CA-4E4E-BAC5-A8CC240719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7240" y="868320"/>
          <a:ext cx="7769520" cy="5122800"/>
        </p:xfrm>
        <a:graphic>
          <a:graphicData uri="http://schemas.openxmlformats.org/drawingml/2006/table">
            <a:tbl>
              <a:tblPr/>
              <a:tblGrid>
                <a:gridCol w="1295640"/>
                <a:gridCol w="1293840"/>
                <a:gridCol w="1295280"/>
                <a:gridCol w="1295280"/>
                <a:gridCol w="1293840"/>
                <a:gridCol w="1295640"/>
              </a:tblGrid>
              <a:tr h="16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en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ální zákazní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anční institu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edsta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telé komuni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měst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n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neř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ktivní účastní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áci na ak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á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V, rozhlas, čtenář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12:25Z</dcterms:created>
  <dc:creator>kozakova</dc:creator>
  <dc:description/>
  <dc:language>en-US</dc:language>
  <cp:lastModifiedBy>kozakova</cp:lastModifiedBy>
  <dcterms:modified xsi:type="dcterms:W3CDTF">2005-12-05T12:12:49Z</dcterms:modified>
  <cp:revision>1</cp:revision>
  <dc:subject/>
  <dc:title>Prezentace aplikace PowerPoint</dc:title>
</cp:coreProperties>
</file>