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92D4-1BD9-4608-BCF6-F317E6EDE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5D86-6D5E-4429-86B7-4BF9CA7AC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EBF2-1E9A-4969-91F4-21CAEC801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A590-FC4D-4BD7-AA83-FA0CD1BFE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AF98-2010-4113-A62D-6E4FDF5FA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FAD1-2A33-431B-B44B-47E2908E1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11A2-358D-43A2-89C8-4FFE7463B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1423-696B-489C-BBBB-F64A420AD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EE7C-A73D-4B61-B1F1-9556A7896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78C4-E5D7-4480-B990-56311CAB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1C17-852E-46B4-B986-8CB8DA83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D08D-019A-4F2E-AB97-FB2B0DA7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2233F-6030-4DAD-8A45-D6680C5E09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248520" y="2590920"/>
            <a:ext cx="2438280" cy="26668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324480" y="335268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am se chceme dost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3124080"/>
            <a:ext cx="2514600" cy="144792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05320" y="34290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ak se tam dostane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2666880"/>
            <a:ext cx="2361960" cy="2514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3581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de js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676520"/>
            <a:ext cx="914400" cy="5331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705720" y="1752480"/>
            <a:ext cx="914400" cy="533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9880" y="1752480"/>
            <a:ext cx="914400" cy="533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1752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934320" y="1828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1828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48:50Z</dcterms:created>
  <dc:creator>kozakova</dc:creator>
  <dc:description/>
  <dc:language>en-US</dc:language>
  <cp:lastModifiedBy>kozakova</cp:lastModifiedBy>
  <dcterms:modified xsi:type="dcterms:W3CDTF">2005-12-02T13:49:30Z</dcterms:modified>
  <cp:revision>1</cp:revision>
  <dc:subject/>
  <dc:title>Prezentace aplikace PowerPoint</dc:title>
</cp:coreProperties>
</file>