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5EA7-9C87-477C-A2D2-A7803EA52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DA77-066E-4C5C-B3E3-1A80C604A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842B-27E9-472A-94E8-F3B7432AF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C781-8DDE-40C9-8EE8-669F38F7F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51E1-3442-4BDA-90AE-B31BB14E6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8A08-6BB2-465B-A9E5-5FB3AC178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9471-033A-4EF6-A5A8-59C5969CA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DF27-175D-4396-AA39-EFCF80AD7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CBF8-9140-463A-ACE5-73DF80409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4F53-C854-473E-AAA0-8CD4225A9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E324-2B10-47DC-B935-93156BFA5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676F-AF8F-44AB-B99C-E240FC437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71C2A-5A49-44E7-B39C-44990A8AA6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87240" y="868320"/>
          <a:ext cx="7769520" cy="5122800"/>
        </p:xfrm>
        <a:graphic>
          <a:graphicData uri="http://schemas.openxmlformats.org/drawingml/2006/table">
            <a:tbl>
              <a:tblPr/>
              <a:tblGrid>
                <a:gridCol w="1295640"/>
                <a:gridCol w="1293840"/>
                <a:gridCol w="1295280"/>
                <a:gridCol w="1295280"/>
                <a:gridCol w="1293840"/>
                <a:gridCol w="1295640"/>
              </a:tblGrid>
              <a:tr h="169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ten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ální zákazní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nanční institu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edsta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telé komuni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aměst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n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tneř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ktivní účastní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váci na ak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vá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V, rozhlas, čtenáři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12:12:25Z</dcterms:created>
  <dc:creator>kozakova</dc:creator>
  <dc:description/>
  <dc:language>en-US</dc:language>
  <cp:lastModifiedBy>kozakova</cp:lastModifiedBy>
  <dcterms:modified xsi:type="dcterms:W3CDTF">2005-12-05T12:12:49Z</dcterms:modified>
  <cp:revision>1</cp:revision>
  <dc:subject/>
  <dc:title>Prezentace aplikace PowerPoint</dc:title>
</cp:coreProperties>
</file>