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6947-401A-4998-A071-31D20EAAA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A3B9-9543-4448-B24C-5BA0E055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4522-DE06-484A-B5C3-0B61EF03F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F162-B1B6-4DC4-A233-E7FEFFA9E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F29A-7F62-42B6-98C3-E9DF644E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EEF5-6686-42C3-8FC8-1718143A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124D-A79E-444B-86AA-EDE0CEEF6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5DCB-9F62-48F6-899F-6CDE3993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4C56-E4B9-456E-A03B-D63AD8B6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891D-C173-43C7-B58D-F93C23C3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608F-3F76-4EFE-931C-F443D73D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B006-7E4F-41B2-8B11-4ADC42FC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38C7-EE7E-4C0C-9FB2-1A656DB4A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990720"/>
          <a:ext cx="8763120" cy="48765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30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čekávané pří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k překonat 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, jakým chcete postupova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hájit proces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kat se strategickým plánováním a začít s ním za příhodnějších podmí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toupit od myšlenky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0:42Z</dcterms:created>
  <dc:creator>kozakova</dc:creator>
  <dc:description/>
  <dc:language>en-US</dc:language>
  <cp:lastModifiedBy>kozakova</cp:lastModifiedBy>
  <dcterms:modified xsi:type="dcterms:W3CDTF">2005-12-02T13:51:14Z</dcterms:modified>
  <cp:revision>1</cp:revision>
  <dc:subject/>
  <dc:title>Prezentace aplikace PowerPoint</dc:title>
</cp:coreProperties>
</file>