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CA0AE-8860-4283-BABC-54C3B0E5A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5B3B0-F0DB-4B2F-9714-747E78EB5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C5D97-7244-4AC7-8479-6D47F257E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21983-F039-42AA-AF73-529807AE6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D5BF0-595F-4111-B037-0771B63A7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414B6-80E0-4926-B97B-1947145D7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61443-4B32-4084-8B7B-BCBAC1344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C7F60-37E0-48C1-B048-0F5D3C7ED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73970-C014-4FCE-A377-2CE64C231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DD667-EC4A-4564-A232-B7BC6725D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7B163-87CD-447A-ADCF-1223EC457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24DE7-B75C-4874-BF2F-5254954CA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BA5FB-DBB0-4B8D-94F4-97CE28E831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87240" y="868320"/>
          <a:ext cx="7769520" cy="5122800"/>
        </p:xfrm>
        <a:graphic>
          <a:graphicData uri="http://schemas.openxmlformats.org/drawingml/2006/table">
            <a:tbl>
              <a:tblPr/>
              <a:tblGrid>
                <a:gridCol w="1295640"/>
                <a:gridCol w="1293840"/>
                <a:gridCol w="1295280"/>
                <a:gridCol w="1295280"/>
                <a:gridCol w="1293840"/>
                <a:gridCol w="1295640"/>
              </a:tblGrid>
              <a:tr h="169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ten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iální zákazní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nanční institu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ředsta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telé komuni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aměst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nc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rtneř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ktivní účastníc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váci na akc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6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vác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V, rozhlas, čtenáři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5T12:12:25Z</dcterms:created>
  <dc:creator>kozakova</dc:creator>
  <dc:description/>
  <dc:language>en-US</dc:language>
  <cp:lastModifiedBy>kozakova</cp:lastModifiedBy>
  <dcterms:modified xsi:type="dcterms:W3CDTF">2005-12-05T12:12:49Z</dcterms:modified>
  <cp:revision>1</cp:revision>
  <dc:subject/>
  <dc:title>Prezentace aplikace PowerPoint</dc:title>
</cp:coreProperties>
</file>