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E5C8-16CF-4473-ACD9-842B1E50D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5B54-9CEB-4612-8FEF-9E383EF8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F8B6-A8BF-497A-9AF8-7AD11776C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7BC1-0F6B-4BD9-801C-D829F5FD3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8DBD-D4D0-477F-9C0A-712F48E8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E91E-5FB7-432B-930E-4EB1D356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EB99-82DB-4CBF-BB90-BCEFC03D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6874-136A-4C0D-ABD4-B945911F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CED9-5F3C-49A1-BB0B-F1067BC2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E773-6E79-4910-8A24-42DDC3D4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D8BA-774C-4BC3-8E65-CF5623F8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4C77-21B2-4D9F-A727-81B6D856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00AD-0488-41D9-940C-F8D1293E1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295280"/>
          <a:ext cx="6934320" cy="404352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20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voj produ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řazení baletních představení do nabídky divad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šiřování, rozvoj trh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ení nových představení pro nový tr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zifik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ídka nových typů zájezdových představ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67200" y="255600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24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RO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715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8160" y="727200"/>
            <a:ext cx="321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nikání na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ažení většího trž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ílu mezi div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řad student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2064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plikace Ansoffovy matice pro regionální diva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42:18Z</dcterms:created>
  <dc:creator>simona</dc:creator>
  <dc:description/>
  <dc:language>en-US</dc:language>
  <cp:lastModifiedBy>simona</cp:lastModifiedBy>
  <dcterms:modified xsi:type="dcterms:W3CDTF">2005-11-28T11:42:59Z</dcterms:modified>
  <cp:revision>1</cp:revision>
  <dc:subject/>
  <dc:title>.</dc:title>
</cp:coreProperties>
</file>