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F2CD9-072F-4F8B-98A3-A30DBCD5B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A6A1F-B0B0-44D0-ACA6-EFB647B33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AF3FA-82E2-439F-A62C-6CD6908DB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8A6CE-F36C-4B99-998D-AC3A14454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A8EDA-AB52-4F3C-8972-6C8945729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C84D8-98A5-48EF-B719-08A3855CF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613C9-0D0C-4754-9A81-4E9880721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2D5FE-F906-46EF-A640-2099982C7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8EAB4-8DE6-4D1A-8303-324FF166F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2B89A-3717-481D-9EAB-E8F6ED65E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93467-2AEB-4304-A449-F81059D8A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81B4D-6EA5-4084-9BE8-775C69A52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EA543-C47F-43B5-A86F-1A8D2158A3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85800" y="876240"/>
          <a:ext cx="7772400" cy="5105520"/>
        </p:xfrm>
        <a:graphic>
          <a:graphicData uri="http://schemas.openxmlformats.org/drawingml/2006/table">
            <a:tbl>
              <a:tblPr/>
              <a:tblGrid>
                <a:gridCol w="2475000"/>
                <a:gridCol w="5297400"/>
              </a:tblGrid>
              <a:tr h="311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ysílatel/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ýrob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kupina výrobc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bchodní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ružstv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ápad – hlavně 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dělen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formativní – pouze informuj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ansformační – mění postoj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stitucionální, vládní kampaň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lektivní nebo obecně použitelné = podpora konkrétní značk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matické nebo zaměřené na druh, kategorii produktů =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landský sýr,belgické pralinky, jihoamerické hověz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říjem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ákazní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zipodnikové     prostřed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éd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udiovizuální (nadlinková reklam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sk                 (nadlinková reklam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ákupní místa (podlinková reklam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římá               (podlinková reklam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5T12:09:06Z</dcterms:created>
  <dc:creator>kozakova</dc:creator>
  <dc:description/>
  <dc:language>en-US</dc:language>
  <cp:lastModifiedBy>kozakova</cp:lastModifiedBy>
  <dcterms:modified xsi:type="dcterms:W3CDTF">2005-12-05T12:09:38Z</dcterms:modified>
  <cp:revision>1</cp:revision>
  <dc:subject/>
  <dc:title>Prezentace aplikace PowerPoint</dc:title>
</cp:coreProperties>
</file>