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E3F14-6DB9-49EA-AEEA-0E279C52E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4ED43-8F70-4DF7-A996-43280E32E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396CD-2D1C-48A0-8ECD-741FB5D12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EC346-F7E3-4861-9E81-2A82EAB04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CC170-2C25-42B9-8C3F-0DF41D7E7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0823C-B7CC-4DA9-8C13-D44576C9D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C9161-D94C-4C07-B9D3-6FEEA51BE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1EC29-A7E0-42D2-ADF1-DC0AD7445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E7389-0A75-4DAB-9905-5E4DF3F47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3971D-C9DB-43E6-8754-AF8D2C88F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BD629-397E-4726-ABC6-25F9C7010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3E2B8-0BD2-4A6C-934A-C245C93B1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9982E-870A-48BB-9DBD-CC0E7F6347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ř. Poziční mapa hotelových služe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57400" y="2514600"/>
            <a:ext cx="6019920" cy="2895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267080"/>
            <a:ext cx="13716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419720" y="3581280"/>
            <a:ext cx="129528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2971800"/>
            <a:ext cx="1295280" cy="838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6320" y="3614760"/>
            <a:ext cx="2018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níman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úroveň ce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72280" y="2471760"/>
            <a:ext cx="115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ysok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19280" y="4757760"/>
            <a:ext cx="9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ízk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66840" y="5443560"/>
            <a:ext cx="9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ízk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918480" y="5410080"/>
            <a:ext cx="16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ysok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80720" y="5748480"/>
            <a:ext cx="509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nímaná kvalita hotelových služe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133720" y="3767040"/>
            <a:ext cx="246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nzion Slav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09880" y="3157560"/>
            <a:ext cx="213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tel Berán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029200" y="2471760"/>
            <a:ext cx="333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tel Intercontine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8T13:07:55Z</dcterms:created>
  <dc:creator>simona</dc:creator>
  <dc:description/>
  <dc:language>en-US</dc:language>
  <cp:lastModifiedBy>simona</cp:lastModifiedBy>
  <dcterms:modified xsi:type="dcterms:W3CDTF">2005-11-28T13:08:10Z</dcterms:modified>
  <cp:revision>1</cp:revision>
  <dc:subject/>
  <dc:title>Př. Poziční mapa hotelových služeb</dc:title>
</cp:coreProperties>
</file>