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5E88-40F1-4595-8BF1-44C08F5A8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EB9B-4079-4054-B849-FC0E5FE7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2B92-62B2-49B0-956F-7E966665F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906C-41C5-44A7-91A6-91490574C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F0CF-C795-4DD7-AFCF-00BCF268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DB61-81A2-4D0A-9CD0-67450DE9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CAD9-E8EB-41A5-992E-5A4CD527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A441-660D-4EAC-86D8-C36CC89F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EAF9-6175-4A0A-90C8-E2218794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7A12-BF34-40DD-9B81-8B682035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85BD-60A4-4F85-9C73-D3EE8762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DF2E-503A-4B7D-ADEF-3A37DD83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855B-6DDD-4B9C-893B-C71342212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. Poziční mapa hotelových služ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14600"/>
            <a:ext cx="60199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2670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581280"/>
            <a:ext cx="1295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971800"/>
            <a:ext cx="12952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320" y="3614760"/>
            <a:ext cx="20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roveň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2280" y="24717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9280" y="47577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6840" y="54435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54100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0720" y="57484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 kvalita hotelov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7670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zion Sla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1575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Ber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47176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Intercontin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07:55Z</dcterms:created>
  <dc:creator>simona</dc:creator>
  <dc:description/>
  <dc:language>en-US</dc:language>
  <cp:lastModifiedBy>simona</cp:lastModifiedBy>
  <dcterms:modified xsi:type="dcterms:W3CDTF">2005-11-28T13:08:10Z</dcterms:modified>
  <cp:revision>1</cp:revision>
  <dc:subject/>
  <dc:title>Př. Poziční mapa hotelových služeb</dc:title>
</cp:coreProperties>
</file>