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34798-E093-43C6-864F-C128F27CB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87A5E-DACB-480D-B9D1-99B43EB8A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4DD84-3A12-46FE-ADD2-84568931B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CB055-DE0C-4A0A-B202-FD85F0E1A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498F2-EB16-410C-AF48-AF74D6258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4E574-07EF-444A-98FD-D75B8EB08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053B5-4BE3-4C27-B006-9D91A4362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1E968-7B89-40E0-A523-5BF6D096A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3D8E9-EDE5-4F18-A110-ADA08FF9B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156DC-6B5C-49B6-B8D3-F4267AA99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97608-2DD8-4A6B-BEBE-92D59FAA6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39BDE-B538-4AD3-8E42-2DC5D0806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61188-20EC-4E8D-8703-22DE812529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87240" y="887400"/>
          <a:ext cx="7769520" cy="5083200"/>
        </p:xfrm>
        <a:graphic>
          <a:graphicData uri="http://schemas.openxmlformats.org/drawingml/2006/table">
            <a:tbl>
              <a:tblPr/>
              <a:tblGrid>
                <a:gridCol w="3884760"/>
                <a:gridCol w="3884760"/>
              </a:tblGrid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gnitivní, poznávací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třeby v dané kategorii produkt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vědomí o znač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nalost značk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fektivní, emocionální a smyslov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city vyvolané reklamo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stoj k reklamě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bliba značk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stoj ke znač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ázor na značk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pokojenost se značko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9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nativní, behavioráln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ákupní zámě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áku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pakovaný náku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ajalita ke znač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5T12:10:50Z</dcterms:created>
  <dc:creator>kozakova</dc:creator>
  <dc:description/>
  <dc:language>en-US</dc:language>
  <cp:lastModifiedBy>kozakova</cp:lastModifiedBy>
  <dcterms:modified xsi:type="dcterms:W3CDTF">2005-12-05T12:11:04Z</dcterms:modified>
  <cp:revision>1</cp:revision>
  <dc:subject/>
  <dc:title>Prezentace aplikace PowerPoint</dc:title>
</cp:coreProperties>
</file>