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D330-83AA-4D69-BBE4-276E7A6EA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E1A8-5381-4FF0-8E06-C5165EB9A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8B08-F39E-45B8-BA23-172247BE5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4E7D-3E45-4282-8D92-B266CD959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901B-22B9-4658-907D-D0769E3A2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FD2D-969A-4BD1-A4BF-4C6F0DA5B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B66F-C23B-4D0F-8348-7253D7F6A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E9C7-7971-4C3C-85FB-E24D4EF2A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E508-AE82-455E-83C2-2C804F546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1364-EF2A-46A6-9B49-A3848C91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E00D-8FBE-4368-9E09-614E0F57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575D-D939-43D7-8281-FC5684CF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85A3-6B2B-4DCE-AC29-ED192AC4E2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68320"/>
          <a:ext cx="7769520" cy="5122800"/>
        </p:xfrm>
        <a:graphic>
          <a:graphicData uri="http://schemas.openxmlformats.org/drawingml/2006/table">
            <a:tbl>
              <a:tblPr/>
              <a:tblGrid>
                <a:gridCol w="1295640"/>
                <a:gridCol w="1293840"/>
                <a:gridCol w="1295280"/>
                <a:gridCol w="1295280"/>
                <a:gridCol w="1293840"/>
                <a:gridCol w="1295640"/>
              </a:tblGrid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en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ální zákazní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anční institu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dsta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elé komuni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měst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n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neř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ktivní účastní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 na ak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V, rozhlas, čtenář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2:25Z</dcterms:created>
  <dc:creator>kozakova</dc:creator>
  <dc:description/>
  <dc:language>en-US</dc:language>
  <cp:lastModifiedBy>kozakova</cp:lastModifiedBy>
  <dcterms:modified xsi:type="dcterms:W3CDTF">2005-12-05T12:12:49Z</dcterms:modified>
  <cp:revision>1</cp:revision>
  <dc:subject/>
  <dc:title>Prezentace aplikace PowerPoint</dc:title>
</cp:coreProperties>
</file>