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8F5C-2A14-481E-92E5-ADB87596F9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louhodobě nezaměstnaní (12 měsíců a déle) jako procentuální podíl z celkového aktivního obyvatelstva.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 mohl uvést všech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B63-C8EE-45E0-B3D0-AD990009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A9B-2911-4EB1-9FBC-7F762F57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705-0AC4-46B2-AE75-A8307555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D2B-C037-4C38-AAD7-F3D9A5AD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682-5167-4184-84B2-BBCD6AE8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C15-961A-45BD-B3AA-446E385D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296-7707-488E-B4C2-69975C6D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7F0-D23E-4663-8E84-C3834478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A70-ED9C-4042-8A65-3AB2BA0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FFF-4B67-4D69-A208-ED2D565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BA6-842C-4DB0-B801-B8FE2EC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641-ECFB-4461-AC43-BF02AC0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B30D-9067-4D97-AA67-E68772303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Image:Unemployment_rate_world_from_CIA_figures.PN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3E1-7556-472E-A415-57590B928F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KOVÁ NEZAMĚSTNA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ikční – změna zaměstnání (lepší informovanost, vzděl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ální – upadající obory (rekvalifikace, mobili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zónní – zemědělství, stavebnictví, cestovní r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kl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ziduální – nezaměstnate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EF3-E919-4AAD-8F5C-8489AFA420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9010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brovolná vs. nedobrovoln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98920" y="213372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98920" y="6093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86200" y="2637000"/>
            <a:ext cx="3097080" cy="3024000"/>
          </a:xfrm>
          <a:custGeom>
            <a:avLst/>
            <a:gdLst/>
            <a:ahLst/>
            <a:rect l="l" t="t" r="r" b="b"/>
            <a:pathLst>
              <a:path w="1588" h="1951">
                <a:moveTo>
                  <a:pt x="0" y="0"/>
                </a:moveTo>
                <a:cubicBezTo>
                  <a:pt x="26" y="336"/>
                  <a:pt x="53" y="673"/>
                  <a:pt x="318" y="998"/>
                </a:cubicBezTo>
                <a:cubicBezTo>
                  <a:pt x="583" y="1323"/>
                  <a:pt x="1346" y="1792"/>
                  <a:pt x="1588" y="1951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0560" y="2565360"/>
            <a:ext cx="3240000" cy="3024360"/>
          </a:xfrm>
          <a:custGeom>
            <a:avLst/>
            <a:gdLst/>
            <a:ahLst/>
            <a:rect l="l" t="t" r="r" b="b"/>
            <a:pathLst>
              <a:path w="1988" h="1951">
                <a:moveTo>
                  <a:pt x="0" y="1951"/>
                </a:moveTo>
                <a:cubicBezTo>
                  <a:pt x="302" y="1905"/>
                  <a:pt x="605" y="1860"/>
                  <a:pt x="907" y="1724"/>
                </a:cubicBezTo>
                <a:cubicBezTo>
                  <a:pt x="1209" y="1588"/>
                  <a:pt x="1640" y="1421"/>
                  <a:pt x="1814" y="1134"/>
                </a:cubicBezTo>
                <a:cubicBezTo>
                  <a:pt x="1988" y="847"/>
                  <a:pt x="1969" y="423"/>
                  <a:pt x="1950" y="0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98920" y="5084640"/>
            <a:ext cx="3744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698920" y="4508640"/>
            <a:ext cx="3744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98920" y="5373720"/>
            <a:ext cx="3744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66920" y="220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43640" y="5300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486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4221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9280" y="61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2421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508640"/>
            <a:ext cx="187308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3860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obrovolná nezaměstna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DD8-886F-42A8-A71B-8C032628A9E6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ní ukazatele ne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1/1 – nezaměstnaní do 3 měsíců/ civilní pracovní sí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1 – nezam nad 3 měsíce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2 – osoby, které práci ztratily z ekon. důvodů nebo ukončili práci na dobu určitou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3 – všichni nezaměstnaní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4 – všichni nezaměstnaní + frustrované osoby/CPS+frustrov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5 – všichni nezam. + frustrovaní + všechny ostatní osoby marginálně spjaté s ekon. aktiv. obyv/ CPS+frust+VOMSE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6 – čitatel U5 + podzaměstnaní/jmenovatel U5+podzaměstn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1D4-C2E6-401A-9DDC-C5CBE64C04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Alternativní míry nezam. V Č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06616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E53-26DC-466C-9532-D48CCDBB0E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902-71B4-4F89-8F96-E5861C591F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zikové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adi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v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dikep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důchodový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žší 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ní a regionální asp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457-D876-4334-86EF-D03BA5560B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3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ady ne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Životní ú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nímání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zické a psychické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nom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v mikroekonomické adap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 po určitou m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livnění H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iv na transf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1EB-0CE4-4531-9FEF-123E177140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sová nezaměsta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č existuje nezaměstnanost nad úrovni N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žní modely: klasická te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tržní modely: keynesianci, institucionální te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íly v odpovědi na otázku: jak je možno chápat krátkodobé přizpůsobení trhu práce (přizpůsobení ceny práce vs. kvantity prá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DF2-69CD-400C-9915-F6786641F9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cký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způsobuje se cena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zaměstnanost vede ke snížení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omezeno: vládní zásahy, odborová vyjednávání, mzdová regulace, vysoká podpora v U, vysoké progresivní zdanění – dobrovolná nezaměstn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nezaměstnan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553-147F-49D9-98AC-959100058A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oklasická teorie masové ne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orie hledání práce „job search“ – čím vyšší oček. mzda, tím vyšší mezní užitečnost hledání práce – frikční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orie srovnání zisků „capital gain“ – negativní vliv cenové inflace na zaměstnanost – očekávaný růst cen = pokles zaměstnanosti mladší gene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orie o dohodnutých mzdách – nedostatečná informovanost pracovníků o mzdových příležitostech = monopolní výhoda zaměstnavatelů. Čím výšší U a nižší míra volných míst, tím nižší mzd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existence níkých mezd+vysoké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orieimplicitní smlouvy - rozhodnutí o tom kdo a a kolik ještě před tím než proběhne tržní vy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orie nedokonalé soutěže – zam-ci vyjednají mzdu, na jejím základě je stanovena zaměstn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orie trhu zákazníka – nákladnost hledání zaměstnání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i za nižší a stabilní mzdu, aby nemusel hledat stále jiné zam-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orie několika rovnovážných stavů – rovnováha možná i při nízké i při vysoké U z důvodu externalit na straně S i 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CEC-4102-4E92-9A3B-1E2ACFDA04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 práce a politika zaměstnanos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řednáška č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ZAMĚSTNA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9E3-2534-4146-A675-EBEDD2F89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eynesiánská t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rhu práce nedochází a nemůže docházet k vyrov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y i ceny jsou rigidní (přizpůsobuje se množ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ízká kupní síla – pokles AD – růst U – pokles kupní sí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: expanzivní makroekonomická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ternativně: pružné ceny, rigidní mz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poklesu AD neklesají mzdy, ale množství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panzivní politika zvyšuje ceny v poměru ke mzdám – klesá reálná mzda – pokles nezaměstnanosti + růst inflace = phillipsova křiv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ologická nezaměstna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A5E-4134-4E2F-A197-496EB544C5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cionální t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h práce je formován především specifickými normami jednání činitelů a sociálními a ekonomickými instituc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efektivních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morálního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olog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D29-D485-436D-BE2A-6CD6D5254F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RU A NAI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RU = Natural Rate of Unemployment (Fried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roveň U, při níž jsou jednotlivé segmenty trhu práce v průměru v rovnováz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nížení N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lepšení služeb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ádní programy 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straňování vládních překáž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tlaková ekonomika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vorba nových pracovních přílež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IRU = Non-Accelerating Inflation Rate of Unemployment: ukazatel inflačních tenden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-li 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NAIRU =&gt;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ůst Inf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hady NAIRU se mění mezi zeměmi i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D36-0D88-4258-AAA4-19E8ADBA8D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004000" cy="501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138-60D1-4E7D-AC30-CB14C9521A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3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AIRU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vnovážná U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istuje při NAIRU nezaměstnanost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NAIRU keynesiánská teor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o a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istuje v NAIRU nedobrovolná nezaměstnano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O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kže, je NAIRU ukazatelem rovnovážné 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F09-E975-4D94-BB72-5BDE504BA7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RU vs. NAI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RU je koncept rovnovážného trhu, NAIRU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rovnovážný koncept, v NAIRU existuje na „nekonečně“ mnoho trzích práce jak nezaměstnanost, tak volná 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IRU je více makroekonomický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IRU je determinována rovnováhou sil mezi zaměstnanci a formami, mikroekonomické základy NAIRU leží v teoriích nedokonalé konkurence na trhu práce a trhu produk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RU je dána uspořádáním trhu a institucionálními podmínkami a v krátkém období konstantní, NAIRU se mění s tím jak se mění mzdy, nezaměstnanost a volná místa a vztahy mezi těmito veličinami – je dána vyjednávací silou zůčastněných st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34C-7A20-41D9-9570-09610C57CC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33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808280"/>
            <a:ext cx="75596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C33-D3B5-41A5-9FBC-EF2C332C71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0720" y="286920"/>
            <a:ext cx="770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9200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DE3-A222-43EA-B716-EC7E3E09F1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The Phillips Curve unravels"/>
          <p:cNvPicPr/>
          <p:nvPr/>
        </p:nvPicPr>
        <p:blipFill>
          <a:blip r:embed="rId1"/>
          <a:stretch/>
        </p:blipFill>
        <p:spPr>
          <a:xfrm>
            <a:off x="900000" y="1844640"/>
            <a:ext cx="79930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83A-FF2F-4FFE-B1B4-D942864BE4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8960" y="402840"/>
            <a:ext cx="7629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hilipsova křiv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893080" cy="4959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62164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ývoj inflace a nezam. v U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60D-971E-47B9-B888-91D564DC6B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městnaní vs. nezaměstna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aní (E) vykonávají jakoukoliv placenou práci, nebo práci mají, ale nepracují z důvodu nemoci nebo dovole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zaměstnaný (U) je člověk, který nepracuje, ale v během posledního období vyvinul specifické úsilí k nalezení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yl z práce vysazen a čeká na návrat do práce nebo v nejbližší době do práce nastoup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 + nezam = ekonomicky aktivní obyv. = prac. síla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7E6-DB9B-43A2-9743-E7BBA4482F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740720" cy="4537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38172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voj v USA, zdroj: http://www.prospect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80C-2E5F-4970-AB94-0824E05F72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LOUHODOBÉ TRENDY NE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íra nez. je vyšší v Evropě (1998:10%) než v USA (4,5%) a JAP (pod 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ruktura nez.: problémové regi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8: dlouhodobá nez. (nad 6měsíců) téměř 12 nezaměstnaných v Evropě X v JAP (39%), v USA (14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C21-FF4E-4254-AEE5-F9D34A4E24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louhodobá nezaměstna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55640" y="1341360"/>
          <a:ext cx="8007480" cy="5176800"/>
        </p:xfrm>
        <a:graphic>
          <a:graphicData uri="http://schemas.openxmlformats.org/drawingml/2006/table">
            <a:tbl>
              <a:tblPr/>
              <a:tblGrid>
                <a:gridCol w="2425680"/>
                <a:gridCol w="1859040"/>
                <a:gridCol w="1859040"/>
                <a:gridCol w="1863720"/>
              </a:tblGrid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íra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íl LTU na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ech re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hu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364-F473-4D7E-A7DC-159AA8BCE8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8960" y="345960"/>
            <a:ext cx="7629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ÍRA DLOUHODOBÉ NEZAMĚSTNANOSTI (2005, 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806472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FBE-3E06-4950-93A1-396412ED21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ne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31708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A58-932B-450C-876F-96059598C1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90560" y="1916280"/>
            <a:ext cx="8353440" cy="49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D42-FA35-49F8-B77D-A6242484B4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ÍRA NEZAMĚSTNANOST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2004, 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627" t="15985" r="8498" b="7466"/>
          <a:stretch/>
        </p:blipFill>
        <p:spPr>
          <a:xfrm>
            <a:off x="863640" y="1844640"/>
            <a:ext cx="828036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5FB-D092-46E7-B381-890DF7FDB8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ÍRA NEZAMĚSTNANOSTI ( 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637480" cy="547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0D5-2133-4B80-8660-2E74B6E2F8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BA HLEDÁNÍ ZAMĚSTNÁNÍ (2005, v tis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680000" cy="25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90E-1B9E-4D7A-8ADE-95C6195272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VOJ NEZAMĚSTNANOST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2133" r="0" b="0"/>
          <a:stretch/>
        </p:blipFill>
        <p:spPr>
          <a:xfrm>
            <a:off x="826920" y="1844640"/>
            <a:ext cx="83170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DA6-B7ED-4229-B76B-691D3F01A9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ČLENĚNÍ POPULACE VE VZTAHU K TRHU PRÁCE (IL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8697" t="29938" r="16256" b="52549"/>
          <a:stretch/>
        </p:blipFill>
        <p:spPr>
          <a:xfrm>
            <a:off x="520560" y="1690560"/>
            <a:ext cx="7178760" cy="339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6C0-BE81-43B7-B01F-F9F911F790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VOJ NEZAMĚSTNANOST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8317080" cy="43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2DF-BF2B-467D-B174-5141BDB87D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ROVNÁNÍ MĚR NEZAMĚST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705800" cy="475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2FA-6987-4E90-A63C-74D78D0747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ÍRA NEZAMĚSTNANOSTI MUŽŮ (31.12.20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6197" t="22688" r="15845" b="17513"/>
          <a:stretch/>
        </p:blipFill>
        <p:spPr>
          <a:xfrm>
            <a:off x="900000" y="1844640"/>
            <a:ext cx="7848720" cy="48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A69-83F8-4645-86CE-521488B5B45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ÍRA NEZAMĚSTNANOSTI ŽEN (31.12.20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6498" t="26383" r="15547" b="14844"/>
          <a:stretch/>
        </p:blipFill>
        <p:spPr>
          <a:xfrm>
            <a:off x="900000" y="1889280"/>
            <a:ext cx="806472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66A-AA79-4279-A020-A933534FB80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ÍRA NEZAMĚSTNANOSTI DLE KRAJŮ (2005, 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120000" cy="48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115-128F-4602-8F0D-E5E3BFA61A6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ÍRA NEZAMĚSTNANOSTI DLE VĚKU (2005, 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120000" cy="45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71E-C15F-4AD3-B9D8-201CCE69A05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ÍRA NEZAMĚSTNANOSTI DLE VZDĚLÁNÍ (2005, 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464000" cy="188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53A-E0B1-46A2-829B-89DCECA299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JČASTĚJŠÍ ZPŮSOBY HLEDÁNÍ PRÁC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2005, v tis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192720" cy="2960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4292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549-9495-425C-9C76-1246B1D888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92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ip na kone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Pane řediteli, kolik ve vašem podniku pracuje lidí?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Troufám si tvrdit, že dobrých 50%.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7D0-38D0-4186-B9A4-7B43BB9B66E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mons.wikimedia.org/wiki/Image:Unemployment_rate_world_from_CIA_figures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618-B7A8-48CD-AA8E-4B605377769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ZAMĚSTNA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2564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elková X míra nezaměstna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u = U/L *100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: indikátor volné pracovní kapacity (plýtvání V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leduje se: struktura a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BB2-36CB-4710-8D61-EF52872208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č také zjišťovat nezam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ěsíční změny nez. = dobré vodítko ek.výv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vnání posledních 2-3 měsíců s průměrnou změnou ve stejných měsících předchozího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ionální nez. vypovídá o strukturální n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006-A493-4A99-BDE1-2CB87EEDD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KOVÁ NEZAMĚSTNA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= lidé bez práce ochotni a schopni prac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registrovaných nezaměstnaných (RAK, ŠVÝC, ČR - MPS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nárokujících příspěvek (BEL, V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průzkumu (VB, ČR – ČSÚ:VŠ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36D-5273-44D4-9CFB-3A7FD4857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ZDÍL VŠPS X MP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2913" b="7681"/>
          <a:stretch/>
        </p:blipFill>
        <p:spPr>
          <a:xfrm>
            <a:off x="900000" y="1844640"/>
            <a:ext cx="8244000" cy="29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D92-CE7F-45E9-8B4E-88F1048D64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ÍRA NEZAMĚSTNA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= procentní podíl z pracovní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árodní rozdíly jsou běžn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L: 2 míry nez. (% z celkové pracovní síly, % z pojištěné pracovní sí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VÝC: pracovní síla dle sčítání r.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LO= standardní míra nezaměstnanosti pro mezinárodní srovn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R: MPSV, VŠ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3B2-C9C7-4693-B7E6-9EAB402ED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18:20:24Z</dcterms:created>
  <dc:creator/>
  <dc:description/>
  <dc:language>en-US</dc:language>
  <cp:lastModifiedBy>paleta</cp:lastModifiedBy>
  <dcterms:modified xsi:type="dcterms:W3CDTF">2007-02-27T08:27:14Z</dcterms:modified>
  <cp:revision>41</cp:revision>
  <dc:subject/>
  <dc:title>Snímek 1</dc:title>
</cp:coreProperties>
</file>