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4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8.png" ContentType="image/png"/>
  <Override PartName="/ppt/media/image14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10.png" ContentType="image/png"/>
  <Override PartName="/ppt/media/image21.png" ContentType="image/png"/>
  <Override PartName="/ppt/media/image19.png" ContentType="image/png"/>
  <Override PartName="/ppt/media/image17.wmf" ContentType="image/x-wmf"/>
  <Override PartName="/ppt/media/image16.png" ContentType="image/png"/>
  <Override PartName="/ppt/media/image15.png" ContentType="image/png"/>
  <Override PartName="/ppt/media/image25.png" ContentType="image/png"/>
  <Override PartName="/ppt/media/image2.png" ContentType="image/pn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419B8-9A41-4493-988B-A37C4FD01B3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Dlouhodobě nezaměstnaní (12 měsíců a déle) jako procentuální podíl z celkového aktivního obyvatelstva. 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Respondent mohl uvést všech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3E84-9B66-4945-8D57-A1A76D674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5621-5DA9-4121-8548-33D413D10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9D60-CFCE-4287-A5CE-314CDF7DC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6F16-0DA6-48EF-8A31-1BBEAF48E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2BF9A-E859-4440-9611-6EE69CF6D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69F9A-CA86-4162-9309-96313067B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0D132-5DE2-496C-B223-A2DB8F8AE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84F56-1444-4A05-8C49-CF422D61B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D380A-D0EB-4504-907B-A9FD02E84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524B0-D47B-418D-B52C-C0BC45DE8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25A9A-D43F-4759-9893-C9B0CE08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20D8-B188-4FBA-B948-4174069C0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81852-5FFE-43B6-A308-ACDCFDE3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A0709-DA1B-45B3-96BE-4C7E136F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62007-F177-4EFC-8F1E-4E1016FFE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01A7A-73B9-492C-8E51-BE7CD735E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87E6E-230E-47FD-AC9B-F730787B8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5B416-9B17-40E7-9B67-8EB8A929C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7AF3D-F5A2-456D-8774-E2FE51F6F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BE657-2570-44B9-A053-584B3C330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CA8BC-2A83-4559-A18A-4CA02F71E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672C3-1E27-414F-8A63-CE66BBCE1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40DF-3AFE-4FE9-A7F2-80489D1F9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86C20-F131-4984-B770-2543B3F18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5D42A-0862-4407-8FAF-9A62EB64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9997A-02BC-4329-8C6E-4B8B7A6E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6EEB7-AC86-4195-BAE0-5BBC69E5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62BA9-667F-42FD-89AF-EED681B88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A79F1-34DE-445F-BF97-388D80818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2C9D9-5014-46A1-8798-B4B6D1D23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EA46-1696-47DE-8F03-507A3E5CA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8C1D-3FCC-4CAE-9D7F-5A88540D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5E0D-8736-40E2-AA8B-623149A55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181D-A8C5-4739-B8F0-2395B520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EC42-1C73-415F-9987-277EE774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02CB-69D9-40A1-9B2A-BB6BD784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-360" y="638136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3333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55B6F-2E65-40AB-839F-408967C760DE}" type="slidenum">
              <a:rPr b="1" lang="en-US" sz="2000" spc="-1" strike="noStrike">
                <a:solidFill>
                  <a:srgbClr val="3333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3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-360" y="638136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3333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9F166-7E46-4262-B984-348CBBD2A11B}" type="slidenum">
              <a:rPr b="1" lang="en-US" sz="2000" spc="-1" strike="noStrike">
                <a:solidFill>
                  <a:srgbClr val="3333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E6811-54ED-4DD5-BFE4-B46CBA586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Image:Unemployment_rate_world_from_CIA_figures.PNG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F4C7E-5D06-44E1-8D8F-F1BD0DAAE8F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Členění nezaměstnanosti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spcBef>
                <a:spcPts val="799"/>
              </a:spcBef>
              <a:buClr>
                <a:srgbClr val="99ff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rikční – změna zaměstnání (lepší informovanost, vzdělání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spcBef>
                <a:spcPts val="799"/>
              </a:spcBef>
              <a:buClr>
                <a:srgbClr val="99ff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ukturální – upadající obory (rekvalifikace, mobilit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spcBef>
                <a:spcPts val="799"/>
              </a:spcBef>
              <a:buClr>
                <a:srgbClr val="99ff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zónní – zemědělství, stavebnictví, cestovní ru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spcBef>
                <a:spcPts val="799"/>
              </a:spcBef>
              <a:buClr>
                <a:srgbClr val="99ff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yklick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spcBef>
                <a:spcPts val="799"/>
              </a:spcBef>
              <a:buClr>
                <a:srgbClr val="99ff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ziduální – nezaměstnatel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B55F-2D25-4BB3-9379-9801E4AFD02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9010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Dobrovolná vs. nedobrovolná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"/>
          <p:cNvSpPr/>
          <p:nvPr/>
        </p:nvSpPr>
        <p:spPr>
          <a:xfrm>
            <a:off x="2698920" y="2133720"/>
            <a:ext cx="0" cy="3959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98920" y="6093000"/>
            <a:ext cx="4103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986200" y="2637000"/>
            <a:ext cx="3097080" cy="3024000"/>
          </a:xfrm>
          <a:custGeom>
            <a:avLst/>
            <a:gdLst/>
            <a:ahLst/>
            <a:rect l="l" t="t" r="r" b="b"/>
            <a:pathLst>
              <a:path w="1588" h="1951">
                <a:moveTo>
                  <a:pt x="0" y="0"/>
                </a:moveTo>
                <a:cubicBezTo>
                  <a:pt x="26" y="336"/>
                  <a:pt x="53" y="673"/>
                  <a:pt x="318" y="998"/>
                </a:cubicBezTo>
                <a:cubicBezTo>
                  <a:pt x="583" y="1323"/>
                  <a:pt x="1346" y="1792"/>
                  <a:pt x="1588" y="1951"/>
                </a:cubicBezTo>
              </a:path>
            </a:pathLst>
          </a:custGeom>
          <a:noFill/>
          <a:ln w="381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30560" y="2565360"/>
            <a:ext cx="3240000" cy="3024360"/>
          </a:xfrm>
          <a:custGeom>
            <a:avLst/>
            <a:gdLst/>
            <a:ahLst/>
            <a:rect l="l" t="t" r="r" b="b"/>
            <a:pathLst>
              <a:path w="1988" h="1951">
                <a:moveTo>
                  <a:pt x="0" y="1951"/>
                </a:moveTo>
                <a:cubicBezTo>
                  <a:pt x="302" y="1905"/>
                  <a:pt x="605" y="1860"/>
                  <a:pt x="907" y="1724"/>
                </a:cubicBezTo>
                <a:cubicBezTo>
                  <a:pt x="1209" y="1588"/>
                  <a:pt x="1640" y="1421"/>
                  <a:pt x="1814" y="1134"/>
                </a:cubicBezTo>
                <a:cubicBezTo>
                  <a:pt x="1988" y="847"/>
                  <a:pt x="1969" y="423"/>
                  <a:pt x="1950" y="0"/>
                </a:cubicBezTo>
              </a:path>
            </a:pathLst>
          </a:custGeom>
          <a:noFill/>
          <a:ln w="3816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698920" y="5084640"/>
            <a:ext cx="374472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698920" y="4508640"/>
            <a:ext cx="374472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2698920" y="5373720"/>
            <a:ext cx="374472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66920" y="2205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43640" y="530064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43640" y="486900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443640" y="422100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99280" y="6165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43640" y="242100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59280" y="242100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067280" y="4508640"/>
            <a:ext cx="1873080" cy="0"/>
          </a:xfrm>
          <a:prstGeom prst="line">
            <a:avLst/>
          </a:prstGeom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67280" y="386064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dobrovolná nezaměstnan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68360" y="602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024E-29E8-41C1-A58C-5473639F6BF1}" type="slidenum">
              <a:t>1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68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lternativní ukazatele nezaměstnanosti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U1/1 – nezaměstnaní do 3 měsíců/ civilní pracovní sí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U1 – nezam nad 3 měsíce/C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U2 – osoby, které práci ztratily z ekon. důvodů nebo ukončili práci na dobu určitou/C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U3 – všichni nezaměstnaní/C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U4 – všichni nezaměstnaní + frustrované osoby/CPS+frustrova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U5 – všichni nezam. + frustrovaní + všechny ostatní osoby marginálně spjaté s ekon. aktiv. obyv/ CPS+frust+VOMSEA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U6 – čitatel U5 + podzaměstnaní/jmenovatel U5+podzaměstna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BD7E-1235-4ECE-BA81-C25EBC595D2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b7"/>
                </a:solidFill>
                <a:latin typeface="Arial Black"/>
              </a:rPr>
              <a:t>Alternativní míry nezam. V ČR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826920" y="1916280"/>
            <a:ext cx="8066160" cy="41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FC48-44A5-4EF6-8227-B517BAF7432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7480" cy="419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8614-D1A2-4922-833E-2309122981C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izikové skupin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že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ladistv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solven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ndikepova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ředdůchodový vě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žší vzděl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fesní a regionální aspek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CB56-0581-4975-8986-6619850DA1C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536" fill="hold"/>
                                        <p:tgtEl>
                                          <p:spTgt spid="1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opady nezaměstnanosti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ciál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Životní úrove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di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nímání čas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yzické a psychické zdrav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konomick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jev mikroekonomické adapt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n po určitou me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livnění HD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liv na transfer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CCCC-63B4-4775-BC38-7EA55390128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b7"/>
                </a:solidFill>
                <a:latin typeface="Arial Black"/>
              </a:rPr>
              <a:t>Masová nezaměstanos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oč existuje nezaměstnanost nad úrovni NR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ržní modely: klasická teor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etržní modely: keynesianci, institucionální teor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ozdíly v odpovědi na otázku: jak je možno chápat krátkodobé přizpůsobení trhu práce (přizpůsobení ceny práce vs. kvantity prá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EFE2-DC64-4E49-9773-CB5A9BA49D8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Klasický mode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řizpůsobuje se cena prá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zaměstnanost vede ke snížení mez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je omezeno: vládní zásahy, odborová vyjednávání, mzdová regulace, vysoká podpora v U, vysoké progresivní zdanění – dobrovolná nezaměstnan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gidita mezd, dohody, daň z příjmu, sociální pojištění, „past nezaměstnanosti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BA1B-02EC-423A-9655-3BE1CB6F868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Neoklasická teorie masové nezaměstnanosti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Teorie hledání práce „job search“ – čím vyšší oček. mzda, tím vyšší mezní užitečnost hledání práce – frikční 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Teorie srovnání zisků „capital gain“ – negativní vliv cenové inflace na zaměstnanost – očekávaný růst cen = pokles zaměstnanosti mladší gener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Teorie o dohodnutých mzdách – nedostatečná informovanost pracovníků o mzdových příležitostech = monopolní výhoda zaměstnavatelů. Čím výšší U a nižší míra volných míst, tím nižší mzda 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existence níkých mezd+vysoké 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Teorieimplicitní smlouvy - rozhodnutí o tom kdo a a kolik ještě před tím než proběhne tržní vyrovnán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Teorie nedokonalé soutěže – zam-ci vyjednají mzdu, na jejím základě je stanovena zaměstnan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Teorie trhu zákazníka – nákladnost hledání zaměstnání 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gt;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ráce i za nižší a stabilní mzdu, aby nemusel hledat stále jiné zam-e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Teorie několika rovnovážných stavů – rovnováha možná i při nízké i při vysoké U z důvodu externalit na straně S i 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5D43-2DD1-4469-A7DF-07F5A3E087A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Trh práce a politika zaměstnanosti</a:t>
            </a: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	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Přednáška č.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NEZAMĚSTNANOS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B90D1-0C6C-4FAC-AAA3-A3261C8BAE1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b7"/>
                </a:solidFill>
                <a:latin typeface="Arial Black"/>
              </a:rPr>
              <a:t>Keynesiánská teori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a trhu práce nedochází a nemůže docházet k vyrovná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zdy i ceny jsou rigidní (přizpůsobuje se množství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Nízká kupní síla – pokles AD – růst U – pokles kupní síly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Řešení: expanzivní makroekonomická politi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Alternativně: pružné ceny, rigidní mzd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ři poklesu AD neklesají mzdy, ale množství prá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Expanzivní politika zvyšuje ceny v poměru ke mzdám – klesá reálná mzda – pokles nezaměstnanosti + růst inflace = phillipsova křiv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Technologická nezaměstnanost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EC51-81AB-4408-896A-4B792A56AFE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stitucionální teori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h práce je formován především specifickými normami jednání činitelů a sociálními a ekonomickými instituce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orie efektivních mez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orie morálního rizi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ologický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D1E8-968E-4E94-B59C-D5211A00E12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NRU A NAIRU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NRU = Natural Rate of Unemployment (Friedma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Úroveň U, při níž jsou jednotlivé segmenty trhu práce v průměru v rovnováz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Snížení NRU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Zlepšení služeb na trhu prá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Vládní programy zaměstnanos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Odstraňování vládních překáž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Přetlaková ekonomika (!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Tvorba nových pracovních příležitost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NAIRU = Non-Accelerating Inflation Rate of Unemployment: ukazatel inflačních tendenc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je-li U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&lt; NAIRU =&gt;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růst Infl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Odhady NAIRU se mění mezi zeměmi i v č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7353-57AD-44F0-B6DF-75B14D47EFA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908000" y="1844640"/>
            <a:ext cx="5004000" cy="50133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1258920" y="3357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4932-2D23-4132-A544-4F15FCEE7E5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631" fill="hold"/>
                                        <p:tgtEl>
                                          <p:spTgt spid="2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b7"/>
                </a:solidFill>
                <a:latin typeface="Arial Black"/>
              </a:rPr>
              <a:t>Je </a:t>
            </a:r>
            <a:r>
              <a:rPr b="1" lang="de-DE" sz="4400" spc="-1" strike="noStrike">
                <a:solidFill>
                  <a:srgbClr val="ffffb7"/>
                </a:solidFill>
                <a:latin typeface="Arial Black"/>
              </a:rPr>
              <a:t>NAIRU </a:t>
            </a:r>
            <a:r>
              <a:rPr b="1" lang="cs-CZ" sz="4400" spc="-1" strike="noStrike">
                <a:solidFill>
                  <a:srgbClr val="ffffb7"/>
                </a:solidFill>
                <a:latin typeface="Arial Black"/>
              </a:rPr>
              <a:t>rovnovážná U 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Existuje při NAIRU nezaměstnanost 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A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Je NAIRU keynesiánská teori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Ano a 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Existuje v NAIRU nedobrovolná nezaměstnanost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ANO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Takže, je NAIRU ukazatelem rovnovážné U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06BD-E1FD-4601-A626-334C23C7F39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NRU vs. NAIRU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NRU je koncept rovnovážného trhu, NAIRU </a:t>
            </a:r>
            <a:r>
              <a:rPr b="1" lang="cs-CZ" sz="2200" spc="-1" strike="noStrike">
                <a:solidFill>
                  <a:srgbClr val="ffffff"/>
                </a:solidFill>
                <a:latin typeface="Arial"/>
              </a:rPr>
              <a:t>není</a:t>
            </a: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 rovnovážný koncept, v NAIRU existuje na „nekonečně“ mnoho trzích práce jak nezaměstnanost, tak volná  míst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NAIRU je více makroekonomický model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NAIRU je determinována rovnováhou sil mezi zaměstnanci a formami, mikroekonomické základy NAIRU leží v teoriích nedokonalé konkurence na trhu práce a trhu produkc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NRU je dána uspořádáním trhu a institucionálními podmínkami a v krátkém období konstantní, NAIRU se mění s tím jak se mění mzdy, nezaměstnanost a volná místa a vztahy mezi těmito veličinami – je dána vyjednávací silou zůčastněných str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826920" y="5734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80D8-89E8-43BC-8575-64C759F88EA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8333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900000" y="1808280"/>
            <a:ext cx="7559640" cy="428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D8FF-CA50-4800-AE29-A3363D56181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25400" y="260280"/>
            <a:ext cx="7850160" cy="13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7920000" cy="41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0155-019C-4859-B298-10539B77510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23" name="" descr="The Phillips Curve unravels"/>
          <p:cNvPicPr/>
          <p:nvPr/>
        </p:nvPicPr>
        <p:blipFill>
          <a:blip r:embed="rId1"/>
          <a:stretch/>
        </p:blipFill>
        <p:spPr>
          <a:xfrm>
            <a:off x="900000" y="1844640"/>
            <a:ext cx="7993080" cy="417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8917-DFDF-480A-BE93-1E98A767EC6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b7"/>
                </a:solidFill>
                <a:latin typeface="Arial Black"/>
              </a:rPr>
              <a:t>Philipsova křivk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8893080" cy="49593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55640" y="621648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vývoj inflace a nezam. v U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252E-060A-4D05-8F7F-B55A6550D82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Zaměstnaní vs. nezaměstnaní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aměstnaní (E) vykonávají jakoukoliv placenou práci, nebo práci mají, ale nepracují z důvodu nemoci nebo dovolen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ezaměstnaný (U) je člověk, který nepracuje, ale v během posledního období vyvinul specifické úsilí k nalezení prá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byl z práce vysazen a čeká na návrat do práce nebo v nejbližší době do práce nastoup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am + nezam = ekonomicky aktivní obyv. = prac. síla (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C8BE-365F-472F-A5CC-08E91E7A6A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7740720" cy="4537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250920" y="6381720"/>
            <a:ext cx="88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Vývoj v USA, zdroj: http://www.prospect.org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34F0-F4EB-4070-8B5F-77404D31F2C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DLOUHODOBÉ TRENDY NEZAMĚSTNANOSTI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Míra nez. je vyšší v Evropě (1998:10%) než v USA (4,5%) a JAP (pod 3%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Struktura nez.: problémové regio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1998: dlouhodobá nez. (nad 6měsíců) téměř 12 nezaměstnaných v Evropě X v JAP (39%), v USA (14%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7AA5-31C2-46B7-9BC6-CAAF039B5E3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Dlouhodobá nezaměstnanost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755640" y="1341360"/>
          <a:ext cx="8007480" cy="5176800"/>
        </p:xfrm>
        <a:graphic>
          <a:graphicData uri="http://schemas.openxmlformats.org/drawingml/2006/table">
            <a:tbl>
              <a:tblPr/>
              <a:tblGrid>
                <a:gridCol w="2425680"/>
                <a:gridCol w="1859040"/>
                <a:gridCol w="1859040"/>
                <a:gridCol w="1863720"/>
              </a:tblGrid>
              <a:tr h="454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íra 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T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odíl LTU na 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zech rep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2,4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ungar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6,5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olan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2,8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lova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4,8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ithuan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,78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nmar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,37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inlan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,5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ra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,18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erman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7,5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ortug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6,43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pai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2,33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wed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1,5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7,6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S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,2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FA6B-01D8-4ED7-A1D9-C85A99C31BB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7"/>
                </a:solidFill>
                <a:latin typeface="Arial Black"/>
              </a:rPr>
              <a:t>MÍRA DLOUHODOBÉ NEZAMĚSTNANOSTI (2005, %)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8064720" cy="50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7C92-9417-4ED4-8F57-F65BC7C5BF9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Vývoj nezaměstnanosti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826920" y="1916280"/>
            <a:ext cx="8317080" cy="453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9ABC-97FD-4607-8E09-AD23D95A8BB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790560" y="1916280"/>
            <a:ext cx="8353440" cy="49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177A-7EFD-4B50-BD20-44807FFA2E9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7"/>
                </a:solidFill>
                <a:latin typeface="Arial Black"/>
              </a:rPr>
              <a:t>MÍRA NEZAMĚSTNANOSTI </a:t>
            </a:r>
            <a:br>
              <a:rPr sz="4000"/>
            </a:br>
            <a:r>
              <a:rPr b="0" lang="en-US" sz="4000" spc="-1" strike="noStrike">
                <a:solidFill>
                  <a:srgbClr val="ffffb7"/>
                </a:solidFill>
                <a:latin typeface="Arial Black"/>
              </a:rPr>
              <a:t> (2004, %)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rcRect l="1627" t="15985" r="8498" b="7466"/>
          <a:stretch/>
        </p:blipFill>
        <p:spPr>
          <a:xfrm>
            <a:off x="863640" y="1844640"/>
            <a:ext cx="8280360" cy="431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00F2-3147-4DB8-BD78-730F891F9ED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7"/>
                </a:solidFill>
                <a:latin typeface="Arial Black"/>
              </a:rPr>
              <a:t>MÍRA NEZAMĚSTNANOSTI ( %)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637480" cy="547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8AEC-F72D-4EAE-A097-1EED53CE62F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VÝVOJ NEZAMĚSTNANOSTI V Č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rcRect l="0" t="2133" r="0" b="0"/>
          <a:stretch/>
        </p:blipFill>
        <p:spPr>
          <a:xfrm>
            <a:off x="826920" y="1844640"/>
            <a:ext cx="8317080" cy="429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1865-73F6-49C5-B308-102A27C49DF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VÝVOJ NEZAMĚSTNANOSTI V Č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8317080" cy="438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EEBB-BAFC-4CA1-A991-29A62691FCA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7"/>
                </a:solidFill>
                <a:latin typeface="Arial Black"/>
              </a:rPr>
              <a:t>ČLENĚNÍ POPULACE VE VZTAHU K TRHU PRÁCE (ILO)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rcRect l="28697" t="29938" r="16256" b="52549"/>
          <a:stretch/>
        </p:blipFill>
        <p:spPr>
          <a:xfrm>
            <a:off x="900000" y="1989000"/>
            <a:ext cx="6985080" cy="314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07E1-71A9-4F70-AE2D-820F1C55BB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SROVNÁNÍ MĚR NEZAMĚSTANOSTI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705800" cy="475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889B-0E42-4E41-ACF7-5CE222D8F54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ROZDÍL VŠPS X MPSV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rcRect l="0" t="0" r="2913" b="7681"/>
          <a:stretch/>
        </p:blipFill>
        <p:spPr>
          <a:xfrm>
            <a:off x="900000" y="1844640"/>
            <a:ext cx="8244000" cy="2968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4562-F6E1-458C-B192-49F0E80A7DE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MÍRA NEZAMĚSTNANOSTI MUŽŮ (31.12.2003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rcRect l="6197" t="22688" r="15845" b="17513"/>
          <a:stretch/>
        </p:blipFill>
        <p:spPr>
          <a:xfrm>
            <a:off x="900000" y="1844640"/>
            <a:ext cx="7848720" cy="481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D67B-45E0-42FD-BBE9-F6F09B22ED7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MÍRA NEZAMĚSTNANOSTI ŽEN (31.12.2003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rcRect l="6498" t="26383" r="15547" b="14844"/>
          <a:stretch/>
        </p:blipFill>
        <p:spPr>
          <a:xfrm>
            <a:off x="900000" y="1889280"/>
            <a:ext cx="8064720" cy="496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3862-79FC-4293-95FB-16F90F65A9F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MÍRA NEZAMĚSTNANOSTI DLE KRAJŮ (2005, %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6120000" cy="4867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ED6D-825B-4B63-85A6-2625E35B1CF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MÍRA NEZAMĚSTNANOSTI DLE VĚKU (2005, %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6120000" cy="451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AD78-B14B-4C59-8E4E-FE73794CDFC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MÍRA NEZAMĚSTNANOSTI DLE VZDĚLÁNÍ (2005, %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2195640" y="1916280"/>
            <a:ext cx="4464000" cy="188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0EFD-FE9D-4E1A-8C94-8A45F2617BA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DOBA HLEDÁNÍ ZAMĚSTNÁNÍ (2005, v tis.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680000" cy="259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281B-553B-4920-9E8C-BE1060FBD6D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NEJČASTĚJŠÍ ZPŮSOBY HLEDÁNÍ PRÁCE </a:t>
            </a:r>
            <a:br>
              <a:rPr sz="4400"/>
            </a:b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(2005, v tis.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1476360" y="2205000"/>
            <a:ext cx="6192720" cy="29606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1042920" y="5661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6C76-5852-468D-94DE-B0D0CCCCF135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5928" fill="hold"/>
                                        <p:tgtEl>
                                          <p:spTgt spid="2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Vtip na konec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"Pane řediteli, kolik ve vašem podniku pracuje lidí?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"Troufám si tvrdit, že dobrých 50%."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373C-6182-4666-9658-7217E8289A53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NEZAMĚSTNANOS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2206440"/>
            <a:ext cx="800748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Celková X míra nezaměstnanost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u = U/L *100 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%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ýznam: indikátor volné pracovní kapacity (plýtvání VF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Sleduje se: struktura a změ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70D2-C338-46DF-99E7-8BC12A52E6E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commons.wikimedia.org/wiki/Image:Unemployment_rate_world_from_CIA_figures.P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1E49-BB75-4CD4-A307-830C5A266C0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CELKOVÁ NEZAMĚSTNANOS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= lidé bez práce ochotni a schopni pracov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Dle registrovaných nezaměstnaných (RAK, ŠVÝC, ČR - MPSV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Dle nárokujících příspěvek (BEL, VB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Dle průzkumu (VB, ČR – ČSÚ:VŠP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95DE-48C5-4C17-ADEC-44B7D032DFF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MÍRA NEZAMĚSTNANOSTI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= procentní podíl z pracovní sí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Národní rozdíly jsou běžné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BEL: 2 míry nez. (%z celkové pracovní síly, % z pojištěné pracovní síl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ŠVÝC: pracovní síla dle sčítání r.198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ILO= standardní míra nezaměstnanosti pro mezinárodní srovnáv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ČR: MPSV, VŠ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6002-8EE8-4A27-A26E-FFE0FCA1F5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ROZDÍL VŠPS X MPSV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rcRect l="0" t="0" r="2913" b="7681"/>
          <a:stretch/>
        </p:blipFill>
        <p:spPr>
          <a:xfrm>
            <a:off x="900000" y="1844640"/>
            <a:ext cx="8244000" cy="2968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DD34-8898-4E7D-B168-738EF9F8496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b7"/>
                </a:solidFill>
                <a:latin typeface="Arial Black"/>
              </a:rPr>
              <a:t>Proč také zjišťovat nezam.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Měsíční změny nez. = dobré vodítko ek.vývoj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orovnání posledních 2-3 měsíců s průměrnou změnou ve stejných měsících předchozího rok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egionální nez. vypovídá o strukturální nez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76E9-4291-43C6-AA66-EA601BCD1BD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1T18:20:24Z</dcterms:created>
  <dc:creator>Monika Jandová</dc:creator>
  <dc:description/>
  <dc:language>en-US</dc:language>
  <cp:lastModifiedBy>paleta</cp:lastModifiedBy>
  <dcterms:modified xsi:type="dcterms:W3CDTF">2007-02-27T08:27:57Z</dcterms:modified>
  <cp:revision>41</cp:revision>
  <dc:subject/>
  <dc:title>EKONOMICKÁ KONVERGENCE</dc:title>
</cp:coreProperties>
</file>