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DD8-3311-49CD-BF86-446ABC00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026-CE51-472F-9A3F-DEDF1FB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9DC-A1C1-4FF1-818E-944C47C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1EF-AC6A-4C6D-BAE4-609A446A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A04-A999-4857-A3E5-CEF55E26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9EF-48EA-47BC-84B3-9908B4B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E43-EFDB-4542-97D9-5421FA3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E24-9C3E-43BF-BC47-5A6389B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710-CDBD-4414-93CF-B0D537D4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F273-C0F5-4B9E-9702-DEA424C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474-CCC7-491D-87C7-F4F465A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BD0-5053-4910-BB65-CE23A8D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1F5F-076C-48C2-9049-F8BF6E1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895D-251E-4ABC-AE4B-3183099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F671-8ECE-4886-935A-F5D6BA2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99D7-5E83-491B-9656-5C12750E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1F59-1BEA-4680-814B-AEF40C93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E83-173A-4C96-815D-2D1F4EE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AB7-8F06-442E-8B6A-A360B431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B35-164C-4A75-8AD4-5C690859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49D-31F7-45E3-A3A2-51B41FA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E85-7D6B-4EFB-8F69-53F44D4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5F2-E9F7-462D-BF10-58EDC38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373-FA3B-472A-BD18-4EE4D04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8F7C-73D9-43A6-87ED-96D2BE83F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8D7-3550-47E1-8E3E-CE38454AF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eorie sít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důrazňuje v migračním procesu význam mezilidských vaze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zby příbuzenské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átelsk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zby v rámci komun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těchto vazbách se někdy mluví jako o sociálním kapitá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kytují jedincům i skupinám důležité zdroje informací, sociální či finanční pomoci, často i podporu v případě osobních problémů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vyšují pravděpodobnost migračního pohybu, neboť snižují náklady a rizika a nepřímo zvyšují i očekávaný zisk z migra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ítě pomáhají při usazování migrantů v dané zemi a při vytváření komunit. Skupiny migrantů pak často vytvářejí svou vlastní ekonomickou i sociální infrastruktur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lky, obchody, zábavní podniky, kostely, služby doktorů, právníků at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dyž počet migrantů a vazeb překročí určitou kritickou mez, jsou náklady na každou další migraci i rizika, která migrant podstupuje, nižší, což podněcuje další migraci,  dále rozšiřuje sítě a snižuje náklady i rizi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Institucionální teor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ade důraz na vliv institucionálních faktor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de vlastně také o sítě, které podporují migraci a určitým způsobem ji formují, tzv. migrační průmys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vě skupiny institucionálních subjektů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vní skupinou jsou organizace či jednotlivci napomáhající především nelegální migraci a to za účelem zisku. V důsledku bariér, které si cílové země vytvořily, aby se bránily migračnímu přílivu, vzniká černý trh. Jedinci i společnosti vydělávají na migrantech, kteří se snaží ilegálně dostat do vybrané země. Jde o převody přes hranice, pašování lidí ze země původu do jiné, najímání migrantů zaměstnavateli, falšování dokumentů či svatby „naoko“. Migranti bývají vystaveni vykořisťování, okrádání, podvodům nebo vydáni napospas zneužívání (hlavně ženy a děti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uhou skupinu tvoří nevládní a mezinárodní organizace a jedinci poskytující migrantům rady, sociální služby a právní poradenství – např. jak získat různé dokumenty, žádat o azyl či povolení k pobytu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šechny tyto instituce a organizace, ziskové nebo neziskové, podporují mezinárodní migraci, neboť bez nich by migranti často měli málo informací a kontaktů potřebných k úspěšné migraci. Podobně jako u teorie sítí, migrační proud je stále více institucionalizován a stává se čím dál tím nezávislejší na okolnostech, které ho vyvola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eorie kumulativní příči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ůsledku migrace nastávají změny v ekonomické, sociální i kulturní oblasti( jak v zemi původu, tak v cílové zemi) – stimul pro další migr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labeling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ěkteré kategorie zaměstnání s vysokým zastoupením imigrantů, získají nálepku zaměstnání nevhodného pro domácí obyvatele, což vede k další poptávce po imigrantech. Toto stigma určité profese nevychází z jeho charakteristik, ale pouze ze zastoupení imigrantů v této profes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eorie migračních systémů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ade důraz na mezinárodní vztahy, národní hospodářství, kolektivní jednání a institucionální fakt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chází z předpokladu, že migrační proudy jsou do jisté míry stabilní a strukturované v prostoru i čas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voluje rozlišení na tzv. mezinárodní migrační systém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rační systém je tvořen dvěmi nebo více zeměmi vyměňujícími si navzájem mezi sebou nejen migranty, ale i zboží a kapitál. Tyto výměny jsou mezi zeměmi tvořícími jeden systém intenzivnější než mezi ostatními zeměm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ují se regionální migrační systémy jako například západní Evropa, severní Amerika, jižní Pacifik, západní Afri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otlivé regiony jsou propojeny různými vzájemnými vazbami, může se jednat i o geograficky vzdálenější oblasti. Zkoumají se oba konce migračního proudu i všechny možné vazby mezi oběma oblastmi. Vazby mohou být dále roztříděny do kategorií jako například mezistátní vztahy, srovnání oblastí, kulturní vazby, rodinné a sociální sít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terminanty migr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k – hlavní fak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atší doba na navrácení inve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přenositelnost dosažené kvalifikace a speci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ětší sociální závis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ání vhodné práce mla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inné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áklady migrace se násobí s rozrůstající se rodinn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Ženatí vs. Svobodní, školní docházka dět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městnání druhého part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dě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eografická mi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pší přístup k informac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šší užitek pro zaměstnava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kušenosti se stěhováním na školu = nižsí psychická újma (nebo naopak 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dále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ím větší vzdálenost, tím vyšší psychické 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stou přepravní 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éně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íra nezaměstna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iny s nezaměstnaným mají větší migrační t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š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astnictví do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ence na podnikání v mís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ivy stá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ě, životní úroveň, investiční polit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yková barié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valita životního prostředí a kl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ky migr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ální a společen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obní z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výšení příjm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ziko (spojené s nedostatečnými informacemi a nejistoto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st příjmů není okamžit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růstu živ. úrovně v původní destin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jem rodi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ensk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st produ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nižování mzdových rozdí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xter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porné exter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plněná města, zácpy, nároky na veřejné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vírání škol, plýt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Finanční externality: redistribuce důcho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-) ztráta produktu v zemi půvo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-) pokles mzdy domácího pracovní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-) pokles zaměstnanosti (??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+) snížené náklady na mzdy (krátkodobě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+/-) rozpočtové dopa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oretický příklad </a:t>
            </a:r>
            <a:r>
              <a:rPr b="1" lang="en-US" sz="4400" spc="-1" strike="noStrike">
                <a:solidFill>
                  <a:srgbClr val="ffffb7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zda v Koreji je nižší než v USA – tendence Korejců migrovat do USA, což posune křivku nabídky práce v Koreji doleva a v USA do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bude motivovat podniky v USA zavřít domácí továrnu a otevřít ji v Koreji. To posune křivku poptávky po práci v Korei doprav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č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ita a mi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2680" y="260280"/>
            <a:ext cx="9031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rovnání věkové struktury občanů a ČR a dlouhodobě usazených cizinců - k 31.12.2003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59280" cy="37447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3987720" cy="37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47300" r="0" b="0"/>
          <a:stretch/>
        </p:blipFill>
        <p:spPr>
          <a:xfrm>
            <a:off x="838080" y="3198960"/>
            <a:ext cx="8007480" cy="2896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81966"/>
          <a:stretch/>
        </p:blipFill>
        <p:spPr>
          <a:xfrm>
            <a:off x="828720" y="1844640"/>
            <a:ext cx="7991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ČR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K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ál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268280"/>
            <a:ext cx="8007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ypy pracovní mo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184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ísto výkonu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899640" y="3500280"/>
            <a:ext cx="4546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acovní poz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421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349360"/>
            <a:ext cx="3887640" cy="374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1186920" y="4221000"/>
            <a:ext cx="4546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186920" y="2349000"/>
            <a:ext cx="454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j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j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429264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34936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29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. ty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4. ty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. ty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3. ty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Vtip na konec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ss, to four of his employees: "I'm really sorry, but I'm going to have to let one of you go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lack employee: "I'm a protected minority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emale employee: "And I'm a woma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ldest employee: "Fire me, buster, and I'll hit you with an age discrimination suit so fast it'll make your head spi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hey all turn to look at the helpless young, white, male employee, who thinks a moment, then responds: "I think I might be gay..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eorie migr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oklasická teorie 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„push-pull teorie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pustit zemi původ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h factor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mografický růst, nízká úroveň životních podmínek, nedostatek ekonomických a pracovních příležitostí, politické repr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tahují do cílových zem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l factor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távka po práci, dostupnost pozemků, příznivé ekonomické příležitosti a politické svo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oklasický ekonomický přístup se zaměřuje hlavně na příjmové rozdíly, podmínky zaměstnání v různých zemích a náklady na případnou migra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acionální posouzení dostupných informací o nákladech i výhodách plynoucích z migrace rozhodne, že je pro něj výhodnější přesun ze své země původu do jiné oblasti. Snaží se především maximalizovat svůj užitek, nejčastěji výši příjm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Makroekonomický poh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v příjmech mezi zeměm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v nabídce a poptávce pracovních sil a možnosti zaměstnání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konomické rozdíly a rozdíly v nabídce a poptávce pracovních sil jsou postačujícím důvodem k vytvoření migračních proudů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rovnávání ekonomických rozdílů mezi rozvinutými a zaostalými regiony vedoucím k ekonomické rovnováz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zemích s vysokou nabídkou pracovních sil a nedostatkem kapitálu jsou nižší mzdy a naopak v zemích s vyšší poptávkou po pracovních silách a větším množstvím kapitálu jsou mzdy vyšší. Lidé ze země s nižšími mzdami se stěhují do země s vyššími mzdami. Výsledkem je pak pokles nabídky pracovníků a růst mezd v chudší zemi a opačný trend v bohatší zemi, a tím nastolení ekonomické rovnováhy a také následné pozastavení migračního prou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Mikroekonomický přístu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středí na jedi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onální kalkulaci výdajů a užitku v časovém horizontu a následnou volbu s cílem maximalizovat svůj zis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zi výdaje patř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ální náklady na cest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áklady na dobu než najde prá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silí vynaložené na učení se novému jazyku a kultuř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vytváření nových sociálních vazeb at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b7"/>
                </a:solidFill>
                <a:latin typeface="Arial Black"/>
              </a:rPr>
              <a:t>Migrace jako investice do lidského kapitálu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ce za lépe placeným zaměstnáním je investicí do lidské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oučasnou oběť zvýší budoucí zi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ce však nenastává v každém případě možného zvýšení životních zis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č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to str. 4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vé (komplexnější) přístup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ce je vysvětlována také možnosti stálého zaměstnání či příznivé podmínky pro rozvoj podniká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migraci se nerozhodují jednotliví aktéři, rozhodnutí jsou učiněna na úrovni rodin či domácností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čelem je jednak maximalizace předpokládaného příjmu jednotky, ale také minimalizace rizik spojených s nepředvídatelnými událostmi a výkyvy tr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zika jsou při rozhodování důležitějš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díly v příjmech tak nemusí být podmínkou k migraci do jiné země a také jejich vyrovnání nemusí zastavit migrační pr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Historicko-strukturalistický přístup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chází z marxistické politické ekonom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ade důraz na nerovnoměrné rozdělení ekonomické a politické moci ve svět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zinárodní migraci chápe jako způsob mobilizace levné pracovní sí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ce tak udržuje nerovný rozvoj a zdroje chudých zemí jsou pak využívány pro to, aby bohatí byli ještě bohatší. Podle historicko-strukturalistického přístupu nemá jedinec svobodnou volbu, jak tvrdí neoklasická teor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iv při rozhodování hrají nerovnosti v oblasti zdrojů a moci mezi zeměmi a imigrační politiky potenciálních cílových zem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0:56:27Z</dcterms:created>
  <dc:creator>paleta</dc:creator>
  <dc:description/>
  <dc:language>en-US</dc:language>
  <cp:lastModifiedBy>paleta</cp:lastModifiedBy>
  <dcterms:modified xsi:type="dcterms:W3CDTF">2007-03-12T15:33:54Z</dcterms:modified>
  <cp:revision>10</cp:revision>
  <dc:subject/>
  <dc:title>Trh práce a politika zaměstnanosti</dc:title>
</cp:coreProperties>
</file>