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B00-796E-4C95-9BB8-09353407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07E-6A94-4B47-8AA3-59A0546C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8E0-11E7-4688-B1D2-7A71C5FF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769-7A5C-471F-A394-E78C6EA4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EFD-F1EB-4E3D-8276-F17B6DE3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42E-B079-434C-82E2-6337EEC8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1C8-B2E3-4517-8125-1A273222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22D-4294-408C-9F6C-07E225F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8E1-05CD-489A-927E-B6BE3EAE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3AB-00D0-4347-A06D-D40C90E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04E-8E15-45F1-BD15-B662A6B0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864-27BE-4CB1-A0BF-C4525D7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25C-836E-4BDD-ADAB-2432349C32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práce a politika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náška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zaměstnanosti v ČR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ybička se vloudi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 studia se do náhradní doby započte maximálně v délce 6 měsíců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é jsou sociální dávky po vyloučení z Ú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městnávání osob se zdravotním postižení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y plně invali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ové výhody, příspěvky, dotace, vyšší podíl v povinnémplnění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y částečné invalidní (dříve Z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ové 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y zdravotně znevýhodněné(dříve též Z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ouhodobě nepříznivý zdravotní stav omezuje možnosti uplatnění stávající kval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pora zdr. postižených oso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rehabili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ráněná pracovní mí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hoda s Ú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málně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spěvek na z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8 (10) resp. 12(14) násobek průměrné mzdy v 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pro postiženou OSV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spěvek na pro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ráněné dí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roční přepočet zaměstnanců minimál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pěvek na podporu zaměstnávání osob se zdravotním posti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okový, pokud zaměstnává více než 50% zdravotně postiže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vinný podíl zaměstnanců se zdr. postižen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aměstnavatel, který zaměstnává více než 25 zaměstnan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inný podíl j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i 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městnáváním oso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íklad: zaměstnavatel má povinnost zaměstnávat 5 osob ZP, zaměstnává v PP dva plně invalidní důchodce, kteří odpracovali 3200 a fond pracovní doby je 2032 h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200:2032 = 1,5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,574*3=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,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ebíráním výrobků a služeb od za-elů, kteří zaměstnávájí min. 50% nebo chráněných dílen, OSV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vodem do státní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e výši 2,5 násobku průměrné mzdy v NH za 1.-3. čtvrtle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inný podíl se nevztahuje na zaměstnávání vojáků z povolání, policie, Český báňský úřad a obvodní báňské úřady – pokud jde o práci báňských inspektorů. Místa volbou a jmeno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hradní pl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osob se zdravotním postižením se vypočte tak, že z celkového objemu plateb, uskutečněných za výrobky, služby nebo zakázky, které zaměstnavatel odebral od PO a FO, které zaměstnávají více naž 50% zdr. post., se odečte DPH a výsledná částka se vydělí sedminásobkem průměrné měsíční mzdy v NH za 1.-3. čtvrtletí sledovaného roku, vyhlášené MP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stnavatel odebral od družstva invalidů služby v hodnotě 1 680 000 Kč (bez D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 000 *7=126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680 000 / 126 000 = 1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volte, prosím, u nás si každý může kupovat a prodávat, co je mu libo. Nikdo ho přece nenutí, aby z té pistole střílel. Ovšem zároveň mu také nikdo nemůže zakázat, aby z ní vystřelil. To by bylo neodpustitelné omezování svobody podnikání. U nás má každý právo podnikat, co uzná za vhodné. Navíc jakýkoli zákaz v této oblasti by byl porušením výlučných práv policie. Ta přece existuje proto, aby bojovala proti zločincům. Kdyby zločinci přestali páchat zločiny, policie by ztratila svůj smysl, policajti by přišli o dobrá místa, byli by bez práce, vzrostla by nezaměstnanost a rovnováha naší společnosti by byla poruš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!! NEZNÁLEK NA MĚSÍCI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neznalek0.tripod.com/Neznalek_na_Mesici_obsa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ní politika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val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ční pobí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ě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y účelná prac. mí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hrazené osoby (např absolve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klenovací příspě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pěvek na dopravu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pěvek na za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pěvek na přechod na nový podnikatelský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zam. osob se zdrav. posti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né programy k řešení ne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08:06:16Z</dcterms:created>
  <dc:creator>paleta</dc:creator>
  <dc:description/>
  <dc:language>en-US</dc:language>
  <cp:lastModifiedBy>paleta</cp:lastModifiedBy>
  <dcterms:modified xsi:type="dcterms:W3CDTF">2007-05-02T09:43:40Z</dcterms:modified>
  <cp:revision>5</cp:revision>
  <dc:subject/>
  <dc:title>Trh práce a politika zaměstnanosti</dc:title>
</cp:coreProperties>
</file>