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CF3E-96B4-4E0D-B0C6-F42BFE894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34D3-F7DC-4C36-92B6-CE6789DD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F6FF-5A86-4AEC-8B92-02915FC6B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5B81-123E-423C-B876-6FBC522AC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CD3D-143F-4B4F-AB59-BFCBBF708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768B-7201-4372-884B-63BC6BD6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AA7F-ECC4-4E88-82EA-611F36AC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E425-7AF8-4D85-89F1-F99E623D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4E9E-4445-4315-AB20-9E31CB3C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E0D0-0140-4648-A193-4F5021ED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7E66-DBC9-4821-B1B5-D51F9865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E9E0-C1E4-495B-B083-74BEB7FC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060C-8099-4E18-ADE2-5DEC309F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7A5F-4D2A-4BD1-B17C-1E5449F2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B69C-EB8B-41AE-9E67-C5F29BC5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AA3E-097B-43AF-9183-8CECEC2A6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2DA2-B97B-4D46-935A-6312C9213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8B4C-ABC7-4361-A1BD-CCDE6E41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DABC-F4DE-4700-BDFA-C66C34DD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1CDB-FD41-4B83-8342-11C06B95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0512-903F-45EC-BB76-99AEEC61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9732-1BDF-40AD-BCB2-F2DBD18F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6FBD-A07D-43F7-A4AB-CC7B6B0E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92F5-BBE9-4427-A8A0-D9F654A6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0FCE-84A6-4D95-8D97-6EE06FBAFD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6374-5D61-489B-8C84-7630B775F7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rh práce a politika zaměstnanosti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ednáška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Nezaměstnanos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 plánování eliminoval cyklickou nezaměstna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resp. generoval chronický nedostatek pracovní sí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zaměstnanost byla oficiálně zlikvidována (v SSSR v roce 193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dhady záp. ekon – 1 – 2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frikč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0 % zaměstnanců průmyslu a 30 % konstrukčních dělníků ročně opustí práci nebo jsou propuštěni z disciplinárních důvodů (SSS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edostatek pracovních sil – ambiciozní plá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 80tých let ubývání pracovní síly (SSS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roduktivita prác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ízk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cca 40 % v SSSR vs. U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stupný pokles od 70. l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íčiny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yroktatický konzervativism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árůst nákladů na vstupy (rudy, dřevo, nafta – doprava ze Sibiř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udování – přeščasy škodí strojů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ůraz na kvantitu nikoliv kvalit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Jen lehké překročení plán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romadění přebytečných pracovník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véráz… + zkušenos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olitika pracovního trhu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istická konku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zi brigádami, podnik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měňování úderník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řekračování plá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lepšování pracovního prostřed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Jak bude vypadat zkoušk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tázk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ikoliv test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dpovědi: věta až odstav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 přednášek + vybraných seminárek + čítá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očkalová, Gajda, Hortová, Konvalina, Kršňáková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ožnost mít jakýkoliv zákon (bez taháků !!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Bodové hodnoce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ubjektivní </a:t>
            </a:r>
            <a:r>
              <a:rPr b="0" lang="cs-CZ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in 6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 hodnocen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í seminární prá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= Výsledná známk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 dnes 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kud počet poslouchajících osob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m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enší než 4, pak jsem skončili !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rh práce v CP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ílem CPE – industrializace a ekonomický rozvo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rh práce – směs svobody a dikta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ožnost opustit práci a najít si jin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acovní knížky (v SSSR – Stalin – vysoké saknce – odebrání přídělových poukaze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dostatek prac. si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zději možnost volného pohybu ale s omezení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mezení volného pohybu P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ynucená práce – pracovní táb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brovolně těžk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mísťování VŠ – zejména technického smě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bilizační kampaně – akce Z, sklizeň cukrovky ap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jenská služ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nitrostátní pasy (v SSSR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mezení pohybu ze zemědělských do industriálních oblastí, zejména velkých mě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ávo na práci = povinnost pracov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áce je povinnost a čest pro každého práceschopného občana. Kdo nepracuje ať nejí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sitismu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harakteristika T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soká míra partici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 SSSR 87 % mužů a 80 % ž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livněn státním systémem vzdělávání  a administrativním stanovováním mez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okační funkce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ykly v rozpětí mez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Jak se tvořila mzd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dle Marxovy teorie hodnoty je hodnota produktu dána společensky nezbytným množství vynaložené prá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zdový systém – 7 dimenzí mz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Čas, obtížnost, pracovní podmínky, zručnost, místo, profese a podn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sazba + tři stupně podle obtížnos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koeficient zohledňující danou profesi a podnik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koeficient geografické lok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systém bonusů v podni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zda byla tvořena základní sazbou + dodatky podle typu práce a výkon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ole odborů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šichni pracující byly členy národního odborového hnu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bylo povinné, ale sdružovalo cca 98 % pracující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mohly existovat nezávislé odbory, protože strana sama byla ochráncem pracující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ástrojem přenosu politiky na individuální úrove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hranná funkce – před přemrštěnými požadavky ředitelů při plnění plán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nflik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racovní podmínk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klarovaná pracovní doba neodpovídala skuteč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řesča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dování (zejména ke konci sledovaného období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ávka – samy proti sob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 80. let se občas vyskytly (nedostatek jídl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7T09:37:13Z</dcterms:created>
  <dc:creator>paleta</dc:creator>
  <dc:description/>
  <dc:language>en-US</dc:language>
  <cp:lastModifiedBy>paleta</cp:lastModifiedBy>
  <dcterms:modified xsi:type="dcterms:W3CDTF">2007-05-07T14:33:18Z</dcterms:modified>
  <cp:revision>3</cp:revision>
  <dc:subject/>
  <dc:title>Trh práce a politika zaměstnanosti</dc:title>
</cp:coreProperties>
</file>