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FCC-9013-4164-BD43-FA5A5F0B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3E1-2685-4CC8-B70D-45E78722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7BE-2860-4174-9E04-2B32F396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B3E-B5B1-4A5B-A42C-119534B0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4541-9AA0-4EC3-82A7-B41C1266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5E6A-E42D-4D97-92AD-A8BC6392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565E-D09B-4B65-9DAE-21358418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F2BF-BC98-47FD-A495-303602A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E10C-5424-40FB-8E2F-E2F260F5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70C8-E643-4ADD-AE1D-4AECA445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988B-2319-44D4-BD2A-C66034A5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EE7-F1D5-485E-AEFF-FC2E9E7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01E6-E4D7-4DDB-BD71-B76C65F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DE77-1FC8-44FA-9404-DA88247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CE79-B1F1-47AF-B674-D7C45E83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BB48-37A8-4843-A78B-74CAFAA0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DF88-862B-463B-8BA7-A937EA22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6822-03C6-45A9-BA97-BE178B30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245F-713E-451D-A780-9B99B964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6709-A7AD-4CAF-A57D-E48D90B4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066A-F172-427A-8CD4-B26A2422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064C-39EB-4CA3-99CE-5DA30831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944-50DF-4E66-9EE7-66AAA8AB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49EB-986B-495D-BF8B-EFE0E47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CD43-D46E-4A0C-9798-5565948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6D3E-A4AE-4959-9CD4-7016823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5643-6632-4971-8834-17E2B88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3CFD-FFE8-439C-952A-DE349C23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F9DF-3C21-4972-8B57-9E4939A4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DA5D-D880-4371-BD4F-32462A3D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34F-0FEA-484D-8D14-A5B1428D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CD2-C4BE-4D32-8A50-9FD6415C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390-EFE4-4313-8454-47E42771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4E5-919F-4EE0-9390-EB67C2A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9DB-3953-4D12-9D24-540AB6B9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A54-777C-4169-83F1-561FABB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44B-D453-4BB5-8C81-2B1CA05D3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B8E-6C8B-40E6-85A7-9E895875F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F1DB-E4F0-45C9-8F1E-1681C62D8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nglosaský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nižší míra ne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vyšší míra 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soké sociální nerov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patná kvalita veřejných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GB – snaha o reformu – hledání rovnováhy mezi efektivností a sociální kohez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l jižní Evropy (Gr, It, Por, S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zdější implementace sociálních princip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ižší sociální 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sná ochrana 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mezený důraz na mzdovou rov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ůraz na rodi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lečný trh práce v EU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ční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grace pracovní síly na základě produk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ud se mezní cena práce nerovná s mezním produktem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cká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ružnost pracovní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hyb zboží a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rativní 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h v E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 způsobily ropné kriz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é jsou cíle EU na trhu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lepšení kvality nabídky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interní a externí flexibility na trhu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nadnění přístupu k práci a adaptace na změny pracovní poptáv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ordinace regionálního rozv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rh práce a politika zaměstnanost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náška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ální výhody v nezaměstnanosti ve vybraných zemích 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orie na ú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ciální benefity v 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rana pracujících proti riziku ztráty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akter po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mínky poměrně přísn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 většině zemí je po určité době uchazeč nucen akceptovat jakoukoliv prá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 čemu podpora v UN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hránit před „krátkozrakostí“ občan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pšení alokace pracovních 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žnost počkat na lepší nabíd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a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oc při adaptaci na strukturální zm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nebo ne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zaměstnanost není „škodlivá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ážná nemoc, trvalé zra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zaměstnanost by nebyla tak vysoká, pokud by mzdy byly flexibil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ížením mezd proti ne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ávky mohou vytlačovat soukromé ús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ím delší je doba podpory v nezaměstnanosti, tím delší je délka nezaměstn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á další negativní dopady. Jaké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ižuje motivaci praco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žší rozdíl mezi příjmy v zaměstnání a při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tné kompenzovat APZ – časové omezení, podmín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fungují dávky v UN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kují strach z nezaměstna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bory více tlačí na růst mez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ižují účinnost naplňování nových pracovních míst nezaměstnaný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ižují flexibilitu trhu práce vůči exogennímu šo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zinárodní srovnání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existuje jedna úroveň podpory v nezaměstn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ociální dá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dinné podmín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Časové hladis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aňové aspek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ECD – nahrazovací poměr (replacement 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Udává vztah příjmů ze zaměstnání a potenciálních příjmů při ztrátě zaměstn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íl. Čím blíže 1, tím menší rozdí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rubý nahrazovací poměr vs. Čistý nahrazovací pomě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pora v UN je zbavena povinosti odvodů soc. a zdra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hledňuje demografické, rodinné a jiné faktory specificky pro každou z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hrazovací poměr – minulost a součas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ítá se pro několik typů příp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ři různé úrovně trvání nezaměstna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ři možné situace příjmu rodinného 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ři rozdílné úrovně předchozích pří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: růst a k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é země kam patří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tinentální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mítnutí volného působení tržních 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akousko, Belgie, Franice, Němec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liv odbo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egislativa zaměřena na zaměstna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soká minimální mzda, štedré zaměstnanecké výh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soká úroveň nezaměstna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verský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rozvinutější systém blahobytu na svě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soké da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mbinace štědrosti a přísnosti (Švédsk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jmová rov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01:30Z</dcterms:created>
  <dc:creator>paleta</dc:creator>
  <dc:description/>
  <dc:language>en-US</dc:language>
  <cp:lastModifiedBy>paleta</cp:lastModifiedBy>
  <dcterms:modified xsi:type="dcterms:W3CDTF">2007-04-23T14:43:59Z</dcterms:modified>
  <cp:revision>5</cp:revision>
  <dc:subject/>
  <dc:title>Snímek 1</dc:title>
</cp:coreProperties>
</file>