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24D-B2BD-4AAC-AB88-19F83942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3BD-FBFB-43CB-92EA-95FD579D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681-E2A9-4579-BCED-09EDC3DF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2A7-8D73-427A-BF3F-21FC7024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089D-ADC7-4C3D-A4B0-EA0B212C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288B-0D2F-48C5-AD96-FC2D55AD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9934-B179-44FB-A6C1-AF27D748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7363-27B9-4B13-98E3-E268E64B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E2FD-D4B1-41B8-B2DC-9F02AE77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5B75-49E5-400E-9D0E-ED46A4E5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5FDA-E4E0-42B3-BE83-1D850029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07A-092F-4E15-91FA-D1F1FDD3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7F60-D37F-4AAE-9166-31BAC44B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197E-7F22-4673-8691-87E7E7D4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89CC-38F8-4BF2-8B5E-51CA818E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C706-0D35-4651-B734-9D826EEA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D712-26FC-42BD-A35B-45218F00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92EFD-A28E-45EF-BB96-86588703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CA93E-1601-4AD6-AFED-A3EF1926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8AA5E-6575-4ACA-8954-90BE6BDA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B352-F25D-40C2-ABCC-F2169B88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5DB9-32CA-495B-BC60-9201E0A1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64A-CCAD-42CB-992E-2361065D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2F91-07CB-4F53-8609-D3A08814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3FF0-8F9F-4926-885C-E7C23315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78281-0BEB-4DA7-BBF7-D19C7823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9D6E-4920-45CE-BE7C-3CC725D6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81300-08BA-44CC-BBA3-E56BD638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B60DD-57DB-489B-929A-3FF204E5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9641-F170-486B-A8E7-26B57B6E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7D8-10E6-4E32-9E2E-B00AF381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7FC-BE27-46E4-894E-BDA71F3A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501-638F-450A-A6BD-1276B3E9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655-9DAC-488E-BEC4-A6E8D0BC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31C-0137-4B0B-AF9B-005994F7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DD0-71A3-4FC8-8462-248AC828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paleta.ic.cz/foto/ruzne/index_2.htm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paleta.ic.cz/foto/ruzne/index_2.htm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paleta.ic.cz/foto/ruzne/index_2.htm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IMG_42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3F4C-37DC-410D-8B71-FFF4EA691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IMG_42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566D-4E5A-4377-B918-E8778F611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54DA-4C64-4140-8180-BE5A28200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IMG_42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pp.eurostat.ec.europa.eu/portal/page?_pageid=1996,39140985&amp;_dad=portal&amp;_schema=PORTAL&amp;screen=detailref&amp;language=en&amp;product=STRIND_ECOBAC&amp;root=STRIND_ECOBAC/ecobac/eb021" TargetMode="External"/><Relationship Id="rId2" Type="http://schemas.openxmlformats.org/officeDocument/2006/relationships/hyperlink" Target="http://epp.eurostat.ec.europa.eu/portal/page?_pageid=1996,39140985&amp;_dad=portal&amp;_schema=PORTAL&amp;screen=detailref&amp;language=en&amp;product=STRIND_ECOBAC&amp;root=STRIND_ECOBAC/ecobac/eb022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502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duktivita v E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epp.eurostat.ec.europa.eu/portal/page?_pageid=1996,39140985&amp;_dad=portal&amp;_schema=PORTAL&amp;screen=detailref&amp;language=en&amp;product=STRIND_ECOBAC&amp;root=STRIND_ECOBAC/ecobac/eb0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epp.eurostat.ec.europa.eu/portal/page?_pageid=1996,39140985&amp;_dad=portal&amp;_schema=PORTAL&amp;screen=detailref&amp;language=en&amp;product=STRIND_ECOBAC&amp;root=STRIND_ECOBAC/ecobac/eb0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ůst produk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důležitý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droj růstu reálných mezd a životní úrov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anti-inflační silou která pohlcuje inflační tlaky růstu mez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duktivita a reálné mz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álné mzdy rostou ve vyspělých ekonomikách kontinuál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USA je průměr za 20. stol – 2 až 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 r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álná mzda roste, pokud poptávka po práci roste rychleji než nabíd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líčová otázka: Proč poptávka rost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tože roste produktivit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DP = počet odpracovaných hodin * produktiv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duktivita a infl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le většiny ekonomů existuje vztah mezi produktivitou a infl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ychlý růst produktivity absorbuje inflaci a naopa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zda je 50 kč/h, výstup je 10 chlebů/hod, náklady na jednotku jsou 5 Kč. Vzroste-li mzd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produktivit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%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 55 kč/h a 11 chlebů/h, náklady na jednotku zůstanou stejné a může tedy zůstat stejná i její cena. Pokud však produktivita při růst mzdy nevzroste, vzrostou náklady na jednotku a tedy i ce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voří-li náklady na práci 6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 celkov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ých nákladů, pak by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 r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ůst jednotkových nákladů implikoval 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 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r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 ce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ůst mezd však není jediným nemusí být ani hlavním faktorem infla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latí však, že čím větší růst produktivity při konstantním nárůstu mezd, tím nižší inf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louhodobé trendy produktivity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ůst 2.5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ročně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 28 let zdvojnásobení produk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posledních letech propad růstu produk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o způsobuje růst produk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ůměrná kvalita pracovní sí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nožství kapitálových stat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Efektivita využití a kombinace V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vázanost těchto fakto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ůměrná kvalita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dělání a zaškol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draví a vital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hlaví a vě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. 47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ybavenost práce kapitál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ktivita práce pracovníka závisí na množství kapitálových statků, které jsou mu k dispozi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dozer vs. Rý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bavenost kapitálem od ranné historie ro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letech 1889-1969 se zásoba kapitálu zvýšila šestinásobně, množství pracovních hodin se zdvojnásobil, vybavenost práce kapitálem tedy vzrostla trojnásobně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fektivita využití VF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ý pokr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pší technolo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sová pásová výrob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C, robotizace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lepšení technologie řízení - manag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izace a úspory z rozsa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visí s velikosti firmy a tr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lký trh umožňuje firmě růst a to umožní využít komplikovanější přístroje a nejefektivnější postup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-alokace z méně produktivních odvětv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e zemědělství do průmysl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itucionální změny, kulturní a přírodní podmínky, politický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lké množství faktor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dbory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lný obc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ulace, bezpečnost práce, životní a pracovní prostřed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časí, stávk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yklické změny v produktivitě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rátkodobé kolísání kolem tren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píruje výkyvy v kolísání produ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součástí ekonomického cyk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letech hospodářského poklesu dochází k poklesu produk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íčin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tíženost pracovní sí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kt klesá rychleji než 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ůvod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kapitálu a továr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ytíženost při pokl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ktura výstup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vanlivé zboží je citlivější na cyklické výkyvy než např.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že v průmyslu bývá nejvyšší produktivita, celková produktivita také kles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rh práce a politika zaměstnanosti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náška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ktivita práce: mzdy, ceny a zaměstna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sledky kolísání produk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se = pokles produktivity = růst jednotkových nákladů (více pokud pořád rostou mzdy) = pokles zisku = snížení investiční aktivity zmenšením dostupných prostředků + pesimistická očekávání = pokles produkce …kruh se uzavírá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ůže recese přispět k inflac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duktivita a zaměstna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aké jsou dopady růstu produktivity na zaměstna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de růst produktivity ke ztrátě zaměstnání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-li průměrná produktivita 50 pracovníků 100 Kč/hod a celkový výstup tedy 5000, pak nárůst produktivity o 2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125 Kč/hod znamená, že 10 pracovníků je nadbytečn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liš zjednodušené – s jídlem roste chu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ůst produktivity zvyšuje příjem = růst AD, generuje další mí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ůst produktivity umožňuje naplnit více potře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iricky dochází při růstu produktivity k růstu jak reálných mezd, tak zaměstna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one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"Do you believe in life after death?" the boss asked one of his employe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"Yes, Sir." the employee repli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"Well, then, that makes everything just fine," the boss went on. "After you left early yesterday to go to your grandmother's funeral, she stopped in to see you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jetí produk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tah mezi reálným produktem a množstvím vstupu potřebných k produk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ěří efektivnost a výkonnost vstup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ktivita = výstup/vs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lik jednotek výstupu dostaneme z jednotky vstu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etné množství způsobů měření produk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tup: GDP, produkt soukromého sektoru, produkt odvětví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tup je lépe měřit v reálných jednotkách než v běžných peněžní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č měřit produktivitu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chnolog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námá cesta přerodu vstupů ve 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ztah není přím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jlepší praxe jek přetavit vstupy ve 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spora reá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e změnou produktivity je spousta zdrojů, může to být i úspora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odvětví, zemí, hledání neefektivností. Často se užívají fyzické a specifické jednotky (aut za den, osob/k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jištění životní úrovn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jem per cap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idaná hodnota/pracovní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ěření produktivity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ložené na hrubém produ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duktivita L=GDP/počet odpracovaných hod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azuje časový profil využití pracovníků k produkci HD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n omezeně měří schopnosti a úsilí li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hody: jednoduchost měř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výhody:je jen částečnou produktivitou. Odráží produktivitu ostatních V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FP – multifactor pro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ěření produktivity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ložené na přidané hodnot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ktivita práce = přidané hodnoty/množství odpracovaných hod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ěří jak se práce podílí na přidané hodnot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yužití v mikroekonom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měny ve vybavenosti kapitá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Úspory z rozsa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hody a nevýhody: viz. výš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56:32Z</dcterms:created>
  <dc:creator>paleta</dc:creator>
  <dc:description/>
  <dc:language>en-US</dc:language>
  <cp:lastModifiedBy>paleta</cp:lastModifiedBy>
  <dcterms:modified xsi:type="dcterms:W3CDTF">2007-03-26T14:11:42Z</dcterms:modified>
  <cp:revision>3</cp:revision>
  <dc:subject/>
  <dc:title>Trh práce a politika zaměstnanosti</dc:title>
</cp:coreProperties>
</file>