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735-4740-454A-A115-B1AEEC73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E01-DCFA-4C33-9D80-38D9AD4D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542-9717-41BC-AF15-B76AFCBE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FF5-27C7-49A1-AD18-B7D4E36C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5C1-6E4E-45BA-8F0F-9809B793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26E-5776-4ACD-B47B-CBB6A005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D4E-DE24-47F6-9457-4FE2DD2C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891-E741-4DE6-BF6B-9779A44C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645-D9BF-4C97-8926-8C7691DE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5E5-E71E-4B8A-B421-9D7A6082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373-6960-471C-A868-658059E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08D-5D45-4F06-86B8-0D5CD28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9DE1-7D91-42D3-8983-0801813DF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glosaský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nižší míra ne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míra 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é sociální nero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patná kvalita veřejn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B – snaha o reformu – hledání rovnováhy mezi efektivností a sociální kohez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 jižní Evropy (Gr, It, Por, 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zdější implementace sociálních princip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žší sociální och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ná ochrana 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mezený důraz na mzdovou ro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raz na rod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lečný trh práce v E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ční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ce pracovní síly na základě produ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ud se mezní cena práce nerovná s mezním produktem prá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ická t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ružnost pracovní sí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 zboží a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arativní výh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způsobily ropné kriz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é jsou cíle EU na trhu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lepšení kvality nabídky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ýšení interní a externí flexibility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nadnění přístupu k práci a adaptace na změny pracovní poptá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ordinace regionálního rozv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 práce a politika 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nášk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ální výhody v nezaměstnanosti ve vybraných zemích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e na 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í benefity v 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chrana pracujících proti riziku ztráty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poměrně přís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ětšině zemí je po určité době uchazeč nucen akceptovat jakoukoliv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čemu podpora v U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hránit před „krátkozrakostí“ obča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epšení alokace pracovních 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 počkat na lepší nabíd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pora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oc při adaptaci na strukturální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bo n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městnanost není „škodlivá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ážná nemoc, trvalé zra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městnanost by nebyla tak vysoká, pokud by mzdy byly flexibi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ížením mezd proti ne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ávky mohou vytlačovat soukromé ús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ím delší je doba podpory v nezaměstnanosti, tím delší je délka nezaměstna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á další negativní dopady. Jaké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ižuje motivaci prac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žší rozdíl mezi příjmy v zaměstnání a při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é kompenzovat APZ – časové omezení,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 fungují dávky v U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kují strach z ne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bory více tlačí na růst mez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žují účinnost naplňování nových pracovních míst nezaměstnan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žují flexibilitu trhu práce vůči exogennímu š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zinárodní srovnání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existuje jedna úroveň podpory v nezaměstna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ciální dá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dinné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hladi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ové asp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ECD – nahrazovací poměr (replacement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dává vztah příjmů ze zaměstnání a potenciálních příjmů při ztrátě zaměst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íl. Čím blíže 1, tím menší rozdí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rubý nahrazovací poměr vs. Čistý nahrazovací po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pora v UN je zbavena povinosti odvodů soc. a zdra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ňuje demografické, rodinné a jiné faktory specificky pro každou z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hrazovací poměr – minulost a součas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ítá se pro několik typů příp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ři různé úrovně trvání nezaměstna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ři možné situace příjmu rodinného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ři rozdílné úrovně předchozích příj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voj: růst a k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é země kam patří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inentální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mítnutí volného působení tržních 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kousko, Belgie, Franice, Němec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iv odb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gislativa zaměřena na zaměstn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á minimální mzda, štedré zaměstnanecké výh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á úroveň ne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verský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rozvinutější systém blahobytu na svě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é d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binace štědrosti a přísnosti (Švéds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mová ro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01:30Z</dcterms:created>
  <dc:creator>paleta</dc:creator>
  <dc:description/>
  <dc:language>en-US</dc:language>
  <cp:lastModifiedBy>paleta</cp:lastModifiedBy>
  <dcterms:modified xsi:type="dcterms:W3CDTF">2007-05-02T09:44:10Z</dcterms:modified>
  <cp:revision>6</cp:revision>
  <dc:subject/>
  <dc:title>Snímek 1</dc:title>
</cp:coreProperties>
</file>