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49D7-0D24-440F-9241-9F87E3755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CAAF-2C8C-4AB4-83F0-03D6987E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8B3C-7B74-4E1C-9401-1AE053ACA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C15D-7A69-4956-B87B-29E8305AB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AD40-8E42-4145-8C5F-7FE696AD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569B-4233-49C0-8CF5-0B6EC3D0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EE77-16A3-416D-BF55-E82849F6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FCD6-1D87-4C6F-9EE3-597360DC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B5F5-4610-411F-8C69-06A4BBAB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C726-9E1E-4AAC-89CA-FAE3DFE4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080D-9509-4546-B5C8-5B0D49F7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3A78-105B-49DC-843E-96612ADF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21D5-67EE-4F5D-9BAF-035E37DE1A2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h práce a politika zaměstna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ednáška č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bilita a mi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Institucionální teo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lade důraz na vliv institucionálních faktor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de vlastně také o sítě, které podporují migraci a určitým způsobem ji formují, tzv. migrační průmys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vě skupiny institucionálních subjektů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vní skupinou jsou organizace či jednotlivci napomáhající především nelegální migraci a to za účelem zisku. V důsledku bariér, které si cílové země vytvořily, aby se bránily migračnímu přílivu, vzniká černý trh. Jedinci i společnosti vydělávají na migrantech, kteří se snaží ilegálně dostat do vybrané země. Jde o převody přes hranice, pašování lidí ze země původu do jiné, najímání migrantů zaměstnavateli, falšování dokumentů či svatby „naoko“. Migranti bývají vystaveni vykořisťování, okrádání, podvodům nebo vydáni napospas zneužívání (hlavně ženy a děti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uhou skupinu tvoří nevládní a mezinárodní organizace a jedinci poskytující migrantům rady, sociální služby a právní poradenství – např. jak získat různé dokumenty, žádat o azyl či povolení k poby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šechny tyto instituce a organizace, ziskové nebo neziskové, podporují mezinárodní migraci, neboť bez nich by migranti často měli málo informací a kontaktů potřebných k úspěšné migraci. Podobně jako u teorie sítí, migrační proud je stále více institucionalizován a stává se čím dál tím nezávislejší na okolnostech, které ho vyvola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eorie kumulativní příč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důsledku migrace nastávají změny v ekonomické, sociální i kulturní oblasti( jak v zemi původu, tak v cílové zemi) – stimul pro další migra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labeling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ěkteré kategorie zaměstnání s vysokým zastoupením imigrantů, získají nálepku zaměstnání nevhodného pro domácí obyvatele, což vede k další poptávce po imigrantech. Toto stigma určité profese nevychází z jeho charakteristik, ale pouze ze zastoupení imigrantů v této profes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eorie migračních systémů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lade důraz na mezinárodní vztahy, národní hospodářství, kolektivní jednání a institucionální faktor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chází z předpokladu, že migrační proudy jsou do jisté míry stabilní a strukturované v prostoru i č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voluje rozlišení na tzv. mezinárodní migrační systé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ční systém je tvořen dvěmi nebo více zeměmi vyměňujícími si navzájem mezi sebou nejen migranty, ale i zboží a kapitál. Tyto výměny jsou mezi zeměmi tvořícími jeden systém intenzivnější než mezi ostatními zeměm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zují se regionální migrační systémy jako například západní Evropa, severní Amerika, jižní Pacifik, západní Afri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notlivé regiony jsou propojeny různými vzájemnými vazbami, může se jednat i o geograficky vzdálenější oblasti. Zkoumají se oba konce migračního proudu i všechny možné vazby mezi oběma oblastmi. Vazby mohou být dále roztříděny do kategorií jako například mezistátní vztahy, srovnání oblastí, kulturní vazby, rodinné a sociální sít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anty mig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ěk – hlavní fak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atší doba na navrácení inve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přenositelnost dosažené kvalifikace a special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ětší sociální závis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ledání vhodné práce mladý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dinné fak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áklady migrace se násobí s rozrůstající se rodinn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Ženatí vs. Svobodní, školní docházka dětí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městnání druhého partn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děl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Geografická mig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epší přístup k informací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šší užitek pro zaměstnavat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i se stěhováním na školu = nižsí psychická újma (nebo naopak 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dále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ím větší vzdálenost, tím vyšší psychické nákl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stou přepravní nákl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éně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íra nezaměstna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diny s nezaměstnaným mají větší migrační t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lší fak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astnictví do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ence na podnikání v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ivy stá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ě, životní úroveň, investiční polit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zyková barié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valita životního prostředí a kl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ůsledky mig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ální a společensk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á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obní z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výšení příjm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ziko (spojené s nedostatečnými informacemi a nejistoto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ůst příjmů není okamžit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žnost růstu živ. úrovně v původní destina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íjem rod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ečens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ůst produ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nižování mzdových rozdí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ter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porné exter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plněná města, zácpy, nároky na veřejné služ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vírání škol, plýt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inanční externality: redistribuce důcho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-) ztráta produktu v zemi půvo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-) pokles mzdy domácího pracovní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-) pokles zaměstnanosti (??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+) snížené náklady na mzdy (krátkodob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+/-) rozpočtové dopa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oretický příklad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zda v Koreji je nižší než v USA – tendence Korejců migrovat do USA, což posune křivku nabídky práce v Koreji doleva a v USA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+ bude motivovat podniky v USA zavřít domácí továrnu a otevřít ji v Koreji. To posune křivku poptávky po práci v Korei doprav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2680" y="260280"/>
            <a:ext cx="9031320" cy="56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ypy pracovní mo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11280" y="1844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ísto výkonu 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899640" y="3500280"/>
            <a:ext cx="45468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acovní poz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2421000"/>
            <a:ext cx="41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19280" y="2349360"/>
            <a:ext cx="3887640" cy="374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1186920" y="4221000"/>
            <a:ext cx="45468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1186920" y="2349000"/>
            <a:ext cx="4546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j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92360" y="1989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j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3280" y="1916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92360" y="4292640"/>
            <a:ext cx="38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35280" y="234936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24000" y="29973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. ty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24360" y="4941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4. ty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95640" y="4941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. ty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51280" y="2997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3. ty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338040"/>
            <a:ext cx="914400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rovnání věkové struktury občanů a ČR a dlouhodobě usazených cizinců - k 31.12.200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3959280" cy="374472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427640" y="1916280"/>
            <a:ext cx="3987720" cy="37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0" t="47300" r="0" b="0"/>
          <a:stretch/>
        </p:blipFill>
        <p:spPr>
          <a:xfrm>
            <a:off x="457200" y="2997360"/>
            <a:ext cx="8229600" cy="3128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0" t="0" r="0" b="81966"/>
          <a:stretch/>
        </p:blipFill>
        <p:spPr>
          <a:xfrm>
            <a:off x="828720" y="1844640"/>
            <a:ext cx="79912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Č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K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ál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38080" y="1268280"/>
            <a:ext cx="80074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eorie mig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Neoklasická teorie 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„push-pull teorie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pustit zemi původu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sh factor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mografický růst, nízká úroveň životních podmínek, nedostatek ekonomických a pracovních příležitostí, politické repr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tahují do cílových zemí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 factor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ptávka po práci, dostupnost pozemků, příznivé ekonomické příležitosti a politické svo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oklasický ekonomický přístup se zaměřuje hlavně na příjmové rozdíly, podmínky zaměstnání v různých zemích a náklady na případnou migrac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acionální posouzení dostupných informací o nákladech i výhodách plynoucích z migrace rozhodne, že je pro něj výhodnější přesun ze své země původu do jiné oblasti. Snaží se především maximalizovat svůj užitek, nejčastěji výši příjm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akroekonomický poh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íčin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zdíly v příjmech mezi zeměm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zdíly v nabídce a poptávce pracovních sil a možnosti zaměstnán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konomické rozdíly a rozdíly v nabídce a poptávce pracovních sil jsou postačujícím důvodem k vytvoření migračních proud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rovnávání ekonomických rozdílů mezi rozvinutými a zaostalými regiony vedoucím k ekonomické rovnováz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zemích s vysokou nabídkou pracovních sil a nedostatkem kapitálu jsou nižší mzdy a naopak v zemích s vyšší poptávkou po pracovních silách a větším množstvím kapitálu jsou mzdy vyšší. Lidé ze země s nižšími mzdami se stěhují do země s vyššími mzdami. Výsledkem je pak pokles nabídky pracovníků a růst mezd v chudší zemi a opačný trend v bohatší zemi, a tím nastolení ekonomické rovnováhy a také následné pozastavení migračního prou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ikroekonomický přís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středí na jedi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ionální kalkulaci výdajů a užitku v časovém horizontu a následnou volbu s cílem maximalizovat svůj zis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zi výdaje patř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ální náklady na cestu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áklady na dobu než najde prá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úsilí vynaložené na učení se novému jazyku a kultuř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vytváření nových sociálních vazeb at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Migrace jako investice do lidského kapitálu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race za lépe placeným zaměstnáním je investicí do lidského kapitá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 současnou oběť zvýší budoucí zis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race však nenastává v každém případě možného zvýšení životních zis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č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to str. 4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vé (komplexnější) přístu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ce je vysvětlována také možnosti stálého zaměstnání či příznivé podmínky pro rozvoj podniká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migraci se nerozhodují jednotliví aktéři, rozhodnutí jsou učiněna na úrovni rodin či domácností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Účelem je jednak maximalizace předpokládaného příjmu jednotky, ale také minimalizace rizik spojených s nepředvídatelnými událostmi a výkyvy trh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zika jsou při rozhodování důležitějš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zdíly v příjmech tak nemusí být podmínkou k migraci do jiné země a také jejich vyrovnání nemusí zastavit migrační pro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istoricko-strukturalistický přístu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chází z marxistické politické ekonom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ade důraz na nerovnoměrné rozdělení ekonomické a politické moci ve světě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zinárodní migraci chápe jako způsob mobilizace levné pracovní sí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ce tak udržuje nerovný rozvoj a zdroje chudých zemí jsou pak využívány pro to, aby bohatí byli ještě bohatší. Podle historicko-strukturalistického přístupu nemá jedinec svobodnou volbu, jak tvrdí neoklasická teori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iv při rozhodování hrají nerovnosti v oblasti zdrojů a moci mezi zeměmi a imigrační politiky potenciálních cílových zemí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eorie sí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důrazňuje v migračním procesu význam mezilidských vazeb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zby příbuzenské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átelsk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zby v rámci komun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těchto vazbách se někdy mluví jako o sociálním kapitá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kytují jedincům i skupinám důležité zdroje informací, sociální či finanční pomoci, často i podporu v případě osobních problém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vyšují pravděpodobnost migračního pohybu, neboť snižují náklady a rizika a nepřímo zvyšují i očekávaný zisk z migr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ítě pomáhají při usazování migrantů v dané zemi a při vytváření komunit. Skupiny migrantů pak často vytvářejí svou vlastní ekonomickou i sociální infrastruktur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olky, obchody, zábavní podniky, kostely, služby doktorů, právníků at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dyž počet migrantů a vazeb překročí určitou kritickou mez, jsou náklady na každou další migraci i rizika, která migrant podstupuje, nižší, což podněcuje další migraci,  dále rozšiřuje sítě a snižuje náklady i rizi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10:56:27Z</dcterms:created>
  <dc:creator>paleta</dc:creator>
  <dc:description/>
  <dc:language>en-US</dc:language>
  <cp:lastModifiedBy>paleta</cp:lastModifiedBy>
  <dcterms:modified xsi:type="dcterms:W3CDTF">2007-03-12T15:21:43Z</dcterms:modified>
  <cp:revision>10</cp:revision>
  <dc:subject/>
  <dc:title>Trh práce a politika zaměstnanosti</dc:title>
</cp:coreProperties>
</file>