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3FA0-6710-448D-A3C2-1E5B6F1BD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B40E-9D24-4455-BAF7-40EEF786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3AD9-408E-4A77-9535-5A89E7414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3D33-78FF-4F8C-9C55-D243C72F2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179E-9FB0-442F-A230-63C72EB0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FA7A-BC39-4224-8252-E22A5A24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AB70-EFB7-41B6-A0E1-29B20780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66C6-B490-4185-A64E-F3735F1C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D27A-1EE2-4C94-819A-73BC2CE9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1803-2683-4011-9F2B-4356F2FA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16B2-21CD-4F2C-811D-77C6B936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2F5E-B7BA-46AB-A798-383D4666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4D81-861B-466B-8CAF-79B412C07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pp.eurostat.ec.europa.eu/portal/page?_pageid=1996,39140985&amp;_dad=portal&amp;_schema=PORTAL&amp;screen=detailref&amp;language=en&amp;product=STRIND_ECOBAC&amp;root=STRIND_ECOBAC/ecobac/eb021" TargetMode="External"/><Relationship Id="rId2" Type="http://schemas.openxmlformats.org/officeDocument/2006/relationships/hyperlink" Target="http://epp.eurostat.ec.europa.eu/portal/page?_pageid=1996,39140985&amp;_dad=portal&amp;_schema=PORTAL&amp;screen=detailref&amp;language=en&amp;product=STRIND_ECOBAC&amp;root=STRIND_ECOBAC/ecobac/eb022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502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ktivita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pp.eurostat.ec.europa.eu/portal/page?_pageid=1996,39140985&amp;_dad=portal&amp;_schema=PORTAL&amp;screen=detailref&amp;language=en&amp;product=STRIND_ECOBAC&amp;root=STRIND_ECOBAC/ecobac/eb0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pp.eurostat.ec.europa.eu/portal/page?_pageid=1996,39140985&amp;_dad=portal&amp;_schema=PORTAL&amp;screen=detailref&amp;language=en&amp;product=STRIND_ECOBAC&amp;root=STRIND_ECOBAC/ecobac/eb0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ůst produk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důležitý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 růstu reálných mezd a životní úrov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 anti-inflační silou která pohlcuje inflační tlaky růstu mez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ktivita a reálné mz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álné mzdy rostou ve vyspělých ekonomikách kontinuáln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USA je průměr za 20. stol – 2 až 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% ro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eálná mzda roste, pokud poptávka po práci roste rychleji než nabíd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líčová otázka: Proč poptávka rost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tože roste produktivita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DP = počet odpracovaných hodin * produktiv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ktivita a infl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většiny ekonomů existuje vztah mezi produktivitou a infl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ý růst produktivity absorbuje inflaci a naopa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kla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zda je 50 kč/h, výstup je 10 chlebů/hod, náklady na jednotku jsou 5 Kč. Vzroste-li mzd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produktivit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 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%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55 kč/h a 11 chlebů/h, náklady na jednotku zůstanou stejné a může tedy zůstat stejná i její cena. Pokud však produktivita při růst mzdy nevzroste, vzrostou náklady na jednotku a tedy i ce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voří-li náklady na práci 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 celko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ých nákladů, pak by 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 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st jednotkových nákladů implikoval 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 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ár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 ce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ůst mezd však není jediným nemusí být ani hlavním faktorem infla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atí však, že čím větší růst produktivity při konstantním nárůstu mezd, tím nižší infl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louhodobé trendy produktivity prá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ůst 2.5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o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 28 let zdvojnásobení produk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posledních letech propad růstu produk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o způsobuje růst produk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ůměrná kvalita pracovní sí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nožství kapitálových stat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fektivita využití a kombinace V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vázanost těchto fakto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ůměrná kvalita prá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zdělání a zaškol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draví a vital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hlaví a vě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. 47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ybavenost práce kapitá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ktivita práce pracovníka závisí na množství kapitálových statků, které jsou mu k dispoz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ldozer vs. Rý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ybavenost kapitálem od ranné historie r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letech 1889-1969 se zásoba kapitálu zvýšila šestinásobně, množství pracovních hodin se zdvojnásobil, vybavenost práce kapitálem tedy vzrostla trojnásobně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ektivita využití V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nologický pokr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pší technolo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ová pásová výro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, robotizac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lepšení technologie řízení -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izace a úspory z rozsa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visí s velikosti firmy a tr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lký trh umožňuje firmě růst a to umožní využít komplikovanější přístroje a nejefektivnější postup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-alokace z méně produktivních odvětv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e zemědělství do průmys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cionální změny, kulturní a přírodní podmínky, politický výv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lké množství faktor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dbory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lný obc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ulace, bezpečnost práce, životní a pracovní prostřed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časí, stáv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klické změny v produktivit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átkodobé kolísání kolem tren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píruje výkyvy v kolísání produ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součástí ekonomického cyk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letech hospodářského poklesu dochází k poklesu produk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íčin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tíženost pracovní sí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kt klesá rychleji než vstu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ůvod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užití kapitálu a továr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vytíženost při pokle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ktura výstu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vanlivé zboží je citlivější na cyklické výkyvy než např. služ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že v průmyslu bývá nejvyšší produktivita, celková produktivita také kles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h práce a politika zaměstna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ednáška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ktivita práce: mzdy, ceny a zaměstna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ůsledky kolísání produk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se = pokles produktivity = růst jednotkových nákladů (více pokud pořád rostou mzdy) = pokles zisku = snížení investiční aktivity zmenšením dostupných prostředků + pesimistická očekávání = pokles produkce …kruh se uzavír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ůže recese přispět k inflac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ktivita a zaměstnan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aké jsou dopady růstu produktivity na zaměstna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de růst produktivity ke ztrátě zaměstnání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-li průměrná produktivita 50 pracovníků 100 Kč/hod a celkový výstup tedy 5000, pak nárůst produktivity o 2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125 Kč/hod znamená, že 10 pracovníků je nadbytečný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íliš zjednodušené – s jídlem roste chu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ůst produktivity zvyšuje příjem = růst AD, generuje další mí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ůst produktivity umožňuje naplnit více potře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iricky dochází při růstu produktivity k růstu jak reálných mezd, tak zaměstna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n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"Do you believe in life after death?" the boss asked one of his employe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"Yes, Sir." the employee repli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"Well, then, that makes everything just fine," the boss went on. "After you left early yesterday to go to your grandmother's funeral, she stopped in to see you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jetí produk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ztah mezi reálným produktem a množstvím vstupu potřebných k produk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ěří efektivnost a výkonnost vstup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ktivita = výstup/vs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lik jednotek výstupu dostaneme z jednotky vstu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Četné množství způsobů měření produk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stup: GDP, produkt soukromého sektoru, produkt odvětví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stup je lépe měřit v reálných jednotkách než v běžných peněžní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č měřit produktivitu prá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námá cesta přerodu vstupů ve výstu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tah není přím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fektiv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lepší praxe jek přetavit vstupy ve výstu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pora reálných nákla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e změnou produktivity je spousta zdrojů, může to být i úspora nákla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nchma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rovnání odvětví, zemí, hledání neefektivností. Často se užívají fyzické a specifické jednotky (aut za den, osob/k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jištění životní úrov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jem per cap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daná hodnota/pracov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ěření produktivity prá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ložené na hrubém produ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duktivita L=GDP/počet odpracovaných ho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kazuje časový profil využití pracovníků k produkci HD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n omezeně měří schopnosti a úsilí li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hody: jednoduchost m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výhody:je jen částečnou produktivitou. Odráží produktivitu ostatních V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FP – multifactor produ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ěření produktivity prá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ložené na přidané hodno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ktivita práce = přidané hodnoty/množství odpracovaných hod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ěří jak se práce podílí na přidané hodno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užití v mikroekonom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měny ve vybavenosti kapitá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Úspory z rozsa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hody a nevýhody: viz. výš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8:56:32Z</dcterms:created>
  <dc:creator>paleta</dc:creator>
  <dc:description/>
  <dc:language>en-US</dc:language>
  <cp:lastModifiedBy>paleta</cp:lastModifiedBy>
  <dcterms:modified xsi:type="dcterms:W3CDTF">2007-05-02T09:41:59Z</dcterms:modified>
  <cp:revision>4</cp:revision>
  <dc:subject/>
  <dc:title>Trh práce a politika zaměstnanosti</dc:title>
</cp:coreProperties>
</file>