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8EA-C51D-4358-895F-5CEF4A5B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017-7566-4DE7-B174-71EFE65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362-4FD9-4687-8D1B-80475FD8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C40-C773-45D6-8012-8C065142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427-92EC-40E6-A09C-FD58D66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980-8722-4FCE-9648-AC02EC2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376-DE96-40C9-876A-43C6731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BDD-150D-4785-93DC-CC68923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420-67DC-4FC7-86DB-86EF56CB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A96-55AA-471E-9DD0-2A0D6CC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D32-0E38-4918-9271-D631B18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83E-93AD-4452-AAB4-F58DDBA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1F96-0A24-4C44-9765-F36292FB6D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nswers.com/topic/william-beveridge" TargetMode="External"/><Relationship Id="rId2" Type="http://schemas.openxmlformats.org/officeDocument/2006/relationships/hyperlink" Target="http://www.answers.com/topic/william-beveridge" TargetMode="External"/><Relationship Id="rId3" Type="http://schemas.openxmlformats.org/officeDocument/2006/relationships/hyperlink" Target="http://www.answers.com/topic/william-beveridge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economics-beveridge-curve-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aleta@mail.muni.cz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888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BRÝ D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ecifika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ráce nemá povahu jako jiné zboží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Nositelem práce je člověk optřený vůlí, myšlením, právy – především volebním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gt; tendence ke st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átním zásahům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kazatele na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acovní síla = ekonomicky aktivní = počet lidí buďto pracujících nebo aktivně hledajících práci a schopných začít pracov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acovní partici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racovní síla/obyvatelstvo v produktivním věku) *100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konomicky neaktivní = nejsou zaměstnáni ani evidováni jako nezaměstnaní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ěti, důchodci, studenti, dlouhodobě nemocní, invalidi, odrazení pracovníci, flákač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ovní participace v Evropě 1994-200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69400" cy="3772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661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ovní participace = (Pracovní síla/obyvatelstvo v produktivním věku) *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ktivita/neaktivi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pad daní a podp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ast chudob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ast nezaměstnanosti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ládní politik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dečitatelné položky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inimální mzda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fektivita vzdělávání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Změna důchodového systému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Změna přístupu k práci a odpočinku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užnost pracovně-právních kontraktů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Ekonomická neaktivi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The Labour Force Survey asks people classified as economically inactive their reasons for not seeking a job. The latest survey evidence finds that Only around 50,000 people are discouraged workers-people who have been out of work for a lengthy period and have lost the motivation to continue their active job search. 737,000 people were inactive because of long-term sickness Over 630,000 claimed that family requirements (including the need to look after children and elderly relatives) blocked their search for a job. 256,000 were stud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H="1">
            <a:off x="1476360" y="5229360"/>
            <a:ext cx="2448000" cy="0"/>
          </a:xfrm>
          <a:prstGeom prst="line">
            <a:avLst/>
          </a:prstGeom>
          <a:ln cap="rnd" w="64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Individuálná nabídka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Individuální rozhodnutí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áklady příležitosti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očet hodin, které ja pracovní síla ochotna a schopna odpracovat při dané mzdě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429264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652464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4365720"/>
            <a:ext cx="1871640" cy="2016000"/>
          </a:xfrm>
          <a:custGeom>
            <a:avLst/>
            <a:gdLst/>
            <a:ahLst/>
            <a:rect l="l" t="t" r="r" b="b"/>
            <a:pathLst>
              <a:path w="1179" h="1270">
                <a:moveTo>
                  <a:pt x="0" y="1270"/>
                </a:moveTo>
                <a:cubicBezTo>
                  <a:pt x="230" y="1198"/>
                  <a:pt x="461" y="1126"/>
                  <a:pt x="635" y="1043"/>
                </a:cubicBezTo>
                <a:cubicBezTo>
                  <a:pt x="809" y="960"/>
                  <a:pt x="960" y="869"/>
                  <a:pt x="1043" y="771"/>
                </a:cubicBezTo>
                <a:cubicBezTo>
                  <a:pt x="1126" y="673"/>
                  <a:pt x="1179" y="581"/>
                  <a:pt x="1134" y="453"/>
                </a:cubicBezTo>
                <a:cubicBezTo>
                  <a:pt x="1089" y="325"/>
                  <a:pt x="930" y="162"/>
                  <a:pt x="771" y="0"/>
                </a:cubicBezTo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652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5734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ituční efe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ůchodovýefe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5805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itika !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terminanty S</a:t>
            </a:r>
            <a:r>
              <a:rPr b="1" lang="en-US" sz="4400" spc="-1" strike="noStrike" baseline="-25000">
                <a:solidFill>
                  <a:srgbClr val="ffffb7"/>
                </a:solidFill>
                <a:latin typeface="Arial Black"/>
              </a:rPr>
              <a:t>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ajetek (jmění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Demografický vývoj (a stav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íra ekonomicky aktivního obyvatelstv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(pracující obyv/obyv. celkem nebo pracující v produkt. věku/obyv. v produkt. věku</a:t>
            </a:r>
            <a:r>
              <a:rPr b="0" lang="cs-CZ" sz="2000" spc="-1" strike="noStrike" u="sng">
                <a:solidFill>
                  <a:srgbClr val="ffff66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66"/>
                </a:solidFill>
                <a:uFillTx/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66"/>
                </a:solidFill>
                <a:uFillTx/>
                <a:latin typeface="Arial"/>
              </a:rPr>
              <a:t>Proč se někdo stane ekonomicky neaktivním ?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polečenská tradic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Čistá migrace pracovníků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de to jsem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Jarní semestr 2007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h práce a politika zaměstnanosti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terminanty S</a:t>
            </a:r>
            <a:r>
              <a:rPr b="1" lang="en-US" sz="4400" spc="-1" strike="noStrike" baseline="-25000">
                <a:solidFill>
                  <a:srgbClr val="ffffb7"/>
                </a:solidFill>
                <a:latin typeface="Arial Black"/>
              </a:rPr>
              <a:t>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racovní prostředí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Délka dovolené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ožnosti vzdělávání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Bezpečnost púrác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Budování kariér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racovní výhod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ožnosti volnočasových aktiv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távka po prá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ptávka ODVOZENÁ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Závisí na poptávce po statcích a službác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PR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=MC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=w  (viz. Mikroekonomie I.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386064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6524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4232160"/>
            <a:ext cx="2963880" cy="2376720"/>
          </a:xfrm>
          <a:custGeom>
            <a:avLst/>
            <a:gdLst/>
            <a:ahLst/>
            <a:rect l="l" t="t" r="r" b="b"/>
            <a:pathLst>
              <a:path w="1867" h="1497">
                <a:moveTo>
                  <a:pt x="0" y="447"/>
                </a:moveTo>
                <a:cubicBezTo>
                  <a:pt x="105" y="261"/>
                  <a:pt x="211" y="76"/>
                  <a:pt x="362" y="38"/>
                </a:cubicBezTo>
                <a:cubicBezTo>
                  <a:pt x="513" y="0"/>
                  <a:pt x="680" y="8"/>
                  <a:pt x="907" y="220"/>
                </a:cubicBezTo>
                <a:cubicBezTo>
                  <a:pt x="1134" y="432"/>
                  <a:pt x="1579" y="1119"/>
                  <a:pt x="1723" y="1308"/>
                </a:cubicBezTo>
                <a:cubicBezTo>
                  <a:pt x="1867" y="1497"/>
                  <a:pt x="1818" y="1425"/>
                  <a:pt x="1769" y="135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4711680"/>
            <a:ext cx="2880000" cy="588960"/>
          </a:xfrm>
          <a:custGeom>
            <a:avLst/>
            <a:gdLst/>
            <a:ahLst/>
            <a:rect l="l" t="t" r="r" b="b"/>
            <a:pathLst>
              <a:path w="1814" h="371">
                <a:moveTo>
                  <a:pt x="0" y="326"/>
                </a:moveTo>
                <a:cubicBezTo>
                  <a:pt x="325" y="163"/>
                  <a:pt x="650" y="0"/>
                  <a:pt x="952" y="8"/>
                </a:cubicBezTo>
                <a:cubicBezTo>
                  <a:pt x="1254" y="16"/>
                  <a:pt x="1534" y="193"/>
                  <a:pt x="1814" y="37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724280"/>
            <a:ext cx="1296720" cy="1800360"/>
          </a:xfrm>
          <a:custGeom>
            <a:avLst/>
            <a:gdLst/>
            <a:ahLst/>
            <a:rect l="l" t="t" r="r" b="b"/>
            <a:pathLst>
              <a:path w="817" h="1134">
                <a:moveTo>
                  <a:pt x="0" y="0"/>
                </a:moveTo>
                <a:cubicBezTo>
                  <a:pt x="0" y="0"/>
                  <a:pt x="408" y="567"/>
                  <a:pt x="817" y="1134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229360"/>
            <a:ext cx="86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4076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9500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652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,MC,M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547640" y="4868640"/>
            <a:ext cx="295308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443700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5084640"/>
            <a:ext cx="7164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522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itika teorie MP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Nemůže být použit u všech zaměstnání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elze měřit mezní produktiv, protože fyzicky neexistuj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U některých pracovníků nejsou mzdy určeny v závislosti na poptávce, ale např. u státních zaměstnanců jsou dány administrativně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terminanty D</a:t>
            </a:r>
            <a:r>
              <a:rPr b="1" lang="en-US" sz="4400" spc="-1" strike="noStrike" baseline="-25000">
                <a:solidFill>
                  <a:srgbClr val="ffffb7"/>
                </a:solidFill>
                <a:latin typeface="Arial Black"/>
              </a:rPr>
              <a:t>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optávka po produkci vyráběné pomocí dané práce a její elesticita + cena této produk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roduktivita práce (Q/L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Kvalita VF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Úroveň technických a technologických znalostí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Cena ostatních VF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Elasticita nabídky ostatních VF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ubstituovatelnost práce ostatními VF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čekávané tržb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vnováha na trhu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2133720"/>
            <a:ext cx="0" cy="39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98920" y="609300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6200" y="2637000"/>
            <a:ext cx="3097080" cy="3024000"/>
          </a:xfrm>
          <a:custGeom>
            <a:avLst/>
            <a:gdLst/>
            <a:ahLst/>
            <a:rect l="l" t="t" r="r" b="b"/>
            <a:pathLst>
              <a:path w="1588" h="1951">
                <a:moveTo>
                  <a:pt x="0" y="0"/>
                </a:moveTo>
                <a:cubicBezTo>
                  <a:pt x="26" y="336"/>
                  <a:pt x="53" y="673"/>
                  <a:pt x="318" y="998"/>
                </a:cubicBezTo>
                <a:cubicBezTo>
                  <a:pt x="583" y="1323"/>
                  <a:pt x="1346" y="1792"/>
                  <a:pt x="1588" y="1951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0560" y="2565360"/>
            <a:ext cx="3240000" cy="3024360"/>
          </a:xfrm>
          <a:custGeom>
            <a:avLst/>
            <a:gdLst/>
            <a:ahLst/>
            <a:rect l="l" t="t" r="r" b="b"/>
            <a:pathLst>
              <a:path w="1988" h="1951">
                <a:moveTo>
                  <a:pt x="0" y="1951"/>
                </a:moveTo>
                <a:cubicBezTo>
                  <a:pt x="302" y="1905"/>
                  <a:pt x="605" y="1860"/>
                  <a:pt x="907" y="1724"/>
                </a:cubicBezTo>
                <a:cubicBezTo>
                  <a:pt x="1209" y="1588"/>
                  <a:pt x="1640" y="1421"/>
                  <a:pt x="1814" y="1134"/>
                </a:cubicBezTo>
                <a:cubicBezTo>
                  <a:pt x="1988" y="847"/>
                  <a:pt x="1969" y="423"/>
                  <a:pt x="1950" y="0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98920" y="508464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98920" y="450864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698920" y="537372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692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5300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486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4221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9928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2421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2492280"/>
            <a:ext cx="20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h práce může trpět současně přebytky i nedostatky. Typickým případem  - nesoulad dovedností, nemobilní pracovní síla, nedostatek informací jak na straně nabídky, tak poptáv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Beveridgeova křiv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illiam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everidge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(1879-1963).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66"/>
                </a:solidFill>
                <a:uFillTx/>
                <a:latin typeface="Arial"/>
              </a:rPr>
              <a:t>empiricky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zjištěný vztah mezi mírou volných pracovních míst a mírou nezaměstnanosti při dané mzdě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ždy existuje jak nezaměstnanost tak volná místa – strukturální nesoul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růst D</a:t>
            </a:r>
            <a:r>
              <a:rPr b="0" lang="cs-CZ" sz="3200" spc="-1" strike="noStrike" baseline="-25000">
                <a:solidFill>
                  <a:srgbClr val="ffff66"/>
                </a:solidFill>
                <a:latin typeface="Arial"/>
              </a:rPr>
              <a:t>zboží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gt; pokles Y =&gt; rust Un + pokles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olných prac. Mís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Image:economics_beveridge_curv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7632720" cy="486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5013360"/>
            <a:ext cx="8675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suny křivky způsobují:  - velikost pracovní síly, (ne)shoda kvalifikace poptávky a nabídky, dlouhodobá nezaměstnanos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un směrem od počátku značí nižší efektivitu trhu práce z důvodu např. nesouladu popt. a nabídky, nebo nemobilní pracovní sí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NE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EC…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vtip na závěr 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Jste mladý, vzdělaný, moudrý a komunikativní?</a:t>
            </a:r>
            <a:br>
              <a:rPr sz="3200"/>
            </a:b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Jste připravený pracovat s plným nasazením?</a:t>
            </a:r>
            <a:br>
              <a:rPr sz="3200"/>
            </a:b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Chcete vydělávat 90 tisíc měsíčně a cestovat po celém světě?</a:t>
            </a:r>
            <a:br>
              <a:rPr sz="3200"/>
            </a:b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okud ano, tak běžte do prdele!</a:t>
            </a:r>
            <a:br>
              <a:rPr sz="3200"/>
            </a:b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y hledáme stolaře!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do to učí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Tomáš Palet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ancelář 604 (4. patro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email: 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paleta@mail.muni.cz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Přednášky dostupné na ISu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371600"/>
            <a:ext cx="7620120" cy="2057400"/>
          </a:xfrm>
          <a:prstGeom prst="rect">
            <a:avLst/>
          </a:prstGeom>
          <a:solidFill>
            <a:srgbClr val="00800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00800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řednáška č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orie trhu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jdůležitějš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Ukončení předmětu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ísemná zkouška – tvoří 50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% hodnocen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í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50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% n</a:t>
            </a: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áplň přenáše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% v</a:t>
            </a: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ra</a:t>
            </a: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né seminární prác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ktivita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na seminářích – 50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% hodnocen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í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Prezentace seminární práce dle vlastního výběru – 3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% hodnocení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66"/>
                </a:solidFill>
                <a:latin typeface="Arial"/>
              </a:rPr>
              <a:t>Diskuze na cvičeních – 20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šechny ukazatele musí dosáhnout minimálně 50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%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ktura dnešní přednášk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Trh práce a jeho specifik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Nabídka a poptávka na trhu práce (vzpomínáme na MIKRO I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Rovnováha na trhu práce z pohledu jednotlivých teoretických konceptů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eoklasický pohled na trh prá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everidgova křivk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Je výrobním faktorem =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trh práce = trh VF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AL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 práci nelze nakládat tak jako s jinými statky, nelze ji libovolně prodávat a kupovat – je spojena s lidmi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&gt;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podm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Arial"/>
              </a:rPr>
              <a:t>ínky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za nichž je práce najímána jsou stejně důležité jako její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Arial"/>
              </a:rPr>
              <a:t>cen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rh prá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ísto střetu S</a:t>
            </a:r>
            <a:r>
              <a:rPr b="0" lang="cs-CZ" sz="32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a D</a:t>
            </a:r>
            <a:r>
              <a:rPr b="0" lang="cs-CZ" sz="32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ástroj sladění: mzd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Fce trhu práce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Ekonomická: zajištění výroby statků a služeb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ociální: zajištění prostředků pro živ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onkrétní formy trhu práce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Úřady prá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Inzeráty atd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 čemu trh prác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ýsledkem transakcí na trhu práce je rozmístění zaměstnanců do firem, odvětví a regionů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ngující trh práce = fungující trh výrobků a služeb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7:42Z</dcterms:created>
  <dc:creator>Ferda Mravenec</dc:creator>
  <dc:description/>
  <dc:language>en-US</dc:language>
  <cp:lastModifiedBy>paleta</cp:lastModifiedBy>
  <dcterms:modified xsi:type="dcterms:W3CDTF">2007-02-19T14:59:03Z</dcterms:modified>
  <cp:revision>9</cp:revision>
  <dc:subject/>
  <dc:title>DOBRÝ DEN</dc:title>
</cp:coreProperties>
</file>