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DAF-DE9D-40C9-95B9-C183538D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05C-BA48-4A01-8403-73ABF1E6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E47-A918-4C83-A71C-7DED539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DA9-FCAC-46DB-83C1-E732ACCB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4C6-171A-4752-A9DB-BB5B0B1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38C-0F24-46F9-8946-1A5340D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50E-2290-4BEE-830B-AE8E808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B42-2191-4E8B-9252-8556C379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010-CEF8-4946-883E-391EE645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4E0-31FD-4763-AC9F-9046B49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E9D-B3DA-48CB-BFCD-2002FDD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973-56E6-4C61-A577-D57EDBA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D43E-CEF9-4DEB-AF6D-3791CC1E7B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nášk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zaměstnanosti v ČR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ytá diskriminac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bízíme práci v mladém dynamickém tý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–  taková nabídka signalizuje, že zaměstnavatel může při výběru diskriminovat na základě věku a odmítnout uchazeče a uchazečky starší 30 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žadujeme ochotu pracovat bez ohledu na č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nebo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žadujeme absolutní časovou flexibili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nebo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yžadujeme maximální pracovní výk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– z tohoto textu lze vyčíst, že zaměstnavatel může skrytě nabízet místo pouze mužům nebo ženám s odrostlými dětmi, popřípadě že namísto nebudou přijímány mladé ženy, u nichž se předpokládá (bez ohledu na realitu) starost o dě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žadujeme uchazeče s praxí max. 3 ro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– jinými slovy řečeno: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ledáme mladé uchazeče tak kolem 21 až 24 let a předpokládáme rovněž, že žena tohoto věku bude bezdět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vo na zaměstná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10 - §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ěprávní vztahy (zák. práce) X OSVČ (živ. zák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 X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ní povinnost být zaměstn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ní povinnost se registrovat na Ú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povinnost platit zdravotní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ůchodov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zakázáno činit nabídky k zaměstn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ící diskriminační chara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ou v souladu s pracovněprávními před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porují dobrým mrav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varc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nebo FO je povinna  plnění běžných úkolů vyplývající z její činnosti zajišťovat vlastními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á povinnost neplatí, zajišťuje-li běžné úkoly PO nebo F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ma, s pomocí manžela/ky, dětí a společ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časně přidělenými zaměstnanci agentury (nesmí pracovat na dohodu o provedení prá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ěří jinému zaměstnav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1.1. – je tento paragraf vyškrtnut. Částečně bude nahrazeno v zákoně č. 251/2005 Sb., o inspekci práce, a v zákoníku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prostředkování práce Ú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§18-§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elém území ČR + zahraničí (E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pla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 hled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hodné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kládá povinnost odvádět pojistné na důchodové pojištění a příspěvek na st. pol. zam. (ne dohody o 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lka pracovní doby + délka pracovního pom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chazeč o zaměst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chazečem se může stát osoba, která ne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oba v prac. práv. vztahu (s vyjímka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olečníkem nebo jednatel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enem představenstva, členem dozorčí rady, členem družstva, jehož mzda činí min. 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m.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d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anec a senátor P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enem zastupitelstva (s odměno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z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en vlá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en NK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. ochránce práv a jeho zástup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ditel 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len RR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cený správ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ěstounem v zařízení pro výkon pěst. péč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oba výdělečně činná v cizin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soba soustavně se připravující na budoucí povol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chazečem se nemůže stát F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časně neschopná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st odnětí svobody nebo vaz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bírá peněžitou pomoc v mateřství v době před porodem a 6 týdnů po por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ně invali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poměr v souběhu s evide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½ týdenní prac.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½ min.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mí být na překážku při zprostředkování 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ončení evidence v Ú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stupem do zaměst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semnou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stupem výkonu trestu odnětím sv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mrtím nebo prohlášením za mrtv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řazení z evidence Ú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la některá ze skutečnosti bránící v zařazení nebo evidenci uchazečů o zaměstnání s výjimkou pracovní neschopnosti, peněžní pomoci v mateřství nebo vykonává trest odnětí sv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í schopen plnit povinnosti při zprostředkování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e vazbě po dobu delší než 6 měsí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ušil souhlas se zpracováním osobních ú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konává nelegální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řazení ve správním ří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d uchazeč bez vážného dův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mítne nastoupit do vhodného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mítne nastoupit na dohodnutou rekvalifikaci nebo se neúčastní ve stanoveném rozs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lní podmínky stanovené individuálním akčním plá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mítne se podrobit vyšetření zdravotní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ří součinnost s Ú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ným způsobem zmaří nástup do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innost hlášení volných pracovních míst zaměstnavat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10 dnů + 10 dnů po ob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onné normy upravující politiku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on č. 435/2004 Sb. o zaměstnanosti ve znění pozdějších předpisů (novelizace 382/2005 S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řízení vlády č. 515/2004 Sb. o hmotné podpoře na vytváření nových pracovních mí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ška č. 519/2004 Sb. O rekvalifikaci uchazečů o zaměstnání a zájemců o zaměstnání a o rekvalifikaci zaměstna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pora v nezaměstnanosti a podpora při rekvalifik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§36 - §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k na podporu v ne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sledních 3 letech alespoň 12 měsíců vykonával výdělečnou činnost (s povinnos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ísemně požá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být poživatelem starobního dů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nároků na výsluhový příspěvek a za službu činí podpora jejich rozdí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při rekvalifi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musí se žá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být poživatelem star. dů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a je poskytována po celou dobu rekvalifikace, pokud nepobírá star. důchod, dávky nemocenského poj. a nebo je ve vez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ální výše podpory v nezaměstnanosti činí 0,58násobek průměrné mzdy v národním hospodářství za I. až III. čtvrtletí kalendářního roku předcházejícího kalendářnímu roku, ve kterém byla podána žádost o podporu v nezaměstna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ální výše podpory při rekvalifikaci činí 0,65násobek průměrné mzdy v národním hospodářství za I. až III. čtvrtletí kalendářního roku předcházejícího kalendářnímu roku, ve kterém uchazeč o zaměstnání nastoupil na rekvalifik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hradní doba zaměst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kud uchazeč nedoloží dobu odpracovanou, počítá se do předchozího zaměstnání náhradní 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prava osob se zdravotním postižením k prá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ný invalidní důc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í péče o dítě do 4 let a do 18 let, jeli dlouhodobě zdravotně postiž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í péče o převážně nebo úplně bezmocnou osobu do 80. let, která s uchazečem trvale žije a společně uhrazují náklady na domácnost, nejde-li o osobu blíz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kon dlouhodobé dobrovolnické služby v rozsahu překračujícím v průměru 20 hodin týdně na základě smlouvy vysílající organizace (která byla akreditována MV) a dobrovol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on o zaměstnanos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atibilní s právem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záko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írání nelegální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roti nezaměstna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y záko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řesnění a zpřísnění podmínek při zprostředkovávání zaměstnání úřady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a podmínek pro zařazení a vedení b evidenci U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a výše a délky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a částečné zaměstna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la pro agenturní zaměstn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é nástroje aktivní politiky zaměstna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ení občanů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dětí při umělecké, kulturní, sportovní a reklamní č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y při zaměstnávání ciz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íření kontrolních pravomoci Ú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sa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my v záko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ční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dl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ážné dů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éče o dítě do 4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éče o TZP do 18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éče o převážně nebo úplně bezmocnou osobu do 80. let, která s uchazečem trvale žije a společně uhrazují náklady na domácnost, nejde-li o osobu blíz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ná příprava na budoucí povol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egál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FO nevykonává práci na základě pracovněpravního vztahu nebo jiné smlouvy nejde-li o osobu uvedenou v § 13 odst. 3 písm. a) + ciz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ta pro zam-ce i zam-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jímavé změny v záko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30. 9. bylo možné uzavřít s pracovní agenturou smlouvu, která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hoda o provedení prá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Z té nevyplývá povinnost odvádět pojistné (zdravotní a sociální). Dnes to již možné není, a proto přichází pro studenty v úvahu tzv. dohoda o pracovní činnosti, která účast na sociálním pojištění zakládá a započítává se jako doba odpracovaná nejen pro účely výpočtu důchodu, ale i pro splnění podmínky výplaty podpory v nezaměstnanosti. Výše úvazku dohody o pracovní činnosti je omezena na 20 odpracovaných hodin týdn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 přijmete brigádu na 3 dny, uzavřete s agenturou smlouvu, ta vás musí přihlásit do systému sociálního a zdravotního pojištění, pak musí zjistit, kolik činí srovnatelná mzda zaměstnanců firmy, kam vás posílá, zpracovat s vámi výpověď, protože student nesmí být zaměstnán na dobu určitou, a nakonec vy odvedete 12,5 % ze mzdy na pojistném a agentura dalších 35 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é, kteří absolvovali střední nebo vysokou školu a nenašli práci, již nemohou dostat podporu v nezaměstnanosti, pokud v posledních třech letech neodpracovali alespoň dvanáct měsíců. Do této doby se jim budou započítávat veškeré brigády během studia stvrzené alespoň dohodou o pracovní čin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ufat ovšem nikdo nemusí, ani nepracující studenti, protože jsou absolventům namísto toho vypláceny sociální dáv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raná ustanovení zákona o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é zacházení a zákaz diskrimi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+ Zákon o mzdě + zákoník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zakázána přímá i nepřímá diskriminace na základě: pohlaví, sexuální orientace, rasového nebo etnického původu, národnosti, státního občanství, věku, náboženství, majetku, rodinného stavu nebo povinností k rodině, politického nebo jiného smýšlení, členství a činnosti v politických stranách, odborech nebo organizacích zaměstnavatel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diskriminaci se nepovažuje rozdílné zacházení, pokud to vyplývá z povahy zaměstnání nebo v souvislosti s ní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kriminací není odmítnutí ženy na práce, které jsou ženám zakáz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kriminací není odmítnutí občana na místo, kde je podmínky státního občanství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diskriminaci nelze považovat zákonem stanovená opatření zvýhodňující některé skup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krimina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má a nepřím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ěžování: jednání, které je vnímáno druhou osobou jako nevítané nebo urážlivé a jehož záměr nebo důsledek vede ke snížení důsto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ální obtěžování – cílem je narušení důstojnosti osoby, vytváří se zastrašující, nepřátelské, ponižující nebo urážející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řad práce a diskriminace (§139 a §1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těná diskriminace může vést k poku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krimin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riminačními inzeráty jsou nabídky tohoto zně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ledá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ředitele...vedoucího propagace...asistentku...prodavačku...sekretář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obné formulace v rozporu se zásadou rovnosti nenabízejí pracovní pozice oběma pohlavím, přičemž ženám jsou obvykle vyhrazeny nabídky pozic s nižší rozhodovací pravomocí,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lším příkladem jsou inzeráty, které diskriminují nejen na základě pohlaví, ale neoprávněně ve svých textech požadují splnění dalších předpokladů. Napříkl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 naši mladou dynamicky se rozrůstající firmu hled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ladé muže ve věku do 35 let…mladé ženy do 30 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ženy s odrostlými dět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zdětné že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uže bez závazk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 absolventy at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riminačním inzerátem nejsou texty tohoto zně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 divadelní roli Romea hled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ladého muže ve věku do 30 l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 předvádění dívčí módní konfekce hled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ladou ženu ve věku do 30 l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 pracovní pozici kojná hledá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ojící ženu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21:36Z</dcterms:created>
  <dc:creator>paleta</dc:creator>
  <dc:description/>
  <dc:language>en-US</dc:language>
  <cp:lastModifiedBy>paleta</cp:lastModifiedBy>
  <dcterms:modified xsi:type="dcterms:W3CDTF">2007-05-02T09:42:40Z</dcterms:modified>
  <cp:revision>9</cp:revision>
  <dc:subject/>
  <dc:title>Trh práce a politika zaměstnanosti</dc:title>
</cp:coreProperties>
</file>