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3616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3616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3944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372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128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3616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372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128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C0853-BC7C-4C25-B5CF-E7994015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BC460-19C6-4223-A083-EA09A70A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FFCDA-3D4D-4DB3-80B2-9DCA0B7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E0148-53E2-4AD5-9825-A8081D73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27301-D734-47BD-8BE1-3CED37E2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F966D-C19F-415C-AA12-9D803C3F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3616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F6936-9ABB-43B2-9803-4E212AA0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3944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43B28-D94C-4DE2-95C1-6CAE399D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3616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32859-F72E-49C9-9E0F-974CCB99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3616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F0169-47BC-4B2E-A300-AAA881C3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3616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3944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71DD8-5075-44F2-A7DC-8E702759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4372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128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3616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4372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128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56C35-7030-41E3-818C-774F60B2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B1C9B-1AAA-48A5-88DE-4A669D82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C50B1-12E2-4044-BBD8-59CC81E2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5FE81-112B-4632-B01C-CEA49864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7B53F-F81B-4EEC-84A0-917BC9CB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EEEDD-E766-4B7B-BDB6-00898370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00738-C4C1-46E0-9677-1FBBDCB9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3616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5B833-24B8-45AC-AC75-542E0806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3944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D7EB2-4D14-45F8-B4DF-B191BE6B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3616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77282-CBED-4327-9922-A21E2CD9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3616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1E28C-B9A0-40F2-BC5D-547D9CCA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3616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3944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E6A5B-0134-40D1-83A0-2CB44702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4372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5128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3616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4372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55128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3929F-48A4-422E-AF0B-D9518E0A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3616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3944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3944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3616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61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86DF-C6E0-4640-B03D-E3BA1D071D5B}" type="slidenum">
              <a:rPr b="1" lang="en-US" sz="20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79BA-BE09-481F-9A9B-1393CA031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38172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EBD1-39C8-4D7F-9954-5BBB325CC36A}" type="slidenum">
              <a:rPr b="1" lang="en-US" sz="20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75B3-1A84-4B0A-96CF-D8BF4607B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6461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FFA8-2E16-4CA2-93C7-72BAA10D0112}" type="slidenum">
              <a:rPr b="1" lang="en-US" sz="2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Příčiny vzniku vnitřního trhu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klady zaměstnání a zaško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á firma má specifické požadavky na pracovní sílu a ta musí být zaško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ýmová spolu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tší znalost existujících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tší jistota místa pro zaměst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 odborů – obousměrný vzt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eorie duálního trhu práce: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imární a sekundární trh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ární tr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hodnější a prestižnější poz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ré podmínky rů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ilnější zaměstnání, frikční nezaměstna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pší platové podmínky a rostoucí mz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lné a efektivní odb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pší pracovní morál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kundární tr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kundární t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ižší presti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ižší nerostoucí mz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šší fluktuace a nižší stabilita, strukturální a cyklická nezaměstna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éměř nulová možnost kariéry a vstupu na primární tr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Častá období nezaměstna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Ženy, mladí, staří, menšiny, hendikepovaní, nekvalifikovaní, nízké vzděl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lá pracovní morálk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"Do you believe in life after death?" the boss asked one of his employe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"Yes, Sir." the employee repli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"Well, then, that makes everything just fine," the boss went on. "After you left early yesterday to go to your grandmother's funeral, she stopped in to see you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ické pozice sekundárního trh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ácí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tí nádob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luha v restaur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ízký úřed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řadné práce např. v nemoc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jedné firmě mohou koexistovat jak pozice primárního tak sekundárního trh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eorie duálního trhu práce: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imární a sekundární trh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imární a sekundární trh se sami sebou upevňuj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soké a rostoucí mzdy na primárním trhu tlačí na rostoucí produktivitu. Tyto tlaky vyúsťují v potřebu technologicky náročnějšího kapitálu, což podněcuje k „zlepšení“ pracovní síly a poskytuje pracovníkům další příležitosti. Zam-elé jsou motivováni ke školení svých zaměstnanců  a zem-ci jsou motivováni se školit s vidinou vyšších mezd v kvalifikovanější práci. Náklady na školení stabilizují pracovní poz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ízké mzdy na sekundárním trhu netlačí na růst produktivity  - není potřeba modernizace kapitálu, proto produktivita neroste a nečiní tak ani mzdy. Požadavky na znalosti jsou nízké a pracovní síla vzájemně substituovatelná – neexistuje důvod pro zamezení fluktuace pracovníků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ení prostor pro vznik odbo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droje duality trhu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ruktura průmys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zónní výkyv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e: vývoj firemní strukt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lké a stabilní vs. malé a nestabilní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istorické dův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měna po 1890 z ruční práce na tovární výrob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nižení potřeby kvalifikace, vznik potřeby nekvalifikované P-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onopolizace hospodářství, homogenizace pracovní síly. Vznik interních trhů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ledování lenochů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e velkých firmách je sledování zahálky obtížné a nákladné, firmám se vyplatí ad-hoc platit „motivační mzdy“, což spolu s pevně daným karierním žebříčkem vede k vyššímu pracovnímu úsilí a menší fluktua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malých firmách je sledování ulejváků jednoduché a tudíž použití motivační mzdy není potřebn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ciální důsledky segment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luje sociální nerov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tváří bariéry mobility a flexi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ílení heteroge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primární tr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sekundár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á mobilita mezi segme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díly v přístupu k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ůzné zacházení se srovnatelnými typy pracovníků na různých trz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ž vs. ž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symetrie trhu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straně nabídky je možnost strategických voleb omezenější než na straně poptáv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rukturální hendicap pracovní s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islost na prostředcích obži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nkrétní pracovník může být kombinován jen s určitými činnost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mální a neformální trh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ormální – trh oficiálních pracovních příležitostí, kontrolovaný společenskými institucemi a těmi i regulova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formální – mimo kontrolu oficiálních institucí (zejm. finančních a daňových úřadů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edá a černá ekonom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amozásobitelství a domácí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sedská výp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výšení příjmu domác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oj s nezaměstnaností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36520" y="1905120"/>
            <a:ext cx="800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rh práce a politika zaměstnanost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mentace trhu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ormace na Československém trhu práce - hist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 které zemi…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které zemi EU je nejvyšší podíl šedé ekonomiky na HDP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které zemi světa je nejvyšší podíl šedé ekonomiky na HDP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jnižší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172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63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díl šedé ekonomiky na HD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36520" y="1905120"/>
            <a:ext cx="800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díl šedé ekonomiky na HD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36520" y="1905120"/>
            <a:ext cx="800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elikost stínových ekonomik ve světě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unodc.org/unodc/bulletin/bulletin_2000-01-01_1_page009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lok II – deformace na českém trhu práce: historický exkurz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SR – Nástupnický stát R-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vývojově odlišné územní cel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ůmyslově-agrární struk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6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 pr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ůmyslového potenciálu R-U (lehký průmys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spělý západ vs. agrární výc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ziválečný vývo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ekonomické cy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921-1929, krize: 1921-19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kles průmyslové výroby o ¼ - 440 tis nezaměstnaných, pokles nominálních mezd, deflační politika – pokles cen o 40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1924 – konjunktura – 42 tis. n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aměstnaných v roce 1929, zavádění pásové výroby = růst produk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925 – uzákoněna dovolené pro dělnictvo (kolik ?), ale nedodržová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avedení starobního a invalidního pojištění ½ zam-ci + ½ zem-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mocenské a úrazové pojištění (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rušení státních podpora a jejich nahrazení podporami pouze pro dělníky v odbore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930 – velká krize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elká kriz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930 – velká kriz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933 – 920 tis. nezaměstnaných (registrovaných). Odhady – 1,3 mi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+ zkracování úvazků u asi 3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kles nominálních a reálných mez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obní živnostníci vs. pásová výr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odus z měst – problém na venkov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ciální důsledky regionálně diferenciovaná = růst napětí = snazší nástup fašis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I. světová vál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938 – 2/5 průmyslu v sude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íslib poskytnutí 40 tis dělníků pro práci v německých dolech, zemědělství, železničních stavb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eskoslovensko se stalo předním zbrojním a průmyslovým arzenálem Hitl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5.3.1939 – rozpad Českoslovens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protektorátu zavedeno válečné hospodářs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řízení výroby a oběhu zbož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entrální regulace zemědělské výro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ontrola zahr. obchodu a platebního sty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átní řízení cen a mez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irektivní rozmisťování pracovních sil pomocí Ú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ucen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dělový systé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válečný vývo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fiskace majetku – národní sprá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aha o reprivatizaci živností (neuskutečněná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5 – znárodňování velkých kolosů (4. dekrety E.Beneš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un 3 mil. Němců = úbytek cca 2. mil pracovní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ůst mobility, pobídky Volyňským Čechům, Rumunům, Řeků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dostatek pracovních s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7-1948 – další vlna znárodňování – na konci roku 1948 vyráběl soukromý sektor jen 30 % HD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949 -1953 – první pětilet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uštění tržních princip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a hospodářského profilu Českosloven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vidace živnostenského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kriminace při rozmisťování pracovních 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ásobování materiá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átlak (VŠ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ňová poli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lok 1 – segmentace trhu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cký a neoklasický přístup – vyčišťování trhů. w = S x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ie lidského kapitálu – rozdíly ve mzdách jsou dány rozdíly v hodnotě lidského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poklady: racionální chování, dokonalé inform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erální teorie  vs. praktická regu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sledky změ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nik živnostní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voj melouchař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liv mužské pracovní síly do těžkého průmyslu na nekvalifikovaná mí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ženy z domácností do lehkého průmys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ekvalif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ůst nominálních mezd nedoprovázený růstem produktivity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flační t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nik neuspokojené poptávky (odložená z války + nová podpořená  růstem mez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omení stability měny (reforma v roce 195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á mzdová nive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patření sociální politiky 48-8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krácení pracovní do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tová výsta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dělanost obyvatel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populační opat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928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tip na závěr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f a train station is where the train stops and a bus station is where the bus stops, what is a work statio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e trh práce homogenní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genita – podmínka rovnováhy podle klasické teori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uje jen jeden trh prác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 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tolik trhů, kolik je oblastí, odvětví a profes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ITIKA KLASICKÉHO PŘÍSTU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tucionální teo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nitřní trhy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orie duálního trhu práce: segm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droje segmentace pracovního trh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ita a diferenciace požadavků na pracovní mí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ruč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valif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míněny: typem, strukturou ekonomiky (regionální, technologická) + bariéry profesní a prostorové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ita a diferenciace pracovní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cept „lidského kapitálu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MENTACE NA PROFESNÍ, LOKÁLNÍ, INTERNÍ A JINÉ TRHY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b7"/>
                </a:solidFill>
                <a:latin typeface="Arial Black"/>
              </a:rPr>
              <a:t>VERTIKÁLNÍ SEGMENTACE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bavení obecné variability části pracovníků + omezení nejisto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liv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chnická a sociální organizace pracovních procesů (tvorba primárního a sekundárního trh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stitucionálními pravidly a dohodami mezi sociálními partnery a státními intervencemi na trhu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kriminací různých skupin pracov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xplicitní – insideři  vs. outsideř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mplicitní – pohlaví, věk, rasa, sociální třída, délka praxe a nezaměstna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úplné a nákladné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ledání práce firmami i zaměstnanci je spojeno s náklady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stitucionální teorie T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nik 40. léta – rozvoj odborů a kolektivního vyjedná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zda se stala administrativní, netrž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výsledkem vědomého lidského rozhodnutí, nikoliv neosobních tržních s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ory nahradily tržní sí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bídka a poptávka se přizpůsobují mzdě a ne naop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ory jsou politická nikoliv ekonomická sí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tlačovan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zda se stává nástrojem pro zajištění loajality pracovníků a veřejného mínění, symbolem vítězství či prohry v souboji odborů a manageme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le a cíle odborů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nik – maximalizace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y – vícedimenzionální cíl – spravedlnost a rovnost, ekonomický blahoby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bory pouze v roli ag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ximalizovat nelze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aká je tedy mzdová politika odborů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bory bojují za mzdy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pravedlivě srovnateln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ci (ale i zaměstnavatelé) srovnávají mzdy s podobnými zaměstnanci jin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le institucionalistů je srovnání důležitější než samotná výše mez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terní a interní trh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3616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oklasická teorie – kontinuální soutěž všech zaměstnanců a zaměstnavatel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rmy nekladou překážky tržním sil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ysoká mobilita mezi firma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axe ! Nečelíme každodenní možnosti být nahrazen někým kdo má stejnou kvalifikaci a nižší mzdové nárok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terní – Uvnitř jednotlivých podni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ní trhem v pravém slova smys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zda je výsledkem administrativních předpisů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 of entry“ – kontakt s externím tr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zda podléhá pravidlům a tradicím v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arierní žebříč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ypicky Japonsko, v EU např. Něme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xterní – Konkurence mezi podniky i zaměstna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dpovídá neoklasické teor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terminuje mzdu na „Port of entry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ypicky USA, v EU Francie, 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8:58:02Z</dcterms:created>
  <dc:creator>paleta</dc:creator>
  <dc:description/>
  <dc:language>en-US</dc:language>
  <cp:lastModifiedBy>paleta</cp:lastModifiedBy>
  <dcterms:modified xsi:type="dcterms:W3CDTF">2007-03-05T15:08:32Z</dcterms:modified>
  <cp:revision>13</cp:revision>
  <dc:subject/>
  <dc:title>Trh práce a politika zaměstnanosti</dc:title>
</cp:coreProperties>
</file>