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E8FB-F9EA-463D-B9DD-B1EF6FA63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0316-AAFD-443D-B9CB-E131B82A4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D619-BC95-45BD-90E7-C4F88FA1E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3D5E-4F85-4AD6-97DD-778504A2D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20711-B12F-4E08-8B9C-74F588C9B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3A433-5554-4F2C-AA32-61B19021B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D4FEA-2B38-47BA-BE57-5C349E444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61972-387E-4E3D-882A-F43CAFF67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AD40A-328F-4F5D-B8F3-C448E39F1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2EF3B-D4D9-4BB4-8139-A5344A33A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33F9A-AAA2-4005-A9F7-A9461A8BD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6148-BEA1-4D9E-83C1-9D4310626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707F9-D016-4741-B8B1-495A42A0E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7F96C-B9E9-4321-BDA9-7244D3A57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7F947-F97B-48B9-A819-791F25703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634B4-9054-40CF-BC99-13617762F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610B7-73AA-4ABE-B334-CD64E3761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BA78-83E3-4FB6-AB8A-8594C88B1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D7EA-CDE8-47B1-B050-42D3C3F28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109E-880A-42AA-AD01-90BCAB047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5B02-72F7-49B7-8C99-3917821CA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A265-76B5-4585-A085-7E4866E7E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0CF8-223A-47F1-A8E9-D2DA09D8D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C70F-0DCE-4FB0-8E10-32D2DF852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paleta.ic.cz/foto/kenya/index_2.htm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paleta.ic.cz/foto/kenya/index_2.htm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Hallo164_643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2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F7F26-A50B-4749-8586-2F7F348021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Hallo164_643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  <p:grpSp>
        <p:nvGrpSpPr>
          <p:cNvPr id="52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3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A9391-7B0C-438B-8B40-92D7F34B20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Trh práce a politika zaměstnanosti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řednáška 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litika zaměstnanosti v ČR (2/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74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74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74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hybička se vloudila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ba studia se do náhradní doby započte maximálně v délce 6 měsíců 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ké jsou sociální dávky po vyloučení z ÚP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Zaměstnávání osob se zdravotním postižením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soby plně invalid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Daňové výhody, příspěvky, dotace, vyšší podíl v povinnémplnění 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soby částečné invalidní (dříve ZP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daňové výho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soby zdravotně znevýhodněné(dříve též ZP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Dlouhodobě nepříznivý zdravotní stav omezuje možnosti uplatnění stávající kvalifik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b7"/>
                </a:solidFill>
                <a:latin typeface="Arial Black"/>
              </a:rPr>
              <a:t>Podpora zdr. postižených osob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racovní rehabilit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Chráněná pracovní mí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Dohoda s Ú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inimálně 2 rok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Příspěvek na zřízení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8 (10) resp. 12(14) násobek průměrné mzdy v H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I pro postiženou OSV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Příspěvek na provo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Chráněné díln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růměrný roční přepočet zaměstnanců minimálně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0%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říspěvek na podporu zaměstnávání osob se zdravotním postižení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árokový, pokud zaměstnává více než 50% zdravotně postižený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b7"/>
                </a:solidFill>
                <a:latin typeface="Arial Black"/>
              </a:rPr>
              <a:t>Povinný podíl zaměstnanců se zdr. postižením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Každý zaměstnavatel, který zaměstnává více než 25 zaměstnanc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ovinný podíl je 4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žnosti plně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zaměstnáváním osob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říklad: zaměstnavatel má povinnost zaměstnávat 5 osob ZP, zaměstnává v PP dva plně invalidní důchodce, kteří odpracovali 3200 a fond pracovní doby je 2032 ho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3200:2032 = 1,57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1,574*3=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4,7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odebíráním výrobků a služeb od za-elů, kteří zaměstnávájí min. 50% nebo chráněných dílen, OSVČ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odvodem do státního rozpočt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ve výši 2,5 násobku průměrné mzdy v NH za 1.-3. čtvrtlet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ovinný podíl se nevztahuje na zaměstnávání vojáků z povolání, policie, Český báňský úřad a obvodní báňské úřady – pokud jde o práci báňských inspektorů. Místa volbou a jmenování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Náhradní plnění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očet osob se zdravotním postižením se vypočte tak, že z celkového objemu plateb, uskutečněných za výrobky, služby nebo zakázky, které zaměstnavatel odebral od PO a FO, které zaměstnávají více naž 50% zdr. post., se odečte DPH a výsledná částka se vydělí sedminásobkem průměrné měsíční mzdy v NH za 1.-3. čtvrtletí sledovaného roku, vyhlášené MPS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zaměstnavatel odebral od družstva invalidů služby v hodnotě 1 680 000 Kč (bez DPH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18 000 *7=126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1 680 000 / 126 000 = 13.3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??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volte, prosím, u nás si každý může kupovat a prodávat, co je mu libo. Nikdo ho přece nenutí, aby z té pistole střílel. Ovšem zároveň mu také nikdo nemůže zakázat, aby z ní vystřelil. To by bylo neodpustitelné omezování svobody podnikání. U nás má každý právo podnikat, co uzná za vhodné. Navíc jakýkoli zákaz v této oblasti by byl porušením výlučných práv policie. Ta přece existuje proto, aby bojovala proti zločincům. Kdyby zločinci přestali páchat zločiny, policie by ztratila svůj smysl, policajti by přišli o dobrá místa, byli by bez práce, vzrostla by nezaměstnanost a rovnováha naší společnosti by byla poruše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!!! NEZNÁLEK NA MĚSÍCI !!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http://neznalek0.tripod.com/Neznalek_na_Mesici_obsah.ht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ktivní politika zaměstnanosti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rekvalifik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investiční pobíd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eřejně P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polečensky účelná prac. mís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ro vyhrazené osoby (např absolvent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řeklenovací příspěv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říspěvek na dopravu zaměstnanc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říspěvek na zapracován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říspěvek na přechod na nový podnikatelský progr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oradenstv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odpora zam. osob se zdrav. postižení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cílené programy k řešení nezaměstnanos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6T08:06:16Z</dcterms:created>
  <dc:creator>paleta</dc:creator>
  <dc:description/>
  <dc:language>en-US</dc:language>
  <cp:lastModifiedBy>paleta</cp:lastModifiedBy>
  <dcterms:modified xsi:type="dcterms:W3CDTF">2007-04-16T11:20:37Z</dcterms:modified>
  <cp:revision>4</cp:revision>
  <dc:subject/>
  <dc:title>Trh práce a politika zaměstnanosti</dc:title>
</cp:coreProperties>
</file>