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53A-C6ED-4EF2-B1D1-884DBEF5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E73-1825-409B-B97E-1FA608A6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02F-B71A-4A22-A61C-DC50F745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AB2-0492-461D-856F-D57D84BA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E2A4-5C18-4833-8F83-9DC0C483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F0EB-DD46-420F-9425-918BE959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9510-928F-47B2-84C6-31617CD2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DB18-BB79-4844-A9F4-9740F490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1A0B-1B35-478D-95A7-95ADD459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AE83-1637-4A84-AA7D-5463F366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6EC5-D6D6-4697-A6DE-14BCD620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AB7-D6E2-4E0F-9E90-679B25DC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9DA7-FED4-49F4-932A-8B669DD5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DFCC-9CA2-4502-B48A-645074E5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D302-2D81-4BAD-B6E6-D0E5D2F3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10B4-C9D7-47AB-877A-BA12A502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AD5C-2458-4EC3-A991-CBE5E8B6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7A5-1C0E-41C7-B69D-3F336E9E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193-BB18-40D9-8663-946D7202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F92-DF24-4900-9E63-8269C956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C87-E45C-497F-B418-E6A54418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A7A-0E54-4FD1-A87E-A40D86A6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62C-3D75-438B-8E6F-10F28356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9BD-E1A1-42F2-8B3E-0566756C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552D-2742-4CDB-8AA5-91AF73546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3C7F-6722-4F7B-9E47-7AEB89AD8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rh práce a politika zaměstnanosti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náška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ka zaměstnanosti v ČR (1/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krytá diskriminace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abízíme práci v mladém dynamickém tým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–  taková nabídka signalizuje, že zaměstnavatel může při výběru diskriminovat na základě věku a odmítnout uchazeče a uchazečky starší 30 l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ožadujeme ochotu pracovat bez ohledu na č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nebo „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ožadujeme absolutní časovou flexibilit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nebo „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yžadujeme maximální pracovní výk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– z tohoto textu lze vyčíst, že zaměstnavatel může skrytě nabízet místo pouze mužům nebo ženám s odrostlými dětmi, popřípadě že namísto nebudou přijímány mladé ženy, u nichž se předpokládá (bez ohledu na realitu) starost o dě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ožadujeme uchazeče s praxí max. 3 ro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– jinými slovy řečeno: „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ledáme mladé uchazeče tak kolem 21 až 24 let a předpokládáme rovněž, že žena tohoto věku bude bezdětn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ávo na zaměstnání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§ 10 - §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ovněprávní vztahy (zák. práce) X OSVČ (živ. zák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 X zahranič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ní povinnost být zaměstnan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ní povinnost se registrovat na Ú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 povinnost platit zdravotní pojišt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ůchodové pojišt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 zakázáno činit nabídky k zaměstnán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jící diskriminační charak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jsou v souladu s pracovněprávními předpi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rují dobrým mravů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Švarcsysté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 nebo FO je povinna  plnění běžných úkolů vyplývající z její činnosti zajišťovat vlastními zaměstnan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anovená povinnost neplatí, zajišťuje-li běžné úkoly PO nebo F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ama, s pomocí manžela/ky, dětí a společní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časně přidělenými zaměstnanci agentury (nesmí pracovat na dohodu o provedení prá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věří jinému zaměstnavate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1.1. – je tento paragraf vyškrtnut. Částečně bude nahrazeno v zákoně č. 251/2005 Sb., o inspekci práce, a v zákoníku prá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Zprostředkování práce Ú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§18-§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celém území ČR + zahraničí (EU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ezplat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P hledá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hodné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kládá povinnost odvádět pojistné na důchodové pojištění a příspěvek na st. pol. zam. (ne dohody o P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élka pracovní doby + délka pracovního pomě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chazeč o zaměstná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Uchazečem se může stát osoba, která nen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osoba v prac. práv. vztahu (s vyjímkam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OSV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polečníkem nebo jednatele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lenem představenstva, členem dozorčí rady, členem družstva, jehož mzda činí min. 5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 m.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oud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oslanec a senátor PČ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lenem zastupitelstva (s odměnou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rezid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len vlád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len NK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eř. ochránce práv a jeho zástup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ředitel B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len RRT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ucený správ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ěstounem v zařízení pro výkon pěst. péč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osoba výdělečně činná v cizin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osoba soustavně se připravující na budoucí povolán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chazečem se nemůže stát F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očasně neschopná 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rest odnětí svobody nebo vaz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bírá peněžitou pomoc v mateřství v době před porodem a 6 týdnů po poro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plně invalid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ní poměr v souběhu s eviden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o ½ týdenní prac. do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o ½ min. mz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smí být na překážku při zprostředkování zaměstn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končení evidence v Ú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stupem do zaměstn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ísemnou žádos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stupem výkonu trestu odnětím svo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úmrtím nebo prohlášením za mrtvé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yřazení z evidence Ú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tala některá ze skutečnosti bránící v zařazení nebo evidenci uchazečů o zaměstnání s výjimkou pracovní neschopnosti, peněžní pomoci v mateřství nebo vykonává trest odnětí svo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ní schopen plnit povinnosti při zprostředkování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ve vazbě po dobu delší než 6 měsíc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rušil souhlas se zpracováním osobních údaj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ykonává nelegální prá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yřazení ve správním říze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ud uchazeč bez vážného důvo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mítne nastoupit do vhodného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mítne nastoupit na dohodnutou rekvalifikaci nebo se neúčastní ve stanoveném rozsa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lní podmínky stanovené individuálním akčním plán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mítne se podrobit vyšetření zdravotního 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ří součinnost s Ú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ným způsobem zmaří nástup do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vinnost hlášení volných pracovních míst zaměstnavate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10 dnů + 10 dnů po obsaz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Zákonné normy upravující politiku zaměstna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ákon č. 435/2004 Sb. o zaměstnanosti ve znění pozdějších předpisů (novelizace 382/2005 Sb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řízení vlády č. 515/2004 Sb. o hmotné podpoře na vytváření nových pracovních mí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yhláška č. 519/2004 Sb. O rekvalifikaci uchazečů o zaměstnání a zájemců o zaměstnání a o rekvalifikaci zaměstnanc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odpora v nezaměstnanosti a podpora při rekvalifikaci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§36 - §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árok na podporu v nezaměstna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osledních 3 letech alespoň 12 měsíců vykonával výdělečnou činnost (s povinnost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ísemně požád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smí být poživatelem starobního důchod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i nároků na výsluhový příspěvek a za službu činí podpora jejich rozd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pora při rekvalifika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musí se žád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smí být poživatelem star. důchod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dpora je poskytována po celou dobu rekvalifikace, pokud nepobírá star. důchod, dávky nemocenského poj. a nebo je ve vezb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ální výše podpory v nezaměstnanosti činí 0,58násobek průměrné mzdy v národním hospodářství za I. až III. čtvrtletí kalendářního roku předcházejícího kalendářnímu roku, ve kterém byla podána žádost o podporu v nezaměstnanos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ální výše podpory při rekvalifikaci činí 0,65násobek průměrné mzdy v národním hospodářství za I. až III. čtvrtletí kalendářního roku předcházejícího kalendářnímu roku, ve kterém uchazeč o zaměstnání nastoupil na rekvalifikac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áhradní doba zaměstná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kud uchazeč nedoloží dobu odpracovanou, počítá se do předchozího zaměstnání náhradní do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prava osob se zdravotním postižením k prá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lný invalidní důc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sobní péče o dítě do 4 let a do 18 let, jeli dlouhodobě zdravotně postižen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sobní péče o převážně nebo úplně bezmocnou osobu do 80. let, která s uchazečem trvale žije a společně uhrazují náklady na domácnost, nejde-li o osobu blízk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kon dlouhodobé dobrovolnické služby v rozsahu překračujícím v průměru 20 hodin týdně na základě smlouvy vysílající organizace (která byla akreditována MV) a dobrovolní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Zákon o zaměstnanosti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ompatibilní s právem 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íle zákon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tírání nelegální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chrana proti nezaměstna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incipy zákon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přesnění a zpřísnění podmínek při zprostředkovávání zaměstnání úřad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měna podmínek pro zařazení a vedení b evidenci Uo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měna výše a délky podp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Úprava částečné zaměstna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avidla pro agenturní zaměstná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vé nástroje aktivní politiky zaměstna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stavení občanů E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chrana dětí při umělecké, kulturní, sportovní a reklam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měny při zaměstnávání cizinc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zšíření kontrolních pravomoci Ú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yšší san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jmy v zákoně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§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dentifikační úd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ydlišt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žné dův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éče o dítě do 4 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éče o TZP do 18 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éče o převážně nebo úplně bezmocnou osobu do 80. let, která s uchazečem trvale žije a společně uhrazují náklady na domácnost, nejde-li o osobu blízk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oustavná příprava na budoucí povolá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legální prá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kud FO nevykonává práci na základě pracovněpravního vztahu nebo jiné smlouvy nejde-li o osobu uvedenou v § 13 odst. 3 písm. a) + cizi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kuta pro zam-ce i zam-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Zajímavé změny v zákoně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30. 9. bylo možné uzavřít s pracovní agenturou smlouvu, která se nazývá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hoda o provedení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Z té nevyplývá povinnost odvádět pojistné (zdravotní a sociální). Dnes to již možné není, a proto přichází pro studenty v úvahu tzv. dohoda o pracovní činnosti, která účast na sociálním pojištění zakládá a započítává se jako doba odpracovaná nejen pro účely výpočtu důchodu, ale i pro splnění podmínky výplaty podpory v nezaměstnanosti. Výše úvazku dohody o pracovní činnosti je omezena na 20 odpracovaných hodin týdně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íklad: přijmete brigádu na 3 dny, uzavřete s agenturou smlouvu, ta vás musí přihlásit do systému sociálního a zdravotního pojištění, pak musí zjistit, kolik činí srovnatelná mzda zaměstnanců firmy, kam vás posílá, zpracovat s vámi výpověď, protože student nesmí být zaměstnán na dobu určitou, a nakonec vy odvedete 12,5 % ze mzdy na pojistném a agentura dalších 35 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dé, kteří absolvovali střední nebo vysokou školu a nenašli práci, již nemohou dostat podporu v nezaměstnanosti, pokud v posledních třech letech neodpracovali alespoň dvanáct měsíců. Do této doby se jim budou započítávat veškeré brigády během studia stvrzené alespoň dohodou o pracovní činnost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oufat ovšem nikdo nemusí, ani nepracující studenti, protože jsou absolventům namísto toho vypláceny sociální dáv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ybraná ustanovení zákona o zaměstna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vné zacházení a zákaz diskrimin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§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+ Zákon o mzdě + zákoník prá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Je zakázána přímá i nepřímá diskriminace na základě: pohlaví, sexuální orientace, rasového nebo etnického původu, národnosti, státního občanství, věku, náboženství, majetku, rodinného stavu nebo povinností k rodině, politického nebo jiného smýšlení, členství a činnosti v politických stranách, odborech nebo organizacích zaměstnavatelů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a diskriminaci se nepovažuje rozdílné zacházení, pokud to vyplývá z povahy zaměstnání nebo v souvislosti s ním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Diskriminací není odmítnutí ženy na práce, které jsou ženám zakázan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Diskriminací není odmítnutí občana na místo, kde je podmínky státního občanství Č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a diskriminaci nelze považovat zákonem stanovená opatření zvýhodňující některé skupi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kriminace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ímá a nepřím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ěžování: jednání, které je vnímáno druhou osobou jako nevítané nebo urážlivé a jehož záměr nebo důsledek vede ke snížení důstoj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ální obtěžování – cílem je narušení důstojnosti osoby, vytváří se zastrašující, nepřátelské, ponižující nebo urážející prostřed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řad práce a diskriminace (§139 a §14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jištěná diskriminace může vést k pokut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krimin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kriminačními inzeráty jsou nabídky tohoto zněn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ledám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ředitele...vedoucího propagace...asistentku...prodavačku...sekretářku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dobné formulace v rozporu se zásadou rovnosti nenabízejí pracovní pozice oběma pohlavím, přičemž ženám jsou obvykle vyhrazeny nabídky pozic s nižší rozhodovací pravomocí, ap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lším příkladem jsou inzeráty, které diskriminují nejen na základě pohlaví, ale neoprávněně ve svých textech požadují splnění dalších předpokladů. Napříkla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 naši mladou dynamicky se rozrůstající firmu hledám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ladé muže ve věku do 35 let…mladé ženy do 30 l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.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ženy s odrostlými dětmi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.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ezdětné že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uže bez závazků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..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e absolventy atd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kriminačním inzerátem nejsou texty tohoto zněn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 divadelní roli Romea hledám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ladého muže ve věku do 30 let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 předvádění dívčí módní konfekce hledám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ladou ženu ve věku do 30 let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 pracovní pozici kojná hledám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ojící ženu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7:21:36Z</dcterms:created>
  <dc:creator>paleta</dc:creator>
  <dc:description/>
  <dc:language>en-US</dc:language>
  <cp:lastModifiedBy>paleta</cp:lastModifiedBy>
  <dcterms:modified xsi:type="dcterms:W3CDTF">2007-04-02T14:27:30Z</dcterms:modified>
  <cp:revision>8</cp:revision>
  <dc:subject/>
  <dc:title>Trh práce a politika zaměstnanosti</dc:title>
</cp:coreProperties>
</file>