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F5E-0460-43F2-A1D0-1D097AE7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B30-7D7A-499F-A2AB-1DD531A2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DD7-3306-4716-8194-4A82DA2E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117-59FE-453C-903E-045732F4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3481-C9FB-4215-BD3E-D620F570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5D51-6D0B-453A-8A30-C67860CD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BEE1-ADDA-4D57-B43C-5C0BFC8A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D9C7-1DF8-476A-98F6-3B5170AA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678D-8A5B-47B4-8E28-9AD7C92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7A94-CD41-480B-ADB7-3FC7C4C6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ED96-A574-480B-ABA5-E43B496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6C1-C100-4969-9060-52B66A87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6919-49D3-4795-B3FC-DD3AA1C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9B52-7BC4-478A-976F-871B3212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59C5-7F51-4438-B25D-5EEB8630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4E13-3A56-4000-9B05-4994BA3D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947B-ADCD-4C80-A32F-CB6B8F08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6FB-1EDD-4DED-8D07-40263D16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F9F-8E3D-4BEA-A422-4C457917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129-638B-4591-B991-026BBAE3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BB0-8E87-4F76-99A5-D20E5437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292-6B68-4381-9A4B-BBDCCEA5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494-2E50-4C49-B063-F10D5B8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70D-A8D7-45DE-AF76-098C12A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EE43-1794-4BD4-8AE1-2D280C51183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3F4A-9F3F-49CA-8A89-73CD87522CD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ybrane.Cile.eCesko.doc/" TargetMode="External"/><Relationship Id="rId2" Type="http://schemas.openxmlformats.org/officeDocument/2006/relationships/hyperlink" Target="file:///Ministerstvo%20informatiky%20&#268;R%20P&#345;&#237;klady%20informa&#269;n&#237;ch%20koncepc&#237;.mht" TargetMode="External"/><Relationship Id="rId3" Type="http://schemas.openxmlformats.org/officeDocument/2006/relationships/hyperlink" Target="file:///Ministerstvo%20informatiky%20&#268;R%20P&#345;&#237;klady%20informa&#269;n&#237;ch%20koncepc&#237;.mht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Ekonomicke_analyzy.doc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heacsi.org/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Gov.a.statistika.EU.doc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online_availability_2006.pdf" TargetMode="External"/><Relationship Id="rId2" Type="http://schemas.openxmlformats.org/officeDocument/2006/relationships/hyperlink" Target="file:///online_availability_2006.pdf" TargetMode="External"/><Relationship Id="rId3" Type="http://schemas.openxmlformats.org/officeDocument/2006/relationships/hyperlink" Target="file:///online_availability_2006.pdf" TargetMode="External"/><Relationship Id="rId4" Type="http://schemas.openxmlformats.org/officeDocument/2006/relationships/hyperlink" Target="file:///online_availability_2006.pdf" TargetMode="External"/><Relationship Id="rId5" Type="http://schemas.openxmlformats.org/officeDocument/2006/relationships/hyperlink" Target="file:///Benchmarking_EU_a_CR.doc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3.org/TR/1999/WAI-WEBCONTENT-19990505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eUSER.doc" TargetMode="External"/><Relationship Id="rId2" Type="http://schemas.openxmlformats.org/officeDocument/2006/relationships/hyperlink" Target="http://www.demo-net.org/" TargetMode="External"/><Relationship Id="rId3" Type="http://schemas.openxmlformats.org/officeDocument/2006/relationships/hyperlink" Target="http://www.demo-net.org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eGEP.doc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icr.cz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Podklady/Dotaznik_v11_PVS_ISSS_2006.Anketa.MICR.pdf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Podklady/Vysledky.ankety.MICR.doc" TargetMode="External"/><Relationship Id="rId2" Type="http://schemas.openxmlformats.org/officeDocument/2006/relationships/hyperlink" Target="file:///Podklady/E-podani_20060715.pdf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-democracy.gov.uk/" TargetMode="External"/><Relationship Id="rId2" Type="http://schemas.openxmlformats.org/officeDocument/2006/relationships/hyperlink" Target="http://www.e-democracy.gov.uk/" TargetMode="External"/><Relationship Id="rId3" Type="http://schemas.openxmlformats.org/officeDocument/2006/relationships/hyperlink" Target="http://www.e-democracy.gov.uk/" TargetMode="External"/><Relationship Id="rId4" Type="http://schemas.openxmlformats.org/officeDocument/2006/relationships/hyperlink" Target="http://www.e-democracy.gov.uk/" TargetMode="External"/><Relationship Id="rId5" Type="http://schemas.openxmlformats.org/officeDocument/2006/relationships/hyperlink" Target="http://www.e-democracy.gov.uk/" TargetMode="External"/><Relationship Id="rId6" Type="http://schemas.openxmlformats.org/officeDocument/2006/relationships/hyperlink" Target="http://www.e-democracy.gov.uk/" TargetMode="External"/><Relationship Id="rId7" Type="http://schemas.openxmlformats.org/officeDocument/2006/relationships/hyperlink" Target="http://www.citizenspace.co.uk/" TargetMode="External"/><Relationship Id="rId8" Type="http://schemas.openxmlformats.org/officeDocument/2006/relationships/hyperlink" Target="http://www.citizenspace.co.uk/" TargetMode="External"/><Relationship Id="rId9" Type="http://schemas.openxmlformats.org/officeDocument/2006/relationships/hyperlink" Target="http://www.citizenspace.co.uk/" TargetMode="External"/><Relationship Id="rId10" Type="http://schemas.openxmlformats.org/officeDocument/2006/relationships/hyperlink" Target="http://www.citizenspace.co.uk/" TargetMode="External"/><Relationship Id="rId11" Type="http://schemas.openxmlformats.org/officeDocument/2006/relationships/hyperlink" Target="http://itc.napier.ac.uk/" TargetMode="External"/><Relationship Id="rId12" Type="http://schemas.openxmlformats.org/officeDocument/2006/relationships/hyperlink" Target="http://itc.napier.ac.uk/" TargetMode="External"/><Relationship Id="rId13" Type="http://schemas.openxmlformats.org/officeDocument/2006/relationships/hyperlink" Target="http://itc.napier.ac.uk/" TargetMode="External"/><Relationship Id="rId14" Type="http://schemas.openxmlformats.org/officeDocument/2006/relationships/hyperlink" Target="http://itc.napier.ac.uk/" TargetMode="External"/><Relationship Id="rId15" Type="http://schemas.openxmlformats.org/officeDocument/2006/relationships/hyperlink" Target="http://itc.napier.ac.uk/" TargetMode="External"/><Relationship Id="rId16" Type="http://schemas.openxmlformats.org/officeDocument/2006/relationships/hyperlink" Target="http://itc.napier.ac.uk/" TargetMode="External"/><Relationship Id="rId17" Type="http://schemas.openxmlformats.org/officeDocument/2006/relationships/hyperlink" Target="http://itc.napier.ac.uk/" TargetMode="External"/><Relationship Id="rId18" Type="http://schemas.openxmlformats.org/officeDocument/2006/relationships/hyperlink" Target="http://itc.napier.ac.uk/" TargetMode="External"/><Relationship Id="rId19" Type="http://schemas.openxmlformats.org/officeDocument/2006/relationships/hyperlink" Target="http://www.demo-net.org/" TargetMode="External"/><Relationship Id="rId20" Type="http://schemas.openxmlformats.org/officeDocument/2006/relationships/hyperlink" Target="http://www.demo-net.org/" TargetMode="External"/><Relationship Id="rId21" Type="http://schemas.openxmlformats.org/officeDocument/2006/relationships/hyperlink" Target="http://www.demo-net.org/" TargetMode="External"/><Relationship Id="rId22" Type="http://schemas.openxmlformats.org/officeDocument/2006/relationships/hyperlink" Target="http://www.demo-net.org/" TargetMode="External"/><Relationship Id="rId2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411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lektronická veřejná správa a její hodnocení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55640" y="3828960"/>
            <a:ext cx="4032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VKVSO - přednáška č. 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paceko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@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con.muni.cz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uben 200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Elektronická veřejná správa - bariéry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říklady bariér praxe idejí e-gov / e-demokracie (argumenty infoskeptiků)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Finanční barié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eochota se reformova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dílení da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incip dosažitelnost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atímco mnoho kandidátů politických stran využívá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 propagaci svých idejí ICT, zůstává zde otázka, zda tito kandidáti zůstanou "on-line" i po svém zvolení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ovný přístup k IT zatím nikde neexistuje (= DIGITAL DIVIDE) - ESTONSKO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ight to access to the Internet (2000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ysoké náklady přístupu k 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čítačová gramotnost (VS i občanů) (ECDL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45A-DB01-4EFF-9A08-7C2B33C32B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Informační labyrint a nedostatečný informační managemen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esign webových stránek subjektů veřejné správ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Uživatelé internetu</a:t>
            </a:r>
            <a:br>
              <a:rPr sz="22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"Internet = neseriózní prostředí, bez závazků a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zodpovědnosti."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ŠPATNÉ PLÁNOVÁNÍ - </a:t>
            </a:r>
            <a:r>
              <a:rPr b="1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e-Česko 2006 a jeho cíle v oblasti elektronické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fr-FR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informační koncepc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ff3300"/>
                </a:solidFill>
                <a:uFillTx/>
                <a:latin typeface="Arial"/>
              </a:rPr>
              <a:t>(DÚ 1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žadavky legislativy předpokládají e-připravenost (VS i adresátů), která nemusí v praxi existovat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DOSTATEČNÁ POZORNOST FÁZI PŘÍPRÁVY VEŘEJNÝCH PROJEKTŮ A NÁSLEDNÉHO HODNOC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DOSTATEČNÁ ANALÝZA CIZÍCH ZKUŠENOST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Elektronická veřejná správa - bariéry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E5E-5D7D-4D02-8B57-07DA2C3EAA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Hodnocení eVS – obecn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ezbytná složka jakéhokoliv procesu řízen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hodnocení eGOV - místo střetávání tradičních prvků VS a manažerismu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ELZE SEPAROVAT OD ŘÍZENÍ VE V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klasifikace podl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fáze elektron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ývoj - příprava - realizace - ukončení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hodnocené úrovně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ikro vs. makro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subjektu, který provád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) objektu hodnocení ..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62C-6A8D-4E16-8A9F-FCA18C2728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Hodnocení eVS – obecn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8487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3E3-CB72-4EC6-9FAA-F3CBBA6BC0D1}" type="slidenum">
              <a:t>13</a:t>
            </a:fld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Hodnocení eVS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důležitost a klasif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 současné praxi hodnocení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- tři základní skupiny </a:t>
            </a:r>
            <a:r>
              <a:rPr b="1" lang="cs-CZ" sz="3200" spc="-1" strike="noStrike" u="sng">
                <a:solidFill>
                  <a:srgbClr val="292929"/>
                </a:solidFill>
                <a:uFillTx/>
                <a:latin typeface="Arial"/>
              </a:rPr>
              <a:t>navzájem komplementárních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 metod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ekonomické analýzy veř. projektů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b) kvality e-VS či jejích prvků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c) statistické měření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9DD-5F8C-45F5-A761-64B1AD022A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. Ekonomické analýzy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ecné charakteristiky a problémy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eorií doporučována kombinace analýzy typu CBA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x ante, in media res a ex po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ecné problémy projektového management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především přípravné fáz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kace cílů, potenciálních přínosů a nákladů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elaci k současnému stavu + předpokl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kace reálných přínosů a náklad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opady, které nejsou snadno definovatelné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tož vyjádřitelné kvantitativně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ámci ex post analýzy otázka: za jak dlouho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DF6-4C6C-4F65-A1B8-B4B70FD306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. Ekonomické analýzy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KRÉTNÍ METODIK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ECD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JENÉ KRÁLOVSTV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etoda "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usiness case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orsko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oject benefits &amp; results - Indicators for use in th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øykom programm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2005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přínosů, které proklamují navrhovatel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rojek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y se týkají především N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ustrál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E-Government Benefits Stud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2003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řada úřadů neměří poměr přínosy/náklady adekvátně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specifickým případem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nalýzy RIA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v USA od r. 1981,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IA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-Government Ac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of 2002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aperwork Reduction Ac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of 1995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f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odel IDEF a propočítávání nákladů AB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OPIS NĚKTERÝCH MET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BBF-6D9E-4EB9-8DEF-6B3E059E7F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Indexy spokojenosti uživatelů a kvalita webu - </a:t>
            </a:r>
            <a:r>
              <a:rPr b="1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CS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http://www.theacsi.org/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698508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21A-1856-4326-9DDC-3EA7290252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Kvalita ve veřejné správě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z minu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a negotiated concept“*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cs-CZ" sz="3000" spc="-1" strike="noStrike">
                <a:solidFill>
                  <a:srgbClr val="292929"/>
                </a:solidFill>
                <a:latin typeface="Arial"/>
              </a:rPr>
              <a:t>požadavky:</a:t>
            </a:r>
            <a:br>
              <a:rPr sz="3000"/>
            </a:b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ideálně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analýzy strany poptávk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komunikace/ konzultace/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kooperace + síťování poptávky a nabídky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inkluzivnosti/demokratizac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D-M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SWOT analýzy ve vztah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k poptáv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rozmanitost a volba a současně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odpovědnost za výsledek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C49-66A4-4F55-BE69-7AFC819803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zjištění "best practice"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předpoklady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srovnatelnost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stupnost dat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periodicita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eVS a předmět hodnocení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odoba elektronického poskytování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lužby (design a struktura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náklady a přínosy poskytování služb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využití elektronického poskytování služb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E5A-C910-48B6-818C-1E5D4F48A3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1) E-Government a E-Govern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2) e-Demokraci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3) Elektronická veřejná správa - bariéry prax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4) Hodnocení eVS – obecný rámec a přístupy k hodnocení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5) Hodnocení eVS v Č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053-8EF1-4120-90DC-2EBF325501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OBECNÉ NEDOSTATKY SOUČASNÉHO BENCHMARKINGU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oužíván převážně nebo výhradně pro porovnání kvantity, spíše než kva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E-readiness" se vztahuje především k občanům a podnikatelským subjektům, než k veřejné správě a její back-office (MALÝ POČET OBCÍ!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mpirická šetření se mohou týkat aktivit, které nejsou výslovnou součástí povinností 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019-CBFB-4C5B-AEAC-65E2ADE533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 A STATISTIKA eGOV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národ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statistika reaguje na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ožadavky </a:t>
            </a:r>
            <a:br>
              <a:rPr sz="26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mezi-/nadnárodních instituc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ŮSLEDK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imenze vlády a její backoffice nen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 indikátorech hlouběji zahrnut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-government jen specifickou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rozvinutou součástí praxe informač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LE !!! - použité otázky mohou být modifikovány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o účely hodnocení e-gov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8D2-4218-4341-89FD-FF3171105F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 eEUROP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2 oblasti: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sofistikovanosti poskytovaných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základních elektronických služeb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odel navržený v roce 200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axe indikátorů iniciativy eEurop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listopadu 2000 vytvořen seznam 23 indikátorů, které měly stavět na zkušenostech OEC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→ </a:t>
            </a: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DOTAZNÍKY EUROSTA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Rámec pro hodnocení i21010 byl přijat v únoru 2006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v dokumentu </a:t>
            </a:r>
            <a:r>
              <a:rPr b="1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i2010 Benchmarking Framewor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DOSAVADNÍ METODA – CO, JAK, K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EA1-5A7C-472F-941F-CBB87834BE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74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práva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(6.)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měření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 Online Availability of Public Services: How is Europe Progressing?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čer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n 2006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sledky upozorňují na výrazný rozdíl mez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spělostí služeb určených podnikatelský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ubjektům (které ve většině států překračují úroveň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voustranné interakce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 službami pro občany (u nichž i nadále řada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lužeb nedosáhla ani interakce jednosměrné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ově tzv.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ountry fil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Č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postihuje hlouběji oblast poptávky po jednotlivých službá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právu doplňují studie postihující především období 2005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jekt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enchmarking in a Policy Perspectiv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715-280D-4AE2-8BAF-7B45B34E05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 MAJÍ DOPLNIT VÝSTUPY DALŠÍCH PROJEKT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-378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Breaking Barriers to e-Gover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dosavadním výstupem je především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práva o analýze institucionálních a legislativních překáže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) selhání vedení v rámci řetězce implement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2) finanční (nepatřičná analýza nákladů a užitků nemu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halit nezbytné zdroje v této oblasti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3) digital divides (z důvodu nedostateč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ovednostech, přístupu, znalostech a využití)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4) slabá koordinace (relevantní u služeb, jejichž realizac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eterminuje činnost více úřadů)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5) pracovní a organizační nepružnos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6) nedostatek důvěr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7) nedostatečný technický des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288-BEFF-47F7-A355-DEECA9FE71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 MAJÍ DOPLNIT VÝSTUPY DALŠÍCH PROJEKT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Accessibility of public sector services in the European Union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stopad 2005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) průzkumu, který se týkal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litik vztahujících se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k přístupnosti online veřejných služe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osloveni pouze političtí poradci z každé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členského státu, kteří byli dotazováni na národní strategie, 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právní rámec, opatření pro monitoring, uvědomění, školení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nástroje a jiné oblasti jako např. certifikační systém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2) hodnocení souladnosti se standardy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CA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CB8-D147-4741-98E2-654B2C3CF6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 MAJÍ DOPLNIT VÝSTUPY DALŠÍCH PROJEKT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US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červnu 2004 byl přijat rámcový dokument pro vyhodnocování potřeb v oblasti eGovernment, jehož součástí je i relativně komplexní analytický rámec poptávky po e-government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METODA A VÝSLEDKY – ZDE_x000b_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DEMO-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ne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www.demo-net.org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95E-9DBD-4520-8394-78A33027AA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 eEUROP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ejaktuálnější iniciativ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GEP (!!!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ámec měř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ychází opět spíše z pohledu nabídky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bídka musí reflektovat poslání institu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jaký je vztah mezi posláním a poptávkou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určujícím počátečním stavem je u navrhovaných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indikátorů stav elektronický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METODA POPSÁNA Z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GOV a STATISTIKA OEC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9D7-C63B-42EB-85AB-E695E7CE4B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yhodnocování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-governmentu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hodnocení účinnosti spadá pod obecnou povinnost vymezenou v § 4 odst. 1 písm a) zákona o ISV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povinnost vyhledávat, zpracovávat, ukládat a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vytvářet nové informace, které jsou znalostní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základnou pro kvalitní vytváření a rozvoj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informačních systémů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í výsledky hodnocení lze ve velmi omezené míře nalézt na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ebu ministerst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 webu MICR i odkazy na výstupy ČSÚ a některých vybraných zahraničních instituc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astaral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E87-82BF-41F7-8F38-97CAE761D5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15788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) E-Government a E-Governa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ový fenomén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tavící na praxi soukromého sektoru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PM i GG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ISVS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prostředek k uskutečňování myšlenek, jež jsou obsahem těchto termínů; technickou stránkou věci, termínem užším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ynonyma či slova odlišná ? 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ŽDY PROKLAMACE TYPU zjednodušení, urychlení, zlevnění ... či souhrnně „zkvalitnění“ činností/vztah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1) uvnitř veřejné správy,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uvnitř jednotlivého subjektu veřejné správy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mezi jednotlivými subjekty veřejné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2) subjekt veřejné správy ↔ adresát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15D-ADA1-4431-A0ED-17425886B2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ficitní je hodnocení obsažené v již v obsahově zastaralém dokumentu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Ministerstvo informatiky a rozvoj informační společnosti v České republice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2005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odklady\Micr_brozura_CZ_2005.pdf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 oblasti počítačové gramotnosti se opírá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o výsledky výzkumu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E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8/2005), nikoliv ČSÚ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???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E2E-6163-4B03-8068-486E46CDB4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ckým předmětem hodnocení ministerstvem je předevší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ortál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- výsledky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nket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o znalosti jeho funkcional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v březnu a dubnu 2006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oslovila účastníky konference ISSS 2006, uživatel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portálu a návštěvníky webu ministerstv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vyhodnocovány odpovědi 143 respondent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anketa se týkala také kvalitativních aspektů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jednotlivých prvků, avšak pouze v oblasti mapov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lužeb (přehlednost, dostatečnost nabídky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34A-043E-40BA-8459-8E497BAB73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- výsledky ankety o znalosti jeho funkcionalit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NELZE SOUHLASIT SE ZÁVĚREM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„Prezentované výsledky ankety vypovídaj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 všeobecné znalosti funkcionalit Portálu veřejn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právy“ (str. 13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OTOŽ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zorek respondentů není široký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 publikovaných výsledcích není blíže popsána struktur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espondent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není tudíž zřejmé, kolik z nich je expertních účastník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konference, a kolik z nich konkrétních uživatelů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VYBRANÉ VÝSLEDKY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yužití transakčních prvků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portál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0DB-90C0-4AA0-BD92-E1437A14F0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tatisti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obchodování subjektů veřejné správy prostřednictvím služby e-tržiště (IC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tatisti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praxe e-podpis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užití NPP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užití e-learningu na P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užití projektu testování znalostí pro ECDL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 ČR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výhradním držitelem licence je zde Česká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nost pro kybernetiku a informatiku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 konci ledna 2007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upozorňovalo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dostatečnou praxi v oblasti povinně zveřejňovaných informací a e-podatel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DROJ INFORMAC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985-4CFC-4D7C-87B9-610C847687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) ČESKÝ STATISTICKÝ ÚŘ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stitucionálně položeny základy v r. 200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yní v kompetencích skupiny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ěda, výzkum, informační technologi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ámec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 ohledem na uvedené cíle plánované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hodnocení ve srovnání s dosavadní prax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Eurostatu či OECD širš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osavadní praxe měření je však velmi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OMEZENÁ 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658-15DA-4F6F-A416-AE868D710A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) ČESKÝ STATISTICKÝ ÚŘ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uhrnné výsledky měření byly publikovány v dokumentu </a:t>
            </a: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Informační společnost v číslech 200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očenka nepostihuje užití prvků e-government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jednotlivci a domácnostm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čenk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oplňují (také v oblasti poptávky) až výsledky měření jiný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e 2.čtvrtletí 2006 šetření využívání ICT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 domácnostech a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ezi jednotlivci založené na měření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Eurostat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armující to, že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51,9 %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populace ve věku 16 a více let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má žádné znalosti práce s PC  a větší procent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55,3 % - žádné znalosti práce s internetem , 55,6 %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uživatelů internetu má základní znalosti práce s ní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94C-F386-4EC4-B7C5-64956A41E5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) ČESKÝ STATISTICKÝ ÚŘ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čenk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oplňují (také v oblasti poptávky) až výsledky měření jiných*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Užití ICT podnikatelskými subjekty (s 5 a víc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aměstnanci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stihuje měření zohledňující situaci k ledn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otenciál e-governmentu pro nabídku veřejných služeb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e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trany veřejné správ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e výsledcích diskutabil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astaralost + hodnocení se týká většinou obc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 500+ obyvatelů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aktuálnějším výstupem v této oblasti je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růzkum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obsahu webových stránek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 veřejné správě ze zář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rpna 2006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YBRANÉ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DROJ INFORM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ABC-DEDA-41C8-B42D-5AED4563CD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STE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áří 2006 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ublikované výsledky výzkumu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yužívání informačních zd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http://www.statnisprava.cz/ebe/firma.nsf/iboardvypisweb/2E004B16AF/$File/zz_ebe.pdf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2CE-296A-43F0-81D3-380431D521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ěření obsahu webu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 hledisk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tevřenosti procesu rozhodování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tikorupčních nástrojů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formací o osobní odpovědnosti představitel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např. záznamy jednání, záznamy hlasování, přehled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řejných zakázek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or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benchmarkingového nástroj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pro hodnocení preventivní (kontrolní, protikorupční) působení zveřejněných inform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iciativa hodnocení e-připravenosti pro praxi principu otevřenosti a průhled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etoda popsána zde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http://www.otevrete.cz/files/doc/Metodika%2005-10-31.do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ředmětem vyhodnocování výslovně nemají být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až na nepatrné výjimky) povinně zveřejňované inform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23A-6DD9-4D61-955D-E3A0EE189B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ředpoklá, že to, co úřady musejí zveřejnit povinně, zveřejňuj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čelem hodnocení je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aměřit se na „nadstandardní informac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, z hlediska zákona nepovinné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tzn. zaměřit se n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ktivity, které vycházejí z iniciativ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amotných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ubjektů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blemat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?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chodiskem tvrzení, že každá věc (rozhodnutí) je charakterizovatelná těmito paramet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typ dokumentu či informac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kd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c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kom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za kolik (objem veřejných prostředků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) za jakých dalších podmínek (výhody, závazky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g) proč (odůvodně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588-545C-4ECF-B3DE-7E462D1093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ECD a e-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2133720"/>
            <a:ext cx="766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-government je více o vládě než o "e"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umožňuj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měnit kulturu vlády, je nástrojem pro reformu a zároveň cílem reformy V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-government by mělo být nepřetržitým procesem zdokonalování vlády, spíše než pouhým digitalizováním služe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EF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"využití ICTs, a to obzvláště Internetu, jako nástroje pro dosažení lepší vlády = konkrétně zejména dosažen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lepších politických výsledků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šší kvality služeb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ětšího vtahování občanů do veřejného rozhodování (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tím posílení kontroly, boje s korupcí ..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9EB-0468-4D56-B272-6DE1FD427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ublikované informace hodnoceny podle kritérií tří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“úrovní obsažnosti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1) existenc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da požadovaný dokument na webu vůbec existuje, 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to bez ohledu na to, zda srozumitelně obsahuje jádr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ěci a podstatný rozsah věc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2) jádro věc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3) podstatný rozsah věc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ŽADAVEK PRAXE "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RINCIPU AKTIVNÍHO ZVEŘEJNĚNÍ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":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okument se považuje za zveřejněný jen tehdy, pokud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o na webu lze najít poměrně snadno a logicky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hodnocení založeno n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rincipu b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429-D8C7-4C2C-8760-BF806CC2D6D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Z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ýznamné dokumenty (informace)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Infoliga považuje výslovně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rozpoče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trategický rozvoj obce / kraj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úřední desku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úplný přehled veřejných zakázek a příjmy zřizovan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rganizace od povinného subjektu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Tyto dokumenty (informace) musejí být zveřejn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ýslovně, a to s tímto či srozumitelně příbuzným názvem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6C6-38A1-4E2A-B02B-B2A5249FC3B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YCHÁZÍ VŠAK ZE SUBJEKTIVITY HODNOTITELE, kterou se autoři iniciativy snaž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li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redukovat namátkovou kontrolou pravdivosti získaných odpovědí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292929"/>
                </a:solidFill>
                <a:latin typeface="Arial"/>
              </a:rPr>
              <a:t>V úvodní fázi průzkumu byla celkem sebrána data o 142 subjektech, a to za všechny kraje (14), všechna „okresní“ města (71), dále výběr z měst, obcí a městských částí. Průzkum proběhl od října 2004 do konce září 2005, většina webů byla zkoumána v srpnu a září 2005. U 15% zkoumaných webů byla provedena namátková následná kontrola správnosti vložených údajů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odnocení tak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nem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ělo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formu externího auditu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ředpoklád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lo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pravdivost informací od hodnocených úřadů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SOUHRNNÉ VÝSLEDKY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A52-91CF-4819-B0A6-BCA2DFC875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http://www.otevrete.cz/index.php?lng=CZ&amp;akce=rubrika&amp;rubrikaid=9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) Otevřená společnost, o. p. s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utěž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tevřeno Zavřeno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neanonymních nominací veřejností, které posuzuj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orota deseti odborníků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vní cenu za charakteristiku “zavřeno” dostal v roce 2006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ředitel Krajského úřadu JMK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ližší informace zde: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ttp://www.otevrete.cz/index.php?akce=clanek&amp;id=39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172-7008-4D69-9076-B50A936B12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) Zlatý Erb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ttp://zlatyerb.obce.cz/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G) Dokument z Úřadu vlády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99 - 2006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H)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EZINÁRODNÍ/NADNÁRODNÍ HODNOCE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1F5-03CA-414A-9882-1BA70F36CA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DÚ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do všeho se podív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okomentovat kvalitu hodnocení e-VS v Č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etod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mět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okomentovat výsled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 ohledem na cíle e-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kvalitu zpráv o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okomentovat nedostatky CZ-CASE vzhledem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 praxi zahraničního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47A-D03E-4D59-B7B2-BA2958284C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DÚ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výstupy dosavadních hodnocení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MI ČR a ČSÚ - abyste byli schopni 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NA ZÁKLADĚ VÝŠE UVEDENÉHO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okomentov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a) hodnocenou fázi elektronizace</a:t>
            </a:r>
            <a:br>
              <a:rPr sz="2300"/>
            </a:b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vývoj - příprava - realizace - ukončení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b) hodnocené úrovně </a:t>
            </a:r>
            <a:br>
              <a:rPr sz="2300"/>
            </a:b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mikro vs. makro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c) objekt hodnocení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d) použitou metodu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e) výsledky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ZDROJ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119-C789-411D-99E3-B4B987618A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DÚ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Jaké služby (včetně transakčních) umožňuje současný PV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949-CEE0-40A1-8D52-8DCAD2E1E7E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ECD a e-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 CUSTOMER FOCUS (= USER-FRIENDLY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-government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snaha, aby uživatel nemusel chápat komplex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ládních struktur a vztahů pro to, aby mohl být v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terakci s vládou = zpřístupnit vládu, která s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eví jako sjednocená organizace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např. i "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sharing of  document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DPOVĚDNOS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vs. dělba prác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 vyžaduj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olupráci uvnitř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forma FRONT-OFFICE, BACK-OFFICE..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653-FA73-464D-B060-03A84DE9C5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y definic e-government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e-governanc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557360"/>
            <a:ext cx="828036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Česká (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aktuální + ZASTARALÁ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átní informační a telekomunikační politik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e-Česko 2006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vláda chápe pojem e-government jako transformaci vnitřních a vnějších vztahů veřejné správy pomocí ICT s cílem optimalizovat interní procesy. Jejím cílem je pak rychlejší, spolehlivější a levnější poskytování služeb veřejné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dříve bylo jen státní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správy nejširší veřejnosti a zajištění větší otevřenosti veřejné správy ve vztahu ke svým zákazníkům. Totéž se očekává i od samospráv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necháno, ale spadá to pod pojem VS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Hlavním cílem e-governmentu je zvýšení výkonnost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dříve účinnosti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státní správ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ponecháno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, které by mělo přispět především ke zjednodušení aktivit veřejnosti při styku s veřejnou správou..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5FC-FC5C-4ED4-BE9D-B73F941A7132}" type="slidenum">
              <a:t>6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veřejná správa jako e-služba (v širokém slova smys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ýchodiskem princip </a:t>
            </a: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veřejná správa jako služba občanům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→ aby tento princip fungoval v elektronické podobě. Konkrétní podoby - např.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3564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4D9-0336-4691-B9F9-0E605BA10E4D}" type="slidenum">
              <a:t>7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2) e-Demokra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tendence většího vtahován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řejnosti do procesu rozhodování a formování veřejných politik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-inclusion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ílem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"zničit virtuální Berlínskou zeď mezi reprezentovanými a reprezentanty„ (Colema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KLAMOVANÝ TREND ELIMINACE TZV.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DEMOKRATICKÉHO DEFICITU 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DIGITAL DIVI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980-DA38-4D17-B7BC-4E71604533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2) Ideální podoba e-Demokracie 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(vize pohledem infooptimisty / e-snílk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čan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někdy "kybernauti" -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cybernaut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 mají širší možnost podílet se na rozhodování ve veřejných záležitostech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jednotlivé části veřejné správy a ostatní složky veřejné moci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yužívají systémově IT k zabezpečení vzájemné koordinace a komunikace v celém spektru svých činnost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íklady iniciativ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e-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democracy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gov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uk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://www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citizenspace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co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uk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http://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itc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napier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ac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uk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demo-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net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or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5EC-87CF-4EFB-B110-3AC6A2D62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06:29:36Z</dcterms:created>
  <dc:creator>Eman</dc:creator>
  <dc:description/>
  <dc:language>en-US</dc:language>
  <cp:lastModifiedBy>77120</cp:lastModifiedBy>
  <dcterms:modified xsi:type="dcterms:W3CDTF">2007-04-17T05:56:51Z</dcterms:modified>
  <cp:revision>483</cp:revision>
  <dc:subject/>
  <dc:title>ELEKTRONIZACE VEŘEJNÉ SPRÁVY:   IDEJE E-GOVERNMENT,  E-GOVERNANCE,  E-DEMOCRACY A JEJICH PRAXE</dc:title>
</cp:coreProperties>
</file>