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FE79-7770-4085-9D40-AF9798A04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5159-9765-4376-8CE0-202C4868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29CA-8877-49E6-B07F-BECA1B5D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4DEE-5608-4E8E-9750-F3BB293E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C69D-897C-4C6E-BCC4-0E792808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8431-EA55-4F42-A005-996E758A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44E3-C0BB-4849-8BAA-3BF03915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F2D3-041E-41D3-9969-416691FB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3440-0EF9-4D75-BC78-EDD84898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E68D-2FD0-4495-ADCB-F68F9D9A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1B6F-FBBA-4789-93C3-2AB9A232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200B-DFC2-4341-BE07-8322EB34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2529-F353-429A-8EFE-D805E9F9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C9F2-50C0-46F8-A3F9-2969C56D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020D-3C35-4D2E-8786-F913DCD2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D0AF-7F04-488D-82AF-20EEC69A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C427-7D41-4632-9966-85ED11A3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1026-B327-4A16-85D4-A7373B7C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7D9F-05EC-4F02-9D0A-6571FC5C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E7A9-86ED-4B5E-8E79-06D76426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ECB1-F97A-4C5D-B21C-3DF2F636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FA49-CE2A-4DD2-A5AE-A7E46295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8A9-B621-4E77-B5AF-F908EFB4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E0DD-CAAC-446C-B369-718341DE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A1E7-8094-4BD7-ADCA-6922F19E5DFF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A964-A256-4266-8079-6B912E8738B7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Vybrane.Cile.eCesko.doc/" TargetMode="External"/><Relationship Id="rId2" Type="http://schemas.openxmlformats.org/officeDocument/2006/relationships/hyperlink" Target="file:///Ministerstvo%20informatiky%20&#268;R%20P&#345;&#237;klady%20informa&#269;n&#237;ch%20koncepc&#237;.mht" TargetMode="External"/><Relationship Id="rId3" Type="http://schemas.openxmlformats.org/officeDocument/2006/relationships/hyperlink" Target="file:///Ministerstvo%20informatiky%20&#268;R%20P&#345;&#237;klady%20informa&#269;n&#237;ch%20koncepc&#237;.mht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Ekonomicke_analyzy.doc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theacsi.org/" TargetMode="Externa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Gov.a.statistika.EU.doc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online_availability_2006.pdf" TargetMode="External"/><Relationship Id="rId2" Type="http://schemas.openxmlformats.org/officeDocument/2006/relationships/hyperlink" Target="file:///online_availability_2006.pdf" TargetMode="External"/><Relationship Id="rId3" Type="http://schemas.openxmlformats.org/officeDocument/2006/relationships/hyperlink" Target="file:///online_availability_2006.pdf" TargetMode="External"/><Relationship Id="rId4" Type="http://schemas.openxmlformats.org/officeDocument/2006/relationships/hyperlink" Target="file:///online_availability_2006.pdf" TargetMode="External"/><Relationship Id="rId5" Type="http://schemas.openxmlformats.org/officeDocument/2006/relationships/hyperlink" Target="file:///Benchmarking_EU_a_CR.doc" TargetMode="External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w3.org/TR/1999/WAI-WEBCONTENT-19990505/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eUSER.doc" TargetMode="External"/><Relationship Id="rId2" Type="http://schemas.openxmlformats.org/officeDocument/2006/relationships/hyperlink" Target="http://www.demo-net.org/" TargetMode="External"/><Relationship Id="rId3" Type="http://schemas.openxmlformats.org/officeDocument/2006/relationships/hyperlink" Target="http://www.demo-net.org/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eGEP.doc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micr.cz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Podklady/Dotaznik_v11_PVS_ISSS_2006.Anketa.MICR.pdf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Podklady/Vysledky.ankety.MICR.doc" TargetMode="External"/><Relationship Id="rId2" Type="http://schemas.openxmlformats.org/officeDocument/2006/relationships/hyperlink" Target="file:///Podklady/E-podani_20060715.pdf" TargetMode="Externa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-democracy.gov.uk/" TargetMode="External"/><Relationship Id="rId2" Type="http://schemas.openxmlformats.org/officeDocument/2006/relationships/hyperlink" Target="http://www.e-democracy.gov.uk/" TargetMode="External"/><Relationship Id="rId3" Type="http://schemas.openxmlformats.org/officeDocument/2006/relationships/hyperlink" Target="http://www.e-democracy.gov.uk/" TargetMode="External"/><Relationship Id="rId4" Type="http://schemas.openxmlformats.org/officeDocument/2006/relationships/hyperlink" Target="http://www.e-democracy.gov.uk/" TargetMode="External"/><Relationship Id="rId5" Type="http://schemas.openxmlformats.org/officeDocument/2006/relationships/hyperlink" Target="http://www.e-democracy.gov.uk/" TargetMode="External"/><Relationship Id="rId6" Type="http://schemas.openxmlformats.org/officeDocument/2006/relationships/hyperlink" Target="http://www.e-democracy.gov.uk/" TargetMode="External"/><Relationship Id="rId7" Type="http://schemas.openxmlformats.org/officeDocument/2006/relationships/hyperlink" Target="http://www.citizenspace.co.uk/" TargetMode="External"/><Relationship Id="rId8" Type="http://schemas.openxmlformats.org/officeDocument/2006/relationships/hyperlink" Target="http://www.citizenspace.co.uk/" TargetMode="External"/><Relationship Id="rId9" Type="http://schemas.openxmlformats.org/officeDocument/2006/relationships/hyperlink" Target="http://www.citizenspace.co.uk/" TargetMode="External"/><Relationship Id="rId10" Type="http://schemas.openxmlformats.org/officeDocument/2006/relationships/hyperlink" Target="http://www.citizenspace.co.uk/" TargetMode="External"/><Relationship Id="rId11" Type="http://schemas.openxmlformats.org/officeDocument/2006/relationships/hyperlink" Target="http://itc.napier.ac.uk/" TargetMode="External"/><Relationship Id="rId12" Type="http://schemas.openxmlformats.org/officeDocument/2006/relationships/hyperlink" Target="http://itc.napier.ac.uk/" TargetMode="External"/><Relationship Id="rId13" Type="http://schemas.openxmlformats.org/officeDocument/2006/relationships/hyperlink" Target="http://itc.napier.ac.uk/" TargetMode="External"/><Relationship Id="rId14" Type="http://schemas.openxmlformats.org/officeDocument/2006/relationships/hyperlink" Target="http://itc.napier.ac.uk/" TargetMode="External"/><Relationship Id="rId15" Type="http://schemas.openxmlformats.org/officeDocument/2006/relationships/hyperlink" Target="http://itc.napier.ac.uk/" TargetMode="External"/><Relationship Id="rId16" Type="http://schemas.openxmlformats.org/officeDocument/2006/relationships/hyperlink" Target="http://itc.napier.ac.uk/" TargetMode="External"/><Relationship Id="rId17" Type="http://schemas.openxmlformats.org/officeDocument/2006/relationships/hyperlink" Target="http://itc.napier.ac.uk/" TargetMode="External"/><Relationship Id="rId18" Type="http://schemas.openxmlformats.org/officeDocument/2006/relationships/hyperlink" Target="http://itc.napier.ac.uk/" TargetMode="External"/><Relationship Id="rId19" Type="http://schemas.openxmlformats.org/officeDocument/2006/relationships/hyperlink" Target="http://www.demo-net.org/" TargetMode="External"/><Relationship Id="rId20" Type="http://schemas.openxmlformats.org/officeDocument/2006/relationships/hyperlink" Target="http://www.demo-net.org/" TargetMode="External"/><Relationship Id="rId21" Type="http://schemas.openxmlformats.org/officeDocument/2006/relationships/hyperlink" Target="http://www.demo-net.org/" TargetMode="External"/><Relationship Id="rId22" Type="http://schemas.openxmlformats.org/officeDocument/2006/relationships/hyperlink" Target="http://www.demo-net.org/" TargetMode="External"/><Relationship Id="rId2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54116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lektronická veřejná správa a její hodnocení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355640" y="3828960"/>
            <a:ext cx="40323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VKVSO - přednáška č. 4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avid Špače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pacekov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@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con.muni.cz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uben 2007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) Elektronická veřejná správa - bariéry pra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Příklady bariér praxe idejí e-gov / e-demokracie (argumenty infoskeptiků):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Finanční bariér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Neochota se reformova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dílení da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rincip dosažitelnosti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atímco mnoho kandidátů politických stran využívá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 propagaci svých idejí ICT, zůstává zde otázka, zda tito kandidáti zůstanou "on-line" i po svém zvolení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Rovný přístup k IT zatím nikde neexistuje (= DIGITAL DIVIDE) - ESTONSKO 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right to access to the Internet (2000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Vysoké náklady přístupu k 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očítačová gramotnost (VS i občanů) (ECDL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8124-E573-4CE2-A838-48906A8777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Informační labyrint a nedostatečný informační management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Design webových stránek subjektů veřejné správy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Uživatelé internetu</a:t>
            </a:r>
            <a:br>
              <a:rPr sz="2200"/>
            </a:b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"Internet = neseriózní prostředí, bez závazků a 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zodpovědnosti."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ŠPATNÉ PLÁNOVÁNÍ - </a:t>
            </a:r>
            <a:r>
              <a:rPr b="1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e-Česko 2006 a jeho cíle v oblasti elektronické veřejné správ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fr-FR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informační koncepc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000" spc="-1" strike="noStrike" u="sng">
                <a:solidFill>
                  <a:srgbClr val="ff3300"/>
                </a:solidFill>
                <a:uFillTx/>
                <a:latin typeface="Arial"/>
              </a:rPr>
              <a:t>(DÚ 1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ožadavky legislativy předpokládají e-připravenost (VS i adresátů), která nemusí v praxi existovat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EDOSTATEČNÁ POZORNOST FÁZI PŘÍPRÁVY VEŘEJNÝCH PROJEKTŮ A NÁSLEDNÉHO HODNOCE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EDOSTATEČNÁ ANALÝZA CIZÍCH ZKUŠENOST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) Elektronická veřejná správa - bariéry pra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6792-8251-46D1-993D-B33D83C616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) Hodnocení eVS – obecný rá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-38052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nezbytná složka jakéhokoliv procesu řízení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hodnocení eGOV - místo střetávání tradičních prvků VS a manažerismu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NELZE SEPAROVAT OD ŘÍZENÍ VE VS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klasifikace podle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fáze elektronizace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vývoj - příprava - realizace - ukončení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hodnocené úrovně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mikro vs. makro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c) subjektu, který provádí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d) objektu hodnocení ..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21D0-5373-4CD6-9E20-33B05F3C68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) Hodnocení eVS – obecný rá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848720" cy="48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3D26-3639-480B-9D97-FF704CEE0CCB}" type="slidenum">
              <a:t>13</a:t>
            </a:fld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) Hodnocení eVS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- důležitost a klasifik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V současné praxi hodnocení</a:t>
            </a:r>
            <a:br>
              <a:rPr sz="3200"/>
            </a:b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- tři základní skupiny </a:t>
            </a:r>
            <a:r>
              <a:rPr b="1" lang="cs-CZ" sz="3200" spc="-1" strike="noStrike" u="sng">
                <a:solidFill>
                  <a:srgbClr val="292929"/>
                </a:solidFill>
                <a:uFillTx/>
                <a:latin typeface="Arial"/>
              </a:rPr>
              <a:t>navzájem komplementárních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 metod</a:t>
            </a:r>
            <a:br>
              <a:rPr sz="3200"/>
            </a:b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a) ekonomické analýzy veř. projektů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b) kvality e-VS či jejích prvků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c) statistické měření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E419-3874-45B9-A038-36D758C088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. Ekonomické analýzy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69992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obecné charakteristiky a problémy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teorií doporučována kombinace analýzy typu CBA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ex ante, in media res a ex pos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obecné problémy projektového managementu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především přípravné fáz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ecifikace cílů, potenciálních přínosů a nákladů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relaci k současnému stavu + předpoklad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ecifikace reálných přínosů a náklad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opady, které nejsou snadno definovatelné,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natož vyjádřitelné kvantitativně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rámci ex post analýzy otázka: za jak dlouho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306B-F60A-4D38-8A6A-8B0A8787A8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. Ekonomické analýzy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8960" y="169992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ONKRÉTNÍ METODIK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ECD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POJENÉ KRÁLOVSTV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metoda "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business cases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Norsko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Project benefits &amp; results - Indicators for use in the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Høykom programm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2005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ychází z přínosů, které proklamují navrhovatelé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projekt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analýzy se týkají především N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Austráli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E-Government Benefits Stud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2003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„řada úřadů neměří poměr přínosy/náklady adekvátně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) specifickým případem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analýzy RIA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v USA od r. 1981,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RIA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a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E-Government Ac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of 2002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Paperwork Reduction Act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of 1995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f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model IDEF a propočítávání nákladů ABC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POPIS NĚKTERÝCH METO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6AD0-9868-475C-9229-D614F2CB1C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. Hodnocení kvality a e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Indexy spokojenosti uživatelů a kvalita webu - </a:t>
            </a:r>
            <a:r>
              <a:rPr b="1" lang="cs-CZ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ACSI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(http://www.theacsi.org/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16000" y="2565360"/>
            <a:ext cx="6985080" cy="381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19E3-692A-40E6-8F57-6529AA5699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Kvalita ve veřejné správě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z minu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07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a negotiated concept“*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– </a:t>
            </a:r>
            <a:r>
              <a:rPr b="0" lang="cs-CZ" sz="3000" spc="-1" strike="noStrike">
                <a:solidFill>
                  <a:srgbClr val="292929"/>
                </a:solidFill>
                <a:latin typeface="Arial"/>
              </a:rPr>
              <a:t>požadavky:</a:t>
            </a:r>
            <a:br>
              <a:rPr sz="3000"/>
            </a:br>
            <a:r>
              <a:rPr b="1" i="1" lang="cs-CZ" sz="3200" spc="-1" strike="noStrike">
                <a:solidFill>
                  <a:srgbClr val="292929"/>
                </a:solidFill>
                <a:latin typeface="Arial"/>
              </a:rPr>
              <a:t>ideálně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zásada analýzy strany poptávky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zásada komunikace/ konzultace/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kooperace + síťování poptávky a nabídky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zásada inkluzivnosti/demokratizace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D-M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zásada SWOT analýzy ve vztahu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k poptávce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rozmanitost a volba a současně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odpovědnost za výsledek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27CC-95D1-49DA-A265-281AA4F6F6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. Hodnocení kvality a e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BENCHMARKING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zjištění "best practice"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předpoklady: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srovnatelnost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přístupnost dat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c) periodicita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eVS a předmět hodnocení: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podoba elektronického poskytování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služby (design a struktura)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náklady a přínosy poskytování služby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c) využití elektronického poskytování služby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..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0B36-F96E-422D-BAAA-CCD459F947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16280"/>
            <a:ext cx="766116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1) E-Government a E-Governan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2) e-Demokraci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3) Elektronická veřejná správa - bariéry prax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4) Hodnocení eVS – obecný rámec a přístupy k hodnocení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5) Hodnocení eVS v Č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5C28-967E-4EE7-896E-9B94BFABD1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. Hodnocení kvality a e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OBECNÉ NEDOSTATKY SOUČASNÉHO BENCHMARKINGU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oužíván převážně nebo výhradně pro porovnání kvantity, spíše než kvalit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"E-readiness" se vztahuje především k občanům a podnikatelským subjektům, než k veřejné správě a její back-office (MALÝ POČET OBCÍ!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empirická šetření se mohou týkat aktivit, které nejsou výslovnou součástí povinností V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C2A1-86A1-4628-8C17-8C8DF3A526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. Hodnocení kvality a e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BENCHMARKING A STATISTIKA eGOV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národní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statistika reaguje na 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požadavky </a:t>
            </a:r>
            <a:br>
              <a:rPr sz="2600"/>
            </a:b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mezi-/nadnárodních institucí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DŮSLEDKY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imenze vlády a její backoffice není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 indikátorech hlouběji zahrnut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e-government jen specifickou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 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erozvinutou součástí praxe informační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polečnost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LE !!! - použité otázky mohou být modifikovány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pro účely hodnocení e-gov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6305-8D36-4FEB-85B5-00FB312DDD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. Hodnocení kvality a e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-384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BENCHMARKING eEUROPE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2 oblasti: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lvl="1" marL="764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míra sofistikovanosti poskytovaných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  základních elektronických služeb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64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model navržený v roce 2001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64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praxe indikátorů iniciativy eEurope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listopadu 2000 vytvořen seznam 23 indikátorů, které měly stavět na zkušenostech OEC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64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→ </a:t>
            </a:r>
            <a:r>
              <a:rPr b="0" lang="cs-CZ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DOTAZNÍKY EUROSTAT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64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Rámec pro hodnocení i21010 byl přijat v únoru 2006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v dokumentu </a:t>
            </a:r>
            <a:r>
              <a:rPr b="1" lang="cs-CZ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i2010 Benchmarking Framewor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64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DOSAVADNÍ METODA – CO, JAK, KD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2BAF-3F0E-44F9-9D3F-99DD4C2D73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CHMARKING eEUROPE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lvl="1" marL="74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ÝSLEDKY MĚŘE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6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zpráva</a:t>
            </a:r>
            <a:r>
              <a:rPr b="0" lang="en-US" sz="22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 (6.) </a:t>
            </a:r>
            <a:r>
              <a:rPr b="0" lang="en-US" sz="22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měření</a:t>
            </a:r>
            <a:r>
              <a:rPr b="0" lang="en-US" sz="22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 Online Availability of Public Services: How is Europe Progressing?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červ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n 2006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746280" indent="-369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ýsledky upozorňují na výrazný rozdíl mezi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spělostí služeb určených podnikatelským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ubjektům (které ve většině států překračují úroveň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voustranné interakce)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 službami pro občany (u nichž i nadále řada 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lužeb nedosáhla ani interakce jednosměrné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6280" indent="-369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nově tzv.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ountry files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”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Č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6280" indent="-369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nepostihuje hlouběji oblast poptávky po jednotlivých službá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6280" indent="-369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právu doplňují studie postihující především období 2005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rojekt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Benchmarking in a Policy Perspectiv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EF6D-F30D-4B3E-89F9-B625CCB9B4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CHMARKING eEUROPE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764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ÝSLEDKY MĚŘENÍ MAJÍ DOPLNIT VÝSTUPY DALŠÍCH PROJEKT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64280" indent="-378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Breaking Barriers to e-Governm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64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dosavadním výstupem je především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zpráva o analýze institucionálních a legislativních překážek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64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1) selhání vedení v rámci řetězce implementa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2) finanční (nepatřičná analýza nákladů a užitků nemus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dhalit nezbytné zdroje v této oblasti)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3) digital divides (z důvodu nedostatečnost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dovednostech, přístupu, znalostech a využití)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4) slabá koordinace (relevantní u služeb, jejichž realizaci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eterminuje činnost více úřadů)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5) pracovní a organizační nepružnost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6) nedostatek důvěr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7) nedostatečný technický desig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4B93-D4F5-4428-A87B-53396AB39A3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CHMARKING eEUROPE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ÝSLEDKY MĚŘENÍ MAJÍ DOPLNIT VÝSTUPY DALŠÍCH PROJEKT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eAccessibility of public sector services in the European Union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istopad 2005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1) průzkumu, který se týkal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olitik vztahujících se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  k přístupnosti online veřejných služeb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osloveni pouze političtí poradci z každého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členského státu, kteří byli dotazováni na národní strategie,  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právní rámec, opatření pro monitoring, uvědomění, školení a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nástroje a jiné oblasti jako např. certifikační systém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2) hodnocení souladnosti se standardy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CA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11C4-4CFB-4122-88F6-FBA55A15A7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CHMARKING eEUROPE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ÝSLEDKY MĚŘENÍ MAJÍ DOPLNIT VÝSTUPY DALŠÍCH PROJEKT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eUS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červnu 2004 byl přijat rámcový dokument pro vyhodnocování potřeb v oblasti eGovernment, jehož součástí je i relativně komplexní analytický rámec poptávky po e-government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METODA A VÝSLEDKY – ZDE_x000b_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DEMO-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net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(www.demo-net.org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33BE-1DBD-491E-B940-BEF097DBB16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CHMARKING e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BENCHMARKING eEUROPE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6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ejaktuálnější iniciativa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eGEP (!!!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rámec měře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ychází opět spíše z pohledu nabídky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abídka musí reflektovat poslání instituce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jaký je vztah mezi posláním a poptávkou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určujícím počátečním stavem je u navrhovaných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indikátorů stav elektronický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METODA POPSÁNA ZD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eGOV a STATISTIKA OEC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79F-538E-4308-824A-D5C0AE7F645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Vyhodnocování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e-governmentu v Č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) MINISTERSTVO INFORMATIKY (MV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hodnocení účinnosti spadá pod obecnou povinnost vymezenou v § 4 odst. 1 písm a) zákona o ISVS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povinnost vyhledávat, zpracovávat, ukládat a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vytvářet nové informace, které jsou znalostní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základnou pro kvalitní vytváření a rozvoj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informačních systémů veřejné 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Konkrétní výsledky hodnocení lze ve velmi omezené míře nalézt na 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ebu ministerstva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na webu MICR i odkazy na výstupy ČSÚ a některých vybraných zahraničních instituc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astaralé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3A3C-EEC1-4E63-A94A-34CCB116228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15788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) E-Government a E-Governan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Nový fenomén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stavící na praxi soukromého sektoru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a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NPM i GG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ISVS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prostředek k uskutečňování myšlenek, jež jsou obsahem těchto termínů; technickou stránkou věci, termínem užším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Synonyma či slova odlišná ? </a:t>
            </a:r>
            <a:br>
              <a:rPr sz="2200"/>
            </a:b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ŽDY PROKLAMACE TYPU zjednodušení, urychlení, zlevnění ... či souhrnně „zkvalitnění“ činností/vztah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(1) uvnitř veřejné správy,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a) uvnitř jednotlivého subjektu veřejné správy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b) mezi jednotlivými subjekty veřejné správy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(2) subjekt veřejné správy ↔ adresát veřejné 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ED81-0657-4260-8AB1-1577714D8B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) MINISTERSTVO INFORMATIKY (MV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eficitní je hodnocení obsažené v již v obsahově zastaralém dokumentu 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Ministerstvo informatiky a rozvoj informační společnosti v České republice 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(2005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Podklady\Micr_brozura_CZ_2005.pdf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 oblasti počítačové gramotnosti se opírá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o výsledky výzkumu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TEM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(8/2005), nikoliv ČSÚ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???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4CCC-ED30-4F6E-9585-B3C2514F79C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) MINISTERSTVO INFORMATIKY (MV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ecifickým předmětem hodnocení ministerstvem je především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Portál veřejné 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- výsledky 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ankety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o znalosti jeho funkcionali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v březnu a dubnu 2006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oslovila účastníky konference ISSS 2006, uživatele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portálu a návštěvníky webu ministerstv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vyhodnocovány odpovědi 143 respondentů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anketa se týkala také kvalitativních aspektů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jednotlivých prvků, avšak pouze v oblasti mapový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služeb (přehlednost, dostatečnost nabídky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1021-07C3-48D2-AF67-91398B7AA50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) MINISTERSTVO INFORMATIKY (MV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- výsledky ankety o znalosti jeho funkcionalit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)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NELZE SOUHLASIT SE ZÁVĚREM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„Prezentované výsledky ankety vypovídaj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o všeobecné znalosti funkcionalit Portálu veřejné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právy“ (str. 13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ROTOŽE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vzorek respondentů není široký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v publikovaných výsledcích není blíže popsána struktur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respondentů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(není tudíž zřejmé, kolik z nich je expertních účastníků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konference, a kolik z nich konkrétních uživatelů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VYBRANÉ VÝSLEDKY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využití transakčních prvků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portál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CE09-AB63-4AE6-86C0-E9E1E931413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) MINISTERSTVO INFORMATIKY (MV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5840" indent="-375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tatistiky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obchodování subjektů veřejné správy prostřednictvím služby e-tržiště (ICT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tatistiky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praxe e-podpis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míra užití NPP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míra užití e-learningu na PV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míra užití projektu testování znalostí pro ECDL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 ČR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výhradním držitelem licence je zde Česká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olečnost pro kybernetiku a informatiku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na konci ledna 2007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upozorňovalo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na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edostatečnou praxi v oblasti povinně zveřejňovaných informací a e-podatele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DROJ INFORMAC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FF4A-3EC3-41BB-8D99-CA59EF495BC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) ČESKÝ STATISTICKÝ ÚŘ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institucionálně položeny základy v r. 2001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nyní v kompetencích skupiny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ěda, výzkum, informační technologi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rámec hodnoce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 ohledem na uvedené cíle plánované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hodnocení ve srovnání s dosavadní praxí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Eurostatu či OECD širš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osavadní praxe měření je však velmi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OMEZENÁ !!!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A530-4A4C-4B06-AC8F-B1FF1A80826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) ČESKÝ STATISTICKÝ ÚŘ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ouhrnné výsledky měření byly publikovány v dokumentu </a:t>
            </a:r>
            <a:r>
              <a:rPr b="1" i="1" lang="fr-FR" sz="2000" spc="-1" strike="noStrike">
                <a:solidFill>
                  <a:srgbClr val="292929"/>
                </a:solidFill>
                <a:latin typeface="Arial"/>
              </a:rPr>
              <a:t>Informační společnost v číslech 2006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ročenka nepostihuje užití prvků e-governmentu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jednotlivci a domácnostm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ročenku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doplňují (také v oblasti poptávky) až výsledky měření jiný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ve 2.čtvrtletí 2006 šetření využívání ICT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v domácnostech a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mezi jednotlivci založené na měření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Eurostat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larmující to, že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51,9 %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populace ve věku 16 a více let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nemá žádné znalosti práce s PC  a větší procent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- 55,3 % - žádné znalosti práce s internetem , 55,6 %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uživatelů internetu má základní znalosti práce s ní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2111-49CB-44C9-9B4C-8087F787111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) ČESKÝ STATISTICKÝ ÚŘ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ročenku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doplňují (také v oblasti poptávky) až výsledky měření jiných*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Užití ICT podnikatelskými subjekty (s 5 a více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zaměstnanci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ostihuje měření zohledňující situaci k lednu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2006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Potenciál e-governmentu pro nabídku veřejných služeb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ze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strany veřejné správy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ve výsledcích diskutabiln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zastaralost + hodnocení se týká většinou obc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 500+ obyvatelů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Nejaktuálnějším výstupem v této oblasti je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průzkum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obsahu webových stránek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ve veřejné správě ze září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rpna 2006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VYBRANÉ VÝSLEDK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ZDROJ INFORMAC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11AB-C5FE-4F04-A05F-32E8D93FEC1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INÉ, SUPLUJÍCÍ CENTRÁLNÍ INSTIT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STE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áří 2006 -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ublikované výsledky výzkumu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Využívání informačních zdrojů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cs-CZ" sz="1400" spc="-1" strike="noStrike">
                <a:solidFill>
                  <a:srgbClr val="292929"/>
                </a:solidFill>
                <a:latin typeface="Arial"/>
              </a:rPr>
              <a:t>http://www.statnisprava.cz/ebe/firma.nsf/iboardvypisweb/2E004B16AF/$File/zz_ebe.pdf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CA50-C58C-4264-969E-239B6FA6665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INÉ, SUPLUJÍCÍ CENTRÁLNÍ INSTIT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) INFOLIGA - METODA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Měření obsahu webu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z hlediska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otevřenosti procesu rozhodování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rotikorupčních nástrojů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informací o osobní odpovědnosti představitelů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(např. záznamy jednání, záznamy hlasování, přehledy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veřejných zakázek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for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benchmarkingového nástroje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pro hodnocení preventivní (kontrolní, protikorupční) působení zveřejněných informac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iniciativa hodnocení e-připravenosti pro praxi principu otevřenosti a průhlednost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metoda popsána zde: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http://www.otevrete.cz/files/doc/Metodika%2005-10-31.doc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ředmětem vyhodnocování výslovně nemají být </a:t>
            </a:r>
            <a:br>
              <a:rPr sz="2000"/>
            </a:b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(až na nepatrné výjimky) povinně zveřejňované informa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8F8D-F97C-4A8E-A1A7-8BF2672CFCA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INÉ, SUPLUJÍCÍ CENTRÁLNÍ INSTIT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) INFOLIGA - METODA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předpoklá, že to, co úřady musejí zveřejnit povinně, zveřejňuj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ú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čelem hodnocení je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zaměřit se na „nadstandardní informace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, z hlediska zákona nepovinné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tzn. zaměřit se na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aktivity, které vycházejí z iniciativy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samotných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subjektů veřejné správ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roblematické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?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ýchodiskem tvrzení, že každá věc (rozhodnutí) je charakterizovatelná těmito parametr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typ dokumentu či informace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kd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c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komu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) za kolik (objem veřejných prostředků)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f) za jakých dalších podmínek (výhody, závazky)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g) proč (odůvodnění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B842-5188-4362-B804-C544B66B809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ECD a e-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2133720"/>
            <a:ext cx="7661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e-government je více o vládě než o "e"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umožňuje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změnit kulturu vlády, je nástrojem pro reformu a zároveň cílem reformy V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e-government by mělo být nepřetržitým procesem zdokonalování vlády, spíše než pouhým digitalizováním služeb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DEF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: "využití ICTs, a to obzvláště Internetu, jako nástroje pro dosažení lepší vlády = konkrétně zejména dosažení: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lepších politických výsledků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yšší kvality služeb,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ětšího vtahování občanů do veřejného rozhodování (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tím posílení kontroly, boje s korupcí ...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E598-A304-458F-AFC2-32D5DFA059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INÉ, SUPLUJÍCÍ CENTRÁLNÍ INSTIT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) INFOLIGA - METODA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ublikované informace hodnoceny podle kritérií tří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“úrovní obsažnosti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1) existence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zda požadovaný dokument na webu vůbec existuje, a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to bez ohledu na to, zda srozumitelně obsahuje jádro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věci a podstatný rozsah věci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2) jádro věci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3) podstatný rozsah věci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OŽADAVEK PRAXE "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PRINCIPU AKTIVNÍHO ZVEŘEJNĚNÍ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":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Dokument se považuje za zveřejněný jen tehdy, pokud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ho na webu lze najít poměrně snadno a logicky.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hodnocení založeno na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principu bodová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4221-B288-4D11-AEE8-D08DA0D3CA0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INÉ, SUPLUJÍCÍ CENTRÁLNÍ INSTIT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) INFOLIGA - METODA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Za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významné dokumenty (informace)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Infoliga považuje výslovně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rozpočet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trategický rozvoj obce / kraje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úřední desku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úplný přehled veřejných zakázek a příjmy zřizované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organizace od povinného subjektu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Tyto dokumenty (informace) musejí být zveřejněny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výslovně, a to s tímto či srozumitelně příbuzným názvem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A474-1C13-4E8A-AB81-16057DD5FA4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INÉ, SUPLUJÍCÍ CENTRÁLNÍ INSTIT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) INFOLIGA - METODA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VYCHÁZÍ VŠAK ZE SUBJEKTIVITY HODNOTITELE, kterou se autoři iniciativy snaž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ili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redukovat namátkovou kontrolou pravdivosti získaných odpovědí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292929"/>
                </a:solidFill>
                <a:latin typeface="Arial"/>
              </a:rPr>
              <a:t>V úvodní fázi průzkumu byla celkem sebrána data o 142 subjektech, a to za všechny kraje (14), všechna „okresní“ města (71), dále výběr z měst, obcí a městských částí. Průzkum proběhl od října 2004 do konce září 2005, většina webů byla zkoumána v srpnu a září 2005. U 15% zkoumaných webů byla provedena namátková následná kontrola správnosti vložených údajů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Hodnocení tak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nem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ělo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 formu externího auditu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a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předpoklád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alo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 pravdivost informací od hodnocených úřadů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SOUHRNNÉ VÝSLEDKY 2005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8A0B-016C-4B7B-B291-0B83AF131FD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INÉ, SUPLUJÍCÍ CENTRÁLNÍ INSTIT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) INFOLIGA - METODA 2006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http://www.otevrete.cz/index.php?lng=CZ&amp;akce=rubrika&amp;rubrikaid=98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E) Otevřená společnost, o. p. s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outěž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tevřeno Zavřeno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ychází z neanonymních nominací veřejností, které posuzuje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porota deseti odborníků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rvní cenu za charakteristiku “zavřeno” dostal v roce 2006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ředitel Krajského úřadu JMK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ližší informace zde: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http://www.otevrete.cz/index.php?akce=clanek&amp;id=39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F9A-2EA5-4DD2-BDD2-59A4F05F6E8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INÉ, SUPLUJÍCÍ CENTRÁLNÍ INSTIT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F) Zlatý Erb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http://zlatyerb.obce.cz/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G) Dokument z Úřadu vlády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1999 - 2006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H)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MEZINÁRODNÍ/NADNÁRODNÍ HODNOCEN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BC2A-0BDD-415B-9872-0D71F34B0DB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DÚ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do všeho se podíva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) okomentovat kvalitu hodnocení e-VS v Č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metod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předmět hodnoce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okomentovat výsledk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s ohledem na cíle e-V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kvalitu zpráv o hodnoce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) okomentovat nedostatky CZ-CASE vzhledem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k praxi zahraničního hodnoce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1BE-1E36-493C-8172-568C3AA33A0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DÚ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6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výstupy dosavadních hodnocení 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MI ČR a ČSÚ - abyste byli schopni </a:t>
            </a:r>
            <a:br>
              <a:rPr sz="3200"/>
            </a:b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NA ZÁKLADĚ VÝŠE UVEDENÉHO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okomentov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a) hodnocenou fázi elektronizace</a:t>
            </a:r>
            <a:br>
              <a:rPr sz="2300"/>
            </a:b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vývoj - příprava - realizace - ukončení 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b) hodnocené úrovně </a:t>
            </a:r>
            <a:br>
              <a:rPr sz="2300"/>
            </a:b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mikro vs. makro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c) objekt hodnocení 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d) použitou metodu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300" spc="-1" strike="noStrike">
                <a:solidFill>
                  <a:srgbClr val="292929"/>
                </a:solidFill>
                <a:latin typeface="Arial"/>
              </a:rPr>
              <a:t>e) výsledky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3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300" spc="-1" strike="noStrike">
                <a:solidFill>
                  <a:srgbClr val="292929"/>
                </a:solidFill>
                <a:latin typeface="Arial"/>
              </a:rPr>
              <a:t>ZDROJ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B597-0EED-45C4-9B66-4747F63215E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3300"/>
                </a:solidFill>
                <a:latin typeface="Arial"/>
              </a:rPr>
              <a:t>DÚ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Jaké služby (včetně transakčních) umožňuje současný PV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51E7-7496-4CE3-9795-6A410D1A1DA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ECD a e-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07520" indent="-407520">
              <a:spcBef>
                <a:spcPts val="601"/>
              </a:spcBef>
              <a:buClr>
                <a:srgbClr val="cc99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 CUSTOMER FOCUS (= USER-FRIENDLY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e-government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= snaha, aby uživatel nemusel chápat komplex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ládních struktur a vztahů pro to, aby mohl být v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interakci s vládou = zpřístupnit vládu, která se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jeví jako sjednocená organizace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např. i "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sharing of  documents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"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ODPOVĚDNOST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vs. dělba práce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601"/>
              </a:spcBef>
              <a:buClr>
                <a:srgbClr val="cc99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to vyžaduje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polupráci uvnitř veřejné 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601"/>
              </a:spcBef>
              <a:buClr>
                <a:srgbClr val="cc99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reforma FRONT-OFFICE, BACK-OFFICE..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E78C-2254-4C49-B965-B364C1FBE9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íklady definic e-government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(e-governanc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557360"/>
            <a:ext cx="8280360" cy="50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Česká (</a:t>
            </a:r>
            <a:r>
              <a:rPr b="0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aktuální + ZASTARALÁ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tátní informační a telekomunikační politika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e-Česko 2006: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vláda chápe pojem e-government jako transformaci vnitřních a vnějších vztahů veřejné správy pomocí ICT s cílem optimalizovat interní procesy. Jejím cílem je pak rychlejší, spolehlivější a levnější poskytování služeb veřejné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(dříve bylo jen státní)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 správy nejširší veřejnosti a zajištění větší otevřenosti veřejné správy ve vztahu ke svým zákazníkům. Totéž se očekává i od samosprávy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onecháno, ale spadá to pod pojem VS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Hlavním cílem e-governmentu je zvýšení výkonnosti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(dříve účinnosti)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 státní správ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(ponecháno)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, které by mělo přispět především ke zjednodušení aktivit veřejnosti při styku s veřejnou správou..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"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DAFF-ACDC-4330-B5FC-F435C32CD7D6}" type="slidenum">
              <a:t>6</a:t>
            </a:fld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-243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-veřejná správa jako e-služba (v širokém slova smys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484280"/>
            <a:ext cx="76611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Východiskem princip </a:t>
            </a:r>
            <a:r>
              <a:rPr b="1" i="1" lang="en-US" sz="1800" spc="-1" strike="noStrike">
                <a:solidFill>
                  <a:srgbClr val="292929"/>
                </a:solidFill>
                <a:latin typeface="Arial"/>
              </a:rPr>
              <a:t>veřejná správa jako služba občanům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Arial"/>
              </a:rPr>
              <a:t>→ aby tento princip fungoval v elektronické podobě. Konkrétní podoby - např.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813564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54DC-3CC6-41CD-A38D-F799C0EF00B1}" type="slidenum">
              <a:t>7</a:t>
            </a:fld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2) e-Demokrac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844280"/>
            <a:ext cx="7661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tendence většího vtahování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eřejnosti do procesu rozhodování a formování veřejných politik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e-inclusion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ílem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"zničit virtuální Berlínskou zeď mezi reprezentovanými a reprezentanty„ (Coleman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ROKLAMOVANÝ TREND ELIMINACE TZV.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DEMOKRATICKÉHO DEFICITU a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DIGITAL DIVID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21F4-3C7E-4CB3-939A-29E1FE745D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2) Ideální podoba e-Demokracie </a:t>
            </a:r>
            <a:br>
              <a:rPr sz="2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(vize pohledem infooptimisty / e-snílk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bčané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(někdy "kybernauti" -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cybernauts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 mají širší možnost podílet se na rozhodování ve veřejných záležitostech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jednotlivé části veřejné správy a ostatní složky veřejné moci 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yužívají systémově IT k zabezpečení vzájemné koordinace a komunikace v celém spektru svých činnost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říklady iniciativ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e-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democracy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gov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uk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http://www.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citizenspace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.co.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uk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http://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itc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.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napier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ac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7"/>
              </a:rPr>
              <a:t>.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8"/>
              </a:rPr>
              <a:t>uk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) 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9"/>
              </a:rPr>
              <a:t>http://www.demo-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20"/>
              </a:rPr>
              <a:t>net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22"/>
              </a:rPr>
              <a:t>or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8AE1-713C-46AD-AEC7-2D15781626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2T06:29:36Z</dcterms:created>
  <dc:creator>Eman</dc:creator>
  <dc:description/>
  <dc:language>en-US</dc:language>
  <cp:lastModifiedBy>77120</cp:lastModifiedBy>
  <dcterms:modified xsi:type="dcterms:W3CDTF">2007-04-17T05:56:51Z</dcterms:modified>
  <cp:revision>483</cp:revision>
  <dc:subject/>
  <dc:title>ELEKTRONIZACE VEŘEJNÉ SPRÁVY:   IDEJE E-GOVERNMENT,  E-GOVERNANCE,  E-DEMOCRACY A JEJICH PRAXE</dc:title>
</cp:coreProperties>
</file>