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2E1-8687-4C3A-B642-7A6012BC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004-E1DF-483D-8C87-84D57743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D97-3B0C-4E7F-A78A-A08B00CF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6CF-52BE-40B8-A016-7DC6282F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3298-E4F3-441E-A282-DED19741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E8C5-1F40-4A67-A58C-E899353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042D-D56E-4E03-94ED-D4144883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A54A-94C5-45F8-B38D-F4888E4E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6942-E92E-42F7-8015-61531786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75EC-5655-4308-AF20-276F4645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8BF7-A3E9-4D7D-B0ED-685E6C63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B1A-7675-4EBB-AB4F-C94E7BF2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3563-0EF4-4A4F-BD48-AA0075E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2421-E4CC-4AD9-B88D-8BBB2B3C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08C8-5AF3-4174-BB39-29C023AD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3067-0697-4EB1-929D-8202960F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6E87-8606-4223-87A8-37D4DBF6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5CA-3235-4BE8-8D50-0AD8A84E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9AF-74EF-4E89-B828-5CA9C51D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84E-C0D4-4656-BD35-112C9ADD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65F-AAA3-4114-B014-2FF057AC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608-371E-4248-88A4-6863D8FC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516-2D83-461E-B511-C9D81232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DE8-913E-4ED8-9EA8-3DD3FC5A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E237-338E-401E-9A76-85496BA990E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93C4-B9EE-417C-A761-F3E47589170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odklady/Procesy.doc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odnocení činnosti veřejné s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VKVS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VE, ESF M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uben 2007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Arial"/>
              </a:rPr>
              <a:t>2) Specifika hodnoceného prostřed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MEZENÍ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veřejná správa je jedním z institucionálních nástrojů spadajících zejména do oblasti exekutivní moci pro účely organizace a řízení lidí a zdrojů </a:t>
            </a:r>
            <a:br>
              <a:rPr sz="2200"/>
            </a:b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k dosahování cílů stanovovaných politicky (Waldo), přičemž stanovování těchto cílů a kroků k jejich realizaci (úkolů) by v moderním státě mělo stavět </a:t>
            </a:r>
            <a:br>
              <a:rPr sz="2200"/>
            </a:b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na racionalitě (NPM) a také odrážet potřeby občanů či jiných potenciálně dotčených subjektů (good governance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480680"/>
            <a:ext cx="766116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ŘÍZENÍ VE VS v nejobecnější rovině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álné principy činnost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VERSUS 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ideální princi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"the administration remains, whereas the constitution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hanges"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Delpéré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IDEÁL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princip spolehlivosti a předpověditelnosti (rule of law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princip otevřenosti a průhlednost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rincip odpovědnost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princip participa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princip hospodárnost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) princip účinnost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g) princip konzistence (souladnosti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h) princip profesionál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ČELNOST + RACIONALITA + EFEKTIVNOS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EÁLNÉ?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METOD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79992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ejobecnějším požadavkem kladeným na veřejnou správu je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kvalitní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pohotové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hospodárné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plnění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stanovených úkolů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“ (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Hendrych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úspěšná / neúspěšná či výkonná / nevýkonná soustava / instituce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ozhodující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cíl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/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úkol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určující relace a stavy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množství vložených prostředků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vztah vložených prostředků a dosažených výsledků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charakteristiky dosažených výsledků (množství,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vlastnosti)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vztah dosažených výsledků k výsledkům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zamýšlený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0) ZÁKONNOST - METOD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1) ÚČINNOST (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effectiveness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íra účinnosti je ovlivněna předevší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abstrahujeme-li od exogenních vlivů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formulací očekávaných efektů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e zřetelně definovaný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cíl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účinek, efekt, úkol, výsledek) o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jehož dosažení se má usilovat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VAZBY NA KVALITU PLÁNOVÁNÍ A PROJEKTOVÉHO ŘÍZE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volbou prostředků pro jejich dosahování (technologie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praktickým uplatněním zvolených prostředků,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zvolenou metodou pro jejich vyhodnocování a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e) způsobem použití zvolené metody vyhodnocová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- METOD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b) HOSPODÁRNOST (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economy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minimalizace nákladů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, resp. vynaložených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prostředků (vstupu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 dosažení určitého  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daného výsledku (úspornos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??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maximalizace užitku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nebo 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výsledk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určité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činnosti (výstupu) při pevných vstupech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- METODA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8548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c) EFEKTIVNOST (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efficiency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český výraz efektivita souvisí s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effectivenes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chopnost produkovat požadované výsledky při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minimálním vynaložení zdroj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chopnost dobře pracovat a produkovat dobr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ýsledky s co možná nejúčinnějším (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the most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effective wa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 využitím dostupného času, peněz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odávek at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KOMBINACE „ECONOMY“ A „EFFECTIVENESS“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41300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c) EFEKTIVNOST (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efficiency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 VEŘEJNÉ EKONOMII 2 POJET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EFEKTIVNOST ALOK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PARETO EFEKTIVNOST)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dané ekonomické uspořádání efektivní, poku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nemůže nastat změna, při níž by někdo získal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aniž by přitom někdo nebo někteří jiní ztratil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unge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alyzing Polic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„efficient“ pokud a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jenom pokud neexistuje jiná lepší alternativní alokac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 stejných zd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Jackson, Brown:</a:t>
            </a:r>
            <a:br>
              <a:rPr sz="2400"/>
            </a:b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Produkuje veřejný sektor tu úroveň a  kombinaci služeb 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(veřejných výdajů), které poptávají voliči? Je volič na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politickém trhu svrchovaný? Čí preference mají váhu?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c) EFEKTIVNOST (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efficiency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TECHNICKÁ EFEKTIVNOST (efektivnost X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ztahuje se k nabídce veřejného sektoru: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Bez ohledu na to, zda veřejný sektor produkuje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optimální úroveň a kombinaci veřejných služeb,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ptáme se: Jsou tyto služby produkovány s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minimálními náklady? Je úroveň veřejné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zaměstnanosti příliš vysoká? Jsou používány ty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nejlepší postupy a nejefektivnější technologie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aby proces produkce neplýtval zdroji a ab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ámci tohoto procesu byla využita nejlepší dostupná technologi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c) EFEKTIVNOST (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efficiency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Leibensteinovská X-neefektivno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organizacích spravovaných státem často ztráta na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efektivnosti v důsledku toho, že management nemá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otivaci efektivně řídit v oblasti nákl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odukční náklady nejsou závislé jen na použité 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technologii, ale rovněž i na úsilí organizace snižova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náklad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ojde k snížení nákladů o jednotku v organizac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eřejného sektoru, pak se sníží celkový rozpočet 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jednotku, což může ale být byrokraty považován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a snížení významu dané orga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c) EFEKTIVNOST (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efficiency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Máš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 „Jakoukoliv činnost lze považovat za efektivní, jestliže zajišťuje maximální plnění úkolů při minimálním využití prostředků (nákladů v širokém smyslu).“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Strecková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 „Efektivnost každého jevu či procesu je vždy výsledkem vztahu mezi velikostí výstupů, vkládaných do realizace tohoto jevu či procesu, a velikostí výstupů, které z realizace tohoto jevu vychází.“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- METODA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MO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77012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íše než vymezovat efektivnost veřejné správy jako takovou je patrně příhodnější v oblasti veřejné správy posuzovat její různé determinanty, což souvisí s mírou racionality jejích činností a CHARAKTERISTIKAMI ŘÍZENÍ VE VEŘEJNÉ SPRÁVĚ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d) RACIONALI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Malý / Winkler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„Podstatou ekonomického přístupu k analýze a hodnocení společenských procesů je použití kritéria racionality jednání zúčastněných subjektů“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-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racionální činnost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spočívá v efektivním využití omezených zdrojů za účelem maximálního dosažení cílů, resp. žádoucích užitk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Hendrych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efektivnost jako míra racionálního chování při uskutečňování zamýšlených cílů </a:t>
            </a:r>
            <a:br>
              <a:rPr sz="2400"/>
            </a:b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v daných podmínkách a čas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„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Míra racionality se vztahuje především k výběru prostředků a zdrojů zabezpečujících dosahování konkrétních cílů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e) VÝKONNOS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f) LEGITIMI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oprávněnost (odůvodněnost) na základě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něčeho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předpokládá analýzu strany poptávky</a:t>
            </a:r>
            <a:br>
              <a:rPr sz="2600"/>
            </a:b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g) ÚČELNOST</a:t>
            </a:r>
            <a:br>
              <a:rPr sz="2600"/>
            </a:b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- METODY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Konkrétní hodnotící krité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xyz) KVALITA VEŘEJNOSPRÁVNÍCH </a:t>
            </a:r>
            <a:br>
              <a:rPr sz="2800"/>
            </a:b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         ČINNOSTÍ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"sumarizujícím kritériem"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pro hodnocení VS činnost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efininování obtížným úkolem, avšak nezbytným pro její zdokonal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vky definic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objekt kvality – výrobek / služb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vlastnost - technická, ekonomická, politická, právní ... etická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očekávání (skrytá nebo projevená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e smyslu určitého přijatelného až mimořádnéh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tandar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elmi subjektivní charakteristikou, pokud v praxi převažují netechnické prvky objektu hodnoc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ovlivňuje subjektivnost hodnoc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xyz) KVALITA VE 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Indexy spokojenosti uživatelů a kvalita webu 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CS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6985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xyz) KVALITA VE 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 veřejné správě rozdílnosti především v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a) očekáván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- občana / klienta / uživatele / „zákazníka“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- poskytovatele služby </a:t>
            </a:r>
            <a:br>
              <a:rPr sz="2600"/>
            </a:b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(nadřízeného a podřízeného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- regulátora služby </a:t>
            </a:r>
            <a:br>
              <a:rPr sz="2600"/>
            </a:b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(zákonodárce a exekutivy)</a:t>
            </a:r>
            <a:br>
              <a:rPr sz="2600"/>
            </a:b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- jiného hodnotitele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b) objektu hodnocení – komplexnost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veřejných služeb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xyz) KVALITA VE 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ení ve VS pojmem nový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eustále věcí diskuze,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zda-li je řízení kvality vzniklé v soukromém sektoru aplikovatelné v sektoru veřejné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Q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ětšinou se literatura shoduje v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nutnosti přizpůsobit specifikům veřejného sektoru - NIKOLIV POUZE MÓDNO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dle některých nejsou evidentní dopady iniciativ řízení kvality ani v soukromém sektoru 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blémem i různé interpretace (nejednotnost) jednotlivých nástrojů / meto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xyz) KVALITA VE 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xyz) KVALITA VEŘEJNOSPRÁVNÍCH </a:t>
            </a:r>
            <a:br>
              <a:rPr sz="2800"/>
            </a:b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         ČINNOSTÍ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eltrami -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tři fáze evoluce konceptu kvality ve veřejném sektor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kvalita ve smyslu respektování norem a procedur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= především důraz na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legalit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kvalita ve smyslu účinnosti (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effectivenes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kvalita ve smyslu spokojenosti zákazník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 Gasterová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 „a negotiated concept“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MODEL FOR QUALITY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xyz) KVALITA VE 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a negotiated concept“*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cs-CZ" sz="3000" spc="-1" strike="noStrike">
                <a:solidFill>
                  <a:srgbClr val="292929"/>
                </a:solidFill>
                <a:latin typeface="Arial"/>
              </a:rPr>
              <a:t>požadavky: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ideáln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analýzy strany poptávky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komunikace/ konzultace/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kooperace + síťování poptávky a nabídk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inkluzivnosti/demokratizace D-M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SWOT analýzy ve vztahu k poptávc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rozmanitost a volba a současně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odpovědnost za výsledek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xyz) KVALITA V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VAŠE KRITÉRIA KVA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Zithaml, Parasuraman, Berr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dimenze, které ovlivňují zákazníkův pohled na kvalit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- spolehlivost (reliability)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- citlivost na potřeby zákazníka (responsiveness)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- kompetence (competence)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- zdvořilost (courtesy)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- kredibilita (credibility)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- bezpečnost (security)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- přístup (access)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- komunikace (communication)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292929"/>
                </a:solidFill>
                <a:latin typeface="Arial"/>
              </a:rPr>
              <a:t>- porozumění zákazníkovi (understanding the customer).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xyz) KVALITA V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xyz) KVALITA VEŘEJNOSPRÁVNÍCH </a:t>
            </a:r>
            <a:br>
              <a:rPr sz="2600"/>
            </a:b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         ČINNOST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Gaste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ýzkum odhalil, že spotřebitelé si obzvláště cení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spolehlivosti (reliability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dobrých a relevantních informac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rychlosti / včasnosti provedení výkonu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přístupu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e) prospěšnosti / užitečnosti (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helpfullness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) Obecně k hodnocení 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hodnocení = posuzování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vlastností něčeh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odle určitých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kritérií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širší pojem než "kontrola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nkrétní podoba kritérií pro hodnocení veřejnosprávních činností je stále diskutovanou otázkou v mnoha vědních disciplíná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á kritéria pro státní správu a samosprávu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á kritéria pro různé úrovně VS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roblém malých obcí a kvalita hodnoc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též které činnosti mají být předmětem hodnoc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pakování - SITUACE V Č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systém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blasti činností územní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procesy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xyz) KVALITA VE 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S.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problémem měřitelnost některých aspektů kva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je velmi lákavé redukovat kvalitu na to, co je kontrolovatelné vytvořením inspekcí, rozvojem standardů, realizováním benchmarkingu a prováděním dotazníkových šetření ohledně spokojenosti atp.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ůžeme vidět pouze symptomy kvality, nikoliv kvalitu jako takovo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 - problémem těžká měřitelnost těchto symptom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to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kvalita pokládána za multi-dimenzionální koncep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ikoliv jediný index kvality, ale spíše integrace různých nástroj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xyz) KVALITA V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IMEZNZE KVALITY MUSÍ BÝT OPERACIONALIZOVÁNY INDIKÁTORY KVALITY </a:t>
            </a: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LITERATUROU DOPORUČOVANÉ PRVKY METODI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SMART“ INDIKÁTOR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pecifi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easurabl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hievabl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elevan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me-related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xyz) KVALITA V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OPORUČENÍ PRO PRAX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AVÁDĚNÍ METOD ŘÍZENÍ KVALITY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přizpůsobit implementaci prvků řízení kvality místním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dmínkám - blíže k občanovi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proti přístupu TOP-DOWN implementace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neklást důraz pouze na počitatelné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 vyhodnocování aktivit v oblasti kvality důležité odpovědět na následující otázk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Je program nebo systém kvality založen na hodnotách,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které jsou konzistentní s hodnotami, na kterých je založena definice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kvality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Jsou cíle tohoto programu jasné?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Jaká jsou zamýšlená zdokonalení a jsou tato zamýšlená 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zdokonalení konzistentní s cíli organizace?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xyz) KVALITA V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ro vyhodnocování aktivit v oblasti kvality důležité odpovědět na následující otázky: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Vychází přístup ke kvalitě z diagnózy organizace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Jaké časové horizonty jsou uvažovány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Odkud se bere vedení a podpora těchto programů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Které klíčové zájmy byly nebo by měly být zahrnuty v každé etapě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implementace - a jak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Jaké aspekty služby uvažuje program kvality zdokonalit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Jsou měření, monitoring a vyhodnocovací systémy a nástroje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konzistentní s obsahem programu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tody / nástroje pro hodnocení činností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Mayers - seznam v současnosti prozkoumávaných nástrojů řízen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v současnosti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české praxi říze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vality veřejné správy zdůrazňován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benchmark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normy IS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CAF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BS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citizen´s chart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KVALITA VLASTNÍHO ŘÍZENÍ KVA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HODNOCENÍ PRAXE ISO 9000 VE FINSK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vybrané výsledky empirického šetřen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INFO ZDROJE KE KVALIT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aster, L., Squires, A. Providing Quality in the Public Sector. Philadelphia - Maidenhead. Open University Press 200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http://www.mvcr.cz/odbor/moderniz/koncepce/kvalita.htm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http://portal.gov.cz/wps/portal/_th/601/_lp.694/0/_l/cs_CZ/_lpid.694/697/_s.155/6966/_ps.2173/M/_ps.2182/M/_s.155/10202?docid=10837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http://www.npj.cz/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http://www.csq.cz/cz/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EIP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http://www.4qconference.org/en/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www.nispa.sk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EGP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) Obecně k hodnocení 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edmětem hodnocení celý řetězec produkc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předvstupní proces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vstu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procesy transformující vstupy na výstu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výstu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) výsled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ýstupem často produkt typu 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služb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... soubor hmotných a nehmotných prvků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obsahujících funkční, sociální a psychologické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užitky nebo výho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Arial"/>
              </a:rPr>
              <a:t>2) Specifika hodnoceného prostřed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ychází z postavení a funkcí veřejné správy (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otažmo státu / ÚSC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EFINICE V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?CO SI PAMATUJETE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rávní (ústavní a správní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ekonomická (veřejná ekonomie a souvisejíc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isciplíny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terdisciplinární (současný?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ě vědní?, manažerující?)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naha specifikovat roli veřejné správ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 veřejném sektoru a vůči svému okol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ztah k legitimitě (potvrzení/vyvrácení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jejích činnost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Arial"/>
              </a:rPr>
              <a:t>2) Specifika hodnoceného prostřed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661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EFINOVÁNÍ VS = oblast sporů o relevanci praktické aplikace různých teorií a vědních disciplí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ýchodisk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S jako specifický nástroj společenského řízení, který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usí podléhat řídicím procesů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xi řízení a jeho kvalitu ovlivňuje VŽDY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kde se říd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co se říd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jakým způsobem (jaká volnost říze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odpovědnost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) kdo říd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g) systémovost říz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Arial"/>
              </a:rPr>
              <a:t>2) Specifika hodnoceného prostřed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8120" y="1773360"/>
            <a:ext cx="7661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ČNOST VEŘEJNÉ SPRÁVY, SE KTEROU SE VYPOŘÁDÁVAJÍ JEJÍ DEFINICE A JEJÍ HODNOCE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řejnoprávní charakter subjektu veřejného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av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tj. nositel veřejné moci),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jekt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,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odvozenost cílů od funkcí státu či územní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samosprávného celk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onné založením subjektu i objekt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tohot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ruh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enského řízení (v různé míř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osti), = rule of la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ŘÍZENÍ A VEŘEJNÁ SPRÁVA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OD 0. Specifika řízeného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Hughe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ozhodnutí mohou mít donucovací charakte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nější agenda je převážně určována politickým vedením, kterému je manažer odpovědný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herentní obtížnost v měření výstupu (output) nebo efektivnosti produ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ozměr a rozmanitost veřejného sektoru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obtížnost kontroly nebo koordin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mec a Wright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ákladem politicky nikoliv trhem určené potřeb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hybí jasný systém měření výkonnost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ozdílné právní prostředí - "the freedom to manage"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cc9900"/>
                </a:solidFill>
                <a:latin typeface="Arial"/>
              </a:rPr>
              <a:t>(souhlasíte se vším?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Systémový přístup řízení - okolí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chéma systemizace pro současnou praxi (???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ystém řízení a modely excele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AF 2006 – specifika: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emokratická citlivost na potřeby a odpovědnost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ungování v rámci právního rám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munikace s politickou úrov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pojení tzv. stakeholders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alancování potřeb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xcelenci při poskytování služeb vč. tzv. value for mone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 řízení inova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grafické znázornění podobné jako EFQ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systém managementu a CAF 2002/200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CHOPNOST KRITICKÉ SEBEREFLEXE ZAPOJENÍM EXTERNÍHO OKOLÍ = "UČÍCÍ SE ORGANIZACE"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7:59:47Z</dcterms:created>
  <dc:creator>spacekov</dc:creator>
  <dc:description/>
  <dc:language>en-US</dc:language>
  <cp:lastModifiedBy>77120</cp:lastModifiedBy>
  <dcterms:modified xsi:type="dcterms:W3CDTF">2007-04-03T10:39:01Z</dcterms:modified>
  <cp:revision>251</cp:revision>
  <dc:subject/>
  <dc:title>Hodnocení činnosti veřejné správy</dc:title>
</cp:coreProperties>
</file>