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9D8-8C8B-46AE-ACC8-CD78CF8E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AD8-A335-4AA5-8D85-DB0A6040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46A-4C62-4480-AE88-8359FB90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8DE-6C40-4776-82C0-3192119A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2475-F9E5-4FF2-BC5D-7326E7AD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E4F4-0C26-4740-901A-0B84AAE9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02E0-A84A-4D9B-934C-16289396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8099-A10A-4012-9B85-542EEB83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A466-BAED-4728-9061-EC09BA9B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7DC4-123A-4DBB-8FEA-D317AF5D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9C73-5A63-4183-ACC3-25E3B62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B7A-F3F9-4542-8FBD-6B75649E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DE0-C1C8-4CD5-9650-DCE39CE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828B-596B-4D09-9762-462C43A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F270-900B-47C7-B084-B12EC47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F47A-9284-4FBD-A7D8-C5D60493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7EA9-033F-44D0-98C1-A191B0C9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FE2-9DDE-4B87-BBD3-6C188973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EEB-F87E-45AF-8492-B9BD083C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AFC-3372-4152-9B26-791F219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51E-EA1C-4B3B-99AE-E3E8A8B5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E9A-FA87-4FDC-BF03-F72E4E65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D4F-DFE3-4EEB-9EA1-18BC77C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40E-F278-45E8-8323-3D919B3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E5C4-E98A-4520-B667-346215251F73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206D-E689-4DAD-AFCC-202F37AC91CF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odklady/System.a.Oblasti.ridicich.procesu.ve.VS.doc" TargetMode="External"/><Relationship Id="rId2" Type="http://schemas.openxmlformats.org/officeDocument/2006/relationships/hyperlink" Target="file:///Podklady/EFQM_schema.doc" TargetMode="External"/><Relationship Id="rId3" Type="http://schemas.openxmlformats.org/officeDocument/2006/relationships/hyperlink" Target="file:///Podklady/CAF_struktura_2006_2002.doc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Projekt.MVCR.doc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rojekt.MMR.doc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rojekt.KU.JMK.doc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znam komunikace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 systému veřejné s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92360" y="4436640"/>
            <a:ext cx="44323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KVE ESF M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VKSO – Přednáška č. 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duben 2007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ůležitost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LÁDNÍ SELH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ýsledkem vládních intervencí jsou často nepředpokládatelné změn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aktor omezené racionality + zpoždě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elhání při realizac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ákladnost byrokratického sprav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Úsilí jednotlivců o maximalizaci hodno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blém principála a agenta a morálního hazard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ůležitost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92929"/>
                </a:solidFill>
                <a:latin typeface="Arial"/>
              </a:rPr>
              <a:t>Kvalita informačních vztahů mezi jednotlivými subjekty veřejné správy ovlivňuje </a:t>
            </a:r>
            <a:r>
              <a:rPr b="1" lang="fr-FR" sz="2600" spc="-1" strike="noStrike" u="sng">
                <a:solidFill>
                  <a:srgbClr val="292929"/>
                </a:solidFill>
                <a:uFillTx/>
                <a:latin typeface="Arial"/>
              </a:rPr>
              <a:t>systémovost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</a:rPr>
              <a:t> celé veřejnosprávní organizace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 (/ organizace veřejné moci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občan ji sice nemusí chápat, ALE ..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ůležitost komunikace ve veřejné správ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9320" y="1700280"/>
            <a:ext cx="794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abermas a jeho koncept diskursivní e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myslem komunikace je konsensuální porozumě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ástroj pro řešení konfliktů - „silou argumentů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systému veřejné správ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musí v praxi platit některé předpoklad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Habermasova konceptu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účastníci nejen sdělují informace a poznatky,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ale mají i dobrou vůli porozumět si a dohodnout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s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účastníci komunikaci přesvědčeni o možnosti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vzniku účinné zpětné vazb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činná komunikace ve V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Herbert A. SIMON)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usí vždy zabezpečit, aby se sdělení promítlo 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v následné aktivitě svého příjem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hyby v komunikaci jsou vždy výsledkem situace, kdy je opomenuta skutečnost, že chování jednotlivců je nástrojem, díky němuž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rganizace naplňuje svůj účel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kýkoliv administrativní proces si musí nejdříve zodpovědět na otázku, jak ovlivňuje rozhodnutí těchto jednotlivc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MŮŽEME APLIKOVAT NA INSTITUCE?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činnost komun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 proces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činné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komunikace je důležité odpovědět na následující základní otázky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do je příjemcem mých informac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akou informaci tento příjemce vyžaduje ?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akou informaci mu můžu / musím poskytnou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dy informaci vyžaduje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aký způsob přenosu příjemce informace upřednostňuje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eho chci poskytnutím informace dosáhnout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determinuje vnímanou kvalitu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proces, který existuj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UVNITŘ SOUSTAV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vertikálně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horizontálně 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 napříč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elou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organizac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S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a to vždy 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v určité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formální 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neformální podob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tzv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intergovernmentalismem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+ "interdependencies" + "accountability challenge" + centralizací..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VNĚ ŘÍZENÉHO SYSTÉM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koncept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Good Governa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 MINULA 2) Systémový přístup řízení - okol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schéma systemizace pro současnou prax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???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ystém řízení a modely excele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AF 2006 – specifika: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mokratická citlivost na potřeby a odpovědnost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ungování v rámci právního rám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unikace s politickou úro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pojení tzv. stakeholders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alancování potřeb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xcelenci při poskytování služeb vč. tzv. value for mone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řízení inov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grafické znázornění podobné jako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EFQ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systém managementu a CAF 2002/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CHOPNOST KRITICKÉ SEBEREFLEXE ZAPOJENÍM EXTERNÍHO OKOLÍ = "UČÍCÍ SE ORGANIZACE"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Edelenbos, Klijn: Trust in Complex D-M Network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t is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difficult to achieve joint decision making among actors,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given the fact that complex interorganizational networks are ambiguous and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unpredictabl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ust is the answer for coping with complexity in decisionmaking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network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verlooked Issue in Public Administratio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minantní charakteristiky důvěr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vulnerabili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risk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expectation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trust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must be built up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 the interaction among actor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ARSONS 1968: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rust poses an integrative function in th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establishment of social orde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Vries, de M. S.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Trust and governance practices among local lead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třífázový model Lewickeho a Bunkera (1996)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calculus-based trus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´social trust´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lidé budou konat to, co slíb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nowledge-based tru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ůvěra záleží na schopnosti předpovědět a s tí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znalostech o aktivitách a úmysle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statních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nalosti o konzistentnosti chování ovlivněn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kušenostm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identification-based trus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"high-level trust"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‘I trust you because I think it is in your interest to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ttend to my interest in th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 matter’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ástroj koordin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mět koordin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ROKY PROCESU KOORDINACE (Simo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ozvoj plánu chování pro všechny členy skupin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nikoliv skupina jednotlivých plánů pro jednotliv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členy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sdělení (communication) relevantní porce tohoto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plánu každému jednotliv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ajištění 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ocho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y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 části těchto jednotlivců chova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s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řízen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 podle tohoto plá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edpokladem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ajištění zpětné vazb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 celém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ces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sah přednáš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1) Vymezení komunika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2) Komunikace ve veřejné správě a determinanty její účinnos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3) 2) v ČR včetně vybraných výsledků empirických šetřen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ariéry komunikace ve VS </a:t>
            </a:r>
            <a:br>
              <a:rPr sz="26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na straně vysílatele/příjemce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vícestupňovost systému a rozdílnos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referenčního rámce příjemce/vysílatele sděl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rozdílnost v postavení příjemce sděl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3) geografické vzdálenosti příjemců sděl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4) pracovní zatížení příjemce sděl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..........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mítnou se do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řetížení komunikačního systému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zkreslení obsahu inform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...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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VALITY INFORMAC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OBÍHAJÍCÍCH VE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lita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4720" y="1989000"/>
            <a:ext cx="10367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em, že legislativa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zakotvuj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systému CENTRUM - KRAJ - OBEC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více center, která jsou důležitá pro výkon činnosti v oblasti státní správy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n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j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nižšíc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ozhodovacích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úrovních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vlivňuje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složitost a srozumitelnost komunikačního procesu a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formační zkresl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uplicitnost informac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nej)vyšší úroveň hierarchie nemusí mít povědom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praxi na nižších úrovní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činnosti, hospodárnost ... efektivnost V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omunikace a kompetence centrální úrovn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důležitý především kompetenční zákon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z. č. 2/1969 Sb.)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MINISTERSTVO VNITR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last „všeobecné“ koordinace veřejné správy je předevš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kompetenci MV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dle odst. 2 § 12 zajišťuje rovněž  komunikační  sítě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 územní orgány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eciální postavení přiznáno i zákonem o krají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MINISTERSTVO VNITRA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on o krají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M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a) koordinuje vydávání směrnic ministerstev a jiných ústředních správních úřadů, jež se dotýkají přenesené působnosti kraje nebo přenesené působnosti obce; k tomu vydává Věstník vlády pro orgány krajů a orgány obcí; podmínkou platnosti směrnic ústředních správních úřadů je jejich vyhlášení ve Věstníku vlády pro orgány krajů a orgány obcí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b) kontroluje dodržování usnesení a opatření vlády v činnosti příslušných orgánů kraje a poskytování odborné pomoci krajským úřadem obcím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c) organizuje porady ředitelů krajských úřadů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d) ve spolupráci s příslušnými ústředními správními úřady organizuje provádění kontrol na vybraných úsecích činnosti orgánů kraje, vyhodnocuje jejich výsledky a předkládá vládě návrhy na potřebná opatření,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e) řídí a ve spolupráci s příslušnými ministerstvy koordinuje výstavbu a realizaci informačních systémů krajů a zabezpečuje řešení a realizaci projektů.</a:t>
            </a:r>
            <a:r>
              <a:rPr b="0" lang="cs-CZ" sz="17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MINISTERSTVO INFORMA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středním orgánem  státní správy pro  informační  a  komunikační  technologie,  pro  telekomunikace a poštovní služby (§ 18 kompetenčního zákon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petence upravuje dále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kon č. 365/2000 Sb., o informačních systémech veřejné správy, zákon č. 127/2005 Sb., o elektronických komunikacích, zákon č. 29/2000 Sb., o poštovních službách a zákon č. 227/2000 Sb., o elektronickém podpis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dle svých webových stránek koordinátorem rozvoje elektronické veřejné správy, e-Governmentu v České republi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/ ÚŘAD VLÁDY Č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středním orgánem státní správy podle zák. č. 219/2002 Sb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ní úkoly spojené s odborným, organizačním a technickým zabezpečením činnosti vlád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o jeho kompetencí přešla v roce 2004 z MV oblast reformy a modernizace ústřední státní správy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na podzim 2006 odešla zpě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omunikace a kompetence krajů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ecné funkce středního článku VS (Grospič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tegračn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koordinačn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ejména služební dohled, odborný dozo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radní funkce spojená zároveň s odbornou a metodicko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mocí základnímu stupn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rozdělování, resp. přidělování finančních prostřed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g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lkých územních cel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prostředkující funkce vůči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unkce krizového řízení v rámci region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LEVANTNÍ KOMPETENCE KRAJSKÉHO ÚŘADU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a) přezkoumává rozhodnutí vydaná orgány obce v řízení podle zvláštních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zákonů , pokud není zákonem tato působnost svěřena zvláštnímu orgánu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nebo zákon nestanoví jinak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b) ukládá sankce podle zákona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c) poskytuje odbornou a metodickou pomoc obcím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d) zabezpečuje koordinaci výstavby a provozu informačního systému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kompatibilního s informačními systémy veřejné správy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e) organizuje kontroly výkonu přenesené působnosti obcí, vyhodnocuje jejich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výsledky a předkládá příslušnému ministerstvu, popřípadě vládě, návrhy na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potřebná opatření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f) zřizuje funkci koordinátora pro romské záležitosti,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) kontroluje v potřebném rozsahu a prostředky, které zákon dává k dispozici,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činnost orgánů obcí při výkonu přenesené působnosti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) v přenesené působnosti vykonává dozor nad výkonem samostatné a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přenesené působnosti obcí podle zvláštního zákona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BRANÉ VÝSLEDKY EMPIRICKÉHO ŠETŘ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1) PROJEKT MV Č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Cílem získat odpovědi na následující otázk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ak obecní a krajští vedoucí úředníci vnímají celkovou kvalitu vzájemné komunikace?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S kým a jakým způsobem nejčastěji komunikují?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Co je v současnosti předmětem vzájemné komunikace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a na co by se měla zaměřit?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aké bariéry a nedostatky vnímají  vedoucí úředníci  obcí a krajů v dosavadním procesu komunikace?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aké mají vedoucí úředníci konkrétní návrhy na zlepšení komunikace (mezi obecním a krajským úřadem, i v rámci celého systému státní správy)?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VYBRANÉ VÝSLEDKY -  OBECNÍ ÚŘEDNÍCI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1) Vymezení komun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druhem interakce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mezi subjekty, při které probíhá výměna informací 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v určitém čase </a:t>
            </a:r>
            <a:br>
              <a:rPr sz="2800"/>
            </a:b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a na určitém místě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při použití určité technologi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ritickou fází v procesu, kdy se informace stávají užitečnými a použitelnými (RESP. KDY SE MOHOU STÁT..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(realizace ekonomické hodnoty 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informac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komunikátor .... dekódování příjemc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2) PROJEKT MMR Č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tázky související s využitím IC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ak často v rámci své činnosti vedoucí úředníci užívají vybraných nástrojů e-VS?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aká je informační gramotnost vedoucích úředníků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omníváte se, že by bylo možné širším využitím internetu dosáhnout snížení výdajů (zlepšení hospodárnosti) vašeho úřadu? Pokud ano, jak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omníváte se, že by bylo možné širším využitím internetu dosáhnout lepšího uspokojování potřeb klientů vašeho úřadu? Pokud ano, jak?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e kterých oblastech činnosti vašeho úřadu byste uvítal(a) širší využití internetu v činnostech jejich obce / krajského úřadu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VYBRANÉ VÝSLEDK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) Komunikace ve veřejné správě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2) PROJEKT KÚ JMK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tázky související přímo s využitím IC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respondenty tajemníci a starostové !!!!!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íra spokojenosti s vybranými aspekty kvality poskytování informací ze strany KrÚ JM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íra preference užít vybrané komunikační prostředky pro získání různých typů inform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íra spokojenosti s kvalitou informací uveřejňovaných na webových stránkách  KrÚ JM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mage KrÚ JM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(VYBRANÉ VÝSLEDKY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Výsledky empirického še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 studijních podkladech najdete: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nalýzu koordinačních mechanismů ústřední státní správy vůči územní veřejné správ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RESORTISMUS"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doprovodné informac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ožnosti a limity dělby kompetencí mezi státe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 územní samosprávo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http://www.mvcr.cz/sprava/reforma/moznosti.html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1) Vymezení komun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rvky komunikac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unikátor (vysílatel informace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nímání vysílané informace (interpretace komunikátorem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kódová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děl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ateriální nosič nebo komunikační kanál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 přenos sdělení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íjemce sděl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nímání - interpretace (příjemcem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kódování příjemce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pětná vazba (v případě kritického přístupu příjemce +/-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šu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1) Vymezení komun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rvky komunikace </a:t>
            </a:r>
            <a:br>
              <a:rPr sz="26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(the Shannon-Weaver Communication Model)</a:t>
            </a:r>
            <a:br>
              <a:rPr sz="2000"/>
            </a:b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* Zdroj Level, A. D., Galle, W. P.: Managerial Communication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734544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1) Vymezení komun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rvky komunikac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(model Wilbura Schramma)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* Zdroj Level, A. D., Galle, W. P.: Managerial Communic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72738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1) Vymezení komun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9320" y="1916280"/>
            <a:ext cx="79437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ÚČEL KOMUNIKACE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(Mleziva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ioritní - sdělování a výměna informa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ale také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zinforma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hledávání společenských styk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žnos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uplatnit v komunikaci určitý záměr,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vlivnit ostat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není tak snadné, jsou-li mezi účastníky také ti, kteř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ají stejné tendence, ale opačné názory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čel, který má původ vně komunikace a je dán splněním určitého úkolu - „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řipravená i vyprovokovaná komunik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, při které subjekt sám chce nějaké informace získa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výzva k rozhovoru, dotazník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PROČ SE TĚMITO VĚCMI ZABÝVAT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JE KOMUNIKACE VE VEŘEJNÉ SPRÁVĚ DŮLEŽITÁ???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PROČ??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ůležitost komunikace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aždý potřebuje k rozhodování inform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ace považována za významný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aktor efektivnosti a účinnosti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ace j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zbytnou součástí komplexnější formy kooperačního chování - koordin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JE RELEVANTNÍ JENOM V OBLASTI STÁT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Y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IMON: z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ákladní problém, který existuje </a:t>
            </a:r>
            <a:br>
              <a:rPr sz="2400"/>
            </a:b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u složitějších organizac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 všechny informace relevantn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ro konkrétní rozhodnutí má v rukou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rávě rozhodovací subjek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7:35:28Z</dcterms:created>
  <dc:creator>77120</dc:creator>
  <dc:description/>
  <dc:language>en-US</dc:language>
  <cp:lastModifiedBy>77120</cp:lastModifiedBy>
  <dcterms:modified xsi:type="dcterms:W3CDTF">2007-04-10T09:51:48Z</dcterms:modified>
  <cp:revision>280</cp:revision>
  <dc:subject/>
  <dc:title>1. Teoretická východiska předmětu </dc:title>
</cp:coreProperties>
</file>