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891-F6DD-4272-ADD5-DE10211B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50B-87DE-47EE-A36A-D701D361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AE7-928C-4F86-821B-AEA2925D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7DC-C394-44A1-BC31-C6BB8C00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ADC2-F96E-4ACF-893E-2271385D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14DC-DA78-4006-9D75-0363BC45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E4C0-BC27-4963-ADBC-32D89FE6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837A-FDD0-4B77-8577-D7B6F965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4CCD-49B5-43FA-B206-87B39826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EB4A-C1C6-4432-91DE-76B45F4D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542A-2D7A-4354-9C40-179D553C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DF1-8152-4050-911E-B121015A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F7E1-1ABF-4AD2-A422-CCA05272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239B-85FD-4022-8A31-4FF8C7B0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BBA3-0AC2-483E-A7A0-EA675E7B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4B62-46DD-48E9-87C1-61E759F1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8D46-DC1D-4723-9FFB-DAE42B3A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D20-E36E-4F31-B8DA-34081BCF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8EF-2336-4F47-B08D-D421A59E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A38-60A0-4DD8-AA73-37B021C7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4E5-E502-4E19-B61C-CC037481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601-83FA-4A78-A1AD-12A73870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039-9348-46F6-A2E1-B7081BD1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A67-D07F-4E95-A5DC-B064782A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BA66-5631-4C42-92F3-A25FCD56B26A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D5EA-66F9-4875-B189-4D328120450C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Procesy.doc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ystem.VS.doc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agepublications.com/promos/1075001_sjo_freeaccess.htm" TargetMode="External"/><Relationship Id="rId2" Type="http://schemas.openxmlformats.org/officeDocument/2006/relationships/hyperlink" Target="http://www.sagepublications.com/promos/1075001_sjo_freeaccess.htm" TargetMode="External"/><Relationship Id="rId3" Type="http://schemas.openxmlformats.org/officeDocument/2006/relationships/hyperlink" Target="http://www.sagepublications.com/promos/1075001_sjo_freeaccess.htm" TargetMode="External"/><Relationship Id="rId4" Type="http://schemas.openxmlformats.org/officeDocument/2006/relationships/hyperlink" Target="http://www.sagepublications.com/promos/1075001_sjo_freeaccess.htm" TargetMode="External"/><Relationship Id="rId5" Type="http://schemas.openxmlformats.org/officeDocument/2006/relationships/hyperlink" Target="http://www.sagepublications.com/promos/1075001_sjo_freeaccess.htm" TargetMode="External"/><Relationship Id="rId6" Type="http://schemas.openxmlformats.org/officeDocument/2006/relationships/hyperlink" Target="http://www.sagepublications.com/promos/1075001_sjo_freeaccess.htm" TargetMode="External"/><Relationship Id="rId7" Type="http://schemas.openxmlformats.org/officeDocument/2006/relationships/hyperlink" Target="http://www.sagepublications.com/promos/1075001_sjo_freeaccess.htm" TargetMode="External"/><Relationship Id="rId8" Type="http://schemas.openxmlformats.org/officeDocument/2006/relationships/hyperlink" Target="http://www.sagepublications.com/promos/1075001_sjo_freeaccess.htm" TargetMode="External"/><Relationship Id="rId9" Type="http://schemas.openxmlformats.org/officeDocument/2006/relationships/hyperlink" Target="http://www.sagepublications.com/promos/1075001_sjo_freeaccess.htm" TargetMode="External"/><Relationship Id="rId10" Type="http://schemas.openxmlformats.org/officeDocument/2006/relationships/hyperlink" Target="http://www.sagepublications.com/promos/1075001_sjo_freeaccess.htm" TargetMode="External"/><Relationship Id="rId11" Type="http://schemas.openxmlformats.org/officeDocument/2006/relationships/hyperlink" Target="http://www.sagepublications.com/promos/1075001_sjo_freeaccess.htm" TargetMode="External"/><Relationship Id="rId12" Type="http://schemas.openxmlformats.org/officeDocument/2006/relationships/hyperlink" Target="http://www.sagepublications.com/promos/1075001_sjo_freeaccess.htm" TargetMode="External"/><Relationship Id="rId13" Type="http://schemas.openxmlformats.org/officeDocument/2006/relationships/hyperlink" Target="file:///../Osnova_a_predpoklady_absolvovani_2007.doc" TargetMode="External"/><Relationship Id="rId14" Type="http://schemas.openxmlformats.org/officeDocument/2006/relationships/hyperlink" Target="file:///../Temata.seminarek.2007.doc" TargetMode="External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1. Základy teorie veřejné správy a systém veřejné správy v Č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95640" y="4076640"/>
            <a:ext cx="39290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řednáška č. 1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David Špače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tedra ve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řejné ekonomie - 524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pacekov@econ.muni.c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únor 2007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) MATERIÁLNÍ (FUNKČNÍ) POJETÍ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VS jako souhrn všech správních činností předmětně souvisejících s vládnutím na různé úrovni (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pozitivní vymezení vypočtením všech funkc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 širokém pojetí tedy i moc zákonodárná a soudní - (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těžké je zřetelněji odděli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1FF-4C68-4E74-BD8A-BF098326C5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b) FORMÁLNÍ (ORGANIZAČNÍ / INSTITUCIONÁLNÍ) POJETÍ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VS jako činnost konkrétních nositelů veřejné správy, které se charakterem své činnosti liší od subjektů moci zákonodárné a subjektů moci soudní (negativní vymezení VS), a které jsou následně děleny na subjekty: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STÁTNÍ SPRÁVY 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SUBJEKTY SAMOSPRÁVY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MEZI TĚMITO SUBJEKTY SPÍŠE KOMPLEMENTÁRNÍ NEŽ SUBSTITUČNÍ VZTAH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888-E46E-4D29-83C7-6AC4CB002E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! materiální a formální vymezení veřejné správy se zcela nekryje 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HENDRYCH: „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Rozhodujícím kritériem pro odlišení všech zmíněných činností není ... hledisko materiální, ale formální. Rozhodující se zdá být nikoli druh činnosti, ale orgán (úřad) ji vykonávající, s jeho základními atributy: působností a pravomoc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odle obsahového hlediska veřejných úkolů se kombinací materiálního a formálního pojetí rozlišuj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RÁVNÍ ODVĚTV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ávní právo hmotné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43C-778B-4F6A-826F-32298687A9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1) VEŘEJNÁ SPRÁVA VRCHNOSTENSKÁ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- VS jako činnost podzákonná - důraz na funkci mocenské ochran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VS jako činnost podzákonná a nařizovac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etodami donucovacími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rojevuje se subjektivit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řejné moc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tradičně rozpracovány českou teorií správního 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42E-1ACF-4884-8879-3C46A93BAF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2) VEŘEJNÁ SPRÁVA NEVRCHNOSTENSKÁ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VS jako činnost podzákonná 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rganizujíc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rganizačně zabezpečit fungování veřejné správy uvnitř i navenek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ečovatelská / veřejná správa jako služba;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S veřejnosti něco ve veřejném zájmu zabezpečuje, nikoli však formou hospodářské výdělečné čin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ouvisí s fenoménem sociálního stá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ředevším zde se projevují ekonomické aspekty veřejné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89C-2776-41F6-A627-5FA0283E64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hraniční literatura: termín „vláda“ (= stát = regulace = intervence... = systém veřejné moc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ská literatura se někdy snaží specifikovat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užívá tezí správního práva, neb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mezuje obsahově odlišně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rávní odvětví jako podskupiny veřejno-správ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ompetence vs.  postavení veřejné správy v národn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hospodářstv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hly pohledu na veřejnou správu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ubjekt s kompetencí zakládat, řídit / spravovat subjekt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řejného sektoru (ovlivňuje tak i jeho selhávání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oducent veřejných stat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ecifický prostor pro uplatnění osobních či jiných zájm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byrokra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mohou se překrývat, vždy důraz na aspekt EFEKTIV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037-396A-4433-A7B0-D84077F910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chrana, F. Veřejný sektor a efektivní rozhodo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způsob přijetí rozhodnutí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veřejná volb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67564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D05-FD90-468E-9075-BB03496DEF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současnosti ohraničovány dvě základní koncepce / filozofie / přístup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ekonomie a managementu soukromé sfér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tzv. tradiční správa (Weber, Wilson)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manažerismu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(byrokracie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tr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do sebe zahleděné řízení vs. zaměření se n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klient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inputově dominující struktura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efektivní výstup a výsled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krátkodobé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strategic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uvaž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prostorem, který je věnován řízení a předevš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ntrole výkonů a výsledků a (osobní) odpovědnos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 výsledk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funkce správy užší a limitovanější, než funkc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managementu – spravování jeho součástí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Základní rozdíl je ve významové odlišnosti mezi „sloužit“ a 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„kontrolovat výsledky nebo dosahovat výsledků“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BF3-C08F-4364-88E8-06E455291F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*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ředníci mají manažerské rol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          (včetně řízení vztahů byrokracie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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olitika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mohou se objevit vážné otázky, které se týkají etiky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povědnosti, avšak přínosy PM jso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vděpodobně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nohem větší než náklad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měny se dosud odehrály především v teorii než v prax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znalosti?, neochota?, legislativa?, funguje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soukromém sektoru?...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ublic management NEZNAMENÁ nekritické převzet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ktik soukromého sektor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výrazný nedostatek prax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manažerské změn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podníceny z centra, aniž by byla následně věnován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ostatečná pozornost procesu jejich implement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OECD 2005: pozornost a) specifikům vlastní veřejné správy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b) nedostatkům nástroj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37C-2B93-44AB-9B0A-01F50ECA64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(good) governan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= diskuze o způsobu uplatnění moci v situaci demokratickéh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eficitu, která staví na kritice NP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kromý sektor vs. veřejný sektor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anažerismus vs. myšlenky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demokraci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proces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Citizens and the new governance - </a:t>
            </a:r>
            <a:r>
              <a:rPr b="0" i="1" lang="en-GB" sz="1800" spc="-1" strike="noStrike" u="sng">
                <a:solidFill>
                  <a:srgbClr val="292929"/>
                </a:solidFill>
                <a:uFillTx/>
                <a:latin typeface="Arial"/>
              </a:rPr>
              <a:t>Beyond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 New Public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Managemen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azník/spotřebitel služeb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luralita a formální rovnost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občan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articip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 komunitních záležitost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jiné pojetí efektivnosti? - Dahl: „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Efektivnost zde chápu tak, že orgány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státní moci se zabývají problematikou, kterou občané považují za důležitou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a aktuální a o níž jsou přesvědčeni, že si žádá řešen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 zde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alita není často v souladu s rétoriko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znalosti?, neochota?, legislativa?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železný zákon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ligarchie?, aktivní občanství?)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BFF-6C7F-4065-86C8-1CFD5F9BA8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íle předmě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přiblížit oblast veřejné správy České republiky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s ohledem na tyto tři prvky: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a) instituce veřejné správy 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b) činnosti veřejné správy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c) postavení zaměstnanců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 to rovněž využitím historického přístup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F3D-9817-45A7-A395-CEC1083E84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a b) = SPOR O RELEVANCI PRAKTICKÉ APLIKACE RŮZNÝCH TEORIÍ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východiska nové defini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N(PM) a (G)G se navzájem spíše doplňují, než vylučuj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veřejná správa specifickým nástrojem společenského řízení, který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však musí podléhat určitým řídicím procesům ("vnitřní" řízení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řídícího subjektu)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praxi řízení ovlivňuje VŽDY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kde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o se řídí_x000b_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jakým způsobem (jaká volnost řízení a odpovědnost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s jakým cílem (v čí prospěch?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e) s jakými zdroji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- významnými prvky/funkcemi řízení je plánování a kontrol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(vyhodnocování účinnosti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legitim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důraz na využití existujících znalostí a vytváření nových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poznatků (učení se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racional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F8C-2DF6-43C5-80D5-05D16D81DC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80154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SHRNUTÍ: mix materiálního a formálního vymez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x činností tradiční správy a řízení, který vyplývá z úlohy veřejné správy ve veřejném sektoru (část veřejného sektoru garantující – vlastní činností či jinak -zabezpečování jeho funkcí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eřejná správa je jedním z institucionálních nástrojů spadajících zejména do oblasti exekutivní moci pro účely organizace a řízení lidí a zdrojů k dosahování cílů stanovovaných politicky (Waldo), přičemž stanovování těchto cílů a kroky k jejich realizaci (úkoly) by v moderním státě mělo stavět na racionalitě (NPM) a také odrážet potřeby občanů (good governance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588-1D60-4792-92B8-DDD5688824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hrnutí: Stillman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1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exekutivní složkou státní moci (která nicméně souvis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důležitých směrech se složkou státní moci legislativ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ustiční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2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formulujícím a implementujícím veřejné politi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3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který ve své činnosti zahrnuje významný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zsah problémů týkajících se lidského chová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operačních snah lid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4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jehož činnost může být v několika směr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lišována od soukromé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5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produkujícím veřejné statk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6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zakotveným v právu a současně subjekte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konávajícím práv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FEE-FDAB-4AFF-9A51-AF3DC53FC9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P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řehled organizace české veřejné správ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I. K</a:t>
            </a: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ritéria členění české veřejné správ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) Podle subjek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stát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obce a vyšší územní samosprávné celky (kraje)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jiné samosprávné celky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ostatní subjekty veřejného nebo soukromé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CED-EB35-4E54-9967-0249EBBDF8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. K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itéria členění české veřejné s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2) Podle působnosti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a) územ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ústřed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vykonáv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ná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na celém území státu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- regionál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vykonávan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á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na části území stát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místní (někdy regionální + místní = "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local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)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b) věcné 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- ty, kterým je přikázána všeobecná působnost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ty, kterým je přikázána působnost dílč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ADC-3643-4162-A4B3-95FE58B7D9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. K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itéria členění české veřejné s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3) Pravomoc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Kriteriem, zda vykonavatel VS má oprávnění vydávat právní předpisy, správní akty nebo činit jiné vrchnostenské úkon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má vrchnostenskou pravomoc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ostatní vykonavatel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é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, jejichž úkony jsou jin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ovahy, např. konzultativní, služební atd.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EC7-5B01-48BD-9573-30677E0100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I. P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řehled organizace české veřejné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právy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1) VYKONAVATELÉ STÁTNÍ SPRÁVY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= „</a:t>
            </a:r>
            <a:r>
              <a:rPr b="0" i="1" lang="fr-FR" sz="2000" spc="-1" strike="noStrike">
                <a:solidFill>
                  <a:srgbClr val="292929"/>
                </a:solidFill>
                <a:latin typeface="Arial"/>
              </a:rPr>
              <a:t>ústavní orgány státu, zákonem zřízené správní úřady, jakož i orgány státních zařízení, veřejných sborů nebo jiných subjektů, jestliže jim zákon výslovně svěřil působnost a pravomoc vykonávat státní správu nebo tyto atributy na ně delegoval úřad k tomu oprávněný na základě zákona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Konkrétně: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láda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olegiálním orgánem, rozhoduje ve sbor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ministerstva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- monokratickým ústředním správním úřade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 dílčí věcnou působnost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ZÁKLAD RESORTISMU)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jiné správní úřady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(a to na centrální a nižší územní úrovn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) s celostátní působností přímo řízené vládou,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b) s celostátní působností řízené ministerstvy,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) s omezenou územní působností,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c9900"/>
                </a:solidFill>
                <a:latin typeface="Arial"/>
              </a:rPr>
              <a:t>DÚ - PŘÍKLAD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0C9-B988-4DD6-9A74-A26DC2E17A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I. P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řehled organizace české veřejné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právy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1) VYKONAVATELÉ STÁTNÍ SPRÁVY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 *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eřejné ozbrojené sbory nebo jiné veřejné sbory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hlava státu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státní orgány nebo úřady vykonávající státní správu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mimo její organizační soustav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jiné subjekty, na které byl výkon státní správy přenesen,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nebo jimž byl propůjčen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cc9900"/>
                </a:solidFill>
                <a:latin typeface="Arial"/>
              </a:rPr>
              <a:t>DÚ - PŘÍKLADY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0AD-6258-439B-9879-2E3F5AF4AC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I. P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řehled organizace české veřejné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právy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2) VYKONAVATELÉ OSTATNÍ VEŘEJNÉ SPRÁVY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rgány jiných právních subjektů než státu, pokud zákonem je na ně výkon veřejné správy delegován a trvale svěřen do jejich samostatné odpovědnosti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Konkrétně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a) orgány samosprávy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a to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- územní samosprávy nebo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- zájmové samo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b) jiné orgány, které nelze označovat jako samosprávné, neboť nemají žádnou členskou základnu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cc9900"/>
                </a:solidFill>
                <a:latin typeface="Arial"/>
              </a:rPr>
              <a:t>DÚ - PŘÍKLADY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6BD-FC54-4F63-A0D0-30289652D0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) Současný systém VS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D38-6AFF-476E-BFBA-A56E704941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íle předmě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29"/>
                </a:solidFill>
                <a:latin typeface="Arial"/>
              </a:rPr>
              <a:t>Těžištěm předmětu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problematika reforem veřejné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správy samostatné České republiky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s ohledem na výše uvedené tři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prvky a 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legislativní prostředí, v jakém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v současnosti tyto tři prvky existují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4B0-72BD-47E3-82BE-68F3434BD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Arial"/>
              </a:rPr>
              <a:t>Rozvržení předmětu a předpoklady pro absolvo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iz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sagepublications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om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promos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/1075001_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sjo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_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freeaccess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ht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Osnova a předpoklady absolvování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Témata seminárních prací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270-7E57-44CB-B638-56211101D5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1700280"/>
            <a:ext cx="7158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ZÁKLADY TEORIE VEŘEJNÉ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PRÁV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Literatura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Hendrych, D. et al: Správní právo (Obecná část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růcha, P.: Správní právo (obecná část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Hendrych, D. Správní věda - Teorie veřejné správy. 200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Máša, M.: Efektivnost veřejné správy a správní vě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omahač, R.; Vidláková, O.: Veřejná správ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Klíma, K. Teorie veřejné moci (vládnutí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Ochrana, F.: Veřejný sektor a efektivní rozhodování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ITIZENS AND THE NEW GOVERNANCE - Beyond New Public Management. (Editor: Luc Rouban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osenbloom, D. H. et al.: Contemporary public administr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illman II, Richard J.: Public Administration: Concepts and Cas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http://www.coe.int/T/E/Clrae/_5._Texts/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7FA-A0A5-45FE-BBA8-7383201E55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1) Vymezení veřejné s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OVINA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ávní (ústavní a správ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ekonomická (veřejná ekonomi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ouvisející disciplíny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interdisciplinární (současný?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správně vědní?, manažerující?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VŽDY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snaha specifikovat roli veřejné správy v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   veřejném sektor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vztah k legitimitě (potvrzení/vyvráce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jejích činnost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29C-B289-431D-BD57-B98280B3A2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elze pominout Fosthoffův výrok, že veřejná správa může být jen popsána, nikoli však definována“ (Hendrych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ÁVA: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ažák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sledující záměrně nějaký cíl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nebo ..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nesoucí se za trvalým účelem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dit ty kter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áležit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mahač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jde o řídící činnosti, a to činnosti záměrné,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účelové, kontinutální a organizovan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institucionalizované kontrolní a regulativní čin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ůcha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právou se v podstatě chápe společensk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zení, které však má určité specifické rysy a realizuje s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e specifických formác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088-9630-4846-BB9C-3BCAA66648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98120" y="1844640"/>
            <a:ext cx="7661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ČNOST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řejnoprávní charakter subjektu veřejné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avování (tj. nositel veřejné moci),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jekt správy - „veřejné záležitosti“ legitimovan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veřejným zájmem“,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odvozenost cílů od funkcí státu či územní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samosprávného celk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onné založením subjektu i objektu tohot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ruh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olečenského řízení (v různé míř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nkrétnosti), = rule of la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A0E-69D4-47F7-8591-512F37B9B0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pozitiv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negativ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materiální (funkční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formální (organizační / institucionální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sem spadají seminárky !!!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státní sprá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vrchnostenská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nevrchnostenská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KONOMICKÉ ASPEKTY VEŘEJNÉ SPRÁV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oblasti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amo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ětší prostor pro konkretizaci cílů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žádoucích stavů) a kroků k jejich dosažení (a tím i pro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novaci – a tím i pro řízení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edpokládá znalosti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u reformátorů VS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u úředníků / politi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u hodnotitelů VS činnost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.. a jiné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apacit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390-03CA-49EA-AD85-3EE94CF694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0:31Z</dcterms:created>
  <dc:creator>77120</dc:creator>
  <dc:description/>
  <dc:language>en-US</dc:language>
  <cp:lastModifiedBy>77120</cp:lastModifiedBy>
  <dcterms:modified xsi:type="dcterms:W3CDTF">2007-02-19T07:29:21Z</dcterms:modified>
  <cp:revision>352</cp:revision>
  <dc:subject/>
  <dc:title>Snímek 1</dc:title>
</cp:coreProperties>
</file>