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B63-2118-4756-85BA-BFFFB3D2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ECE-1171-438E-9C38-ECBC16F5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D40-13A8-413E-98DB-EE9CF75E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B71-AFFE-49AF-99B7-16E6930F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46D8-E510-49EA-8B54-D675AB89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1130-466E-4661-AF40-20C9B490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26CF-6A2F-4A83-99E6-5806DE9D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1CCB-D385-4057-9B39-7BE21C40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01D1-5B7C-4B88-A6CF-852FCF89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7DA8-C77C-4EC8-9D3D-1A7A02B9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E924-1FEA-4DF4-9500-C63FABDA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541-FD0E-4205-84A7-7102E6CD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80DF-2988-445B-BEE1-70646DB9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5F7D-AC7B-4118-9BA7-1A1C7C89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38FE-BB6B-410B-8B6A-998B5AF8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1118-729B-40EA-BD3B-8C23F2C7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B0A4-E854-4258-9D41-1CFFB35F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C37-F119-4D51-84EB-9C59476F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B98-941C-4CCD-A394-B670AF16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9B0-7511-486C-A5C9-C4ABD770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3FD-2E39-4780-92DA-48FE56D2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B98-CE32-41A0-8E27-9163F0D9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73C-C828-4273-8AE0-C417521F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CCE-9816-44B6-A26F-D860DFE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8AD0-5089-4F81-9F3C-1CF412A05DD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3F9A-4170-41BA-8469-5F408EFA07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7C26-00AA-40FE-8609-42AF41D2390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AA20-1528-40E2-ADB7-5B72D7882B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174C-1AB2-4F25-86DF-E8B0020736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223B32E-7BBC-4F0C-B898-3B7FAF5326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je určitým stupněm abstrakce reálných systé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924280"/>
            <a:ext cx="115236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3206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221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92A-FCB0-479E-9348-F26D3CF20E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E250E-0FFA-4C9B-83FC-DA552C341A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ztah mezi objektem a jeho     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mode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48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54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54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085920" y="240012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2"/>
            <a:endCxn id="131" idx="0"/>
          </p:cNvCxnSpPr>
          <p:nvPr/>
        </p:nvCxnSpPr>
        <p:spPr>
          <a:xfrm>
            <a:off x="6895800" y="281952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1"/>
            <a:endCxn id="133" idx="3"/>
          </p:cNvCxnSpPr>
          <p:nvPr/>
        </p:nvCxnSpPr>
        <p:spPr>
          <a:xfrm flipH="1">
            <a:off x="3085560" y="548604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0"/>
            <a:endCxn id="130" idx="2"/>
          </p:cNvCxnSpPr>
          <p:nvPr/>
        </p:nvCxnSpPr>
        <p:spPr>
          <a:xfrm flipV="1">
            <a:off x="2095200" y="281916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47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9051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 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e   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952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2D0-4EA2-4123-AF39-DE43FF13B22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33D55-2FF6-4C2E-B599-348FC641F2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lasifikace model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očekávaného použití mod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no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izač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le zobrazované stránky zkouman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míš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tvaru výstu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i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ha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fyzické podoby mode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enšené repliky reálných objek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ční obdoby reálných objektů (analogové mod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, které formalizují reálný objekt pomocí symbolů, matematických výrazů a vztahů – modely matema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184-728B-47B5-98A3-2A5319AFCC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9B31C-2C64-44F1-805D-3CB90210C4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jčastější chyby při sestavování model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išné zjednodušení mode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zahrnuje zbytečné nebo nepodstatné veli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modelu je nespráv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625-C585-4FFB-A19A-1F3C569449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5CE05-1C4C-4044-A91D-82715A14DA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ce matematického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aramet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roměnný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účelové funk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soustavy ome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ntifikace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CF3-79D1-4F5B-A1FD-15D28D3706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1EA5F-673D-49A4-A10D-9F31ECE2A8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cké program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riteriální rozh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á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řízení zá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ob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romadné obsl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ové 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62A-A11F-4B4A-9DCC-1102395FC0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489F7-E405-4410-8B19-FDD0B34776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 - histor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model lineárního programování (LP) -  vytvořen při řízení výroby a organizaci hospodářství v průběhu II. světové války ve Velké Britanii a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létech 1940-45 vypracov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. B. Dantzig simplexovou met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niverzální algoritmus pro řešení úloh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ce 195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. Charnes a W. W. Coo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čali využívat LP ve výrob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ledujících léte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. Bellm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l teoretické a matematické základy pro dynamické program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rozvoj LP nastal pak v létech 1955-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694-0663-44BC-99BD-FDEF87C5A1E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F51F6-3B6D-4722-9471-D018104C25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e přednáš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t principům optimalizace při daných omezen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ázat formulovat model lineárního programování (L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ět graficky řešit úlohu LP se dvěma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obecné vlastnosti přípustných řešení úlohy 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0B5-3435-40FC-ADD8-31D329DFCC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1E7D3-5E6D-458B-9F93-05E41D2CA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 vyrábí dva výrobky V1 a V2, které se zpracovávají na dvou typech strojů A a B. Zhotovení jednotky výrobku V1 vyžaduje 6 strojových hodin na stroji typu A a 3 hodiny práce na stroji typu B. Obdobně zhotovení výrobku V2 vyžaduje 4 strojové hodiny jak na stroji A tak i na stroji B. Podnik má měsíčně k dispozici celkem 3 000 strojových hodin na strojích typu A a 2500 strojových hodin na strojích typu B. Cena jednotky výrobku V1 činí 200 Kč a cena výrobku V2 je 300 Kč. Podnik má zaručený odbyt obou výrobků a není vázán na určitý sortiment. Je třeba rozhodnout, kolik má podnik vyrobit jednotlivých výrobků, aby dosáhl co nejvyšší celkové ceny odby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BA3-4AD2-42EF-9FFB-275BBF3C6E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03416-917F-47C2-84E7-98E475DA64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 lineárního programování jsou algebraické metody založené na řadě rovnic a nerovnic, které stanoví omezení pro úlohu a jsou užívány pro optimalizaci matematického výrazu, který nazýváme účelovou funkc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lová funkce a omezení daného problému musí být deterministické a musí být vyjádřeny v lineárním tva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369-1AE5-4B10-9B73-C080C9F284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AB7BE-3B1F-46CE-8F68-1506D48CCE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poručená litera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Vaculík, J. Zapl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ŮRNÉ METODY ROZHODOVACÍCH PROCESŮ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MU v Brně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Jablo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PERAČNÍ VÝZKUM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ŠE Praha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Klapka, J. Dvořák, P. Pope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ETODY OPERAČNÍHO VÝZKUM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VUT Brno,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. Wisniewski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ODY MANAŽERSKÉHO ROZHOD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Grada Publishing,Prah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A1E-A18F-4B8F-B44F-60048CC27C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EB325-7AC7-45E1-AA42-57C0F46A3A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tup při formulaci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a identifikace probl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popis problému (popis proces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fikace jednotlivých pr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inování proměnných, jejichž hodnoty máme nalézt. Vymezení jejich nezápor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omezujících podmínek zobrazujících vztahy mezi procesy pomocí soustavy lineárních nerovnic, resp.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kriteriální lineární funkce, vyjadřující cíl výpočtu (kriteriální funkce slouží k posouzení výhodnosti jednotlivých procesů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657-CBC6-4FF6-8A66-5FA3843251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A141E-B6EB-436A-9F84-947D3311E0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á formulace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neárního programování lze obecně vyjádřit matematickým zápisem tak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: najít extré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é funk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odmí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ice              je matice typu (m, n) a nazývá se matice soustavy omezujících podmínek,               je vektor proměnných,               je vektor pravých stran soustavy omezujících podmínek,               je vektor c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5604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957240" cy="151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792360" cy="34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086120" cy="23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03640" y="5084640"/>
            <a:ext cx="1076400" cy="238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796000" y="5445000"/>
            <a:ext cx="10764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4A1-5A4E-4BB8-94A3-D608D6E965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B2CE2-86DC-4048-86C3-6355A4EC83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kolem je pak řešit tuto soustavu rovnic a nerovn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 proměnných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rovnicím vyhov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stava má řešení právě tehdy, je-li hodnost rozšířené matice soustavy A/b rovna hodnosti matice soustavy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u z možností řešení soustavy je použi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aussovy eliminač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obíme-li libovolnou rovnici soustavy libovolným reálným číslem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≠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ipočteme-li k libovolné rovnici soustavy k-násobek jin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k soustava, kterou získáme je ekvivalentní soustavě původní a obě soustavy mají všechna řešení spole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94172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ED2-D6E9-433A-AAD7-81611A0E055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ADC1F-126D-4E94-A45E-0B67EBF8D9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 probíhá v těchto krocí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me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nonického tva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stavy (soustava je v kanonickém tvaru, jestliže matice A obsahuje jednotkovou submatici I, jejíž hodnost je h(I)=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nem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zí bazické řeš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azické = základní řešení – proměnné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-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řadíme 0, ostatní = hodnotám vektor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formací převedeme soustavu na jiný kanonický t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k, že z jedné nezákladní se stane základní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lezneme nové řešení soustavy a postup opakujeme až nalezneme všechna základ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889-CA33-4E0C-B2AF-6723AF9981E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6313C-2786-40BD-A475-92A0574CBE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jmy lineárního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pustným řeš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lohy lineárního programování je vekto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, který vyhovuje soustavě omezení úlo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azické řeš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přípustné řeš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hož kladné složky s´jsou hodnoty proměnných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jichž sloupce koeficientů v soustavě omezení tvoří lineárně nezávislou soustavu vek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ptimální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bazické řešení, které maximalizuje (minimalizuje) účelovou fun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241-5736-4205-A6EA-D49DE860AF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AB815-6C0E-4419-8FD2-814AEC16F2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rafické řešení úlohy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ká interpretace lineárních nerovnic a vlastnosti konvexních množin umožňují řešit úlohu LP graf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cká metoda se používá pro řešení úloh LP se dvěma proměnnými a konečným počtem omezujících podmí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je prakticky málo využitelná, neboť v praxi se zřídka vyskytují jednoduché problémy pouze se dvěma proměnný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nam grafické metody spočívá v názorné interpretaci základních vlastností modelu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F30-9240-4DA2-BC52-C2557C918F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766BA-37EC-4837-B24D-FC4D12860B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mulace matematického model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afické vymezení množiny přípustných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rafické zobrazení průběhu účelové 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lezení extrému (maxima, minima) účelové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376-A42B-42EE-A7E8-DC443DD617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B11FF-4D14-4D62-A89D-FA4AE84737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ová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ující podmín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14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10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00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32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nezápo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,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AAC-8734-4B18-A8F0-AA5FC6CF1E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1722D-5729-4F0A-9D0C-4910BE75A1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fické řešení příklad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3B6-DF30-412F-9B58-83C51672968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59CDC-625B-4280-A9F7-ECDE48937F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é vlastnosti přípustných řešení úlohy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ina bodů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x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stliže splňuje podmínku: patří-li do ní dva různé body, patří do ní také všechny body úsečky určené oběma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ožina přípustných řešení úlohy LP je konvexní množina s  konečným počtem vrch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600360" cy="13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FA9-1A66-4A39-978D-21B60BCAC7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E5156-D733-4552-BB84-F1AA4F98B0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ční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výzkum, Operational Research, Kvantitativní metody, Ekonomicko-matematické metody, Management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analýza je aplikace vědeckých metod na komplex problémů vznikajících při řízení složitých systémů lidí, strojů, materiálních a fin. prostředků ve výrobě a obch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em je pomoci vedoucím pracovníkům podložit jejich rozhodnutí vědeckými metod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perační analýza představuje způsob týmové práce, při které skupina specialistů různého odborného zaměření komplexně řeší složitý ekonomický, technický nebo organizační problé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Arial"/>
              </a:rPr>
              <a:t>Kolektiv autorů VŠB-TU Ost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4A7-C9FA-42A8-B7A2-5309E96E13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D6016-5D05-48B2-A9AA-033F6E2085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lasifikace množin přípustných řešení v modelu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prázd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konvexní polyed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7080" y="2422080"/>
            <a:ext cx="42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168720" cy="154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1938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27640" y="4076640"/>
            <a:ext cx="2665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loha má jediné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když se přímka účelové funkce dotkne vrcholu polyed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nečně mnoho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dyž přímka účelové funkce protíná konvexní polyedr ve dvou vrchol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5BF-4B0A-4533-B4CE-0499AF5FDD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D304C-138D-47F4-B351-D784E5F77D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nožina přípustných řešení je neohraničen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E84-1473-41BB-B206-B29E77839F9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0B7A9-DC54-425E-A539-3B8F9BF88A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ákladní věta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á funkce v modelu lineárního programování nabývá svého extrému na hranici konvexní množiny přípustných řešení (ve vrcholu konvexního polyedr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základní věty LP je možno optimální řešení modelu LP vybírat z konečného počtu řešení: model LP má konečný počet omezujících podmínek a konvexní množina přípustných řešení má proto konečný počet vrcholů. V jednom z vrcholů je hledané řeš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7F4-6237-40A9-A631-1F6FC445E5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D2273-7828-416B-974B-6B99082FB3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y použití L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výrobního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zné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směš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dopra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ém směsí v naftových a chemických rafinériích, výběr dodavatelů nebo odběratelů pro velké podniky s mnoha závody, určení expedičních tras a časových plá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9FC-CFED-4C9A-B66E-DD8A215482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A0696-920B-4CA8-AC47-24A4F85BAD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exová meto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ční výpočetní po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nalezení optimálního řešení úlohy lineárního program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dvě základní 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ovení výchozího základního přípustnéh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řechod od základního přípustného řešení k druhé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, aby se zlepšovala hodnota účelové funkce a dosáhla svého op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ED3-8835-4D81-A25B-0695CF1093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86EF6-2546-4CFA-AC8A-78E8DBFDD1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terační post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rčení klíčového sloup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rčení nebazické proměnné, která bude vstupovat do bá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ax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‹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in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rčení klíčového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(určení bazické proměnné, která bude vystupovat z báze a bude nahrazena proměnnou klíčového sloup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edáme min 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kud neexistuje ve sloupci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, pak úloha nemá konečné optimální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vedeme výměn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měnné vstupující do báze a proměnné vystupující z báze, přetransformujeme simplexovou tabu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stup opakujeme tak dlouho dokud nenalezneme optimální řešení nebo nezjistíme, že úloha optimální řešení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Řešení je optimální, jestliže v řádku cen při maximalizaci jsou všechna čísla nezáporná a při minimalizaci ne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977-F97E-4FD0-BD67-9FC3A0D89D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F588C-84B2-4CB2-B61D-57BE33D4B4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akteristika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poru rozho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složitých problém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deckého přístu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problémů spojeného s aplik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vé techn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ýmová organizace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kt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hastické pov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álných proc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FB6-A32D-4F7B-9923-D08C2BF5C9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54661-4A02-4E06-A611-ADB58DE9E6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hodovací pro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49440" y="1685880"/>
          <a:ext cx="649764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85880"/>
                    <a:ext cx="64976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D1A-798D-4A72-B5A3-2244E42389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911C2-09D3-4B53-BDA4-85801287BA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lasti využití MO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 a řízení 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operativního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izace výrobního programu, analýza výrob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prodeje výrobků a jejich distribuce (hledání vhodného umístění skladů, prodejen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ma )optimální lokalizace finančních prostředků do jednotlivých sdělovacích médi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plánování (optimalizace portfolia fi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projektů (výstavba nových objektů, organizace a řízení konferencí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zá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hodování za rizika a nejist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626-0FBA-431E-A80F-FFC20382F1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21EFA-C008-494F-80BA-8D03A603A1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ruktura postupu implementace metod operační analýz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Řešení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nterpret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Realiz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Ver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FAD-E9B4-4727-859D-1C12B26103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ED11F-82FA-470F-89B9-AD8014D4D7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cílů a definice problému ústí ve výběr těch prvků reálného objektu a vazeb mezi nimi, které jsou z hlediska řešeného problému významné – „definice systému na reálném objektu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 – účelově zjednodušená verze reálného ob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em pak může být grafické nebo tabulkové znázornění hlavních faktorů a vazeb mezi 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100800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360-7BF6-4986-8DE6-76ABBF2976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41FAD-3481-4988-8ABA-E47D89D375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 problému pak vyúsťuje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ci cí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kterého chceme řešením problému dosáhno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ymezení hlavních c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sažení stanoveného cí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ýbě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lavní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ktor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ůsobících na řešení problém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čení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mezujících podmín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nichž se může řešení pohyb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EC7-5375-4482-B263-81C156EDFA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2C787-3419-4702-8F3E-CDA5B00360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7:46:05Z</dcterms:created>
  <dc:creator>hrstkova</dc:creator>
  <dc:description/>
  <dc:language>en-US</dc:language>
  <cp:lastModifiedBy>hrstkova</cp:lastModifiedBy>
  <dcterms:modified xsi:type="dcterms:W3CDTF">2004-10-01T08:29:43Z</dcterms:modified>
  <cp:revision>6</cp:revision>
  <dc:subject/>
  <dc:title>Metody operační analýzy</dc:title>
</cp:coreProperties>
</file>