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4EF-C497-4CFA-99E3-E3A9EF6D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E12-7489-4490-83D6-61B4DD43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F08-C4B7-47F7-8C48-6DDFC4D0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BA2-946D-4767-94E8-63B5EE29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DB12-8997-4B7C-903D-5AEEEA40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5101-7451-4D30-A9CC-AE0FEC64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9DA3-92D3-4857-BF18-A1B7C450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C2C9-4E84-4DB6-8DD9-71E53888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BA29-60E1-4935-B41E-F497DFED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82EC-9418-44FD-8402-DFA2F65C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AAC5-7212-4195-9F11-890109ED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F6B-0ED8-4EAB-B00A-63BF57CE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CEA6-FA9E-42A7-999B-0F6714E3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225E-7AEB-494A-952E-DEC0D3AB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BF84-C678-40A2-B2E4-6E0EF4D7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59A8-E591-4EE1-9370-7315FC6C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EE57-F036-4206-9E7E-CCABED77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EE6-9033-4EB7-AF98-27866911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724-1723-4683-B27C-ED55F2B0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C69-1CD6-4D4A-96A7-F68E0B8B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ED8-4353-474A-8DB2-934B1985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BD5-5F30-41CE-92B2-FDCAFC22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8E9-6D12-4ABE-8167-C60299AC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41F-D12D-4237-A3EE-9D940B15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4967-501B-4B5E-8CAB-7EC179DAD77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B999-78EF-40B4-B400-EF8B46A09D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12E7-BE19-48DC-9AC3-E6FBEA75E42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0457-E80E-4DCD-8956-70F00C6FFA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9B32-4D66-43A8-BFD4-EA85EA03332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DBBEAE1-AD13-4F63-9164-2B5BDE3167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je určitým stupněm abstrakce reálných systé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30686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álný 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2924280"/>
            <a:ext cx="115236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9080" y="3206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328464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3284640"/>
            <a:ext cx="648000" cy="21564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422100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272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1A2-FBE7-4F85-BAEF-708D31ED3E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AC9D6-A90B-47F0-A874-54FBDE778F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ztah mezi objektem a jeho      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model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048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054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54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048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3"/>
            <a:endCxn id="132" idx="1"/>
          </p:cNvCxnSpPr>
          <p:nvPr/>
        </p:nvCxnSpPr>
        <p:spPr>
          <a:xfrm>
            <a:off x="3085920" y="240012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2"/>
            <a:endCxn id="131" idx="0"/>
          </p:cNvCxnSpPr>
          <p:nvPr/>
        </p:nvCxnSpPr>
        <p:spPr>
          <a:xfrm>
            <a:off x="6895800" y="281952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1" idx="1"/>
            <a:endCxn id="133" idx="3"/>
          </p:cNvCxnSpPr>
          <p:nvPr/>
        </p:nvCxnSpPr>
        <p:spPr>
          <a:xfrm flipH="1">
            <a:off x="3085560" y="548604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3" idx="0"/>
            <a:endCxn id="130" idx="2"/>
          </p:cNvCxnSpPr>
          <p:nvPr/>
        </p:nvCxnSpPr>
        <p:spPr>
          <a:xfrm flipV="1">
            <a:off x="2095200" y="281916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44792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5257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ob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19051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vo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řešení 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505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ce   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49528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25F-A3B9-41E7-8785-C8B5B37F91F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9A5C9-D5D4-4BD3-9F97-6094E199AF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lasifikace model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očekávaného použití mode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isn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no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izač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le zobrazované stránky zkoumaného ob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truk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ch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míše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tvaru výstup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i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cha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fyzické podoby mode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enšené repliky reálných objekt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kční obdoby reálných objektů (analogové mode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, které formalizují reálný objekt pomocí symbolů, matematických výrazů a vztahů – modely matema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CB5-80B0-4F2E-BD34-3AD8A2D1F4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763C2-9CA0-4240-8FA0-678363997D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jčastější chyby při sestavování model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lišné zjednodušení mode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zahrnuje zbytečné nebo nepodstatné velič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modelu je nespráv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C88-E128-4F00-82AE-DB2FDBE056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06B2F-8CC2-4DD2-AE8E-740EF1820A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ce matematického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aramet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roměnný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účelové funk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soustavy omezen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ntifikace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EC9-5308-437A-B9BE-74913D973B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A95F6-F7FE-4BB0-82D9-7F0573D78D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matické program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kriteriální rozhod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ová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řízení zá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obn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romadné obslu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ítačové sim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890-ED35-452E-96FD-0E1086E386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F7787-DF30-49E2-B100-26F76CD2AB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 - histor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ý model lineárního programování (LP) -  vytvořen při řízení výroby a organizaci hospodářství v průběhu II. světové války ve Velké Britanii a 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létech 1940-45 vypracov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. B. Dantzig simplexovou metod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univerzální algoritmus pro řešení úloh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ce 1951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. Charnes a W. W. Coop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čali využívat LP ve výrob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sledujících létec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. Bellm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il teoretické a matematické základy pro dynamické program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ětší rozvoj LP nastal pak v létech 1955-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286-B59D-4E96-ABFA-EBF97F347A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41CEF-0EC0-4589-A444-4197E04125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íle přednáš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zumět principům optimalizace při daných omezení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ázat formulovat model lineárního programování (L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ět graficky řešit úlohu LP se dvěma proměnný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hopit obecné vlastnosti přípustných řešení úlohy 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3E5-249F-4489-92FA-0BB1B82C10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C8F3A-F2BB-4D43-9F9D-92B867466E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nik vyrábí dva výrobky V1 a V2, které se zpracovávají na dvou typech strojů A a B. Zhotovení jednotky výrobku V1 vyžaduje 6 strojových hodin na stroji typu A a 3 hodiny práce na stroji typu B. Obdobně zhotovení výrobku V2 vyžaduje 4 strojové hodiny jak na stroji A tak i na stroji B. Podnik má měsíčně k dispozici celkem 3 000 strojových hodin na strojích typu A a 2500 strojových hodin na strojích typu B. Cena jednotky výrobku V1 činí 200 Kč a cena výrobku V2 je 300 Kč. Podnik má zaručený odbyt obou výrobků a není vázán na určitý sortiment. Je třeba rozhodnout, kolik má podnik vyrobit jednotlivých výrobků, aby dosáhl co nejvyšší celkové ceny odby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FAB-6482-46E9-A1B1-EDDABD1B7F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764BF-7AED-429D-B3BE-622658D6AC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y lineárního programování jsou algebraické metody založené na řadě rovnic a nerovnic, které stanoví omezení pro úlohu a jsou užívány pro optimalizaci matematického výrazu, který nazýváme účelovou funkc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lová funkce a omezení daného problému musí být deterministické a musí být vyjádřeny v lineárním tva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48B-AB3B-4A09-928C-3CBD7DF0F3B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0942D-7B4A-4648-ACD3-F71C44520B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poručená literatur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Vaculík, J. Zapl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PŮRNÉ METODY ROZHODOVACÍCH PROCESŮ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MU v Brně, 1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Jablo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PERAČNÍ VÝZKUM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ŠE Praha,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Klapka, J. Dvořák, P. Pope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ETODY OPERAČNÍHO VÝZKUM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 VUT Brno, 199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. Wisniewski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ODY MANAŽERSKÉHO ROZHODO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Grada Publishing,Praha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36C-8110-4136-B62B-62F19B2B73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A32C1-C59C-40B6-BEB5-A7BCE277F5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ostup při formulaci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a identifikace problé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popis problému (popis procesů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cí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fikace jednotlivých prv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tativ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inování proměnných, jejichž hodnoty máme nalézt. Vymezení jejich nezápor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omezujících podmínek zobrazujících vztahy mezi procesy pomocí soustavy lineárních nerovnic, resp. rovn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kriteriální lineární funkce, vyjadřující cíl výpočtu (kriteriální funkce slouží k posouzení výhodnosti jednotlivých procesů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BDF-2501-4D56-A15D-7F1F8F83543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3FB88-F343-4FF8-B427-7F6287C16A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á formulace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lineárního programování lze obecně vyjádřit matematickým zápisem tak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l: najít extré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é funk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 podmí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ice              je matice typu (m, n) a nazývá se matice soustavy omezujících podmínek,               je vektor proměnných,               je vektor pravých stran soustavy omezujících podmínek,               je vektor c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156040" cy="431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348000" y="2781360"/>
            <a:ext cx="957240" cy="1512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4365720"/>
            <a:ext cx="792360" cy="341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086120" cy="238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203640" y="5084640"/>
            <a:ext cx="1076400" cy="238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796000" y="5445000"/>
            <a:ext cx="10764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CB5-6A75-4AC7-876B-602C772F7F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427D1-454A-4924-8757-128F980B54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Úkolem je pak řešit tuto soustavu rovnic a nerovn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zn. Naléz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odnot proměnných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ž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é rovnicím vyhov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oustava má řešení právě tehdy, je-li hodnost rozšířené matice soustavy A/b rovna hodnosti matice soustavy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u z možností řešení soustavy je použit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aussovy eliminač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obíme-li libovolnou rovnici soustavy libovolným reálným číslem 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≠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ipočteme-li k libovolné rovnici soustavy k-násobek jiné rovnice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k soustava, kterou získáme je ekvivalentní soustavě původní a obě soustavy mají všechna řešení společ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494172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3CC-F818-4355-BD1B-795235E9F05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10E1E-4396-4E44-9F37-335EF131CA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 probíhá v těchto krocí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cházíme z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nonického tva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oustavy (soustava je v kanonickém tvaru, jestliže matice A obsahuje jednotkovou submatici I, jejíž hodnost je h(I)=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leznem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chozí bazické řeš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bazické = základní řešení – proměnné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n-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řiřadíme 0, ostatní = hodnotám vektoru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ansformací převedeme soustavu na jiný kanonický tv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ak, že z jedné nezákladní se stane základní a nao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lezneme nové řešení soustavy a postup opakujeme až nalezneme všechna základní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063-5297-490B-9FEF-A36BB08CDB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E6BA5-6DF4-42F8-B511-87C5946028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jmy lineárního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pustným řešení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úlohy lineárního programování je vektor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, který vyhovuje soustavě omezení úlo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azické řeše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přípustné řešen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hož kladné složky s´jsou hodnoty proměnných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jichž sloupce koeficientů v soustavě omezení tvoří lineárně nezávislou soustavu vektor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ptimální řeš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bazické řešení, které maximalizuje (minimalizuje) účelovou funk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A350-F642-4258-9F51-E25C5CA47CC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DF9BB-CACA-4B32-B2EF-BEF360A450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Grafické řešení úlohy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ká interpretace lineárních nerovnic a vlastnosti konvexních množin umožňují řešit úlohu LP graf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ická metoda se používá pro řešení úloh LP se dvěma proměnnými a konečným počtem omezujících podmín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a je prakticky málo využitelná, neboť v praxi se zřídka vyskytují jednoduché problémy pouze se dvěma proměnný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znam grafické metody spočívá v názorné interpretaci základních vlastností modelu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6F4-66A8-4527-80D3-43E8A20132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8F5BA-93B5-4D9F-911C-E74DC6CBE3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ormulace matematického model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rafické vymezení množiny přípustných řeš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rafické zobrazení průběhu účelové 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lezení extrému (maxima, minima) účelové funk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4D8-54AD-40A6-A3A2-2DDA7527F27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B6D04-3049-4A8A-8D59-D70A39444B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lová funk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= 3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mezující podmín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14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10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00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32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nezápor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,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0F9-A532-45DC-8044-F173AE3B11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8A942-F24E-4FFB-ADDA-23EE2ADA58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fické řešení příklad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040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816-7227-4F35-AAF7-73BD34B6216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99620-8AAC-4562-A49C-229216C66F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é vlastnosti přípustných řešení úlohy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ožina bodů se nazýv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x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jestliže splňuje podmínku: patří-li do ní dva různé body, patří do ní také všechny body úsečky určené oběma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ožina přípustných řešení úlohy LP je konvexní množina s  konečným počtem vrch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3600360" cy="13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11A-7678-48B3-AEE1-BE614BB0EF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B5401-F64A-4432-A5A9-690ECFFDCD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perační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výzkum, Operational Research, Kvantitativní metody, Ekonomicko-matematické metody, Management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analýza je aplikace vědeckých metod na komplex problémů vznikajících při řízení složitých systémů lidí, strojů, materiálních a fin. prostředků ve výrobě a obch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lem je pomoci vedoucím pracovníkům podložit jejich rozhodnutí vědeckými metod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perační analýza představuje způsob týmové práce, při které skupina specialistů různého odborného zaměření komplexně řeší složitý ekonomický, technický nebo organizační problém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100" spc="-1" strike="noStrike">
                <a:solidFill>
                  <a:srgbClr val="000000"/>
                </a:solidFill>
                <a:latin typeface="Arial"/>
              </a:rPr>
              <a:t>Kolektiv autorů VŠB-TU Ost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230-526F-495F-8A2A-C5ED8E0F15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4CDC5-0649-4A53-8B6E-946C47C71F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lasifikace množin přípustných řešení v modelu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prázd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konvexní polyed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7080" y="2422080"/>
            <a:ext cx="421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3168720" cy="1549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843280" y="4221000"/>
            <a:ext cx="3240000" cy="1938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227640" y="4076640"/>
            <a:ext cx="26654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Úloha má jediné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když se přímka účelové funkce dotkne vrcholu polyed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onečně mnoho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dyž přímka účelové funkce protíná konvexní polyedr ve dvou vrchole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37D-CC5B-405F-BD15-50144D7180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8D36A-305E-4024-B132-FF536E8C31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nožina přípustných řešení je neohraničen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248360" cy="293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4DE-91EB-41B9-ADB1-498A74F514F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65EAB-BDE4-42D9-A0E5-93A5133A60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ákladní věta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á funkce v modelu lineárního programování nabývá svého extrému na hranici konvexní množiny přípustných řešení (ve vrcholu konvexního polyedru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základě základní věty LP je možno optimální řešení modelu LP vybírat z konečného počtu řešení: model LP má konečný počet omezujících podmínek a konvexní množina přípustných řešení má proto konečný počet vrcholů. V jednom z vrcholů je hledané řeš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FE2-E832-4A4E-AD17-C3D4F22BDE0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1AB38-9285-4194-9561-C81E6441E8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y použití L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výrobního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ezné probl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směš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dopra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blém směsí v naftových a chemických rafinériích, výběr dodavatelů nebo odběratelů pro velké podniky s mnoha závody, určení expedičních tras a časových plá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1B0-412B-461A-85D5-D50BD78B8C2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033BB-DE80-4EB7-AAF2-9089F977C1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mplexová metod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ční výpočetní post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 nalezení optimálního řešení úlohy lineárního program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 dvě základní f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ovení výchozího základního přípustnéh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řechod od základního přípustného řešení k druhém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k, aby se zlepšovala hodnota účelové funkce a dosáhla svého opt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8FD-AA9B-4FC0-A215-EB61C869790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12E46-4527-4699-BA31-1EFA76B6D9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terační post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rčení klíčového sloup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rčení nebazické proměnné, která bude vstupovat do bá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ax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‹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in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rčení klíčového řád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(určení bazické proměnné, která bude vystupovat z báze a bude nahrazena proměnnou klíčového sloup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ledáme min b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/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kud neexistuje ve sloupci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, pak úloha nemá konečné optimální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vedeme výměn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měnné vstupující do báze a proměnné vystupující z báze, přetransformujeme simplexovou tabul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stup opakujeme tak dlouho dokud nenalezneme optimální řešení nebo nezjistíme, že úloha optimální řešení nem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Řešení je optimální, jestliže v řádku cen při maximalizaci jsou všechna čísla nezáporná a při minimalizaci nekl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F3A-67DB-41D9-9CBB-519F5E4D5F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ABB84-2D9D-44BB-BC7A-8171532437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arakteristika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ěření 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poru rozho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složitých problém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it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deckého přístu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problémů spojeného s aplikac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vé techn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ýmová organizace prá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ktován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chastické pova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álných proces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D8E-97EA-488C-9CD5-0E7894752E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3731E-21E6-4A87-A790-1A173F4CE4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hodovací pro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49440" y="1685880"/>
          <a:ext cx="649764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1685880"/>
                    <a:ext cx="649764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83C-E3D6-41B3-84A9-965EBC2B66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9487A-3C74-4E22-854B-C5DF892847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lasti využití MO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 a řízení výr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operativního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izace výrobního programu, analýza výrobního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prodeje výrobků a jejich distribuce (hledání vhodného umístění skladů, prodejen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lama )optimální lokalizace finančních prostředků do jednotlivých sdělovacích médi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ční plánování (optimalizace portfolia fi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projektů (výstavba nových objektů, organizace a řízení konferencí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zá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hodování za rizika a nejist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539-33D9-43ED-8127-3ACDF539B5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7405B-CAEA-450A-B5B9-496DE1B52B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truktura postupu implementace metod operační analýz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Řešení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Interpret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Realiz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Ver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68D-A338-4E91-BF91-53558AA9B2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04B8F-9941-4418-A9BB-321B62BD51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cílů a definice problému ústí ve výběr těch prvků reálného objektu a vazeb mezi nimi, které jsou z hlediska řešeného problému významné – „definice systému na reálném objektu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 – účelově zjednodušená verze reálného ob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sledkem pak může být grafické nebo tabulkové znázornění hlavních faktorů a vazeb mezi ni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5084640"/>
            <a:ext cx="100800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4F9-DC12-4644-8300-47C9FBD829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08795-9D00-4F12-B67F-678196BAA9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e problému pak vyúsťuje 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mulaci cí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kterého chceme řešením problému dosáhnou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ymezení hlavních c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sažení stanoveného cíl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ýbě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lavníc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ktorů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ůsobících na řešení problém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čení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mezujících podmíne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v nichž se může řešení pohybov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255-C230-4CCC-AFCE-669CE62FF2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465DB-FBF0-4571-AAF5-991CCAC0EB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7:46:05Z</dcterms:created>
  <dc:creator>hrstkova</dc:creator>
  <dc:description/>
  <dc:language>en-US</dc:language>
  <cp:lastModifiedBy>hrstkova</cp:lastModifiedBy>
  <dcterms:modified xsi:type="dcterms:W3CDTF">2004-10-01T08:29:43Z</dcterms:modified>
  <cp:revision>6</cp:revision>
  <dc:subject/>
  <dc:title>Metody operační analýzy</dc:title>
</cp:coreProperties>
</file>