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B5A-9F86-4D2C-8FC7-1D0AAE21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BC5F-B464-4615-8814-F9B151D8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4A7-9F6C-4550-9440-D11A2EC5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3CA-02CA-4A15-AF9E-5E75BA71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0B0D-0FCE-487F-A6A3-500B0130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A5F1-499B-494A-86F6-ED412C8C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6429-5EFB-4429-824C-A7972BDF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C126-7160-4B8B-A231-F7956562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B1AD-E8D8-440D-A41D-28A1E7B2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39DB-16E5-4227-844A-1BD0B44A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9D79-EDF2-404E-9F3B-1A172FFE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0F1-2B81-4312-9B26-B3DF24F8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9431-4511-4E2C-8D19-8596C171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9CDC-D18F-40C6-8497-78DB7F3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74DB-BB14-43EF-8585-7AD93E0D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3DFA-E3D5-40A6-9247-B7B3B9CE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71F5-2B53-4882-96F1-9DBFA810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FA0-79F7-4A95-83CA-65DF3368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718-939D-434E-95C7-83D57238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773-278D-47C0-97C9-91263AC2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595-9202-48B3-A23F-2A5A429B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287F-7103-4F23-A6E3-6EB7B33D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2EA-2A15-4DFD-8C5D-C516360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642E-4A31-465C-AB0E-8790E433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28A8-53CB-47CE-8F5D-FF19E5EF091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E7AF-7ED1-42B0-B883-6A28FD57D0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63DC-3FB6-4308-8E0E-FCE2C4CC6D7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0EF7-98C2-417D-AB27-F037E27D2A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215D-E2B7-4029-A38B-15D9647927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4E13F1B-7757-44D6-B744-7C857589BE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je určitým stupněm abstrakce reálných systé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30686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álný 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2924280"/>
            <a:ext cx="115236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24360" y="2924280"/>
            <a:ext cx="1152720" cy="936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9080" y="3206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328464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3284640"/>
            <a:ext cx="648000" cy="21564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22100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52720" y="4221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7E3-85D2-4C37-B340-987F621FD2E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FE5B7-CB96-405C-AB02-1E4989529E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ztah mezi objektem a jeho      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model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048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54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5440" y="1981080"/>
            <a:ext cx="1981440" cy="83844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5067360"/>
            <a:ext cx="1981440" cy="838080"/>
          </a:xfrm>
          <a:prstGeom prst="flowChartProcess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3"/>
            <a:endCxn id="132" idx="1"/>
          </p:cNvCxnSpPr>
          <p:nvPr/>
        </p:nvCxnSpPr>
        <p:spPr>
          <a:xfrm>
            <a:off x="3085920" y="240012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2" idx="2"/>
            <a:endCxn id="131" idx="0"/>
          </p:cNvCxnSpPr>
          <p:nvPr/>
        </p:nvCxnSpPr>
        <p:spPr>
          <a:xfrm>
            <a:off x="6895800" y="281952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1" idx="1"/>
            <a:endCxn id="133" idx="3"/>
          </p:cNvCxnSpPr>
          <p:nvPr/>
        </p:nvCxnSpPr>
        <p:spPr>
          <a:xfrm flipH="1">
            <a:off x="3085560" y="5486040"/>
            <a:ext cx="2819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3" idx="0"/>
            <a:endCxn id="130" idx="2"/>
          </p:cNvCxnSpPr>
          <p:nvPr/>
        </p:nvCxnSpPr>
        <p:spPr>
          <a:xfrm flipV="1">
            <a:off x="2095200" y="2819160"/>
            <a:ext cx="1080" cy="2248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144792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2133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5257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50292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y o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190512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o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3505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  mod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35053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ce   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495288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nat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1ED-04EE-4F5D-9B7B-283FB5916EE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16FE33-5148-4039-B70C-2F6666B0EE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lasifikace model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očekávaného použití model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pisn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no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izač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le zobrazované stránky zkoumaného ob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ch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 smíše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tvaru výstup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i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chas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le fyzické podoby mode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enšené repliky reálných objekt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ční obdoby reálných objektů (analogové mode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y, které formalizují reálný objekt pomocí symbolů, matematických výrazů a vztahů – modely matematick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A90-67C1-40E8-81B6-4EA380B92F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29F94-D960-4844-A2E3-F717ADCADE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jčastější chyby při sestavování model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lišné zjednodušení mode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zahrnuje zbytečné nebo nepodstatné velič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 modelu je nespráv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4D0A-86E6-4660-B7E1-C78A37DCEF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3CD5B7-616A-4F2E-81D8-5C5029BE99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ce matematického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aramet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ice proměnný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účelové funk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ce soustavy omezen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antifikace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1BF-F28F-42C6-93F0-32C2C4A557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B6618-FE95-4AB9-9170-505B7081A9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matické program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kriteriální rozhod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íťová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řízení zá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obn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romadné obslu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orie 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ítačové simu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F4F3-BDB6-4C21-9701-39F0247DB0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A6506-41D7-4B20-876E-8BD238EBA3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 - histor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model lineárního programování (LP) -  vytvořen při řízení výroby a organizaci hospodářství v průběhu II. světové války ve Velké Britanii a U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létech 1940-45 vypracov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. B. Dantzig simplexovou metod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univerzální algoritmus pro řešení úloh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ce 1951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. Charnes a W. W. Coo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čali využívat LP ve výrob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sledujících létech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. Bellma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l teoretické a matematické základy pro dynamické program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ětší rozvoj LP nastal pak v létech 1955-6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476-DE48-48E7-9E16-406FD11A7F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30BC6-F9D4-4425-AD38-9EC10B1B6D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e přednášk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t principům optimalizace při daných omezení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kázat formulovat model lineárního programování (L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ět graficky řešit úlohu LP se dvěma proměnný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obecné vlastnosti přípustných řešení úlohy L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D44-52BB-491D-AFCC-903BF5F645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0533B-202B-489B-9592-00AB25FAA8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nik vyrábí dva výrobky V1 a V2, které se zpracovávají na dvou typech strojů A a B. Zhotovení jednotky výrobku V1 vyžaduje 6 strojových hodin na stroji typu A a 3 hodiny práce na stroji typu B. Obdobně zhotovení výrobku V2 vyžaduje 4 strojové hodiny jak na stroji A tak i na stroji B. Podnik má měsíčně k dispozici celkem 3 000 strojových hodin na strojích typu A a 2500 strojových hodin na strojích typu B. Cena jednotky výrobku V1 činí 200 Kč a cena výrobku V2 je 300 Kč. Podnik má zaručený odbyt obou výrobků a není vázán na určitý sortiment. Je třeba rozhodnout, kolik má podnik vyrobit jednotlivých výrobků, aby dosáhl co nejvyšší celkové ceny odby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49B-2AF6-4954-A5AD-CE29F0BCE6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B9026-EE02-42EC-AA90-DB38B1D3D4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ineární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y lineárního programování jsou algebraické metody založené na řadě rovnic a nerovnic, které stanoví omezení pro úlohu a jsou užívány pro optimalizaci matematického výrazu, který nazýváme účelovou funkc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lová funkce a omezení daného problému musí být deterministické a musí být vyjádřeny v lineárním tvar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22A-DB52-4723-819A-48E87221DF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5C06A-C740-46FC-B3FC-769229641A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poručená literatur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Vaculík, J. Zaple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ŮRNÉ METODY ROZHODOVACÍCH PROCESŮ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MU v Brně, 19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Jablo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PERAČNÍ VÝZKUM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ŠE Praha, 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. Klapka, J. Dvořák, P. Pope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ETODY OPERAČNÍHO VÝZKUM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VUT Brno, 1996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. Wisniewski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ODY MANAŽERSKÉHO ROZHODOVÁ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Grada Publishing,Praha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B583-8161-47FD-B899-CBCE211B46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85CD9-41C6-424C-808C-CD3599479F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tup při formulaci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a identifikace problé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rbální popis problému (popis proces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cí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fikace jednotlivých pr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vantitativní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inování proměnných, jejichž hodnoty máme nalézt. Vymezení jejich nezápornos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omezujících podmínek zobrazujících vztahy mezi procesy pomocí soustavy lineárních nerovnic, resp. rov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ace kriteriální lineární funkce, vyjadřující cíl výpočtu (kriteriální funkce slouží k posouzení výhodnosti jednotlivých procesů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AC8-52E2-4BCB-9C46-87661F75AF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956E8-EB81-4820-B56E-2FA6F9BF79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á formulace modelu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ineárního programování lze obecně vyjádřit matematickým zápisem tak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: najít extré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é funk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 podmí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ice              je matice typu (m, n) a nazývá se matice soustavy omezujících podmínek,               je vektor proměnných,               je vektor pravých stran soustavy omezujících podmínek,               je vektor ce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15604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957240" cy="1512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50920" y="4365720"/>
            <a:ext cx="792360" cy="34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1086120" cy="2383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3203640" y="5084640"/>
            <a:ext cx="1076400" cy="238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5796000" y="5445000"/>
            <a:ext cx="10764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2A9-8E15-4FDF-AC4C-AE4D04D3D6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EBEB7-51E1-4581-A2D9-5E809BD680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Úkolem je pak řešit tuto soustavu rovnic a nerovn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 proměnných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ž x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é rovnicím vyhov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oustava má řešení právě tehdy, je-li hodnost rozšířené matice soustavy A/b rovna hodnosti matice soustavy 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u z možností řešení soustavy je použit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aussovy eliminač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sobíme-li libovolnou rovnici soustavy libovolným reálným číslem 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≠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ipočteme-li k libovolné rovnici soustavy k-násobek jiné rovnice sou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k soustava, kterou získáme je ekvivalentní soustavě původní a obě soustavy mají všechna řešení společ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494172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F5C-1BB4-4AA0-8492-BE847C1DFC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E4968-57B2-4D28-83C5-72B91E1F74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 probíhá v těchto krocích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cházíme z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nonického tva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oustavy (soustava je v kanonickém tvaru, jestliže matice A obsahuje jednotkovou submatici I, jejíž hodnost je h(I)=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leznem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zí bazické řeš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bazické = základní řešení – proměnné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n-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řiřadíme 0, ostatní = hodnotám vektoru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ansformací převedeme soustavu na jiný kanonický tva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ak, že z jedné nezákladní se stane základní a nao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alezneme nové řešení soustavy a postup opakujeme až nalezneme všechna základní řeš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01C-39E6-433D-8A6A-3ACFACF44BA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00B60-B026-4798-9267-35E63670FB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jmy lineárního programová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pustným řešení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úlohy lineárního programování je vektor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, který vyhovuje soustavě omezení úlo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Bazické řeše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přípustné řeše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hož kladné složky s´jsou hodnoty proměnných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jejichž sloupce koeficientů v soustavě omezení tvoří lineárně nezávislou soustavu vektor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ptimální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úlohy LP je takové bazické řešení, které maximalizuje (minimalizuje) účelovou funk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4E0-4D02-4DD8-926C-44743F7F100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B6AE6-BD9F-4EAE-A057-E6385E692D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rafické řešení úlohy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ká interpretace lineárních nerovnic a vlastnosti konvexních množin umožňují řešit úlohu LP grafi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ická metoda se používá pro řešení úloh LP se dvěma proměnnými a konečným počtem omezujících podmín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je prakticky málo využitelná, neboť v praxi se zřídka vyskytují jednoduché problémy pouze se dvěma proměnný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znam grafické metody spočívá v názorné interpretaci základních vlastností modelu L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860-2E9B-49FA-A9B1-E68EEC0CDF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5CD90-F73E-4693-BA87-39AAB1D5C0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rmulace matematického model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afické vymezení množiny přípustných řeš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rafické zobrazení průběhu účelové funk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lezení extrému (maxima, minima) účelové funk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6FB-2772-4346-9E9C-0C87965BCE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3280B-975C-4491-A62C-EFC3836093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lová funk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3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mezující podmínk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14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5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10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00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2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32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ky nezápor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, x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A89-56A6-4AE3-9BE1-0324F0A4115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36FA3-DF6E-4721-A93A-F5AD0BDEA7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fické řešení příklad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040360" cy="446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31D-B662-4399-8053-B5E04F153F9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2FBA4-1265-445D-917B-CC3283BC25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ecné vlastnosti přípustných řešení úlohy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nožina bodů se nazývá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vex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estliže splňuje podmínku: patří-li do ní dva různé body, patří do ní také všechny body úsečky určené oběma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ožina přípustných řešení úlohy LP je konvexní množina s  konečným počtem vrch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3600360" cy="134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ACB-BFC2-48FB-A6FB-1548ED4A95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1A33C-8F96-4B84-BAC0-40EA397F20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ční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výzkum, Operational Research, Kvantitativní metody, Ekonomicko-matematické metody, Management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tion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ační analýza je aplikace vědeckých metod na komplex problémů vznikajících při řízení složitých systémů lidí, strojů, materiálních a fin. prostředků ve výrobě a obch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em je pomoci vedoucím pracovníkům podložit jejich rozhodnutí vědeckými metoda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perační analýza představuje způsob týmové práce, při které skupina specialistů různého odborného zaměření komplexně řeší složitý ekonomický, technický nebo organizační problém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100" spc="-1" strike="noStrike">
                <a:solidFill>
                  <a:srgbClr val="000000"/>
                </a:solidFill>
                <a:latin typeface="Arial"/>
              </a:rPr>
              <a:t>Kolektiv autorů VŠB-TU Ost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9F7-5DD1-4971-B30C-206D2DD2B0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3911D-2DA4-4498-BF95-B2CA6DA7FA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lasifikace množin přípustných řešení v modelu LP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prázd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ožina přípustných řešení je konvexní polyed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67080" y="2422080"/>
            <a:ext cx="4210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168720" cy="15494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240000" cy="19386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227640" y="4076640"/>
            <a:ext cx="266544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loha má jediné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když se přímka účelové funkce dotkne vrcholu polyedr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nečně mnoho řešen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dyž přímka účelové funkce protíná konvexní polyedr ve dvou vrchole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F36-DF7E-4FF2-93BF-BC454551A0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0E1E1-A4DA-4C08-820F-9C1B311657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nožina přípustných řešení je neohraničen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248360" cy="293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F13-F845-43BC-B630-ACEF1B4F725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31646-B348-4E84-9FB9-C6E9706FC5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Základní věta lineárního programování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čelová funkce v modelu lineárního programování nabývá svého extrému na hranici konvexní množiny přípustných řešení (ve vrcholu konvexního polyedr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ákladě základní věty LP je možno optimální řešení modelu LP vybírat z konečného počtu řešení: model LP má konečný počet omezujících podmínek a konvexní množina přípustných řešení má proto konečný počet vrcholů. V jednom z vrcholů je hledané řeš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83A-26E2-4038-9723-A744D7E4C8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19D2E-114B-467C-8C05-F69EEB70D6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y použití L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výrobního plán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ezné problé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směš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lohy doprav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ém směsí v naftových a chemických rafinériích, výběr dodavatelů nebo odběratelů pro velké podniky s mnoha závody, určení expedičních tras a časových plá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8D05-A262-4E24-A48F-998F37B7B12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7025A-9239-4E2C-9801-7673FE03CF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mplexová metod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ční výpočetní po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 nalezení optimálního řešení úlohy lineárního program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dvě základní f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novení výchozího základního přípustnéh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řechod od základního přípustného řešení k druhém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k, aby se zlepšovala hodnota účelové funkce a dosáhla svého opti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D4C-E452-4D40-AC05-977FDEC91D9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6F1597-9987-482E-9FF8-32F6ABEDBF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terační postu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rčení klíčového sloup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určení nebazické proměnné, která bude vstupovat do bá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ax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│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‹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inimalizace hledáme největš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těch z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rčení klíčového řád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(určení bazické proměnné, která bude vystupovat z báze a bude nahrazena proměnnou klíčového sloup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ledáme min b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/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kud neexistuje ve sloupci a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›0, pak úloha nemá konečné optimální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vedeme výměn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roměnné vstupující do báze a proměnné vystupující z báze, přetransformujeme simplexovou tabul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stup opakujeme tak dlouho dokud nenalezneme optimální řešení nebo nezjistíme, že úloha optimální řešení nem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Řešení je optimální, jestliže v řádku cen při maximalizaci jsou všechna čísla nezáporná a při minimalizaci neklad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DCA-0849-44C1-905B-96AD32EEF2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6FBA8-1224-40D4-9B27-C48A51A258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harakteristika operační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poru rozhodová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složitých problém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užit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ědeckého přístup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ři řešení problémů spojeného s aplikac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ové techn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ýmová organizace prá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ktování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hastické pov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álných proces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3EC-E86C-4B08-9FE8-A1D14D95FC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C85A1-07DA-4A1C-8613-226419639B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hodovací pro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49440" y="1685880"/>
          <a:ext cx="649764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1685880"/>
                    <a:ext cx="649764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B08-7B54-4EDE-A20F-602CB0422B2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00423-1047-41F1-B462-BADB076515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blasti využití MO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 a řízení výr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operativního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alizace výrobního programu, analýza výrob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prodeje výrobků a jejich distribuce (hledání vhodného umístění skladů, prodejen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klama )optimální lokalizace finančních prostředků do jednotlivých sdělovacích médi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í plánování (optimalizace portfolia fi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projektů (výstavba nových objektů, organizace a řízení konferencí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Řízení zás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hodování za rizika a nejist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800-94C3-4AD9-9BFF-E7CCFEEB4E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9E0A8-8781-449C-BF0B-38714B6FA5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ruktura postupu implementace metod operační analýz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Konstrukce vhodného typu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Řešení mod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Interpret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Realizace výsledků řeš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Ver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667-2B96-4AC0-952D-9A8FF021E0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C7241-24CB-4DF4-AD77-9E81AB996C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Vymezení a definice problé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ovení cílů a definice problému ústí ve výběr těch prvků reálného objektu a vazeb mezi nimi, které jsou z hlediska řešeného problému významné – „definice systému na reálném objektu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 – účelově zjednodušená verze reálného ob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em pak může být grafické nebo tabulkové znázornění hlavních faktorů a vazeb mezi ni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5084640"/>
            <a:ext cx="100800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16B-A2CB-449D-A1F8-3BF125E3B1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D9615-C2AD-4C30-A989-7FF1136D20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 problému pak vyúsťuje 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rmulaci cí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kterého chceme řešením problému dosáhnou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ymezení hlavních c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osažení stanoveného cíl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ýbě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lavní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ktorů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ůsobících na řešení problému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čení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mezujících podmín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v nichž se může řešení pohyb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3EA-24E1-47CD-9B85-6D6AFE5DD4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F8458-0DA6-4682-B8B2-5BFBAF37A4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7:46:05Z</dcterms:created>
  <dc:creator>hrstkova</dc:creator>
  <dc:description/>
  <dc:language>en-US</dc:language>
  <cp:lastModifiedBy>hrstkova</cp:lastModifiedBy>
  <dcterms:modified xsi:type="dcterms:W3CDTF">2004-10-01T08:29:43Z</dcterms:modified>
  <cp:revision>6</cp:revision>
  <dc:subject/>
  <dc:title>Metody operační analýzy</dc:title>
</cp:coreProperties>
</file>