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0A6-CD20-43A2-A5BD-22C827C5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F815-47C6-4565-890A-BCA488C5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9335-C24F-44BA-AD70-54621610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1DE0-FADC-4A3B-9E2C-7ABDCEDB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6176-DF0B-483D-9E6D-91B1F545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E24E-0BB0-49C9-91DA-43D16FF0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8184-89BF-43FE-B03C-8053482B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646B-5425-4E7B-9480-8116F496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D980-2D04-4A8C-9F1D-6C2C02F9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7B82-5E16-4F75-A994-EB329D6F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0FFA-4884-457A-AB98-1213606D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16F2-7B76-4334-BD60-65A00076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55C0-45F2-4BC8-96C1-17753D90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246B-5E50-4804-B38B-E797C226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5277-BA3B-4E27-BACF-2A49244B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D05D-A1B6-4F60-8E33-DEA4E085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55F8-8F8B-49DA-BB15-99CD9639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42B0-CB8F-48D0-B03C-15C63EE5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1B8E-1941-4366-AB35-58F1ABF9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8748-37C2-4DE7-8EE0-797EE23B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CB59-B87F-4DCC-82C1-9CEE4AF8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1F14-F8BE-4C15-9A79-BB294CB9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9F2A-1253-48AE-8EB3-FAB4E1B2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A8FE-43E8-4314-8F81-BEA9600E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1FAF-9620-4AD3-80C1-FE0EA40A4CB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B153-B9C8-48DB-8ADF-6592FB93BC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C6BD-67D4-4F1B-BFE2-4970C43F6D9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6461-0AB5-49E1-8458-FC7B13B6A0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Metody operační analýzy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ra Hrst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F79B-FC06-438F-B651-ABBE0C78FA5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86C93F8-5E4A-430D-9F4B-E88E59A7F7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Konstrukce vhodného typu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 je určitým stupněm abstrakce reálných systém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2924280"/>
            <a:ext cx="115272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30686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álný obj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80000" y="2924280"/>
            <a:ext cx="115236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24360" y="32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24360" y="2924280"/>
            <a:ext cx="115272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9080" y="32068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87640" y="3284640"/>
            <a:ext cx="720720" cy="215640"/>
          </a:xfrm>
          <a:prstGeom prst="rightArrow">
            <a:avLst>
              <a:gd name="adj1" fmla="val 50000"/>
              <a:gd name="adj2" fmla="val 8355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3284640"/>
            <a:ext cx="648000" cy="215640"/>
          </a:xfrm>
          <a:prstGeom prst="rightArrow">
            <a:avLst>
              <a:gd name="adj1" fmla="val 50000"/>
              <a:gd name="adj2" fmla="val 7512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4360" y="422100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52720" y="422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5056-B06A-4909-A02C-243367BCB21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69202-AC45-4174-B537-ACC8B47BB9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ztah mezi objektem a jeho      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model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04840" y="1981080"/>
            <a:ext cx="1981440" cy="83844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05440" y="5067360"/>
            <a:ext cx="1981440" cy="83808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05440" y="1981080"/>
            <a:ext cx="1981440" cy="83844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04840" y="5067360"/>
            <a:ext cx="1981440" cy="83808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3"/>
            <a:endCxn id="132" idx="1"/>
          </p:cNvCxnSpPr>
          <p:nvPr/>
        </p:nvCxnSpPr>
        <p:spPr>
          <a:xfrm>
            <a:off x="3085920" y="2400120"/>
            <a:ext cx="2819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2" idx="2"/>
            <a:endCxn id="131" idx="0"/>
          </p:cNvCxnSpPr>
          <p:nvPr/>
        </p:nvCxnSpPr>
        <p:spPr>
          <a:xfrm>
            <a:off x="6895800" y="2819520"/>
            <a:ext cx="1080" cy="224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31" idx="1"/>
            <a:endCxn id="133" idx="3"/>
          </p:cNvCxnSpPr>
          <p:nvPr/>
        </p:nvCxnSpPr>
        <p:spPr>
          <a:xfrm flipH="1">
            <a:off x="3085560" y="5486040"/>
            <a:ext cx="2819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3" idx="0"/>
            <a:endCxn id="130" idx="2"/>
          </p:cNvCxnSpPr>
          <p:nvPr/>
        </p:nvCxnSpPr>
        <p:spPr>
          <a:xfrm flipV="1">
            <a:off x="2095200" y="2819160"/>
            <a:ext cx="1080" cy="224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144792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5257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50292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y o 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50292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y o ob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19051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vor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1500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řešení  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35053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ce   poznat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495288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D9BA-C787-488E-8DC8-8A4415AA602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F0FFE-4C3E-4F5C-B680-E77F00E550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lasifikace model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očekávaného použití model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pisné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no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izač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le zobrazované stránky zkoumaného ob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strukt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cho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smíše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tvaru výstup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i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cha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fyzické podoby mode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enšené repliky reálných objekt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kční obdoby reálných objektů (analogové mode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, které formalizují reálný objekt pomocí symbolů, matematických výrazů a vztahů – modely matema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6D3D-8997-4C6B-B991-AD3FCCA2550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12934-7B8D-4539-A225-1C31D91045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ejčastější chyby při sestavování model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lišné zjednodušení mode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zahrnuje zbytečné nebo nepodstatné velič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ktura modelu je nespráv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5091-A64D-47AB-8DD8-BD09B880233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8BB1B-E1D9-4425-AB7C-634D89A19D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ce matematického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ce parametr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ce proměnný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ce účelové funk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ce soustavy omezení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vantifikace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88F2-8D01-4D15-A9E3-05B2CFC97B1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582FD-3501-42C9-B7E0-08ADCCC4C4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y operační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tematické program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kriteriální rozhod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ťová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řízení zás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obn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hromadné obslu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ítačové simu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9473-8F4F-4C2D-B5F6-8B93EF61CEA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9A3DE-BACA-464B-B803-ECB3875853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neární programování - histor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ý model lineárního programování (LP) -  vytvořen při řízení výroby a organizaci hospodářství v průběhu II. světové války ve Velké Britanii a U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létech 1940-45 vypracov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. B. Dantzig simplexovou metod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univerzální algoritmus pro řešení úloh L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oce 1951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. Charnes a W. W. Coop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ačali využívat LP ve výrobě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následujících létech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. Bellm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tvořil teoretické a matematické základy pro dynamické programová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ětší rozvoj LP nastal pak v létech 1955-6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FABB-CC52-4375-A9F1-5DC76126044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465E0B-530F-4FCA-870B-0FC333688A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íle přednášk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ozumět principům optimalizace při daných omezení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kázat formulovat model lineárního programování (L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ět graficky řešit úlohu LP se dvěma proměnným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hopit obecné vlastnosti přípustných řešení úlohy L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F3F3-8C7A-4114-AE4A-C26832A501C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A8A48-DDF0-4605-826F-767EAD8ADB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nik vyrábí dva výrobky V1 a V2, které se zpracovávají na dvou typech strojů A a B. Zhotovení jednotky výrobku V1 vyžaduje 6 strojových hodin na stroji typu A a 3 hodiny práce na stroji typu B. Obdobně zhotovení výrobku V2 vyžaduje 4 strojové hodiny jak na stroji A tak i na stroji B. Podnik má měsíčně k dispozici celkem 3 000 strojových hodin na strojích typu A a 2500 strojových hodin na strojích typu B. Cena jednotky výrobku V1 činí 200 Kč a cena výrobku V2 je 300 Kč. Podnik má zaručený odbyt obou výrobků a není vázán na určitý sortiment. Je třeba rozhodnout, kolik má podnik vyrobit jednotlivých výrobků, aby dosáhl co nejvyšší celkové ceny odby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7E8B-B80E-402B-B7FD-A2B39ABFD08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21985-9A7C-4460-B807-CD90B2693C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neární programová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y lineárního programování jsou algebraické metody založené na řadě rovnic a nerovnic, které stanoví omezení pro úlohu a jsou užívány pro optimalizaci matematického výrazu, který nazýváme účelovou funkc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lová funkce a omezení daného problému musí být deterministické a musí být vyjádřeny v lineárním tvar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0DC8-F48C-4C6C-AD3F-C9F9E2D02F1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1DE59-EB29-4D77-B4DE-D46C1E1127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oporučená literatur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Vaculík, J. Zaple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ODPŮRNÉ METODY ROZHODOVACÍCH PROCESŮ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MU v Brně, 199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Jablons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OPERAČNÍ VÝZKUM,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VŠE Praha, 2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Klapka, J. Dvořák, P. Popel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METODY OPERAČNÍHO VÝZKUM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 VUT Brno, 1996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. Wisniewski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ODY MANAŽERSKÉHO ROZHODOVÁ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Grada Publishing,Praha,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3F8B-F84D-4F86-BFD4-50E169B1FFC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72019-1D12-4C11-BCC4-FC7A6984EB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ostup při formulaci modelu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rbální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a identifikace problém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rbální popis problému (popis procesů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í cí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ntifikace jednotlivých prv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ntitativní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finování proměnných, jejichž hodnoty máme nalézt. Vymezení jejich nezápor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ace omezujících podmínek zobrazujících vztahy mezi procesy pomocí soustavy lineárních nerovnic, resp. rovn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ace kriteriální lineární funkce, vyjadřující cíl výpočtu (kriteriální funkce slouží k posouzení výhodnosti jednotlivých procesů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F3FF-166E-4E9B-AD4A-6722CAC5F1A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804A6-40B1-4133-8723-A5080147D9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becná formulace modelu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lineárního programování lze obecně vyjádřit matematickým zápisem tak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íl: najít extré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čelové funk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 podmín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ice              je matice typu (m, n) a nazývá se matice soustavy omezujících podmínek,               je vektor proměnných,               je vektor pravých stran soustavy omezujících podmínek,               je vektor ce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2156040" cy="431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348000" y="2781360"/>
            <a:ext cx="957240" cy="1512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050920" y="4365720"/>
            <a:ext cx="792360" cy="341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1086120" cy="238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3203640" y="5084640"/>
            <a:ext cx="1076400" cy="238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796000" y="5445000"/>
            <a:ext cx="10764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4B64-74EE-4682-9265-634E25F0B2D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5F2AD-CD74-4F57-96A7-4803C8EC81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Úkolem je pak řešit tuto soustavu rovnic a nerovni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tzn. Nalézt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hodnot proměnných x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ž x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které rovnicím vyhov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oustava má řešení právě tehdy, je-li hodnost rozšířené matice soustavy A/b rovna hodnosti matice soustavy 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nou z možností řešení soustavy je použit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aussovy eliminační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sobíme-li libovolnou rovnici soustavy libovolným reálným číslem 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≠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řipočteme-li k libovolné rovnici soustavy k-násobek jiné rovnice soust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k soustava, kterou získáme je ekvivalentní soustavě původní a obě soustavy mají všechna řešení společ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494172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8890-1FC8-4C1B-899B-D3308B08672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929ED-93E9-4DBD-A366-5C7F72A053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ešení probíhá v těchto krocí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cházíme z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nonického tva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oustavy (soustava je v kanonickém tvaru, jestliže matice A obsahuje jednotkovou submatici I, jejíž hodnost je h(I)=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leznem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chozí bazické řeš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bazické = základní řešení – proměnné 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n-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řiřadíme 0, ostatní = hodnotám vektoru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ransformací převedeme soustavu na jiný kanonický tva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tak, že z jedné nezákladní se stane základní a naop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alezneme nové řešení soustavy a postup opakujeme až nalezneme všechna základní řeš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A30-0E83-41F9-952E-AEDDBEEB11F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FC94A-E46F-4E2C-842A-BC724E4CBA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jmy lineárního programová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ípustným řešení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úlohy lineárního programování je vektor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x, který vyhovuje soustavě omezení úlo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Bazické řeše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úlohy LP je takové přípustné řešení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jehož kladné složky s´jsou hodnoty proměnných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jejichž sloupce koeficientů v soustavě omezení tvoří lineárně nezávislou soustavu vektor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ptimální řeš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úlohy LP je takové bazické řešení, které maximalizuje (minimalizuje) účelovou funk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2787-76ED-4C4A-8720-2D92C7AE0A0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AA1F3-AE3C-4032-96B4-E4380D998A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Grafické řešení úlohy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metrická interpretace lineárních nerovnic a vlastnosti konvexních množin umožňují řešit úlohu LP grafic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fická metoda se používá pro řešení úloh LP se dvěma proměnnými a konečným počtem omezujících podmín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oda je prakticky málo využitelná, neboť v praxi se zřídka vyskytují jednoduché problémy pouze se dvěma proměnný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znam grafické metody spočívá v názorné interpretaci základních vlastností modelu L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8280-4068-4AD6-B8D2-441EEF75CB0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3A31B-5902-45B7-BE9F-DC9886308D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stup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ormulace matematického model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rafické vymezení množiny přípustných řeš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rafické zobrazení průběhu účelové funk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alezení extrému (maxima, minima) účelové funk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8CF7-8472-46F5-980D-61929B7ACCB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538C9-74C8-4777-8526-FF8996C5D5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lová funk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= 3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mezující podmínk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14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5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10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100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32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mínky nezápor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0, 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043A-EE98-4C6B-B374-2305E4EA222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80D45-2152-4D5A-9206-B1E938B2F2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fické řešení příklad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504036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1E1E-3232-489D-8D0D-4EBD289A0A3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04B9F-3D56-402D-A7F8-0F904BCBBA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becné vlastnosti přípustných řešení úlohy LP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ožina bodů se nazývá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vexn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jestliže splňuje podmínku: patří-li do ní dva různé body, patří do ní také všechny body úsečky určené oběma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ě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ožina přípustných řešení úlohy LP je konvexní množina s  konečným počtem vrch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843280" y="3141720"/>
            <a:ext cx="3600360" cy="134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DD9F-B6EF-4373-B9E6-ABE459D0080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050DE-731F-4163-BD2F-0D26AEA3DF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perační analýz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ční výzkum, Operational Research, Kvantitativní metody, Ekonomicko-matematické metody, Management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tion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ční analýza je aplikace vědeckých metod na komplex problémů vznikajících při řízení složitých systémů lidí, strojů, materiálních a fin. prostředků ve výrobě a obcho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elem je pomoci vedoucím pracovníkům podložit jejich rozhodnutí vědeckými metod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perační analýza představuje způsob týmové práce, při které skupina specialistů různého odborného zaměření komplexně řeší složitý ekonomický, technický nebo organizační problém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100" spc="-1" strike="noStrike">
                <a:solidFill>
                  <a:srgbClr val="000000"/>
                </a:solidFill>
                <a:latin typeface="Arial"/>
              </a:rPr>
              <a:t>Kolektiv autorů VŠB-TU Ostra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74AA-6340-4A03-BA68-372C1C2AE7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652AD-BA86-4D85-B7C8-B6D63AB8A7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Klasifikace množin přípustných řešení v modelu LP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ožina přípustných řešení je prázd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ožina přípustných řešení je konvexní polyed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67080" y="2422080"/>
            <a:ext cx="4210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771640" y="2133720"/>
            <a:ext cx="3168720" cy="15494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843280" y="4221000"/>
            <a:ext cx="3240000" cy="19386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227640" y="4076640"/>
            <a:ext cx="266544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Úloha má jediné řešen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když se přímka účelové funkce dotkne vrcholu polyedr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konečně mnoho řešen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dyž přímka účelové funkce protíná konvexní polyedr ve dvou vrchole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FCFC-1F84-4714-8338-5D337D006D5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FF695-80CA-4034-92E3-CA286C27D7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nožina přípustných řešení je neohraničen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411280" y="2565360"/>
            <a:ext cx="4248360" cy="293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D904-DB3E-46D3-B48F-15938C64CF9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F2622-20EC-4DF5-BCB7-A88F38C553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Základní věta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čelová funkce v modelu lineárního programování nabývá svého extrému na hranici konvexní množiny přípustných řešení (ve vrcholu konvexního polyedru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základě základní věty LP je možno optimální řešení modelu LP vybírat z konečného počtu řešení: model LP má konečný počet omezujících podmínek a konvexní množina přípustných řešení má proto konečný počet vrcholů. V jednom z vrcholů je hledané řeše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87B2-B4F5-4FED-9D96-E02C9B3359A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57BB3-7CDA-49F7-8FC0-35F8AB52A1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y použití L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výrobního plán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řezné probl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směš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doprav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blém směsí v naftových a chemických rafinériích, výběr dodavatelů nebo odběratelů pro velké podniky s mnoha závody, určení expedičních tras a časových plá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B241-88F7-4268-BAF3-A8426505918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AE251-7B65-4EEA-B610-A0ABD39B3E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mplexová metod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rační výpočetní post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 nalezení optimálního řešení úlohy lineárního programo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 dvě základní f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novení výchozího základního přípustnéh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řechod od základního přípustného řešení k druhém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ak, aby se zlepšovala hodnota účelové funkce a dosáhla svého opti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F8A5-645A-4FDC-BD42-A12B5655CBE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0C4CC-B701-4713-94CB-164EA42156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terační postu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rčení klíčového sloup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určení nebazické proměnné, která bude vstupovat do bá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 maximalizace hledáme největš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│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│z těch 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‹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 minimalizace hledáme největš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těch 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Určení klíčového řád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(určení bazické proměnné, která bude vystupovat z báze a bude nahrazena proměnnou klíčového sloup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Hledáme min b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/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ro 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kud neexistuje ve sloupci 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, pak úloha nemá konečné optimální ře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vedeme výměn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roměnné vstupující do báze a proměnné vystupující z báze, přetransformujeme simplexovou tabul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stup opakujeme tak dlouho dokud nenalezneme optimální řešení nebo nezjistíme, že úloha optimální řešení nem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Řešení je optimální, jestliže v řádku cen při maximalizaci jsou všechna čísla nezáporná a při minimalizaci neklad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C8C8-DE45-4373-9824-37D1489A936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FE658-2F59-488C-9305-C822C421F3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harakteristika operační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měření 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dporu rozhodov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ři řešení složitých problém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užit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ědeckého přístup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ři řešení problémů spojeného s aplikac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ové techni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ýmová organizace prá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ktován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chastické pova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álných proces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D9C0-1CCF-4652-B3AD-0D938BD72E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3CA35-53D6-4764-A8EC-EBD40D89EC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ozhodovací pro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49440" y="1685880"/>
          <a:ext cx="6497640" cy="43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9440" y="1685880"/>
                    <a:ext cx="649764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1FE2-1164-459E-BA80-01D6B77A209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8BDE9-D681-4F94-A2B0-12B16711C6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blasti využití MO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ánování a řízení výr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operativního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izace výrobního programu, analýza výrobního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prodeje výrobků a jejich distribuce (hledání vhodného umístění skladů, prodejen a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lama )optimální lokalizace finančních prostředků do jednotlivých sdělovacích médi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ční plánování (optimalizace portfolia fir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Řízení projektů (výstavba nových objektů, organizace a řízení konferencí a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Řízení zás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zhodování za rizika a nejist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CA68-9D2B-4245-A40D-D1C95A1B9D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ACE4B-2B2B-4782-8C67-224B87E351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truktura postupu implementace metod operační analýz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Vymezení a definice problém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Konstrukce vhodného typu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Řešení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Interpretace výsledků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Realizace výsledků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Ver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5C24-8353-4D5A-9BB9-8713D9B5BA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13901-E1A1-4DE4-8A55-49152470C0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Vymezení a definice problém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ovení cílů a definice problému ústí ve výběr těch prvků reálného objektu a vazeb mezi nimi, které jsou z hlediska řešeného problému významné – „definice systému na reálném objektu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ém – účelově zjednodušená verze reálného ob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ýsledkem pak může být grafické nebo tabulkové znázornění hlavních faktorů a vazeb mezi ni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67280" y="5084640"/>
            <a:ext cx="100800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33E4-9688-4C5F-95C8-EB3D36F4213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CACDB-08FC-43C2-967C-67D462CFAD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e problému pak vyúsťuje 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rmulaci cí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kterého chceme řešením problému dosáhnou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ymezení hlavních ce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osažení stanoveného cíl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ýbě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lavních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ktorů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ůsobících na řešení problému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čení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mezujících podmíne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v nichž se může řešení pohybov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CABC-EE21-45EF-B093-80B4C2CF4B0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61580-958B-4186-A418-E06AE4B413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7:46:05Z</dcterms:created>
  <dc:creator>hrstkova</dc:creator>
  <dc:description/>
  <dc:language>en-US</dc:language>
  <cp:lastModifiedBy>hrstkova</cp:lastModifiedBy>
  <dcterms:modified xsi:type="dcterms:W3CDTF">2004-10-01T08:29:43Z</dcterms:modified>
  <cp:revision>6</cp:revision>
  <dc:subject/>
  <dc:title>Metody operační analýzy</dc:title>
</cp:coreProperties>
</file>