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367B-C219-4C53-959C-E6CFF2F96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1439-78B7-4A21-A9CC-94E576EF2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5D7A-71E6-4B9C-92FE-5FDE4F2F4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C5D0-F079-4365-A084-A5F1905A7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8D0F4-085E-465B-A07B-05687016C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A802A-F2CE-42E5-8142-51F9294AD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AFE40-4158-4EFF-A33F-AB40798D0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35E36-124C-4EA8-8ADE-BBFFC59C1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50CCA-69C0-4323-A70F-75D27423A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B99BB-A445-4B75-868C-730CF1A58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19805-DAC5-4CEE-9650-A9A66F47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6450-6DE5-429A-8EC0-146E4A5D9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A6184-B0CD-4365-8803-CBBF451A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90EAE-AF2D-4EB8-82AA-A86B3395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2E53F-B698-465E-BE2B-62AC030E6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FB843-3BA9-44C1-8DB0-50B658DC3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F525B-9242-49C7-B1A1-CDFFA7D6F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A3CE-7476-4252-9CB6-848AAE8F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6FC5-7713-42F6-B844-A0374C5F0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5932-64E6-4ACC-8185-B0F9433E1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3AA6-6C94-4FA7-A339-CE89A9C6A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0A2D-DFDF-422F-A1ED-27E1CC64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EA85-A11C-4E79-B42E-9B18B52F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3C00-7BE6-442B-A39B-FA8CC9B4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4A9F1-C686-4AB4-AE0C-14BE42B3ECCF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B51C4-E5CF-44B9-8C18-48FFBAC98D8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4455D-4CB3-43B0-9CB5-78E2F33B549D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202F2-2D67-448E-B818-FE1BFB05298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Metody operační analýzy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tra Hrst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365D5-3774-4029-B9E2-F4B1AB6E796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45AB63B-8295-42F1-B613-11933305DA6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Konstrukce vhodného typu mode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el je určitým stupněm abstrakce reálných systém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63640" y="2924280"/>
            <a:ext cx="1152720" cy="936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08000" y="306864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álný obje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80000" y="2924280"/>
            <a:ext cx="1152360" cy="936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24360" y="3213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é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24360" y="2924280"/>
            <a:ext cx="1152720" cy="936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869080" y="320688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987640" y="3284640"/>
            <a:ext cx="720720" cy="215640"/>
          </a:xfrm>
          <a:prstGeom prst="rightArrow">
            <a:avLst>
              <a:gd name="adj1" fmla="val 50000"/>
              <a:gd name="adj2" fmla="val 83556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003640" y="3284640"/>
            <a:ext cx="648000" cy="215640"/>
          </a:xfrm>
          <a:prstGeom prst="rightArrow">
            <a:avLst>
              <a:gd name="adj1" fmla="val 50000"/>
              <a:gd name="adj2" fmla="val 75125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84360" y="4221000"/>
            <a:ext cx="388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52720" y="4221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k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7D70-1B5E-46DB-9688-A006FE12801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CF0603-7ADB-4040-B824-36403964695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      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ztah mezi objektem a jeho      </a:t>
            </a:r>
            <a:br>
              <a:rPr sz="4200"/>
            </a:b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       modele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04840" y="1981080"/>
            <a:ext cx="1981440" cy="838440"/>
          </a:xfrm>
          <a:prstGeom prst="flowChartProcess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905440" y="5067360"/>
            <a:ext cx="1981440" cy="838080"/>
          </a:xfrm>
          <a:prstGeom prst="flowChartProcess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905440" y="1981080"/>
            <a:ext cx="1981440" cy="838440"/>
          </a:xfrm>
          <a:prstGeom prst="flowChartProcess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04840" y="5067360"/>
            <a:ext cx="1981440" cy="838080"/>
          </a:xfrm>
          <a:prstGeom prst="flowChartProcess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0" idx="3"/>
            <a:endCxn id="132" idx="1"/>
          </p:cNvCxnSpPr>
          <p:nvPr/>
        </p:nvCxnSpPr>
        <p:spPr>
          <a:xfrm>
            <a:off x="3085920" y="2400120"/>
            <a:ext cx="2819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32" idx="2"/>
            <a:endCxn id="131" idx="0"/>
          </p:cNvCxnSpPr>
          <p:nvPr/>
        </p:nvCxnSpPr>
        <p:spPr>
          <a:xfrm>
            <a:off x="6895800" y="2819520"/>
            <a:ext cx="1080" cy="2248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"/>
          <p:cNvCxnSpPr>
            <a:stCxn id="131" idx="1"/>
            <a:endCxn id="133" idx="3"/>
          </p:cNvCxnSpPr>
          <p:nvPr/>
        </p:nvCxnSpPr>
        <p:spPr>
          <a:xfrm flipH="1">
            <a:off x="3085560" y="5486040"/>
            <a:ext cx="2819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" name=""/>
          <p:cNvCxnSpPr>
            <a:stCxn id="133" idx="0"/>
            <a:endCxn id="130" idx="2"/>
          </p:cNvCxnSpPr>
          <p:nvPr/>
        </p:nvCxnSpPr>
        <p:spPr>
          <a:xfrm flipV="1">
            <a:off x="2095200" y="2819160"/>
            <a:ext cx="1080" cy="2248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8" name=""/>
          <p:cNvSpPr/>
          <p:nvPr/>
        </p:nvSpPr>
        <p:spPr>
          <a:xfrm>
            <a:off x="1447920" y="2133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72200" y="2133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95880" y="5257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502920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znatky o mode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502920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znatky o ob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05320" y="1905120"/>
            <a:ext cx="1904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vor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15000" y="35053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řešení  mode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280" y="35053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ce   poznat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29000" y="4952880"/>
            <a:ext cx="1905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pre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znat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7357-BD59-44E3-BAAA-1B41A5184BC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BFE063-9D39-4022-8BEC-1842051871B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Klasifikace model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dle očekávaného použití model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pisné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gnostick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izač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dle zobrazované stránky zkoumaného objek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y struktu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y chová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y smíšen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dle tvaru výstup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istick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chastick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dle fyzické podoby model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menšené repliky reálných objekt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kční obdoby reálných objektů (analogové mode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y, které formalizují reálný objekt pomocí symbolů, matematických výrazů a vztahů – modely matematick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EEF1-B97E-4B9B-BE38-B559C2D2923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373381-8781-44FD-A203-11148E12834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Nejčastější chyby při sestavování model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ílišné zjednodušení model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zahrnuje zbytečné nebo nepodstatné veliči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ktura modelu je nesprávn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7743-59D3-43A8-93E5-26AA16C3A60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D13D49-2D28-40FB-9FEE-E790ED55938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ulace matematického mode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finice parametr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finice proměnný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mulace účelové funk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mulace soustavy omezení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vantifikace mode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FBA4-C65E-49E5-B21E-5F2AF6D5169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DA57B0-5278-43F7-8131-7DDDF36A620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etody operační analýz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tematické program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ícekriteriální rozhod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íťová analý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orie řízení zás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orie obno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orie hromadné obslu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orie 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čítačové simu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B2A9-2314-4368-81CB-9669E0BD92D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58E540-5A08-4856-8FFE-D72B4817D6C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ineární programování - histori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ecný model lineárního programování (LP) -  vytvořen při řízení výroby a organizaci hospodářství v průběhu II. světové války ve Velké Britanii a US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létech 1940-45 vypracov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G. B. Dantzig simplexovou metod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univerzální algoritmus pro řešení úloh L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roce 1951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. Charnes a W. W. Coope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začali využívat LP ve výrobě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následujících létech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. Bellma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tvořil teoretické a matematické základy pro dynamické programová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jvětší rozvoj LP nastal pak v létech 1955-6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22E2-B042-4863-97B7-D326322DA44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54B889-93DF-4415-8775-40FE185BA1D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íle přednášk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ozumět principům optimalizace při daných omezeníc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kázat formulovat model lineárního programování (LP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mět graficky řešit úlohu LP se dvěma proměnným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hopit obecné vlastnosti přípustných řešení úlohy L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04C0-BBBE-4BC2-AEC2-F1E658BA273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6E2CA9-233E-4ABD-879A-189232C32FC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říkla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nik vyrábí dva výrobky V1 a V2, které se zpracovávají na dvou typech strojů A a B. Zhotovení jednotky výrobku V1 vyžaduje 6 strojových hodin na stroji typu A a 3 hodiny práce na stroji typu B. Obdobně zhotovení výrobku V2 vyžaduje 4 strojové hodiny jak na stroji A tak i na stroji B. Podnik má měsíčně k dispozici celkem 3 000 strojových hodin na strojích typu A a 2500 strojových hodin na strojích typu B. Cena jednotky výrobku V1 činí 200 Kč a cena výrobku V2 je 300 Kč. Podnik má zaručený odbyt obou výrobků a není vázán na určitý sortiment. Je třeba rozhodnout, kolik má podnik vyrobit jednotlivých výrobků, aby dosáhl co nejvyšší celkové ceny odbyt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DDDB-D465-4BA2-BB56-4A9AC096B99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607169-A16C-44F5-9200-EFF076F6BFC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ineární programování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ody lineárního programování jsou algebraické metody založené na řadě rovnic a nerovnic, které stanoví omezení pro úlohu a jsou užívány pro optimalizaci matematického výrazu, který nazýváme účelovou funkcí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čelová funkce a omezení daného problému musí být deterministické a musí být vyjádřeny v lineárním tvar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CB67-7114-4983-9D27-0A9BE756C73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9F4673-E9DC-42D3-B7B0-AAD37EFFC74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oporučená literatur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. Vaculík, J. Zaple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ODPŮRNÉ METODY ROZHODOVACÍCH PROCESŮ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, MU v Brně, 199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. Jablons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OPERAČNÍ VÝZKUM,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VŠE Praha, 200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. Klapka, J. Dvořák, P. Popel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METODY OPERAČNÍHO VÝZKUMU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,  VUT Brno, 1996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. Wisniewski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ETODY MANAŽERSKÉHO ROZHODOVÁ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Grada Publishing,Praha, 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30D3-0D91-4850-8969-A811122FF86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A3F840-3AF6-4CDF-9E0D-01A7FF80C11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Postup při formulaci modelu lineárního programování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rbální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mezení a identifikace problém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rbální popis problému (popis procesů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novení cí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vantifikace jednotlivých prv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vantitativní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efinování proměnných, jejichž hodnoty máme nalézt. Vymezení jejich nezápornost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ormulace omezujících podmínek zobrazujících vztahy mezi procesy pomocí soustavy lineárních nerovnic, resp. rovn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ormulace kriteriální lineární funkce, vyjadřující cíl výpočtu (kriteriální funkce slouží k posouzení výhodnosti jednotlivých procesů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86E5-08BA-4E60-B257-F29CA735D4F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5CCAF7-87C7-4C7C-B5CB-FB26177CDD4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Obecná formulace modelu lineárního programování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lineárního programování lze obecně vyjádřit matematickým zápisem tak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íl: najít extré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účelové funk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a podmíne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ice              je matice typu (m, n) a nazývá se matice soustavy omezujících podmínek,               je vektor proměnných,               je vektor pravých stran soustavy omezujících podmínek,               je vektor cen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580000" y="2276640"/>
            <a:ext cx="2156040" cy="4316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3348000" y="2781360"/>
            <a:ext cx="957240" cy="15127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2050920" y="4365720"/>
            <a:ext cx="792360" cy="3412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5867280" y="4724280"/>
            <a:ext cx="1086120" cy="2383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3203640" y="5084640"/>
            <a:ext cx="1076400" cy="2383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5796000" y="5445000"/>
            <a:ext cx="10764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0AE8-417B-46F1-88AA-F4C50C1D172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DEA4B0-DAC8-48DD-B44C-B6EE9BDAF53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Úkolem je pak řešit tuto soustavu rovnic a nerovnic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tzn. Nalézt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hodnot proměnných x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až x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které rovnicím vyhovuj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oustava má řešení právě tehdy, je-li hodnost rozšířené matice soustavy A/b rovna hodnosti matice soustavy 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dnou z možností řešení soustavy je použit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Gaussovy eliminační met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sobíme-li libovolnou rovnici soustavy libovolným reálným číslem 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≠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řipočteme-li k libovolné rovnici soustavy k-násobek jiné rovnice soust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k soustava, kterou získáme je ekvivalentní soustavě původní a obě soustavy mají všechna řešení společná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35280" y="4941720"/>
            <a:ext cx="649080" cy="289080"/>
          </a:xfrm>
          <a:prstGeom prst="rightArrow">
            <a:avLst>
              <a:gd name="adj1" fmla="val 50000"/>
              <a:gd name="adj2" fmla="val 5613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6031-9854-465D-B53E-24F673CA393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210AED-A36C-4466-A2CD-B3B2AEE8B32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Řešení probíhá v těchto krocích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cházíme z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anonického tvar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soustavy (soustava je v kanonickém tvaru, jestliže matice A obsahuje jednotkovou submatici I, jejíž hodnost je h(I)=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lezneme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chozí bazické řeše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bazické = základní řešení – proměnné x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n-m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řiřadíme 0, ostatní = hodnotám vektoru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ransformací převedeme soustavu na jiný kanonický tva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tak, že z jedné nezákladní se stane základní a naop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alezneme nové řešení soustavy a postup opakujeme až nalezneme všechna základní řeše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6723-4715-49BE-A739-9AA4A4C629A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A7CD5F-33A2-455D-BE94-C33FFA4C0F3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ojmy lineárního programování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řípustným řešení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úlohy lineárního programování je vektor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x, který vyhovuje soustavě omezení úloh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Bazické řešení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úlohy LP je takové přípustné řešení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, jehož kladné složky s´jsou hodnoty proměnných x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, jejichž sloupce koeficientů v soustavě omezení tvoří lineárně nezávislou soustavu vektor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ptimální řeše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úlohy LP je takové bazické řešení, které maximalizuje (minimalizuje) účelovou funk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828E-F228-4724-AA8E-2B1DC0595A6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D552AC-28FD-4F7E-A4F5-F90B2391AC5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Grafické řešení úlohy lineárního programování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metrická interpretace lineárních nerovnic a vlastnosti konvexních množin umožňují řešit úlohu LP grafic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fická metoda se používá pro řešení úloh LP se dvěma proměnnými a konečným počtem omezujících podmíne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oda je prakticky málo využitelná, neboť v praxi se zřídka vyskytují jednoduché problémy pouze se dvěma proměnným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ýznam grafické metody spočívá v názorné interpretaci základních vlastností modelu L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781B-823C-4EFF-A776-F4BD1CE0A1B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395E46-801D-465E-9829-8CE3AC0F1AE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ostup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Formulace matematického model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Grafické vymezení množiny přípustných řešen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Grafické zobrazení průběhu účelové funk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Nalezení extrému (maxima, minima) účelové funk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6285-ACE8-43E6-9C43-2857CC94C1B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28E95E-7927-4CB5-9F95-F01AA9CC3D4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říkla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elová funkc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= 3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+ 2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mezující podmínk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14 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5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+ 10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100 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4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+ 2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32 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1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mínky nezápornos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0, 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627A-0C13-422D-8540-8CAA7E8C580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896F88-1954-4D60-B3B7-3F1608526EA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Grafické řešení příklad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68360" y="1628640"/>
            <a:ext cx="5040360" cy="446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1299-684D-47F9-A331-F1D55749AF7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185076-B166-4E55-B22F-9D760B56CDD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Obecné vlastnosti přípustných řešení úlohy LP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nožina bodů se nazývá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vexn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jestliže splňuje podmínku: patří-li do ní dva různé body, patří do ní také všechny body úsečky určené oběma 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ě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nožina přípustných řešení úlohy LP je konvexní množina s  konečným počtem vrcho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843280" y="3141720"/>
            <a:ext cx="3600360" cy="1341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99FF-5017-4C81-BFE8-19EFE156BE4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C34CBA-8B0B-4740-A699-D30B0B3FB24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Operační analýz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perační výzkum, Operational Research, Kvantitativní metody, Ekonomicko-matematické metody, Management 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perations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perační analýza je aplikace vědeckých metod na komplex problémů vznikajících při řízení složitých systémů lidí, strojů, materiálních a fin. prostředků ve výrobě a obchod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čelem je pomoci vedoucím pracovníkům podložit jejich rozhodnutí vědeckými metoda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perační analýza představuje způsob týmové práce, při které skupina specialistů různého odborného zaměření komplexně řeší složitý ekonomický, technický nebo organizační problém.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100" spc="-1" strike="noStrike">
                <a:solidFill>
                  <a:srgbClr val="000000"/>
                </a:solidFill>
                <a:latin typeface="Arial"/>
              </a:rPr>
              <a:t>Kolektiv autorů VŠB-TU Ostrav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A655-4B27-48AB-9C21-904F8D871B6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D75B32-16E1-4084-9C2A-F3B2CB19DEA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Klasifikace množin přípustných řešení v modelu LP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nožina přípustných řešení je prázdn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nožina přípustných řešení je konvexní polyed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67080" y="2422080"/>
            <a:ext cx="4210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771640" y="2133720"/>
            <a:ext cx="3168720" cy="15494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2843280" y="4221000"/>
            <a:ext cx="3240000" cy="19386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6227640" y="4076640"/>
            <a:ext cx="266544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Úloha má jediné řešen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když se přímka účelové funkce dotkne vrcholu polyedr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konečně mnoho řešen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když přímka účelové funkce protíná konvexní polyedr ve dvou vrcholec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93D1-3EA3-4AD7-8859-9A286FEA552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2236F7-7A1E-4DCF-80C0-B6B8FC7E081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Množina přípustných řešení je neohraničen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411280" y="2565360"/>
            <a:ext cx="4248360" cy="293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AC20-D1D7-4C75-A8EA-2A83A080875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AC3C0E-BC8C-4CB9-81D9-058DE73E4DB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Základní věta lineárního programování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Účelová funkce v modelu lineárního programování nabývá svého extrému na hranici konvexní množiny přípustných řešení (ve vrcholu konvexního polyedru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základě základní věty LP je možno optimální řešení modelu LP vybírat z konečného počtu řešení: model LP má konečný počet omezujících podmínek a konvexní množina přípustných řešení má proto konečný počet vrcholů. V jednom z vrcholů je hledané řešení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C327-CCCD-4033-B8CA-3D98A7F0469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3398E1-9034-4158-B66C-B79583FA7E6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říklady použití LP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úlohy výrobního plán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řezné problé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úlohy směš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úlohy doprav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roblém směsí v naftových a chemických rafinériích, výběr dodavatelů nebo odběratelů pro velké podniky s mnoha závody, určení expedičních tras a časových plán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3FC6-BD94-4EB9-8639-95DAC2FDC12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019BE2-AE39-42DB-820E-7258F015E33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Simplexová metoda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erační výpočetní post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 nalezení optimálního řešení úlohy lineárního programován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á dvě základní fá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anovení výchozího základního přípustnéh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řeše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řechod od základního přípustného řešení k druhému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ak, aby se zlepšovala hodnota účelové funkce a dosáhla svého opti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13A5-D35C-4D60-9531-2736A7C6BB1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105604-3554-47C2-A4CE-F36172B8F18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terační postup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484280"/>
            <a:ext cx="77724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Určení klíčového sloupc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určení nebazické proměnné, která bude vstupovat do báz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 maximalizace hledáme největší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│z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│z těch z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‹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 minimalizace hledáme největší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těch z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›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Určení klíčového řádk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(určení bazické proměnné, která bude vystupovat z báze a bude nahrazena proměnnou klíčového sloup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Hledáme min b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/a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pro a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›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kud neexistuje ve sloupci a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›0, pak úloha nemá konečné optimální řeš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rovedeme výměn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proměnné vstupující do báze a proměnné vystupující z báze, přetransformujeme simplexovou tabul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stup opakujeme tak dlouho dokud nenalezneme optimální řešení nebo nezjistíme, že úloha optimální řešení nemá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Řešení je optimální, jestliže v řádku cen při maximalizaci jsou všechna čísla nezáporná a při minimalizaci nekladn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562E-B993-4EB0-8E3A-E194E5D6189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168891-8405-4E99-A158-6217CF69AD7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harakteristika operační analýz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měření n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dporu rozhodován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ři řešení složitých problémů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yužití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ědeckého přístup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ři řešení problémů spojeného s aplikací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ové technik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ýmová organizace prá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ektování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ynamik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chastické povah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álných proces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04EC-8834-4227-9A99-61C25A75343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7E0EFA-F9F9-4E21-9987-23697877958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ozhodovací proc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549440" y="1685880"/>
          <a:ext cx="6497640" cy="435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9440" y="1685880"/>
                    <a:ext cx="6497640" cy="43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E3F8-B959-4E11-80ED-481A19D1260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048D4A-9327-41A3-A8DC-AA69DC25080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Oblasti využití MO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ánování a řízení výro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last operativního ří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alizace výrobního programu, analýza výrobního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last prodeje výrobků a jejich distribuce (hledání vhodného umístění skladů, prodejen at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klama )optimální lokalizace finančních prostředků do jednotlivých sdělovacích médi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ční plánování (optimalizace portfolia fir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Řízení projektů (výstavba nových objektů, organizace a řízení konferencí at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Řízení zás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zhodování za rizika a nejisto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D0CA-574A-4BBC-A627-2EBC573BABD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AA07B9-5FE6-4873-B260-5530A84DC61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Struktura postupu implementace metod operační analýz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Vymezení a definice problém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Konstrukce vhodného typu mode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Řešení mode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Interpretace výsledků řeš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Realizace výsledků řeš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 Verifik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03E2-59BB-47C0-B4E4-436FDD1ED1C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3A05B0-6304-42E7-BBA7-FD35078C62E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Vymezení a definice problém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ovení cílů a definice problému ústí ve výběr těch prvků reálného objektu a vazeb mezi nimi, které jsou z hlediska řešeného problému významné – „definice systému na reálném objektu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stém – účelově zjednodušená verze reálného ob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ýsledkem pak může být grafické nebo tabulkové znázornění hlavních faktorů a vazeb mezi nim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67280" y="5084640"/>
            <a:ext cx="1008000" cy="719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93E7-82C4-49F3-AB29-E79D33D50BE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437436-9E85-420A-8DBD-8FED6963054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ce problému pak vyúsťuje 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rmulaci cí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kterého chceme řešením problému dosáhnout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ymezení hlavních ce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osažení stanoveného cíle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ýbě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hlavních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aktorů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ůsobících na řešení problému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rčení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mezujících podmínek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v nichž se může řešení pohybov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F6AA-78F8-48C0-9125-42E48F4958D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1E858E-125A-4E13-BC64-6B1215A1371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7:46:05Z</dcterms:created>
  <dc:creator>hrstkova</dc:creator>
  <dc:description/>
  <dc:language>en-US</dc:language>
  <cp:lastModifiedBy>hrstkova</cp:lastModifiedBy>
  <dcterms:modified xsi:type="dcterms:W3CDTF">2004-10-01T08:29:43Z</dcterms:modified>
  <cp:revision>6</cp:revision>
  <dc:subject/>
  <dc:title>Metody operační analýzy</dc:title>
</cp:coreProperties>
</file>