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1F5F-5000-4E16-AD64-F6744757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C298-9581-4823-8B75-7AF806BA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5F5C-989D-49DB-AF52-2D0AAF1D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24E2-B8CD-4189-811D-CADB8DCD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0CEB-BF96-4DC0-8350-7EACD963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0D82-B08D-46FF-A72D-34569592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4999-4495-41AC-A73C-96DB3790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B78C-4219-466A-AF20-B02F1624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83E6-CE8A-4028-B87F-EA51B306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BFEC-01B2-4137-B9ED-C50E234C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C6BB-E11C-4712-BF91-8E8A8706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CC31-A1ED-4D2B-9E9F-33CF1A14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4447-9FA0-4387-B0A7-805BF8BE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37B7-8411-40F5-B005-E8F3DC72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5F47-7C1B-43B3-9C4C-8DA62459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96CC-36EB-4467-9484-1F4F2E6C6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E49A-066B-4417-B7B8-9F30CEA1E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2B05-4D79-4F0B-9797-CC3789C4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0E4E-00CF-4F99-A221-7C2BD128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998B-DEBB-46B6-8F11-96F1D56B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A321-E526-47B5-8F86-A6B336E1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C7C1-485B-4EAC-8304-778EDB94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F853-4AB8-42CF-978E-E1133E68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6D26-2CE1-4D63-80FF-9B55C217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CFB2-219E-458C-A854-FD007816C46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160E-3719-4D53-A084-501087D629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1373-2AAE-476A-895F-83B77455AC1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95A7-A529-41C5-8BD9-C595E530B5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Řízení projektů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ra Hrst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Rozsah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cope) je soubor úkolů, které jsou předmětem řešení projektu. 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Harmonogram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chedule) určuje dobu trvání a sekvenci provádění úkolů jakož i celkovou dobu trvání projektu. 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Zdroje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resources) tvoří lidé, vybavení a peníze nezbytné pro provedení projek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Úspěšné řízení projektu je procesem kontinuálního plánování a revidování dosahovaných výsledk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DBEB-FE3A-46F7-98C8-CBB0745879E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DA1220-C109-4569-A431-EC582370FB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stup plánování projekt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mětem přípravy MP je vymezení a plánování postupu od hrubého plánu (draft outline) k detailnímu plánu (detailed pla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Stanovení obsahu projektu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j. identifikace problémů, definování cílů, výstupů a produktů, identifikace vhodných partnerů, určení ukazatelů a parametrů kvality a rizika, návrh strategie monitorování a hodnoc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Stanovení organiza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j. strukturování hlavních činností do etap a kroků, plánování milníků </a:t>
            </a:r>
            <a:r>
              <a:rPr b="0" lang="cs-CZ" sz="1800" spc="-1" strike="noStrike">
                <a:solidFill>
                  <a:srgbClr val="b2b2b2"/>
                </a:solidFill>
                <a:latin typeface="Arial"/>
              </a:rPr>
              <a:t>(milestones)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efinování rolí, rozdělování a koordinace úkolů, plánování času (etapy, harmonogram), návrh interního komunikačního systém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Plánování interak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uvnitř tj. výběr členů týmu, budování a vedení týmů, vytváření kultury projektu, sdílených hodnot, standardů a pravidel, řízení konflikt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Plánování interakcí s okolí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j. analyzování prostředí projektu, návrh marketingových strategií a plánování informačních činností (disse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Návrh administrativy a finan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tj. finanční plánování (plánování nákladů), návrh uplatnění kontraktačních požadavků, návrh systému a procedur podávání zpráv (report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BE1B-8AF7-4D91-AD0C-2511171E038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54801C-CA2E-40D3-A175-8AFF076716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ozdělení projektů do eta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 průběhu mezinárodních projektů lze rozdělit tak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dentifikace problému (n. příležitosti) - Opportunity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ulování představy projektu - Feasibility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dentifikace vhodných partne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pracování plánu projektu a předložení přihlášky (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odnocení přihlášek a výbě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jednávání a uzavírání kontra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hody s partnery (a uživate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hájení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alizace projektu (implementace kontra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pletování a hodnocení výsledků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ezentace a šíření výsled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7F18-90BD-4B26-8029-C036C1AC6FE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CE3818-7394-43C1-9BD5-1850CEDE7E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udie příležitost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A. Jaký problém - Co? Bude projekt řeš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B. PROČ se to bude projekt řeš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C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Koho se bude projekt dotýkat?(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otenciální uživatelé </a:t>
            </a: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(target groups)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sp. zájmových skupin </a:t>
            </a: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(stakeholders)</a:t>
            </a:r>
            <a:r>
              <a:rPr b="0" lang="cs-CZ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stupujících či jinak ovlivňujících realizaci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D. Jaké přínosy se od projektu očekáva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E. Jak se bude projekt financov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F. Jaké se mohou vyskytnout komplikace (rizika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3A1E-B11B-4FB5-A0CF-6E7A2494AC7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74A107-99EA-457E-ACE6-2722E4112C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hodné meto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1.1 Metoda problémového stromu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TM (Problem Tree Method) předpokládá identifikaci problému a jeho rozpad ve smyslu souvislé analýzy příčin a následk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329480" y="3716280"/>
            <a:ext cx="6256080" cy="2298600"/>
            <a:chOff x="1329480" y="3716280"/>
            <a:chExt cx="6256080" cy="2298600"/>
          </a:xfrm>
        </p:grpSpPr>
        <p:sp>
          <p:nvSpPr>
            <p:cNvPr id="127" name=""/>
            <p:cNvSpPr/>
            <p:nvPr/>
          </p:nvSpPr>
          <p:spPr>
            <a:xfrm>
              <a:off x="3198600" y="3716280"/>
              <a:ext cx="144756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roblé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417600" y="4716720"/>
              <a:ext cx="22096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cccc99"/>
                  </a:solidFill>
                  <a:latin typeface="Times New Roman"/>
                </a:rPr>
                <a:t>Příč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70080" y="4338720"/>
              <a:ext cx="167580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36760" y="4960800"/>
              <a:ext cx="159984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74840" y="4338720"/>
              <a:ext cx="167616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80040" y="4960800"/>
              <a:ext cx="171396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2931840" y="4033800"/>
              <a:ext cx="1981080" cy="304920"/>
              <a:chOff x="2931840" y="4033800"/>
              <a:chExt cx="1981080" cy="304920"/>
            </a:xfrm>
          </p:grpSpPr>
          <p:sp>
            <p:nvSpPr>
              <p:cNvPr id="134" name=""/>
              <p:cNvSpPr/>
              <p:nvPr/>
            </p:nvSpPr>
            <p:spPr>
              <a:xfrm>
                <a:off x="2931840" y="4186080"/>
                <a:ext cx="19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931840" y="41860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912920" y="41860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922200" y="40338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3935160" y="4668840"/>
              <a:ext cx="1981080" cy="304920"/>
              <a:chOff x="3935160" y="4668840"/>
              <a:chExt cx="1981080" cy="304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935160" y="4821120"/>
                <a:ext cx="19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935160" y="48211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916240" y="48211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925520" y="4668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1712880" y="3881520"/>
              <a:ext cx="0" cy="1828800"/>
            </a:xfrm>
            <a:prstGeom prst="line">
              <a:avLst/>
            </a:prstGeom>
            <a:ln w="9360">
              <a:solidFill>
                <a:srgbClr val="cc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122960" y="3881520"/>
              <a:ext cx="0" cy="1828800"/>
            </a:xfrm>
            <a:prstGeom prst="line">
              <a:avLst/>
            </a:prstGeom>
            <a:ln w="93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6200000">
              <a:off x="6287400" y="4716720"/>
              <a:ext cx="22096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ccff"/>
                  </a:solidFill>
                  <a:latin typeface="Times New Roman"/>
                </a:rPr>
                <a:t>Důslede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5ACA-CE5A-4DD0-BEB7-4681B6FF0E0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0F64B-754A-4947-9C3C-E0D3F145F5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1.2 Analýza prostředí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etoda P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tředí projektů je určeno objektivními i subjektivními, vnitřními i vnějšími faktory, které ovlivňují jeho realiza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116000" y="3500280"/>
            <a:ext cx="2808000" cy="2665080"/>
            <a:chOff x="1116000" y="3500280"/>
            <a:chExt cx="2808000" cy="2665080"/>
          </a:xfrm>
        </p:grpSpPr>
        <p:grpSp>
          <p:nvGrpSpPr>
            <p:cNvPr id="149" name=""/>
            <p:cNvGrpSpPr/>
            <p:nvPr/>
          </p:nvGrpSpPr>
          <p:grpSpPr>
            <a:xfrm>
              <a:off x="1255320" y="3500280"/>
              <a:ext cx="2584800" cy="2665080"/>
              <a:chOff x="1255320" y="3500280"/>
              <a:chExt cx="2584800" cy="2665080"/>
            </a:xfrm>
          </p:grpSpPr>
          <p:sp>
            <p:nvSpPr>
              <p:cNvPr id="150" name=""/>
              <p:cNvSpPr/>
              <p:nvPr/>
            </p:nvSpPr>
            <p:spPr>
              <a:xfrm>
                <a:off x="1255320" y="3508560"/>
                <a:ext cx="2569320" cy="2656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70800" y="4834800"/>
                <a:ext cx="256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2516040" y="3500280"/>
                <a:ext cx="0" cy="265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1116000" y="3715920"/>
              <a:ext cx="14882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olitické &amp; právní prostřed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36120" y="3715920"/>
              <a:ext cx="148788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konomické prostřed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85480" y="4939200"/>
              <a:ext cx="14864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ciální a kulturní prostřed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36120" y="4939200"/>
              <a:ext cx="148788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Technologické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st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ředí &amp; ekolog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284720" y="3914640"/>
            <a:ext cx="4114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 si v průběhu své realizace vytváří vlastní prostředí resp. sociální systém se specifickými vzorci chování, hodnotami, prioritami a identit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BD1F-44DD-47DB-A333-7D772504DF3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3B16D5-7185-4784-98BE-96E369F446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1.3. Metoda SWOT analýz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5680" y="2362320"/>
            <a:ext cx="3381120" cy="3218400"/>
            <a:chOff x="4495680" y="2362320"/>
            <a:chExt cx="3381120" cy="3218400"/>
          </a:xfrm>
        </p:grpSpPr>
        <p:grpSp>
          <p:nvGrpSpPr>
            <p:cNvPr id="161" name=""/>
            <p:cNvGrpSpPr/>
            <p:nvPr/>
          </p:nvGrpSpPr>
          <p:grpSpPr>
            <a:xfrm>
              <a:off x="4952880" y="2362320"/>
              <a:ext cx="2831400" cy="2822400"/>
              <a:chOff x="4952880" y="2362320"/>
              <a:chExt cx="2831400" cy="2822400"/>
            </a:xfrm>
          </p:grpSpPr>
          <p:sp>
            <p:nvSpPr>
              <p:cNvPr id="162" name=""/>
              <p:cNvSpPr/>
              <p:nvPr/>
            </p:nvSpPr>
            <p:spPr>
              <a:xfrm>
                <a:off x="4952880" y="2370960"/>
                <a:ext cx="2814480" cy="2813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969800" y="3775680"/>
                <a:ext cx="28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6334200" y="2362320"/>
                <a:ext cx="0" cy="28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4724280" y="2590920"/>
              <a:ext cx="3152520" cy="2240640"/>
              <a:chOff x="4724280" y="2590920"/>
              <a:chExt cx="3152520" cy="2240640"/>
            </a:xfrm>
          </p:grpSpPr>
          <p:sp>
            <p:nvSpPr>
              <p:cNvPr id="166" name=""/>
              <p:cNvSpPr/>
              <p:nvPr/>
            </p:nvSpPr>
            <p:spPr>
              <a:xfrm>
                <a:off x="4876560" y="2590920"/>
                <a:ext cx="162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Silné stránk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Strength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248160" y="2590920"/>
                <a:ext cx="162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Slabé stránky „Weaknesse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724280" y="4038840"/>
                <a:ext cx="175248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Příležitost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Opportunitie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248160" y="4038840"/>
                <a:ext cx="162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Ohrožen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Threat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016240" y="518184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tenciá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86400" y="518040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mezen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0800000">
              <a:off x="4495680" y="2362320"/>
              <a:ext cx="485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oučasn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0800000">
              <a:off x="4495680" y="3810240"/>
              <a:ext cx="485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udoucn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4938-354F-499A-B22F-3D1D7F50C1F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2D7C25-5E30-4F00-B4F4-2725EAB99F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toda logického rám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vrh konceptu projektu souvisí s formulováním základního konceptuálního návrhu (charakteristiky) projektu, vymezením základního cíle (účelu) projektu a dílčích cílů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vypracování charakteristiky projektu se používá metoda logického rámce LFM (Logical Framework Method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. Analýza cí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. Stanovení logiky interven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. Definování indikátor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4. Definování předpokladů a riz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5. Stanovení činností a jejich posloupnosti (harmonogram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6. Stanovení a popis metod realizace a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7. Stanovení vstupů a rozpoč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0EA4-ACF8-4423-9332-536A462C2A7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D2FA66-91C7-45D4-9DF7-B785842A87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atice logického rám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8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oda logického rámce používá pro charakteristiku projektu matici, která se nazývá </a:t>
            </a: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matice logického rám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LFM (Logical Framework Matrix) umožňuje vypracovat komplexní návrh projekt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187280" y="2492280"/>
          <a:ext cx="7210440" cy="2224080"/>
        </p:xfrm>
        <a:graphic>
          <a:graphicData uri="http://schemas.openxmlformats.org/drawingml/2006/table">
            <a:tbl>
              <a:tblPr/>
              <a:tblGrid>
                <a:gridCol w="1442880"/>
                <a:gridCol w="1441800"/>
                <a:gridCol w="1441440"/>
                <a:gridCol w="1441440"/>
                <a:gridCol w="1442880"/>
              </a:tblGrid>
              <a:tr h="751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is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ktivně-ověřitelné ukaza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 &amp; prostředky ověř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poklady&amp; riz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č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í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stu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in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42920" y="4797360"/>
            <a:ext cx="734544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Účel projektu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mysl realizace projektu.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Účel n. hlavní cíl projektu je pouze jeden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Cí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ecifické vymezení určitého cílového resp. žádoucího stavu (výstupů), kterých má být realizací projektu dosaženo. </a:t>
            </a: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Výstup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onkrétní výsledky realizace projektu. </a:t>
            </a: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Činnost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ubor prováděcích operací vedoucích k dosažení výstupů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5049-3BA4-49E7-BCE2-7BF5CE3322E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1B571-E2E0-4FD8-878F-9DBA74F0B0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Stanovení logiky intervenc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ředstavuje: narativní popis projektu na 4 úrovních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účel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íle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výstupy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činnosti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matici logického rám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042920" y="2565360"/>
          <a:ext cx="7499160" cy="2125800"/>
        </p:xfrm>
        <a:graphic>
          <a:graphicData uri="http://schemas.openxmlformats.org/drawingml/2006/table">
            <a:tbl>
              <a:tblPr/>
              <a:tblGrid>
                <a:gridCol w="1500120"/>
                <a:gridCol w="1500120"/>
                <a:gridCol w="1498680"/>
                <a:gridCol w="1500480"/>
                <a:gridCol w="1499760"/>
              </a:tblGrid>
              <a:tr h="767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is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ktivně-ověřitelné ukaza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 &amp; prostředky ověř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poklady&amp; riz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č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í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stu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in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Vstu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Nákla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1042920" y="5056200"/>
            <a:ext cx="75614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Stanovení logiky intervenc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 obvykle dostačující informace pro formulování základní představy projektu, která je podkladem pro další vyjednávání s partn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286000" y="3006720"/>
            <a:ext cx="4800600" cy="1574640"/>
            <a:chOff x="2286000" y="3006720"/>
            <a:chExt cx="4800600" cy="1574640"/>
          </a:xfrm>
        </p:grpSpPr>
        <p:sp>
          <p:nvSpPr>
            <p:cNvPr id="185" name=""/>
            <p:cNvSpPr/>
            <p:nvPr/>
          </p:nvSpPr>
          <p:spPr>
            <a:xfrm flipV="1">
              <a:off x="2286000" y="3006720"/>
              <a:ext cx="0" cy="1574640"/>
            </a:xfrm>
            <a:prstGeom prst="line">
              <a:avLst/>
            </a:prstGeom>
            <a:ln w="9360">
              <a:solidFill>
                <a:srgbClr val="cc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086600" y="3006720"/>
              <a:ext cx="0" cy="1574640"/>
            </a:xfrm>
            <a:prstGeom prst="line">
              <a:avLst/>
            </a:prstGeom>
            <a:ln w="9360">
              <a:solidFill>
                <a:srgbClr val="cc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00400" y="4149720"/>
              <a:ext cx="2819520" cy="0"/>
            </a:xfrm>
            <a:prstGeom prst="line">
              <a:avLst/>
            </a:prstGeom>
            <a:ln w="9360">
              <a:solidFill>
                <a:srgbClr val="00cc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00400" y="3387600"/>
              <a:ext cx="2819520" cy="0"/>
            </a:xfrm>
            <a:prstGeom prst="line">
              <a:avLst/>
            </a:prstGeom>
            <a:ln w="9360">
              <a:solidFill>
                <a:srgbClr val="00cc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00400" y="3768480"/>
              <a:ext cx="2819520" cy="0"/>
            </a:xfrm>
            <a:prstGeom prst="line">
              <a:avLst/>
            </a:prstGeom>
            <a:ln w="9360">
              <a:solidFill>
                <a:srgbClr val="00cc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B77E-AEB6-4EA3-91B1-A4FFB91E8CB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F2799B-F381-4EBD-AEB4-F374B9239C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jek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Projek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do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časn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časově omezená)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složitějš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komplex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nerutin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nelineár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zpravidla jednorázová neopakovatelná) operace resp. proces, jehož výstupem má být obvykle jedinečný produkt resp. služb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vykle vyžaduje multiprofesní realizační tým, na který se aplikují formalizované metody plánování a řízen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1231-0923-45CA-BEA2-BD4BB126EE1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D47656-0A9C-46B6-8E77-FF91DC63CE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3520" y="471240"/>
            <a:ext cx="8153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udie proveditelnost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1844640"/>
            <a:ext cx="838188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ditelnost projek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Technic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) ob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) roz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) technické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Operač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) č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) kapacity a zdroje (zejména lidské zdro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Finanč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Riz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Specifikace přínosů (finanční analý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4BF5-7E18-4690-95DD-E70AE02038AE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C3C62A-60E5-4F64-B7D8-877785A4B0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16120" y="534960"/>
            <a:ext cx="807696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tody síťové analýz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41480" y="2300400"/>
            <a:ext cx="7826040" cy="21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zlově orientované grafy (hranově orientované graf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oda CPM - deterministická (metoda PERT - stochastická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ýza času - kritická ce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ýza nákladů - průběh nákladů v č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ýza zdrojů - potřeba  a využití zdrojů v č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počty se provádějí pomocí počítačů (MS Pro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24FE-D42E-425A-A81C-5FBD8F6D5EE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4BCC4B-DE2C-4C9E-9CEF-1AB3C56119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Řízení projektu se skládá z několika základních manažerských činností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ce projektových cílů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ánová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dení lidských zdrojů – cílem je zajistit včasné a efektivní provedení naplánovaných činnost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ování – sledování aktuálního stavu projektu a odhalení odchylek od aktuálního stavu (při odhalení odchylek je třeba aktualizovat plán, případně změnit styl vedení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končení projektu – ověření, že zadání projektu bylo splněno; předání výsledků projektu (například předání stavby a dokument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8568-FF7F-408F-B16B-DE7F251C2B9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4D5F4F-453F-468F-9AD0-B93D9EB9B8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kráceně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é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al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30F1-E3A2-4540-BD6E-2B317851518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F7CDED-D3BB-466A-8037-6BBD256857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ákladní poj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íťový graf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orientovaný, neorientovaně souvislý, hranově ohodnocený, acyklický graf, vyjadřující závislost dílčích činností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rchol S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ředstavuje časovou událost – začátek nebo konec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Hrana S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ředstavuje činnost (potřebuje čas, zdroje, má dynamický charak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Činn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je definována počátečním a koncovým uz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ritická činn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rodloužení doby trvání této činnosti, prodlouží dobu trvání celého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ritická cest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sled kritických činností mezi začátkem a koncem projektu. Kritická cesta je definována jako (časově) nejdelší možná cesta z počátečního bodu grafu do koncového bodu graf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9B57-98C2-4CA3-B3E0-5AFC8724907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A1EE89-1855-44E6-A588-5D9141B313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Každý graf projektu je specifický tím, že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zi libovolnou dvojicí kontrolních bodů vede maximálně jedna činnost. Pokud tomu tak v praxi není, lze pomocí tzv. fiktivních činností (činností s nulovou dobou trvání a s nulovými náklady) přejít na nový síťový graf projektu, pro který je již tento předpoklad splně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 právě jeden počáteční bod – kontrolní bod, ve kterém činnosti pouze začínají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 právě jeden koncový bod – kontrolní bod, ve kterém činnosti pouze konč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ždá hrana grafu je ohodnocena – ke každé hraně (činnosti) je přiřazena její časová a finanční náročnost (jedná o hranově ohodnocený síťový graf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8EF0-A954-4E56-BD00-EB2C43FEAB8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F331E-B594-4778-9DE4-BEEF9DA3E4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Uzlově orientované graf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9810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zly představují činnosti s udáním ča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rany představují označení posloupnosti činnost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73160" y="457848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25640" y="389268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25640" y="5416560"/>
            <a:ext cx="59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73560" y="4654440"/>
            <a:ext cx="67320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78680" y="4654440"/>
            <a:ext cx="5968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682640" y="4184280"/>
            <a:ext cx="1130400" cy="62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82640" y="4959360"/>
            <a:ext cx="113040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59160" y="4121280"/>
            <a:ext cx="901800" cy="82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49880" y="5416560"/>
            <a:ext cx="67284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35480" y="571500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73560" y="381636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35480" y="411480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035680" y="4946760"/>
            <a:ext cx="113004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59360" y="495288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59360" y="4121280"/>
            <a:ext cx="1130400" cy="74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702560" y="4578480"/>
            <a:ext cx="59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88160" y="48769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61280" y="455760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05120" y="37958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96840" y="53197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53040" y="37195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44400" y="463392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21080" y="531972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49160" y="4557600"/>
            <a:ext cx="41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01400" y="448164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48560" y="47862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64520" y="41004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40480" y="55483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64720" y="562464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73000" y="47862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73000" y="39481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69480" y="47862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02000" y="47102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0B6A-CEA9-4EE1-8A23-AA9899D5A61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41B97-4AEF-49E3-A848-49A9E97EEC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544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Časová analýz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itická cesta - nejdelší cesta graf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Časové rezer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dříve možné začá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později nutné začá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dříve možné k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později nutné k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5E03-EF6E-471D-9730-D38367CA22F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CEFA7C-D0E9-4937-BF7C-0FE27C4569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544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alýza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stogram průběhu nákladů (křivky průběhu nákladů A,B,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dely průběhu náklad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ypy nákla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ashfl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 na Cost Benefit Analýzu (viz ekonomická analýza projek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24F4-4FB1-459B-A321-E675092C74A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10A3BE-62A2-49B6-9D7A-9ED0B9FC24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44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alýza zdroj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stogram potřeby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ití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tížení zdroje s ohledem na limit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 na multiprojekové sdílení zdrojů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0DCC-1B6B-4637-A00D-367C7E0B0E1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02C774-535C-4240-8913-604DE3FB25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 je projek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6321600" cy="368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ACF2-BA80-48DF-9163-A492A364EB4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0D6DC5-37F3-412E-B931-CB64FA9C58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62120" y="1523880"/>
            <a:ext cx="8381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anttův (úsečkový, čárový) diagram představuje vyjádření souslednosti činností v čase. Obvykle se vykresluje na základě provedené síťové analýz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295280" y="2666520"/>
            <a:ext cx="6222960" cy="2916000"/>
            <a:chOff x="1295280" y="2666520"/>
            <a:chExt cx="6222960" cy="2916000"/>
          </a:xfrm>
        </p:grpSpPr>
        <p:sp>
          <p:nvSpPr>
            <p:cNvPr id="245" name=""/>
            <p:cNvSpPr/>
            <p:nvPr/>
          </p:nvSpPr>
          <p:spPr>
            <a:xfrm>
              <a:off x="6070320" y="524520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Č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1295280" y="2666520"/>
              <a:ext cx="6006600" cy="2603520"/>
              <a:chOff x="1295280" y="2666520"/>
              <a:chExt cx="6006600" cy="260352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2501640" y="2666520"/>
                <a:ext cx="4800240" cy="2603520"/>
                <a:chOff x="2501640" y="2666520"/>
                <a:chExt cx="4800240" cy="2603520"/>
              </a:xfrm>
            </p:grpSpPr>
            <p:grpSp>
              <p:nvGrpSpPr>
                <p:cNvPr id="248" name=""/>
                <p:cNvGrpSpPr/>
                <p:nvPr/>
              </p:nvGrpSpPr>
              <p:grpSpPr>
                <a:xfrm>
                  <a:off x="2501640" y="2666520"/>
                  <a:ext cx="4800240" cy="2603520"/>
                  <a:chOff x="2501640" y="2666520"/>
                  <a:chExt cx="4800240" cy="260352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V="1">
                    <a:off x="2501640" y="2666520"/>
                    <a:ext cx="0" cy="2590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2501640" y="5257800"/>
                    <a:ext cx="4800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2501640" y="4952880"/>
                    <a:ext cx="472428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2514240" y="431784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2514240" y="464832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2514240" y="368316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2514240" y="400068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2514240" y="335268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2514240" y="300996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V="1">
                    <a:off x="281880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flipV="1">
                    <a:off x="3517560" y="273024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flipV="1">
                    <a:off x="3161880" y="273024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V="1">
                    <a:off x="6946560" y="276840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flipV="1">
                    <a:off x="384768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flipV="1">
                    <a:off x="417780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V="1">
                    <a:off x="449532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flipV="1">
                    <a:off x="482544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 flipV="1">
                    <a:off x="519372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V="1">
                    <a:off x="556200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 flipV="1">
                    <a:off x="591768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V="1">
                    <a:off x="624780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V="1">
                    <a:off x="6603480" y="273024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2539440" y="3009960"/>
                  <a:ext cx="3999960" cy="1942920"/>
                  <a:chOff x="2539440" y="3009960"/>
                  <a:chExt cx="3999960" cy="194292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2539440" y="3009960"/>
                    <a:ext cx="82512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3351960" y="303516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971080" y="4000680"/>
                    <a:ext cx="105372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3364560" y="3352680"/>
                    <a:ext cx="44424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3796560" y="3683160"/>
                    <a:ext cx="74880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3796560" y="336564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3987000" y="4317840"/>
                    <a:ext cx="57096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4025160" y="402588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4545720" y="3695760"/>
                    <a:ext cx="0" cy="95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4494960" y="434340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4545720" y="4648320"/>
                    <a:ext cx="115524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5701320" y="4952880"/>
                    <a:ext cx="83808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5701320" y="464832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5244120" y="3009960"/>
                    <a:ext cx="43164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5676120" y="3009960"/>
                    <a:ext cx="0" cy="1942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7" name=""/>
              <p:cNvSpPr/>
              <p:nvPr/>
            </p:nvSpPr>
            <p:spPr>
              <a:xfrm>
                <a:off x="1295280" y="2857320"/>
                <a:ext cx="1447560" cy="22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Ganttovy diagra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1822-21A9-4943-BB54-6CE0EA0910D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A5FCCA-819C-4ADA-850F-047C3B8A2C8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ýpočet celkových nákladů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2003400"/>
            <a:ext cx="8381880" cy="40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tanovení vstupů a rozpočt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ředpoklád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tanovení prostředků potřebných pro realizaci každé čin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. pro každý předpokládaný výs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) lidské zdroje – mzdy, cesto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) materiální zdroje a potřebné vybavení, spotřební materi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) finanční 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Vyjádření prostředků v nákladových kategori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pecifikování jednotek, množství a jednotkov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Určení zdroje finan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Stanovení harmonogramu čerpání rozpo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Rozdělení nákladů do kategorií rozpočtu a pří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čtových tabulek </a:t>
            </a: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rozpočtových vzorc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9A27-BBCF-469C-8C08-BEC876A203A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76C0C-8BC7-48EC-ACFB-0C563CB342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11280" y="1700280"/>
            <a:ext cx="8229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ánování zdro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54040" y="2133720"/>
            <a:ext cx="8589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ánování zdrojů představuje proces agregovaného a detailního rozvrhování potřebných a disponibilních zdrojů v čase, odhadování metrik na základě odhadů spotřeby a jejich následná optimaliz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714680" y="3646080"/>
            <a:ext cx="5763960" cy="2017440"/>
            <a:chOff x="1714680" y="3646080"/>
            <a:chExt cx="5763960" cy="2017440"/>
          </a:xfrm>
        </p:grpSpPr>
        <p:grpSp>
          <p:nvGrpSpPr>
            <p:cNvPr id="294" name=""/>
            <p:cNvGrpSpPr/>
            <p:nvPr/>
          </p:nvGrpSpPr>
          <p:grpSpPr>
            <a:xfrm>
              <a:off x="1714680" y="3646080"/>
              <a:ext cx="3621960" cy="2017440"/>
              <a:chOff x="1714680" y="3646080"/>
              <a:chExt cx="3621960" cy="201744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2014200" y="3646080"/>
                <a:ext cx="3212640" cy="1734840"/>
                <a:chOff x="2014200" y="3646080"/>
                <a:chExt cx="3212640" cy="1734840"/>
              </a:xfrm>
            </p:grpSpPr>
            <p:sp>
              <p:nvSpPr>
                <p:cNvPr id="296" name=""/>
                <p:cNvSpPr/>
                <p:nvPr/>
              </p:nvSpPr>
              <p:spPr>
                <a:xfrm flipV="1">
                  <a:off x="2014200" y="3646080"/>
                  <a:ext cx="0" cy="172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014200" y="5373360"/>
                  <a:ext cx="321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014200" y="5169960"/>
                  <a:ext cx="316188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022840" y="474660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022840" y="496692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022840" y="432360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022840" y="453528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022840" y="410328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022840" y="387504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222660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V="1">
                  <a:off x="2694240" y="368820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V="1">
                  <a:off x="2456280" y="368820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V="1">
                  <a:off x="4988880" y="371376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V="1">
                  <a:off x="291492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V="1">
                  <a:off x="313596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334836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356940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381600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406224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430056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V="1">
                  <a:off x="452124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4759560" y="368820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2039760" y="4967280"/>
                <a:ext cx="414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368600" y="5356440"/>
                <a:ext cx="968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Č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6200000">
                <a:off x="1384560" y="4325400"/>
                <a:ext cx="966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droj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2450880" y="4103640"/>
                <a:ext cx="0" cy="857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464920" y="4103640"/>
                <a:ext cx="456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2909520" y="4095360"/>
                <a:ext cx="0" cy="211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916000" y="4314960"/>
                <a:ext cx="209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3122280" y="4314600"/>
                <a:ext cx="0" cy="447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144600" y="4746600"/>
                <a:ext cx="694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3819240" y="4737240"/>
                <a:ext cx="0" cy="449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41560" y="5170680"/>
                <a:ext cx="694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022120" y="4332240"/>
                <a:ext cx="6616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2690640" y="4314600"/>
                <a:ext cx="0" cy="245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711160" y="4535640"/>
                <a:ext cx="6440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3342960" y="4525920"/>
                <a:ext cx="0" cy="441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65280" y="4967280"/>
                <a:ext cx="7124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4057200" y="4949640"/>
                <a:ext cx="0" cy="244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87440" y="5203800"/>
                <a:ext cx="439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598560" y="3929040"/>
                <a:ext cx="1402920" cy="27648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e1"/>
                    </a:solidFill>
                    <a:latin typeface="Times New Roman"/>
                  </a:rPr>
                  <a:t>Potřebné zdro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95320" y="4256280"/>
                <a:ext cx="1415880" cy="2764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e1"/>
                    </a:solidFill>
                    <a:latin typeface="Times New Roman"/>
                  </a:rPr>
                  <a:t>Disponibilní zdro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5283360" y="3646080"/>
              <a:ext cx="2195280" cy="2017080"/>
              <a:chOff x="5283360" y="3646080"/>
              <a:chExt cx="2195280" cy="2017080"/>
            </a:xfrm>
          </p:grpSpPr>
          <p:sp>
            <p:nvSpPr>
              <p:cNvPr id="339" name=""/>
              <p:cNvSpPr/>
              <p:nvPr/>
            </p:nvSpPr>
            <p:spPr>
              <a:xfrm>
                <a:off x="6513480" y="5356080"/>
                <a:ext cx="965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Č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6200000">
                <a:off x="4546440" y="4398840"/>
                <a:ext cx="1780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acnos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5575320" y="3646080"/>
                <a:ext cx="1612800" cy="1725840"/>
                <a:chOff x="5575320" y="3646080"/>
                <a:chExt cx="1612800" cy="1725840"/>
              </a:xfrm>
            </p:grpSpPr>
            <p:grpSp>
              <p:nvGrpSpPr>
                <p:cNvPr id="342" name=""/>
                <p:cNvGrpSpPr/>
                <p:nvPr/>
              </p:nvGrpSpPr>
              <p:grpSpPr>
                <a:xfrm>
                  <a:off x="5575320" y="3646080"/>
                  <a:ext cx="1612800" cy="1725840"/>
                  <a:chOff x="5575320" y="3646080"/>
                  <a:chExt cx="1612800" cy="172584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flipV="1">
                    <a:off x="5575320" y="3646080"/>
                    <a:ext cx="0" cy="1725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5575320" y="5371920"/>
                    <a:ext cx="1612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5575320" y="5168880"/>
                    <a:ext cx="156204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5583600" y="474588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5583600" y="496584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5583600" y="432288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5583600" y="453420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5583600" y="410292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5583600" y="387468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flipV="1">
                    <a:off x="5786640" y="369720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V="1">
                    <a:off x="6251400" y="368856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flipV="1">
                    <a:off x="6014880" y="368856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flipV="1">
                    <a:off x="6471360" y="369720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V="1">
                    <a:off x="6691320" y="370548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flipV="1">
                    <a:off x="6902640" y="370548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8" name=""/>
                <p:cNvSpPr/>
                <p:nvPr/>
              </p:nvSpPr>
              <p:spPr>
                <a:xfrm>
                  <a:off x="5642640" y="3874680"/>
                  <a:ext cx="1251360" cy="1074240"/>
                </a:xfrm>
                <a:custGeom>
                  <a:avLst/>
                  <a:gdLst/>
                  <a:ahLst/>
                  <a:rect l="l" t="t" r="r" b="b"/>
                  <a:pathLst>
                    <a:path w="1184" h="968">
                      <a:moveTo>
                        <a:pt x="0" y="968"/>
                      </a:moveTo>
                      <a:cubicBezTo>
                        <a:pt x="25" y="931"/>
                        <a:pt x="104" y="800"/>
                        <a:pt x="152" y="744"/>
                      </a:cubicBezTo>
                      <a:cubicBezTo>
                        <a:pt x="200" y="688"/>
                        <a:pt x="232" y="664"/>
                        <a:pt x="288" y="632"/>
                      </a:cubicBezTo>
                      <a:cubicBezTo>
                        <a:pt x="344" y="600"/>
                        <a:pt x="396" y="580"/>
                        <a:pt x="488" y="552"/>
                      </a:cubicBezTo>
                      <a:cubicBezTo>
                        <a:pt x="580" y="524"/>
                        <a:pt x="744" y="504"/>
                        <a:pt x="840" y="464"/>
                      </a:cubicBezTo>
                      <a:cubicBezTo>
                        <a:pt x="936" y="424"/>
                        <a:pt x="1012" y="364"/>
                        <a:pt x="1064" y="312"/>
                      </a:cubicBezTo>
                      <a:cubicBezTo>
                        <a:pt x="1116" y="260"/>
                        <a:pt x="1132" y="204"/>
                        <a:pt x="1152" y="152"/>
                      </a:cubicBezTo>
                      <a:cubicBezTo>
                        <a:pt x="1172" y="100"/>
                        <a:pt x="1177" y="32"/>
                        <a:pt x="1184" y="0"/>
                      </a:cubicBezTo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třeba zdrojů pro realizac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F66E-EE41-4DFB-923A-30E072F7F851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5873C-6F56-4BEC-B18D-5056CF7919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 CP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826920" y="1628640"/>
          <a:ext cx="7772040" cy="4530600"/>
        </p:xfrm>
        <a:graphic>
          <a:graphicData uri="http://schemas.openxmlformats.org/drawingml/2006/table">
            <a:tbl>
              <a:tblPr/>
              <a:tblGrid>
                <a:gridCol w="1024560"/>
                <a:gridCol w="3947400"/>
                <a:gridCol w="1224360"/>
                <a:gridCol w="1575720"/>
              </a:tblGrid>
              <a:tr h="82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Činno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opis čin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oba trvání (týdn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ředchozí čin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ýběr a nákup vhodného ob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žád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zpracování pro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obsazení pozice manaže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ýběr personál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,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rekonstrukce a vybavení ob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školení personál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ýběr sortimentu zbož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,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uzavření smluv s dodavate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nákup zbož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E,F,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rekla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77DC-BD2A-4AAC-9D8D-51514C5EBED5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27958E-41E8-4318-BD61-4605C45128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17520" y="31622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94040" y="3162240"/>
            <a:ext cx="81252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17920" y="31622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89520" y="31622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37440" y="31622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937640" y="31622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43000" y="360684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819520" y="360684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343400" y="360684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15000" y="360684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238880" y="360684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517920" y="1486080"/>
            <a:ext cx="812880" cy="812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889520" y="5067360"/>
            <a:ext cx="888840" cy="888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337440" y="5067360"/>
            <a:ext cx="888840" cy="888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666880" y="2235240"/>
            <a:ext cx="990720" cy="990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191120" y="3911760"/>
            <a:ext cx="914400" cy="1218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791320" y="5511960"/>
            <a:ext cx="5331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086600" y="3911760"/>
            <a:ext cx="1066680" cy="1218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267080" y="2158920"/>
            <a:ext cx="221004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86200" y="23875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781680" y="398772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34960" y="322740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11480" y="330372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643200" y="1550880"/>
            <a:ext cx="622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59040" y="3227400"/>
            <a:ext cx="45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106960" y="322740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106960" y="520848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54880" y="520848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54880" y="3227400"/>
            <a:ext cx="453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231040" y="330372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220760" y="3075120"/>
            <a:ext cx="45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44440" y="368460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87440" y="2160720"/>
            <a:ext cx="114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B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73240" y="3075120"/>
            <a:ext cx="454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97280" y="360828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183280" y="2084400"/>
            <a:ext cx="159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E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87640" y="2465280"/>
            <a:ext cx="13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1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421160" y="30751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344840" y="360828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92760" y="307512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716440" y="360828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392960" y="30751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240680" y="360828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802040" y="4294080"/>
            <a:ext cx="152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G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792760" y="497988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716440" y="5513400"/>
            <a:ext cx="75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73640" y="4294080"/>
            <a:ext cx="1444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2 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697880" y="4294080"/>
            <a:ext cx="106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J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8AAD-B199-4E6B-9F17-DD52E9241F2B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16658-3A8F-453E-82B7-C3F529B86B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íťový gra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17520" y="33764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994040" y="3376440"/>
            <a:ext cx="81252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17920" y="33764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889520" y="33764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337440" y="33764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937640" y="33764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43000" y="382104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382104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343400" y="382104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82104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238880" y="382104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17920" y="170028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889520" y="5281560"/>
            <a:ext cx="888840" cy="889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37440" y="5281560"/>
            <a:ext cx="888840" cy="889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2666880" y="2449440"/>
            <a:ext cx="990720" cy="990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191120" y="4125960"/>
            <a:ext cx="91440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791320" y="5726160"/>
            <a:ext cx="5331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7086600" y="4125600"/>
            <a:ext cx="106668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267080" y="2373480"/>
            <a:ext cx="221004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886200" y="260208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781680" y="4201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34960" y="344160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211480" y="351792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643200" y="1765440"/>
            <a:ext cx="622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659040" y="3441600"/>
            <a:ext cx="45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106960" y="344160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106960" y="542304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554880" y="542304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554880" y="3441600"/>
            <a:ext cx="453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231040" y="351792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220760" y="3289320"/>
            <a:ext cx="45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144440" y="389880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287440" y="2374920"/>
            <a:ext cx="114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B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973240" y="3289320"/>
            <a:ext cx="454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897280" y="382284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183280" y="2298600"/>
            <a:ext cx="159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E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887640" y="2679840"/>
            <a:ext cx="13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1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21160" y="32893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344840" y="382284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792760" y="328932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716440" y="382284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392960" y="32893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236000" y="393372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802040" y="4508640"/>
            <a:ext cx="152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G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792760" y="519444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6440" y="5727600"/>
            <a:ext cx="75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73640" y="4508640"/>
            <a:ext cx="1444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2 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697880" y="4508640"/>
            <a:ext cx="106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J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6F40-95CB-483A-AD07-2B9265642CF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63D0E1-4513-4D34-A772-95E688B12C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ozpty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vyjadřuje míru rozptýlení hodnot náhodné proměnné okolo stř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měrodatná odchyl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odmocnina rozptylu – měří variabilitu v původních jednotkách náhodné proměn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čekávaný čas trvání činnost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střední hodnota) – převádí tři časové odhady dob trvání činností v jediný odhad střední hodnoty doby trvání čin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– optimistický odhad doby trvá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 – modální odhad doby trvá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 – pesimistický odhad doby trvá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ei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(a+4m+b)/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b-a)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0687-86C2-45DF-8CA9-B7B6B837789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3B9E0B-02DE-45DD-8FEE-F02C553780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ou-li známy (či odhadnuty) parametry pro všechny činnosti projektu, lze zjistit pomocí algoritmu kritickou cestu projektu. Stačí místo hodnot očekávaných dob trvání (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ij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 dosadit střední hodnoty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Arial"/>
              </a:rPr>
              <a:t>e ij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počítané z výše uvedených vztah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ední hodnota celého projektu je rovna součtu středních hodnot činností ležících na kritické cestě graf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 samé platí i pro rozptyl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istuje-li více kritických cest, je třeba vybrat tu s největším rozpty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644F-017C-4032-B9B3-59689AACC57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A296C-E350-493B-B9F3-D1722AD76F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lková doba projektu se dá vypočítat jako součet dob trvání činností ležících na kritické cestě. (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by trvání jsou nezávislé náhodné veličiny s Beta rozdělením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ntrální limitní věta (Ljupunovova) říká, že normalizovaný součet nezávislých náhodných veličin lze pro dostatečně velký počet sčítanců aproximovat standardním normálním rozděle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rmované proměnné jsou ve tva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u= (x-T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/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D416-CCBA-4793-9D9B-53A1DAE4B3F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B6C8D0-352A-4663-9DE1-806D8EB507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í pravděpodobnosti dodržení termí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ypočteme hodnoty normované proměnn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u = (x-T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)/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, kde x je požadovaná doba trvání projek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V tabulkách normálního rozdělení najdeme odpovídající hodnotu distribuční funk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Úlohu lze obrátit a hledat takový termín, který bude dodržen s požadovanou pravděpodobnost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C9DD-B094-4BF0-915B-C4AD0219216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06B376-87EC-46FC-A071-3FDF8F8584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lastnosti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inečnost &amp; neopakovatelnost (acyklič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ý termín zahájení &amp; ukončení +přidělený rozpočet a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ultiprofesní projektový tým s dočasnou působ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oká neurčitost (riziko) spojené s definováním &amp; způsobem dosahování cí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mplexnost a složitost předmětu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08BB-6C90-4BBA-80AA-0F811C5D57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EC5CFF-0E2E-4BCC-81D9-AD867A5138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Doporučené hodnoty pravděpodobností pro hodnocení stochastických sítí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914400" y="1600200"/>
          <a:ext cx="7772400" cy="4343400"/>
        </p:xfrm>
        <a:graphic>
          <a:graphicData uri="http://schemas.openxmlformats.org/drawingml/2006/table">
            <a:tbl>
              <a:tblPr/>
              <a:tblGrid>
                <a:gridCol w="3297240"/>
                <a:gridCol w="4475160"/>
              </a:tblGrid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 pro hodnoty pravděpodobn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c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0,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dostatečné zabezpečení, hledat cesty, jak dosáhnout vyšších hod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5 – 0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áce jsou dobře zabezpeče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 a ví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zpečení projektu je nadbytečn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7976-3227-429A-935D-896A0484AD08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549530-0041-4CCC-AD4D-8E0E943B41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eďte časovou analýzu síťového grafu (nejkratší dobu trvání, kritickou cestu), který reprezentuje model projektu zadaného v následující tabulce činnostmi, jejich návazností a dobou trvá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A528-4A9B-46BB-B89F-4F28D54772F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DEDC6A-9069-4161-A0EC-800A1D1C22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181760" cy="488628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adání údaj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8637-9D2E-4B0A-A79E-5542278B7216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2615C-5614-4034-8A6C-565E632418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Řeše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le návaznosti činností uvedených v tabulce sestrojíme hranový síťový graf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číslujeme uzly tak, aby každá hrana vždy vycházela z uzlu nižšího pořadového čísla do uzlu s vyšším čísl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íťový graf je na následujícím obráz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2C30-DA64-45A2-924D-D08D6822182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B26C52-F8C8-4593-A607-4CAB8408B4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íťový gra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6343920" cy="327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2330-D4FE-405C-B0FF-C9DC180DF78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5AC7F-CDD1-4C4D-9C84-0FE71A5FED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áze I – výpočet nejdříve možných začátků a konců činnost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635292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95C2-0D52-45CC-9747-903EB0E6CBA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94AE7-05DF-4A06-8593-18636E9E28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áze II – výpočet nejpozději přípustných konců a začátků čin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6267240" cy="320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A3CF-4184-4A37-89F1-46B4913D32B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6F4A8-468E-48F5-AAA7-1E1EAF3DD7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T 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– optimistický odhad doby trvání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 – modální odhad doby trvání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 – pesimistický odhad doby trvání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Charakteristi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řední hodnota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yi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měrodatnou odchylku σ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i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ozptyl σ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ij</a:t>
            </a:r>
            <a:r>
              <a:rPr b="0" lang="cs-CZ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195D-BC03-40F6-936C-25ACB85DB43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60500A-5FF8-461C-BB9C-262CEA9DD0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řední hodnota trvání libovolné činnosti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ěrodatná odchy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zpty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3348000" y="2205000"/>
            <a:ext cx="1871640" cy="6699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3419640" y="3789360"/>
            <a:ext cx="1368360" cy="6494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3419640" y="5300640"/>
            <a:ext cx="17287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1187-7025-4484-B749-62F7154E558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08C521-B5C4-4F08-ABFE-4ACB1F1AC2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 náhodnou veličinu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ovanou ve tva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terá má normální rozdělení s nulovou střední hodnotou a s jednotkovým rozptylem, lze nalézt odpovídající pravděpodobnosti v tabulce hodnot distribuční funkce normovaného normálního rozděle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3635280" y="2276640"/>
            <a:ext cx="1287720" cy="80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C6D7-EE35-48EB-A2D2-BA0FE2CCEA31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0B361A-ECFD-427C-9EE6-EA2A21640A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jektové říze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uží k rozplánování a realizaci složitých akcí, které je potřeba uskutečnit v požadovaném termínu s plánovanými náklady tak, aby se dostálo stanovených cíl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čně: účinné a efektivní dosahování změ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dmětem projektového řízení je proje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žívané princi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 týmové prá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 systematické práce – podložené exaktními metoda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émový přístup k řešení problém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18F4-9BF0-45C4-A775-87EFB0AF26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2EFAA-75C3-4E18-8BAD-B8126CC302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913440" cy="466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C5E7-48B7-407D-B708-A0D2CFCC2D8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9DE4B-3381-4954-B0E8-1E5BA99F70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epočtený síťový gra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4048200" cy="308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42D6-F125-4615-A909-6EA6DBF6C223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5DE1AB-11E0-4E8C-869C-20E4D7887F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řední hodnota doby realizace projektu </a:t>
            </a: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směrodatná odchylka doby trvání projektu σ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sou dány součtem odpovídajících hodnot kritických činností. T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=168dní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=5,3 d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vděpodobnost, že projekt skončí o 10 dní dříve, než je spočtená střední hodnota </a:t>
            </a: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1332000" y="5445000"/>
            <a:ext cx="4464000" cy="6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6F28-E48D-4A7E-A954-FE0CD49F63B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69F071-AD7A-4373-9397-99340B9F4D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Řízení projekt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70640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Řízení projek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raxe stanovování dosažitelných cílů, řízení zdrojů a systematického vyhodnocování výkonů vzhledem ke stanoveným cílům a následné přijímání korektivních opatření k odstraňování odchyl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Projektové říz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 organizační systém řízení projekt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í formou projektu je vhodné tam, kde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rozsah, neobvyklost, složitost, obtížnost a rizikov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realizace činností přesahují určitou míru.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 Řízení podle projekt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BP (Management by Projects) způsob řízení, kdy organizační struktura a způsob práce v organizaci je přizpůsoben metodám projektového říze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31D6-DC15-451E-93BA-697ABBEEDDA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3B111-E687-41F8-9544-3382F9C779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brý systém řízení projektů je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obecně-použiteln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orientovaný na výstup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roduct-oriented) a zahrnující procesy definování cílů, systém plánování činností, proces výběru metod, systém rozdělování práce &amp; zdrojů, systém sledování postupu &amp; měření výsled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03D3-9AD2-4AC6-980D-A779E4CFE8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D9243B-76DF-4506-8BE8-1CB1138B19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645D-E1B8-4BB2-A8CF-2AF69F2868B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42D51F-9A70-463D-9478-E04C224559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Obsahem řízení projekt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 aplikování specifických kompetencí, nástrojů a technik na řízení činností s cílem dosáhnout požadovaných cílů resp. naplnit očekávání zájmových skupin. Úspěšné řízení projektu předpokládá rovnováhu mezi 3 komponenty plánování projek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. Rozsah (sco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Harmonogram (sche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. Zdroje (resour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580000" y="3933720"/>
            <a:ext cx="2428920" cy="211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FA71-4C10-4CB2-8684-0FE22E65A84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5B76C2-3F91-4DFE-8C95-4750804FEF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11:41:49Z</dcterms:created>
  <dc:creator>hrstkova</dc:creator>
  <dc:description/>
  <dc:language>en-US</dc:language>
  <cp:lastModifiedBy>hrstkova</cp:lastModifiedBy>
  <dcterms:modified xsi:type="dcterms:W3CDTF">2004-12-03T09:07:40Z</dcterms:modified>
  <cp:revision>7</cp:revision>
  <dc:subject/>
  <dc:title>Řízení projektů</dc:title>
</cp:coreProperties>
</file>