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F31-8D2A-4348-B55E-283DCD07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9F1-374A-4454-B75B-DB106F60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738-D0DA-4F35-AFDD-31B9C18B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35E7-A000-4DD6-8D9A-BB5926B2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6BF6-4BF5-4728-8688-56A005E2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86F0-CEF6-4C0E-A431-D5C3E52A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84E2-5C4E-4934-B702-689C689C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766E-3F0B-42A7-9A02-BBBFE3DE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DF9B-705A-4631-895D-845A7F0D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A8B1-0FD2-441B-AA3E-9AC357AC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B9B9-4677-4063-B895-50009462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5F9-0C80-4869-9582-B939BA15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F942-7970-4AB1-BFB1-FE1724D1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4476-A2BD-4C56-A9B3-80CE2897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C716-ADB9-4E8D-B481-09DCC162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BEF0-6375-4032-8C48-360EAE1D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DB2C-E9D6-4334-8CCF-3E844613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C0C-4555-4706-B5BE-DD3F5E9E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073-A225-4802-89B1-18C39AFD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BF2-80EB-42C2-85C5-E0896E8E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D08-2683-4DAE-B6BE-E18B36C2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D4F5-5C0C-4003-8837-375A87C4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57E-4ED9-4802-B9C6-CD05FE1A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499-3EB4-4F69-9BC0-5C468C22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751C-5C10-4A27-8E6B-E0164834399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31FD-7127-473A-BAC6-B0AD98DD91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4DF1-EE95-40A3-AA38-2E14BE04C20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76BE-409C-4165-B145-C077380D3B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Rozsah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ope) je soubor úkolů, které jsou předmětem řeše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Harmonogram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hedule) určuje dobu trvání a sekvenci provádění úkolů jakož i celkovou dobu trvá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Zdroje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esources) tvoří lidé, vybavení a peníze nezbytné pro provedení projek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Úspěšné řízení projektu je procesem kontinuálního plánování a revidování dosahovaných výsled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867-467F-4E3D-A245-5A46F1FA5FF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F00C6-B758-4837-BE26-30BBFA4E2A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plánová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mětem přípravy MP je vymezení a plánování postupu od hrubého plánu (draft outline) k detailnímu plánu (detailed pla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bsahu projekt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identifikace problémů, definování cílů, výstupů a produktů, identifikace vhodných partnerů, určení ukazatelů a parametrů kvality a rizika, návrh strategie monitorování a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rganiza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strukturování hlavních činností do etap a kroků, plánování milníků </a:t>
            </a:r>
            <a:r>
              <a:rPr b="0" lang="cs-CZ" sz="1800" spc="-1" strike="noStrike">
                <a:solidFill>
                  <a:srgbClr val="b2b2b2"/>
                </a:solidFill>
                <a:latin typeface="Arial"/>
              </a:rPr>
              <a:t>(milestones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efinování rolí, rozdělování a koordinace úkolů, plánování času (etapy, harmonogram), návrh interního komunikačního systé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uvnitř tj. výběr členů týmu, budování a vedení týmů, vytváření kultury projektu, sdílených hodnot, standardů a pravidel, řízení konflikt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 s okolí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analyzování prostředí projektu, návrh marketingových strategií a plánování informačních činností (disse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Návrh administrativy a finan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j. finanční plánování (plánování nákladů), návrh uplatnění kontraktačních požadavků, návrh systému a procedur podávání zpráv (report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063-690A-4FE2-85BC-AB038C8314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3D8DD-EE58-4521-B29F-F8CBB5E457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dělení projektů do eta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 průběhu mezinárodních projektů lze rozdělit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problému (n. příležitosti) - Opportun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ování představy projektu - Feasibil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hodn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ání plánu projektu a předložení přihlášky (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cení přihlášek a výb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jednávání a uzavírání kontra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y s partnery (a uživate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háj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projektu (implementace kontra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letování a hodnocení výsledk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zentace a šíření výsl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211-92ED-4969-9863-1BFFF3AB80D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D6B58-8659-419C-A30A-E866E935FF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řílež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A. Jaký problém - Co? Bude projekt řeš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B. PROČ se to bude projekt řeš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C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Koho se bude projekt dotýkat?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tenciální uživatelé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target groups)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. zájmových skupin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stakeholders)</a:t>
            </a:r>
            <a:r>
              <a:rPr b="0" lang="cs-CZ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ujících či jinak ovlivňujících realizaci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D. Jaké přínosy se od projektu oček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E. Jak se bude projekt financ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F. Jaké se mohou vyskytnout komplikace (rizik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9F3-670A-4559-9D09-30A540FBCF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96BE2-7003-4C5F-8D7B-A126ED1EE9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hodné met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1.1 Metoda problémového stromu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TM (Problem Tree Method) předpokládá identifikaci problému a jeho rozpad ve smyslu souvislé analýzy příčin a následk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29480" y="3716280"/>
            <a:ext cx="6256080" cy="2298600"/>
            <a:chOff x="1329480" y="3716280"/>
            <a:chExt cx="6256080" cy="2298600"/>
          </a:xfrm>
        </p:grpSpPr>
        <p:sp>
          <p:nvSpPr>
            <p:cNvPr id="127" name=""/>
            <p:cNvSpPr/>
            <p:nvPr/>
          </p:nvSpPr>
          <p:spPr>
            <a:xfrm>
              <a:off x="3198600" y="3716280"/>
              <a:ext cx="14475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roblé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4176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cc99"/>
                  </a:solidFill>
                  <a:latin typeface="Times New Roman"/>
                </a:rPr>
                <a:t>Příč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0080" y="4338720"/>
              <a:ext cx="167580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36760" y="4960800"/>
              <a:ext cx="159984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4840" y="4338720"/>
              <a:ext cx="16761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0040" y="4960800"/>
              <a:ext cx="17139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931840" y="4033800"/>
              <a:ext cx="1981080" cy="304920"/>
              <a:chOff x="2931840" y="4033800"/>
              <a:chExt cx="1981080" cy="304920"/>
            </a:xfrm>
          </p:grpSpPr>
          <p:sp>
            <p:nvSpPr>
              <p:cNvPr id="134" name=""/>
              <p:cNvSpPr/>
              <p:nvPr/>
            </p:nvSpPr>
            <p:spPr>
              <a:xfrm>
                <a:off x="2931840" y="418608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3184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292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22200" y="4033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935160" y="4668840"/>
              <a:ext cx="1981080" cy="304920"/>
              <a:chOff x="3935160" y="4668840"/>
              <a:chExt cx="1981080" cy="304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35160" y="482112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3516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1624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25520" y="46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712880" y="3881520"/>
              <a:ext cx="0" cy="182880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22960" y="3881520"/>
              <a:ext cx="0" cy="18288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2874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ccff"/>
                  </a:solidFill>
                  <a:latin typeface="Times New Roman"/>
                </a:rPr>
                <a:t>Důsled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97C-6A2C-4E19-9BCF-03EEB938052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02681-23DA-4B83-996E-49E2DD4E8F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2 Analýza prostředí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toda P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ředí projektů je určeno objektivními i subjektivními, vnitřními i vnějšími faktory, které ovlivňují jeho realiz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16000" y="3500280"/>
            <a:ext cx="2808000" cy="2665080"/>
            <a:chOff x="1116000" y="3500280"/>
            <a:chExt cx="2808000" cy="2665080"/>
          </a:xfrm>
        </p:grpSpPr>
        <p:grpSp>
          <p:nvGrpSpPr>
            <p:cNvPr id="149" name=""/>
            <p:cNvGrpSpPr/>
            <p:nvPr/>
          </p:nvGrpSpPr>
          <p:grpSpPr>
            <a:xfrm>
              <a:off x="1255320" y="3500280"/>
              <a:ext cx="2584800" cy="2665080"/>
              <a:chOff x="1255320" y="3500280"/>
              <a:chExt cx="2584800" cy="2665080"/>
            </a:xfrm>
          </p:grpSpPr>
          <p:sp>
            <p:nvSpPr>
              <p:cNvPr id="150" name=""/>
              <p:cNvSpPr/>
              <p:nvPr/>
            </p:nvSpPr>
            <p:spPr>
              <a:xfrm>
                <a:off x="1255320" y="3508560"/>
                <a:ext cx="2569320" cy="265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70800" y="48348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516040" y="3500280"/>
                <a:ext cx="0" cy="26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116000" y="3715920"/>
              <a:ext cx="14882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litické &amp; práv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6120" y="3715920"/>
              <a:ext cx="14878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konomické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5480" y="4939200"/>
              <a:ext cx="1486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ciální a kultur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6120" y="4939200"/>
              <a:ext cx="148788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Technologické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st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ředí &amp; ekolo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284720" y="3914640"/>
            <a:ext cx="4114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si v průběhu své realizace vytváří vlastní prostředí resp. sociální systém se specifickými vzorci chování, hodnotami, prioritami a identi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0C15-B7EF-4143-8C7C-AC493CD754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650D4-DC7E-46AE-B0FD-AFFB2F7F58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3. Metoda SWOT analý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2362320"/>
            <a:ext cx="3381120" cy="3218400"/>
            <a:chOff x="4495680" y="2362320"/>
            <a:chExt cx="3381120" cy="3218400"/>
          </a:xfrm>
        </p:grpSpPr>
        <p:grpSp>
          <p:nvGrpSpPr>
            <p:cNvPr id="161" name=""/>
            <p:cNvGrpSpPr/>
            <p:nvPr/>
          </p:nvGrpSpPr>
          <p:grpSpPr>
            <a:xfrm>
              <a:off x="4952880" y="2362320"/>
              <a:ext cx="2831400" cy="2822400"/>
              <a:chOff x="4952880" y="2362320"/>
              <a:chExt cx="2831400" cy="2822400"/>
            </a:xfrm>
          </p:grpSpPr>
          <p:sp>
            <p:nvSpPr>
              <p:cNvPr id="162" name=""/>
              <p:cNvSpPr/>
              <p:nvPr/>
            </p:nvSpPr>
            <p:spPr>
              <a:xfrm>
                <a:off x="4952880" y="2370960"/>
                <a:ext cx="2814480" cy="2813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69800" y="3775680"/>
                <a:ext cx="28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334200" y="2362320"/>
                <a:ext cx="0" cy="28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724280" y="2590920"/>
              <a:ext cx="3152520" cy="2240640"/>
              <a:chOff x="4724280" y="2590920"/>
              <a:chExt cx="3152520" cy="2240640"/>
            </a:xfrm>
          </p:grpSpPr>
          <p:sp>
            <p:nvSpPr>
              <p:cNvPr id="166" name=""/>
              <p:cNvSpPr/>
              <p:nvPr/>
            </p:nvSpPr>
            <p:spPr>
              <a:xfrm>
                <a:off x="48765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ilné stránk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trength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481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labé stránky „Weakness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24280" y="4038840"/>
                <a:ext cx="175248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Příležitos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pportuniti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48160" y="403884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hrožen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Threat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016240" y="51818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tenciá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86400" y="518040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meze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4495680" y="236232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učas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4495680" y="381024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douc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A96-01C4-4500-BAC4-4E442770AA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7B377-8300-437C-AEBC-0A619AF608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a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rh konceptu projektu souvisí s formulováním základního konceptuálního návrhu (charakteristiky) projektu, vymezením základního cíle (účelu) projektu a dílčích cíl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vypracování charakteristiky projektu se používá metoda logického rámce LFM (Logical Framework Metho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. Analýza cí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. Stanovení logiky interven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. Definování indikátor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. Definování předpokladů a ri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. Stanovení činností a jejich posloupnosti (harmonogr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. Stanovení a popis metod realizace a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. Stanovení vstupů a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B6F-603B-4FF5-A38A-AA9C7CF93B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31C9D-B204-465F-8419-5AD66286C5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ice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logického rámce používá pro charakteristiku projektu matici, která se nazývá </a:t>
            </a: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matice logického rám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FM (Logical Framework Matrix) umožňuje vypracovat komplexní návrh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87280" y="2492280"/>
          <a:ext cx="7210440" cy="2224080"/>
        </p:xfrm>
        <a:graphic>
          <a:graphicData uri="http://schemas.openxmlformats.org/drawingml/2006/table">
            <a:tbl>
              <a:tblPr/>
              <a:tblGrid>
                <a:gridCol w="1442880"/>
                <a:gridCol w="1441800"/>
                <a:gridCol w="1441440"/>
                <a:gridCol w="1441440"/>
                <a:gridCol w="1442880"/>
              </a:tblGrid>
              <a:tr h="75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2920" y="4797360"/>
            <a:ext cx="7345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Účel projekt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ysl realizace projektu.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Účel n. hlavní cíl projektu je pouze jeden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Cí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ické vymezení určitého cílového resp. žádoucího stavu (výstupů), kterých má být realizací projektu dosaženo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Výstu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nkrétní výsledky realizace projektu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Činno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bor prováděcích operací vedoucích k dosažení výstupů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C01-31E7-4D30-BB08-59B9D100E4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5E268-526B-4231-88BE-478E5F6E04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ředstavuje: narativní popis projektu na 4 úrovních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účel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íle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výstupy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činnosti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tici logického rá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42920" y="2565360"/>
          <a:ext cx="7499160" cy="212580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1498680"/>
                <a:gridCol w="1500480"/>
                <a:gridCol w="1499760"/>
              </a:tblGrid>
              <a:tr h="76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Vst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Nákl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42920" y="5056200"/>
            <a:ext cx="75614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obvykle dostačující informace pro formulování základní představy projektu, která je podkladem pro další vyjednávání s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0" y="3006720"/>
            <a:ext cx="4800600" cy="1574640"/>
            <a:chOff x="2286000" y="3006720"/>
            <a:chExt cx="4800600" cy="1574640"/>
          </a:xfrm>
        </p:grpSpPr>
        <p:sp>
          <p:nvSpPr>
            <p:cNvPr id="185" name=""/>
            <p:cNvSpPr/>
            <p:nvPr/>
          </p:nvSpPr>
          <p:spPr>
            <a:xfrm flipV="1">
              <a:off x="22860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0866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414972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0400" y="338760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400" y="376848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4B4-AAB9-4AAD-83A5-CE2CBA0937F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5378C-36F2-4169-81F4-6EDB2978B2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Projek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o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čas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časově omezená)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složitějš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komplex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rutin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line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zpravidla jednorázová neopakovatelná) operace resp. proces, jehož výstupem má být obvykle jedinečný produkt resp. služ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vykle vyžaduje multiprofesní realizační tým, na který se aplikují formalizované metody plánování a říz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F2F9-982E-4008-8CCD-5FA6293D79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794DF-9374-4FA6-B312-43BBE3ED55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471240"/>
            <a:ext cx="815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roveditelnost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844640"/>
            <a:ext cx="838188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itelnost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ob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technické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pera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č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kapacity a zdroje (zejména lids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inan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Ri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pecifikace přínosů (finanční analý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17A-7CDE-4B36-8917-EC0AAB10D51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1DF2D-951B-4FD5-957A-1905F1E7BD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16120" y="534960"/>
            <a:ext cx="807696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síťové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1480" y="2300400"/>
            <a:ext cx="782604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lově orientované grafy (hranově orientované graf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a CPM - deterministická (metoda PERT - stochastick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času - kritická c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nákladů - průběh náklad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zdrojů - potřeba  a využití zdroj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počty se provádějí pomocí počítačů (MS 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868-8EA7-4B07-9573-9484805BB67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AD7D8-10A8-4291-B938-FF89370479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Řízení projektu se skládá z několika základních manažerských činností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e projektových cíl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ní lidských zdrojů – cílem je zajistit včasné a efektivní provedení naplánovaných činnost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ování – sledování aktuálního stavu projektu a odhalení odchylek od aktuálního stavu (při odhalení odchylek je třeba aktualizovat plán, případně změnit styl vedení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ončení projektu – ověření, že zadání projektu bylo splněno; předání výsledků projektu (například předání stavby a dokumen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B94-AC11-435B-BE34-74974D1A861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DD9BE-DFF8-47D9-A019-AF5F16DE7B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kráceně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642A-01DC-4072-BE45-7792130183D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8FED7-B413-4100-B696-A003DB9D7D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ákladní poj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íťový gra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rientovaný, neorientovaně souvislý, hranově ohodnocený, acyklický graf, vyjadřující závislost dílčích činnost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rchol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asovou událost – začátek nebo konec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rana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innost (potřebuje čas, zdroje, má dynamický charak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definována počátečním a koncovým uz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dloužení doby trvání této činnosti, prodlouží dobu trvání celého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ces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led kritických činností mezi začátkem a koncem projektu. Kritická cesta je definována jako (časově) nejdelší možná cesta z počátečního bodu grafu do koncového bodu gra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2AB-6FD3-4B83-86A5-0D2D3660568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C8726-B6F8-488C-8E4C-514F8586D9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aždý graf projektu je specifický tím, že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 libovolnou dvojicí kontrolních bodů vede maximálně jedna činnost. Pokud tomu tak v praxi není, lze pomocí tzv. fiktivních činností (činností s nulovou dobou trvání a s nulovými náklady) přejít na nový síťový graf projektu, pro který je již tento předpoklad spln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počáteční bod – kontrolní bod, ve kterém činnosti pouze začínaj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koncový bod – kontrolní bod, ve kterém činnosti pouze konč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ždá hrana grafu je ohodnocena – ke každé hraně (činnosti) je přiřazena její časová a finanční náročnost (jedná o hranově ohodnocený síťový gra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6B6-0536-4452-A679-55710F9FA4B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EA65D-1075-4FE7-A73A-003252FD65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zlově orientované graf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810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zly představují činnosti s udáním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any představují označení posloupnosti činn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3160" y="45784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5640" y="38926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541656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73560" y="4654440"/>
            <a:ext cx="6732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78680" y="46544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82640" y="4184280"/>
            <a:ext cx="113040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82640" y="4959360"/>
            <a:ext cx="11304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9160" y="4121280"/>
            <a:ext cx="90180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9880" y="5416560"/>
            <a:ext cx="6728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35480" y="57150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73560" y="381636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35480" y="4114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035680" y="4946760"/>
            <a:ext cx="113004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9360" y="49528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9360" y="4121280"/>
            <a:ext cx="113040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02560" y="457848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88160" y="48769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1280" y="45576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05120" y="3795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96840" y="53197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53040" y="3719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44400" y="4633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21080" y="53197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49160" y="455760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01400" y="44816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4856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64520" y="4100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0480" y="55483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64720" y="5624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7300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73000" y="3948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69480" y="47862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2000" y="47102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933-2491-4324-8919-C45F64050FE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AA4B1-7350-4301-B88B-4E012ADB6B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Časová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tická cesta - nejdelší cesta graf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ov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139-8421-47DC-B830-23B1D42E1C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5B168-0E7A-46C5-9739-0322FCC289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růběhu nákladů (křivky průběhu nákladů 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ely průběhu náklad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y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sh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Cost Benefit Analýzu (viz ekonomická analýza projek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96E-7C18-4F99-B4A0-C8B4721CD1A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FC185-82D5-4936-A256-6355D83BAB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zdro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otřeby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tížení zdroje s ohledem na limit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multiprojekové sdílení zdrojů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635C-DDDC-4A5C-8B1A-D7DB873FDEF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A5EA9-2AE7-49B1-85EF-1185DEDB23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je projek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32160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C28-91E6-44D5-8442-12F85801DC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B3406-D2D5-4F81-BC44-686EB80B98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62120" y="1523880"/>
            <a:ext cx="8381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anttův (úsečkový, čárový) diagram představuje vyjádření souslednosti činností v čase. Obvykle se vykresluje na základě provedené síťové analý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95280" y="2666520"/>
            <a:ext cx="6222960" cy="2916000"/>
            <a:chOff x="1295280" y="2666520"/>
            <a:chExt cx="6222960" cy="2916000"/>
          </a:xfrm>
        </p:grpSpPr>
        <p:sp>
          <p:nvSpPr>
            <p:cNvPr id="245" name=""/>
            <p:cNvSpPr/>
            <p:nvPr/>
          </p:nvSpPr>
          <p:spPr>
            <a:xfrm>
              <a:off x="6070320" y="52452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Č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295280" y="2666520"/>
              <a:ext cx="6006600" cy="2603520"/>
              <a:chOff x="1295280" y="2666520"/>
              <a:chExt cx="6006600" cy="26035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2501640" y="2666520"/>
                <a:ext cx="4800240" cy="2603520"/>
                <a:chOff x="2501640" y="2666520"/>
                <a:chExt cx="4800240" cy="26035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2501640" y="2666520"/>
                  <a:ext cx="4800240" cy="2603520"/>
                  <a:chOff x="2501640" y="2666520"/>
                  <a:chExt cx="4800240" cy="2603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>
                    <a:off x="2501640" y="2666520"/>
                    <a:ext cx="0" cy="2590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501640" y="5257800"/>
                    <a:ext cx="4800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501640" y="4952880"/>
                    <a:ext cx="472428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514240" y="431784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514240" y="464832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514240" y="36831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514240" y="4000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514240" y="3352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514240" y="30099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281880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351756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31618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V="1">
                    <a:off x="6946560" y="276840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384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V="1">
                    <a:off x="417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449532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482544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V="1">
                    <a:off x="519372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V="1">
                    <a:off x="55620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V="1">
                    <a:off x="591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V="1">
                    <a:off x="624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V="1">
                    <a:off x="66034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2539440" y="3009960"/>
                  <a:ext cx="3999960" cy="1942920"/>
                  <a:chOff x="2539440" y="3009960"/>
                  <a:chExt cx="3999960" cy="19429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2539440" y="3009960"/>
                    <a:ext cx="8251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351960" y="303516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971080" y="4000680"/>
                    <a:ext cx="10537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364560" y="3352680"/>
                    <a:ext cx="444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796560" y="3683160"/>
                    <a:ext cx="74880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796560" y="336564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987000" y="4317840"/>
                    <a:ext cx="57096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025160" y="40258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545720" y="3695760"/>
                    <a:ext cx="0" cy="95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494960" y="434340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545720" y="4648320"/>
                    <a:ext cx="1155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701320" y="495288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701320" y="464832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244120" y="300996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676120" y="3009960"/>
                    <a:ext cx="0" cy="19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7" name=""/>
              <p:cNvSpPr/>
              <p:nvPr/>
            </p:nvSpPr>
            <p:spPr>
              <a:xfrm>
                <a:off x="1295280" y="2857320"/>
                <a:ext cx="1447560" cy="22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Ganttovy diagra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5B6A-50F3-4D65-8998-AF697F9E724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46B66-9334-4018-A937-2A363CF30C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ýpočet celkových nákladů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003400"/>
            <a:ext cx="838188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ovení vstupů a rozpoč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ředpoklád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tanovení prostředků potřebných pro realizaci každ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. pro každý předpokládaný vý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lidské zdroje – mzdy,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materiální zdroje a potřebné vybavení, spotřební materi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finanční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yjádření prostředků v nákladových kategori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pecifikování jednotek, množství a jednotkov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Určení zdroje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tanovení harmonogramu čerpání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Rozdělení nákladů do kategorií rozpočtu a pří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čtových tabulek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ozpočtových vzor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79A3-A5AB-463E-9197-9B9381E0049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DD51E-E8A8-4628-BE66-5A4CFEE5D6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11280" y="170028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4040" y="2133720"/>
            <a:ext cx="8589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 představuje proces agregovaného a detailního rozvrhování potřebných a disponibilních zdrojů v čase, odhadování metrik na základě odhadů spotřeby a jejich následná optimaliz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14680" y="3646080"/>
            <a:ext cx="5763960" cy="2017440"/>
            <a:chOff x="1714680" y="3646080"/>
            <a:chExt cx="5763960" cy="2017440"/>
          </a:xfrm>
        </p:grpSpPr>
        <p:grpSp>
          <p:nvGrpSpPr>
            <p:cNvPr id="294" name=""/>
            <p:cNvGrpSpPr/>
            <p:nvPr/>
          </p:nvGrpSpPr>
          <p:grpSpPr>
            <a:xfrm>
              <a:off x="1714680" y="3646080"/>
              <a:ext cx="3621960" cy="2017440"/>
              <a:chOff x="1714680" y="3646080"/>
              <a:chExt cx="3621960" cy="2017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2014200" y="3646080"/>
                <a:ext cx="3212640" cy="1734840"/>
                <a:chOff x="2014200" y="3646080"/>
                <a:chExt cx="3212640" cy="173484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2014200" y="3646080"/>
                  <a:ext cx="0" cy="172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14200" y="5373360"/>
                  <a:ext cx="321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014200" y="5169960"/>
                  <a:ext cx="316188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22840" y="4746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22840" y="496692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22840" y="4323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22840" y="4535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22840" y="4103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022840" y="387504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22266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269424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245628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4988880" y="371376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291492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31359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33483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35694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38160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4062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430056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4521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475956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2039760" y="4967280"/>
                <a:ext cx="41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68600" y="5356440"/>
                <a:ext cx="96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1384560" y="432540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droj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450880" y="4103640"/>
                <a:ext cx="0" cy="857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64920" y="4103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2909520" y="4095360"/>
                <a:ext cx="0" cy="211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16000" y="4314960"/>
                <a:ext cx="209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3122280" y="4314600"/>
                <a:ext cx="0" cy="447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44600" y="474660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819240" y="4737240"/>
                <a:ext cx="0" cy="44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41560" y="517068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22120" y="4332240"/>
                <a:ext cx="661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690640" y="4314600"/>
                <a:ext cx="0" cy="245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11160" y="4535640"/>
                <a:ext cx="644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342960" y="4525920"/>
                <a:ext cx="0" cy="441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65280" y="4967280"/>
                <a:ext cx="712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4057200" y="4949640"/>
                <a:ext cx="0" cy="244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87440" y="5203800"/>
                <a:ext cx="439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98560" y="3929040"/>
                <a:ext cx="1402920" cy="2764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Potřebné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95320" y="4256280"/>
                <a:ext cx="1415880" cy="276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Disponibilní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283360" y="3646080"/>
              <a:ext cx="2195280" cy="2017080"/>
              <a:chOff x="5283360" y="3646080"/>
              <a:chExt cx="2195280" cy="2017080"/>
            </a:xfrm>
          </p:grpSpPr>
          <p:sp>
            <p:nvSpPr>
              <p:cNvPr id="339" name=""/>
              <p:cNvSpPr/>
              <p:nvPr/>
            </p:nvSpPr>
            <p:spPr>
              <a:xfrm>
                <a:off x="6513480" y="535608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4546440" y="4398840"/>
                <a:ext cx="178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acno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5575320" y="3646080"/>
                <a:ext cx="1612800" cy="1725840"/>
                <a:chOff x="5575320" y="3646080"/>
                <a:chExt cx="1612800" cy="172584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5575320" y="3646080"/>
                  <a:ext cx="1612800" cy="1725840"/>
                  <a:chOff x="5575320" y="3646080"/>
                  <a:chExt cx="1612800" cy="17258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V="1">
                    <a:off x="5575320" y="3646080"/>
                    <a:ext cx="0" cy="1725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575320" y="5371920"/>
                    <a:ext cx="161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575320" y="5168880"/>
                    <a:ext cx="156204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5583600" y="4745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5583600" y="496584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583600" y="4322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583600" y="453420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583600" y="410292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583600" y="38746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V="1">
                    <a:off x="578664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625140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601488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>
                    <a:off x="647136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669132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690264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>
                  <a:off x="5642640" y="3874680"/>
                  <a:ext cx="1251360" cy="1074240"/>
                </a:xfrm>
                <a:custGeom>
                  <a:avLst/>
                  <a:gdLst/>
                  <a:ahLst/>
                  <a:rect l="l" t="t" r="r" b="b"/>
                  <a:pathLst>
                    <a:path w="1184" h="968">
                      <a:moveTo>
                        <a:pt x="0" y="968"/>
                      </a:moveTo>
                      <a:cubicBezTo>
                        <a:pt x="25" y="931"/>
                        <a:pt x="104" y="800"/>
                        <a:pt x="152" y="744"/>
                      </a:cubicBezTo>
                      <a:cubicBezTo>
                        <a:pt x="200" y="688"/>
                        <a:pt x="232" y="664"/>
                        <a:pt x="288" y="632"/>
                      </a:cubicBezTo>
                      <a:cubicBezTo>
                        <a:pt x="344" y="600"/>
                        <a:pt x="396" y="580"/>
                        <a:pt x="488" y="552"/>
                      </a:cubicBezTo>
                      <a:cubicBezTo>
                        <a:pt x="580" y="524"/>
                        <a:pt x="744" y="504"/>
                        <a:pt x="840" y="464"/>
                      </a:cubicBezTo>
                      <a:cubicBezTo>
                        <a:pt x="936" y="424"/>
                        <a:pt x="1012" y="364"/>
                        <a:pt x="1064" y="312"/>
                      </a:cubicBezTo>
                      <a:cubicBezTo>
                        <a:pt x="1116" y="260"/>
                        <a:pt x="1132" y="204"/>
                        <a:pt x="1152" y="152"/>
                      </a:cubicBezTo>
                      <a:cubicBezTo>
                        <a:pt x="1172" y="100"/>
                        <a:pt x="1177" y="32"/>
                        <a:pt x="1184" y="0"/>
                      </a:cubicBezTo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třeba zdrojů pro realiz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F16F-BF9D-41B3-8FB4-E1FDA3A6AAC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21A97-08D2-4D90-8D92-04467B68A9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 CP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826920" y="1628640"/>
          <a:ext cx="7772040" cy="4530600"/>
        </p:xfrm>
        <a:graphic>
          <a:graphicData uri="http://schemas.openxmlformats.org/drawingml/2006/table">
            <a:tbl>
              <a:tblPr/>
              <a:tblGrid>
                <a:gridCol w="1024560"/>
                <a:gridCol w="3947400"/>
                <a:gridCol w="1224360"/>
                <a:gridCol w="1575720"/>
              </a:tblGrid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Činn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pis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oba trvání (týdn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ředchozí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a nákup vhodného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žád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pracová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bsazení pozice manaž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personál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onstrukce a vybavení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školení personá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sortimentu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uzavření smluv s dodavate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ákup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,F,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l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6571-B41F-483A-B5B7-E8AF4C76766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BA7D0-C253-437D-A6D6-9A3ACB731C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17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94040" y="31622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179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89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374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9376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360684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36068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6068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17920" y="1486080"/>
            <a:ext cx="812880" cy="81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8952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666880" y="2235240"/>
            <a:ext cx="990720" cy="99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91120" y="3911760"/>
            <a:ext cx="91440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5119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086600" y="3911760"/>
            <a:ext cx="106668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67080" y="2158920"/>
            <a:ext cx="221004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23875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781680" y="398772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4960" y="32274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11480" y="33037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43200" y="155088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9040" y="32274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06960" y="32274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06960" y="520848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54880" y="520848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4880" y="32274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231040" y="33037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20760" y="30751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440" y="36846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7440" y="21607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3240" y="30751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972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83280" y="20844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87640" y="246528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211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448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92760" y="30751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164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3929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406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2040" y="429408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2760" y="497988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6440" y="55134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73640" y="429408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97880" y="429408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E88-9E48-4974-99DB-B255B34AB4F0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A1E10-9EBA-438B-AA94-7310DA43AE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7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94040" y="33764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179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89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374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376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382104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38210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8210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8210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382104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17920" y="170028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8952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3744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666880" y="2449440"/>
            <a:ext cx="99072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4125960"/>
            <a:ext cx="91440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57261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086600" y="4125600"/>
            <a:ext cx="106668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2373480"/>
            <a:ext cx="221004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26020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81680" y="4201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4960" y="34416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11480" y="35179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43200" y="176544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59040" y="34416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06960" y="34416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06960" y="542304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54880" y="542304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54880" y="34416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31040" y="35179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20760" y="32893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44440" y="38988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87440" y="23749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73240" y="32893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97280" y="382284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83280" y="22986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7640" y="267984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11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48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92760" y="32893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164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929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236000" y="393372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02040" y="450864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92760" y="519444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6440" y="57276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73640" y="450864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97880" y="450864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C33D-9216-4582-9F82-68254891E35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C4019-B738-487B-9D1D-FA565617FC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zp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yjadřuje míru rozptýlení hodnot náhodné proměnné okolo stř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dmocnina rozptylu – měří variabilitu v původních jednotkách náhodné promě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čekávaný čas trvání činn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třední hodnota) – převádí tři časové odhady dob trvání činností v jediný odhad střední hodnoty doby trvání čin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+4m+b)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-a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3C4-D690-46E7-909C-07938945A6A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1FD2B-1B62-486C-B423-FB213E4CB0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-li známy (či odhadnuty) parametry pro všechny činnosti projektu, lze zjistit pomocí algoritmu kritickou cestu projektu. Stačí místo hodnot očekávaných dob trvání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dosadit střední hodnot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e ij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ané z výše uvedených vztah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ední hodnota celého projektu je rovna součtu středních hodnot činností ležících na kritické cestě gra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 samé platí i pro rozptyl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e-li více kritických cest, je třeba vybrat tu s největším rozpty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D9B-8471-4AA9-8515-C55AE07B00D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EA4B3-DB25-472A-B035-16B7193EB5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ová doba projektu se dá vypočítat jako součet dob trvání činností ležících na kritické cestě. (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y trvání jsou nezávislé náhodné veličiny s Beta rozdělením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trální limitní věta (Ljupunovova) říká, že normalizovaný součet nezávislých náhodných veličin lze pro dostatečně velký počet sčítanců aproximovat standardním normálním rozděl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rmované proměnné jsou ve 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u= (x-T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2FB-27EF-48A2-9851-06E451A685B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F0C84-3764-414F-A921-E8DA8558EF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pravděpodobnosti dodržení termí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počteme hodnoty normované proměnn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 = (x-T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, kde x je požadovaná doba trvání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V tabulkách normálního rozdělení najdeme odpovídající hodnotu distribuční funk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lohu lze obrátit a hledat takový termín, který bude dodržen s požadovanou pravděpodob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90B4-3BF6-452A-A384-986D5D50DDE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CF6E6-81DF-4B27-B650-54887452E0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lastnosti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inečnost &amp; neopakovatelnost (acyklič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ý termín zahájení &amp; ukončení +přidělený rozpočet a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ltiprofesní projektový tým s dočasnou působ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ká neurčitost (riziko) spojené s definováním &amp; způsobem dosahování c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plexnost a složitost předmět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2302-51E1-4991-85AB-38295586F2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26901-ADFC-44D6-939D-236260EF89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Doporučené hodnoty pravděpodobností pro hodnocení stochastických sítí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914400" y="1600200"/>
          <a:ext cx="7772400" cy="4343400"/>
        </p:xfrm>
        <a:graphic>
          <a:graphicData uri="http://schemas.openxmlformats.org/drawingml/2006/table">
            <a:tbl>
              <a:tblPr/>
              <a:tblGrid>
                <a:gridCol w="3297240"/>
                <a:gridCol w="447516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pro hodnoty pravděpodob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c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ostatečné zabezpečení, hledat cesty, jak dosáhnout vyšších hod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 – 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áce jsou dobře zabezpeče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a ví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zpečení projektu je nadbytečn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891-D6BB-422A-8A3A-4297F205209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CA9E4-16B1-4990-A21E-75F887FDA0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ďte časovou analýzu síťového grafu (nejkratší dobu trvání, kritickou cestu), který reprezentuje model projektu zadaného v následující tabulce činnostmi, jejich návazností a dobou tr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7A87-6A39-4C0B-9A46-A660A304605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4DEB4-ED3D-4A0B-AAAC-C2638AC007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181760" cy="4886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adání úda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A64-FCEF-4796-8974-92351CEDC57F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B5FEF-ECF3-4954-A915-7B4B5F623F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e návaznosti činností uvedených v tabulce sestrojíme hranový síťový gra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číslujeme uzly tak, aby každá hrana vždy vycházela z uzlu nižšího pořadového čísla do uzlu s vyšším čís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íťový graf je na následujícím obráz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2F7-E840-42CA-BAA5-22D11F2CCEB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FE8EA-B7C4-42F8-9C90-CFE0AE6812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4392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A9C-C991-49E2-8D33-9239112B54B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E1690-BC14-4BB5-966E-54A645ACA0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 – výpočet nejdříve možných začátků a konců čin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35292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4A2B-8A56-412C-B194-02E5C4C60DD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B40AD-8990-4CD9-BAF8-F6C526D823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I – výpočet nejpozději přípustných konců a začátků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267240" cy="32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469-A732-474E-A4B0-8F4E31C5474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A4DBF-3029-4E0C-BB94-B8629122D8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 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arakterist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y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měrodatnou odchylku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ozptyl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3FD-B1B4-4F49-86C5-BFF8F158246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CFEBD-A3CC-40F0-A393-C3663B8672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řední hodnota trvání libovolné činnosti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pt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348000" y="2205000"/>
            <a:ext cx="1871640" cy="6699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1368360" cy="6494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7287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5D2-9C17-4753-86E2-A09E5BC5BAC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B9577-3B15-47F1-9ACB-3A0D7AA3EE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náhodnou veličin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ovanou ve tv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á má normální rozdělení s nulovou střední hodnotou a s jednotkovým rozptylem, lze nalézt odpovídající pravděpodobnosti v tabulce hodnot distribuční funkce normovaného normálního rozděl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635280" y="2276640"/>
            <a:ext cx="1287720" cy="80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13C-7470-4521-8185-643CA91ED379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B03A1-A26E-41CE-90CE-F6F507207A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ové říz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ží k rozplánování a realizaci složitých akcí, které je potřeba uskutečnit v požadovaném termínu s plánovanými náklady tak, aby se dostálo stanovených cí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čně: účinné a efektivní dosahování zm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mětem projektového řízení je proje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ívané princi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týmové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systematické práce – podložené exaktními metod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ový přístup k řešení problé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7B35-D3EB-4F19-9ED8-EDBC2118A0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D696A-BDCB-48FC-9307-76B34F7534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13440" cy="46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082-74C6-4E00-869F-52CCC6E9A84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E7F2D-7710-49B1-98B6-61FCCEA2BE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epočtený 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048200" cy="30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8A6-8CF7-462B-AA59-FFC33F0B295C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D86C1-51F9-4F85-B9C6-57E09DAFA9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doby realizace projektu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směrodatná odchylka doby trvání projektu 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dány součtem odpovídajících hodnot kritických činností. T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168dn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=5,3 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děpodobnost, že projekt skončí o 10 dní dříve, než je spočtená střední hodnota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332000" y="5445000"/>
            <a:ext cx="4464000" cy="6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E2C-2DE6-46EF-B857-93C90CBAA77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8DE0F-3358-4846-9C31-319E4B867B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064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Řízení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axe stanovování dosažitelných cílů, řízení zdrojů a systematického vyhodnocování výkonů vzhledem ke stanoveným cílům a následné přijímání korektivních opatření k odstraňování odchyl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Projektové ří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organizační systém řízení projekt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formou projektu je vhodné tam, kd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rozsah, neobvyklost, složitost, obtížnost a rizikov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ealizace činností přesahují určitou míru.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Řízení podle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BP (Management by Projects) způsob řízení, kdy organizační struktura a způsob práce v organizaci je přizpůsoben metodám projektového říz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481-E255-45AB-864D-C062B40BF3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24AB9-6D46-401A-84CE-2D4A63AD3C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rý systém řízení projektů j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ecně-použitel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rientovaný na výstup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roduct-oriented) a zahrnující procesy definování cílů, systém plánování činností, proces výběru metod, systém rozdělování práce &amp; zdrojů, systém sledování postupu &amp; měření výsled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5C7-977B-4312-9D14-6A0D954ADF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4F4D4-960A-4001-960D-4FA6CC82FB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E6C-6E6F-48B0-815F-5F1E42BAF3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917C0-D540-49E5-930C-555EF01138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sahem řízení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aplikování specifických kompetencí, nástrojů a technik na řízení činností s cílem dosáhnout požadovaných cílů resp. naplnit očekávání zájmových skupin. Úspěšné řízení projektu předpokládá rovnováhu mezi 3 komponenty plánování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Rozsah (sc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Harmonogram (sche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Zdroje (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80000" y="3933720"/>
            <a:ext cx="2428920" cy="21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0E4-9E5D-4E31-AD2E-2F9C169413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18775-60D1-437F-B6DD-1ACE07DDB7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1:41:49Z</dcterms:created>
  <dc:creator>hrstkova</dc:creator>
  <dc:description/>
  <dc:language>en-US</dc:language>
  <cp:lastModifiedBy>hrstkova</cp:lastModifiedBy>
  <dcterms:modified xsi:type="dcterms:W3CDTF">2004-12-03T09:07:40Z</dcterms:modified>
  <cp:revision>7</cp:revision>
  <dc:subject/>
  <dc:title>Řízení projektů</dc:title>
</cp:coreProperties>
</file>