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6530-8FCC-4097-9532-DB1A580B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C72F-6D8B-423A-A394-91ECC343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9AA1-3185-4DF0-B2BB-39C0C3BE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FEAA-58B1-4847-823A-A46A131D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4C37-0AE5-455F-8A9E-B5F488F2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EE33-111D-4F13-9082-C9CECD27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AFF1-1DE0-4569-9D8F-730D8588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F75F-2BBD-4B6F-BD88-F3B33D30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8789-8AEC-409D-840A-ECE1B418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4E53-32A3-4E6E-A938-D622A11B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5A69-CFD2-4B11-8B12-74256F73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6B50-43B0-4A36-B817-60A4366E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6CC1-FB88-4792-91EB-F36D8B47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2A7E-7D6E-4C13-9CC8-E3541BE4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F452-8BAD-4C32-9C17-0BE8C10B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FD9B-4342-4E5B-AA45-7903376E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F6AB-5FE0-43B4-8B6A-4494CAA0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866A-ECCA-487D-8A69-1D941D50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4F95-F317-4CBC-9DA4-36AFFF14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8808-4056-4AE2-8ED3-ED740ED7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6828-2F11-40D1-818B-15993591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866C-DCBA-4FAD-B2A8-CB7632B2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D08F-4FDA-419B-B782-E2A1AD22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0B68-3034-447B-A658-EAFFBC45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2467-E65E-42AB-B159-3D3B38D9C03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BE7C-ECEB-4C8B-9D15-A5AF794E08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3793-2DD4-41F2-A3FA-9963B9CC2C8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833C-4551-4178-94BE-09B47AF69A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Řízení projektů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ra Hrst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Rozsah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cope) je soubor úkolů, které jsou předmětem řešení projektu. 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Harmonogram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chedule) určuje dobu trvání a sekvenci provádění úkolů jakož i celkovou dobu trvání projektu. 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Zdroje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resources) tvoří lidé, vybavení a peníze nezbytné pro provedení projek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Úspěšné řízení projektu je procesem kontinuálního plánování a revidování dosahovaných výsledk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DC79-EA57-4960-A2F7-6E12F9C774C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9E0D4-BE31-4213-9ECA-A7908841C7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stup plánování projekt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mětem přípravy MP je vymezení a plánování postupu od hrubého plánu (draft outline) k detailnímu plánu (detailed pla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Stanovení obsahu projektu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identifikace problémů, definování cílů, výstupů a produktů, identifikace vhodných partnerů, určení ukazatelů a parametrů kvality a rizika, návrh strategie monitorování a hodnoc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Stanovení organiza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strukturování hlavních činností do etap a kroků, plánování milníků </a:t>
            </a:r>
            <a:r>
              <a:rPr b="0" lang="cs-CZ" sz="1800" spc="-1" strike="noStrike">
                <a:solidFill>
                  <a:srgbClr val="b2b2b2"/>
                </a:solidFill>
                <a:latin typeface="Arial"/>
              </a:rPr>
              <a:t>(milestones)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efinování rolí, rozdělování a koordinace úkolů, plánování času (etapy, harmonogram), návrh interního komunikačního systém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Plánování interak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uvnitř tj. výběr členů týmu, budování a vedení týmů, vytváření kultury projektu, sdílených hodnot, standardů a pravidel, řízení konflikt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Plánování interakcí s okolí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analyzování prostředí projektu, návrh marketingových strategií a plánování informačních činností (disse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Návrh administrativy a finan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tj. finanční plánování (plánování nákladů), návrh uplatnění kontraktačních požadavků, návrh systému a procedur podávání zpráv (report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68DC-B972-493C-9092-D1EB2C957B6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8344B-3CE1-4CB2-875B-1821067C93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ozdělení projektů do eta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 průběhu mezinárodních projektů lze rozdělit tak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problému (n. příležitosti) - Opportunity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ování představy projektu - Feasibility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vhodných partn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pracování plánu projektu a předložení přihlášky (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dnocení přihlášek a výb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jednávání a uzavírání kontra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hody s partnery (a uživate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hájen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ce projektu (implementace kontra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pletování a hodnocení výsledk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ezentace a šíření výsle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CC54-D8F7-4753-981C-2540112ADA3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BFFF6-E8FE-485E-ABB0-B6881478B6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ie příležitost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A. Jaký problém - Co? Bude projekt řeš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B. PROČ se to bude projekt řeš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C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Koho se bude projekt dotýkat?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otenciální uživatelé 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(target groups)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sp. zájmových skupin 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(stakeholders)</a:t>
            </a:r>
            <a:r>
              <a:rPr b="0" lang="cs-CZ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stupujících či jinak ovlivňujících realizaci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D. Jaké přínosy se od projektu očekáva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E. Jak se bude projekt financov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F. Jaké se mohou vyskytnout komplikace (rizik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8D7A-D006-48D7-89F7-A83165EBBBC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94F46-7663-4D80-BADE-F3ADD6E614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hodné meto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1.1 Metoda problémového stromu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TM (Problem Tree Method) předpokládá identifikaci problému a jeho rozpad ve smyslu souvislé analýzy příčin a následk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329480" y="3716280"/>
            <a:ext cx="6256080" cy="2298600"/>
            <a:chOff x="1329480" y="3716280"/>
            <a:chExt cx="6256080" cy="2298600"/>
          </a:xfrm>
        </p:grpSpPr>
        <p:sp>
          <p:nvSpPr>
            <p:cNvPr id="127" name=""/>
            <p:cNvSpPr/>
            <p:nvPr/>
          </p:nvSpPr>
          <p:spPr>
            <a:xfrm>
              <a:off x="3198600" y="3716280"/>
              <a:ext cx="14475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roblé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417600" y="4716720"/>
              <a:ext cx="2209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cccc99"/>
                  </a:solidFill>
                  <a:latin typeface="Times New Roman"/>
                </a:rPr>
                <a:t>Příč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0080" y="4338720"/>
              <a:ext cx="167580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36760" y="4960800"/>
              <a:ext cx="159984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74840" y="4338720"/>
              <a:ext cx="16761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80040" y="4960800"/>
              <a:ext cx="17139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2931840" y="4033800"/>
              <a:ext cx="1981080" cy="304920"/>
              <a:chOff x="2931840" y="4033800"/>
              <a:chExt cx="1981080" cy="304920"/>
            </a:xfrm>
          </p:grpSpPr>
          <p:sp>
            <p:nvSpPr>
              <p:cNvPr id="134" name=""/>
              <p:cNvSpPr/>
              <p:nvPr/>
            </p:nvSpPr>
            <p:spPr>
              <a:xfrm>
                <a:off x="2931840" y="418608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31840" y="41860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12920" y="41860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22200" y="40338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935160" y="4668840"/>
              <a:ext cx="1981080" cy="304920"/>
              <a:chOff x="3935160" y="4668840"/>
              <a:chExt cx="1981080" cy="304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35160" y="482112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935160" y="4821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16240" y="4821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25520" y="4668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1712880" y="3881520"/>
              <a:ext cx="0" cy="182880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122960" y="3881520"/>
              <a:ext cx="0" cy="1828800"/>
            </a:xfrm>
            <a:prstGeom prst="line">
              <a:avLst/>
            </a:prstGeom>
            <a:ln w="93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6287400" y="4716720"/>
              <a:ext cx="2209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ccff"/>
                  </a:solidFill>
                  <a:latin typeface="Times New Roman"/>
                </a:rPr>
                <a:t>Důsled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A6AB-5461-41F7-BBBD-C73A6A6C0BB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7FAA2-87C0-4DF3-AE90-743911E4CF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1.2 Analýza prostředí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etoda P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ředí projektů je určeno objektivními i subjektivními, vnitřními i vnějšími faktory, které ovlivňují jeho realiza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116000" y="3500280"/>
            <a:ext cx="2808000" cy="2665080"/>
            <a:chOff x="1116000" y="3500280"/>
            <a:chExt cx="2808000" cy="2665080"/>
          </a:xfrm>
        </p:grpSpPr>
        <p:grpSp>
          <p:nvGrpSpPr>
            <p:cNvPr id="149" name=""/>
            <p:cNvGrpSpPr/>
            <p:nvPr/>
          </p:nvGrpSpPr>
          <p:grpSpPr>
            <a:xfrm>
              <a:off x="1255320" y="3500280"/>
              <a:ext cx="2584800" cy="2665080"/>
              <a:chOff x="1255320" y="3500280"/>
              <a:chExt cx="2584800" cy="2665080"/>
            </a:xfrm>
          </p:grpSpPr>
          <p:sp>
            <p:nvSpPr>
              <p:cNvPr id="150" name=""/>
              <p:cNvSpPr/>
              <p:nvPr/>
            </p:nvSpPr>
            <p:spPr>
              <a:xfrm>
                <a:off x="1255320" y="3508560"/>
                <a:ext cx="2569320" cy="2656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70800" y="4834800"/>
                <a:ext cx="256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2516040" y="3500280"/>
                <a:ext cx="0" cy="265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1116000" y="3715920"/>
              <a:ext cx="14882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litické &amp; právní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36120" y="3715920"/>
              <a:ext cx="148788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konomické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85480" y="4939200"/>
              <a:ext cx="14864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ciální a kulturní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36120" y="4939200"/>
              <a:ext cx="148788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Technologické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st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ředí &amp; ekolog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284720" y="3914640"/>
            <a:ext cx="4114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 si v průběhu své realizace vytváří vlastní prostředí resp. sociální systém se specifickými vzorci chování, hodnotami, prioritami a identi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15E5-4A11-47F8-898E-2B1470D0E8B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5C7EA-4F80-4A66-A6ED-1560A9139B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1.3. Metoda SWOT analý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5680" y="2362320"/>
            <a:ext cx="3381120" cy="3218400"/>
            <a:chOff x="4495680" y="2362320"/>
            <a:chExt cx="3381120" cy="3218400"/>
          </a:xfrm>
        </p:grpSpPr>
        <p:grpSp>
          <p:nvGrpSpPr>
            <p:cNvPr id="161" name=""/>
            <p:cNvGrpSpPr/>
            <p:nvPr/>
          </p:nvGrpSpPr>
          <p:grpSpPr>
            <a:xfrm>
              <a:off x="4952880" y="2362320"/>
              <a:ext cx="2831400" cy="2822400"/>
              <a:chOff x="4952880" y="2362320"/>
              <a:chExt cx="2831400" cy="2822400"/>
            </a:xfrm>
          </p:grpSpPr>
          <p:sp>
            <p:nvSpPr>
              <p:cNvPr id="162" name=""/>
              <p:cNvSpPr/>
              <p:nvPr/>
            </p:nvSpPr>
            <p:spPr>
              <a:xfrm>
                <a:off x="4952880" y="2370960"/>
                <a:ext cx="2814480" cy="2813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969800" y="3775680"/>
                <a:ext cx="28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6334200" y="2362320"/>
                <a:ext cx="0" cy="28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4724280" y="2590920"/>
              <a:ext cx="3152520" cy="2240640"/>
              <a:chOff x="4724280" y="2590920"/>
              <a:chExt cx="3152520" cy="2240640"/>
            </a:xfrm>
          </p:grpSpPr>
          <p:sp>
            <p:nvSpPr>
              <p:cNvPr id="166" name=""/>
              <p:cNvSpPr/>
              <p:nvPr/>
            </p:nvSpPr>
            <p:spPr>
              <a:xfrm>
                <a:off x="4876560" y="259092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ilné stránk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trength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248160" y="259092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labé stránky „Weaknesse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24280" y="4038840"/>
                <a:ext cx="175248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Příležitost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Opportunitie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48160" y="403884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Ohrožen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Threat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016240" y="518184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tenciá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86400" y="518040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mezen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0800000">
              <a:off x="4495680" y="2362320"/>
              <a:ext cx="485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oučasn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0800000">
              <a:off x="4495680" y="3810240"/>
              <a:ext cx="485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doucn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09D6-6971-49D4-BF7E-998657F2375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97009-95B6-41E9-9E82-D89D23A215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a logického rám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vrh konceptu projektu souvisí s formulováním základního konceptuálního návrhu (charakteristiky) projektu, vymezením základního cíle (účelu) projektu a dílčích cíl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vypracování charakteristiky projektu se používá metoda logického rámce LFM (Logical Framework Metho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. Analýza cí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. Stanovení logiky interven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. Definování indikátor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4. Definování předpokladů a riz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5. Stanovení činností a jejich posloupnosti (harmonogra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6. Stanovení a popis metod realizace a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. Stanovení vstupů a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8EB7-5463-4D50-BBC1-E484FEF1E13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525D3-ED60-45F3-AE2F-6F056BD17F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tice logického rám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oda logického rámce používá pro charakteristiku projektu matici, která se nazývá </a:t>
            </a: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matice logického rám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LFM (Logical Framework Matrix) umožňuje vypracovat komplexní návrh projekt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187280" y="2492280"/>
          <a:ext cx="7210440" cy="2224080"/>
        </p:xfrm>
        <a:graphic>
          <a:graphicData uri="http://schemas.openxmlformats.org/drawingml/2006/table">
            <a:tbl>
              <a:tblPr/>
              <a:tblGrid>
                <a:gridCol w="1442880"/>
                <a:gridCol w="1441800"/>
                <a:gridCol w="1441440"/>
                <a:gridCol w="1441440"/>
                <a:gridCol w="1442880"/>
              </a:tblGrid>
              <a:tr h="75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is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ktivně-ověřitelné ukaza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 &amp; prostředky ov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poklady&amp; riz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č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í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tu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2920" y="4797360"/>
            <a:ext cx="73454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Účel projektu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ysl realizace projektu.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Účel n. hlavní cíl projektu je pouze jeden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Cí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ifické vymezení určitého cílového resp. žádoucího stavu (výstupů), kterých má být realizací projektu dosaženo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Výstu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onkrétní výsledky realizace projektu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Činnos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bor prováděcích operací vedoucích k dosažení výstupů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0736-C31A-4C6A-842C-20EBB620D1A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06743-E2E3-435C-9DF4-04564E379E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tanovení logiky intervenc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ředstavuje: narativní popis projektu na 4 úrovních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účel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íle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výstupy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činnosti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matici logického rá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42920" y="2565360"/>
          <a:ext cx="7499160" cy="2125800"/>
        </p:xfrm>
        <a:graphic>
          <a:graphicData uri="http://schemas.openxmlformats.org/drawingml/2006/table">
            <a:tbl>
              <a:tblPr/>
              <a:tblGrid>
                <a:gridCol w="1500120"/>
                <a:gridCol w="1500120"/>
                <a:gridCol w="1498680"/>
                <a:gridCol w="1500480"/>
                <a:gridCol w="1499760"/>
              </a:tblGrid>
              <a:tr h="767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is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ktivně-ověřitelné ukaza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 &amp; prostředky ov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poklady&amp; riz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č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í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tu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Vstu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Nákla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042920" y="5056200"/>
            <a:ext cx="75614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Stanovení logiky intervenc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obvykle dostačující informace pro formulování základní představy projektu, která je podkladem pro další vyjednávání s partn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286000" y="3006720"/>
            <a:ext cx="4800600" cy="1574640"/>
            <a:chOff x="2286000" y="3006720"/>
            <a:chExt cx="4800600" cy="1574640"/>
          </a:xfrm>
        </p:grpSpPr>
        <p:sp>
          <p:nvSpPr>
            <p:cNvPr id="185" name=""/>
            <p:cNvSpPr/>
            <p:nvPr/>
          </p:nvSpPr>
          <p:spPr>
            <a:xfrm flipV="1">
              <a:off x="2286000" y="3006720"/>
              <a:ext cx="0" cy="157464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086600" y="3006720"/>
              <a:ext cx="0" cy="157464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0400" y="414972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00400" y="338760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00400" y="376848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8F3A-5373-47DA-BDB4-B66D1D90382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55ED8-3094-4304-88ED-398FA0B8EC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jek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Projek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do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časn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časově omezená)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složitějš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komplex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nerutin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nelineár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zpravidla jednorázová neopakovatelná) operace resp. proces, jehož výstupem má být obvykle jedinečný produkt resp. služ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vykle vyžaduje multiprofesní realizační tým, na který se aplikují formalizované metody plánování a říz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D36B-A0BE-4DF9-8509-45926729BB0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A2E36-64D3-44E9-AD45-42034B9012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3520" y="471240"/>
            <a:ext cx="8153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ie proveditelnost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844640"/>
            <a:ext cx="838188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ditelnost projek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Techn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ob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roz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) technické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pera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č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kapacity a zdroje (zejména lidské zdro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Finan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Riz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pecifikace přínosů (finanční analý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D786-AAD2-478B-A614-2CEAD948B4B5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CA50B-80E8-4976-92DD-72E8DC355D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16120" y="534960"/>
            <a:ext cx="807696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y síťové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41480" y="2300400"/>
            <a:ext cx="7826040" cy="21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lově orientované grafy (hranově orientované graf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oda CPM - deterministická (metoda PERT - stochastick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času - kritická ce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nákladů - průběh nákladů v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zdrojů - potřeba  a využití zdrojů v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počty se provádějí pomocí počítačů (MS 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DB7C-DCD5-4FBE-B29E-54EE7A3C172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3F715-C0E4-4C0D-AC94-2847187C02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Řízení projektu se skládá z několika základních manažerských činností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ce projektových cílů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ánová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dení lidských zdrojů – cílem je zajistit včasné a efektivní provedení naplánovaných činnost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ování – sledování aktuálního stavu projektu a odhalení odchylek od aktuálního stavu (při odhalení odchylek je třeba aktualizovat plán, případně změnit styl vedení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ončení projektu – ověření, že zadání projektu bylo splněno; předání výsledků projektu (například předání stavby a dokument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623A-F928-4671-B2F6-ECEF3663FB8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9AB4E-C68E-435A-9EDF-4845A97F14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kráceně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DCC4-114D-41BE-AD35-97B68996BA7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22BCD-59E2-4856-9B58-DE01F5DD8F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ákladní poj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íťový gra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rientovaný, neorientovaně souvislý, hranově ohodnocený, acyklický graf, vyjadřující závislost dílčích činnost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rchol S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ředstavuje časovou událost – začátek nebo konec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rana S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ředstavuje činnost (potřebuje čas, zdroje, má dynamický charak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Čin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je definována počátečním a koncovým uz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itická čin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rodloužení doby trvání této činnosti, prodlouží dobu trvání celého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itická ces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sled kritických činností mezi začátkem a koncem projektu. Kritická cesta je definována jako (časově) nejdelší možná cesta z počátečního bodu grafu do koncového bodu graf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F029-AD23-4701-A02B-84EBE66447F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E2064-849E-4447-BC68-76C59F6DFB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Každý graf projektu je specifický tím, že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 libovolnou dvojicí kontrolních bodů vede maximálně jedna činnost. Pokud tomu tak v praxi není, lze pomocí tzv. fiktivních činností (činností s nulovou dobou trvání a s nulovými náklady) přejít na nový síťový graf projektu, pro který je již tento předpoklad splně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 právě jeden počáteční bod – kontrolní bod, ve kterém činnosti pouze začínají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 právě jeden koncový bod – kontrolní bod, ve kterém činnosti pouze konč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ždá hrana grafu je ohodnocena – ke každé hraně (činnosti) je přiřazena její časová a finanční náročnost (jedná o hranově ohodnocený síťový graf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6667-0E43-4DA4-AB73-FF9BB47C9CA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68324-16AF-4635-93B5-2DEF0B8213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Uzlově orientované graf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9810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zly představují činnosti s udáním ča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any představují označení posloupnosti činnost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73160" y="457848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25640" y="389268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25640" y="541656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73560" y="4654440"/>
            <a:ext cx="6732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78680" y="4654440"/>
            <a:ext cx="5968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682640" y="4184280"/>
            <a:ext cx="113040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82640" y="4959360"/>
            <a:ext cx="113040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59160" y="4121280"/>
            <a:ext cx="901800" cy="82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49880" y="5416560"/>
            <a:ext cx="67284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35480" y="571500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73560" y="381636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35480" y="41148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035680" y="4946760"/>
            <a:ext cx="113004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59360" y="495288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9360" y="4121280"/>
            <a:ext cx="1130400" cy="74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02560" y="457848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88160" y="48769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1280" y="455760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05120" y="37958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96840" y="53197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53040" y="37195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44400" y="46339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21080" y="53197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49160" y="4557600"/>
            <a:ext cx="41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01400" y="44816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48560" y="4786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64520" y="41004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40480" y="55483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64720" y="562464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73000" y="4786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73000" y="39481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69480" y="47862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02000" y="47102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425C-58BB-47FD-A900-88A5A9C0BDB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AA176-7D30-44E4-9152-11BC9A0CD6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Časová analýz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itická cesta - nejdelší cesta graf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asové reze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dříve možné začá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později nutné začá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dříve možné k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později nutné k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B6B-F015-4641-A458-3E84B16F523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CD243-A8C2-41D3-B022-FE362B3E2A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alýza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gram průběhu nákladů (křivky průběhu nákladů A,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dely průběhu náklad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py ná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ashf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Cost Benefit Analýzu (viz ekonomická analýza projek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62A5-A41D-474B-A62A-9B302AF4320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9C958-B693-4412-BD2C-27667A07FB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alýza zdroj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gram potřeby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tížení zdroje s ohledem na limit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multiprojekové sdílení zdrojů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29F4-5602-4EC4-A06D-806F194F4BD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8916B-ECE9-4BC2-BBAF-E5BA8C41C5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 je projek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321600" cy="368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DB3E-AC1C-4104-BAB8-BFBC62C0B0D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F71D02-34ED-43A3-A5B4-EFDD903A1D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62120" y="1523880"/>
            <a:ext cx="8381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anttův (úsečkový, čárový) diagram představuje vyjádření souslednosti činností v čase. Obvykle se vykresluje na základě provedené síťové analýz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295280" y="2666520"/>
            <a:ext cx="6222960" cy="2916000"/>
            <a:chOff x="1295280" y="2666520"/>
            <a:chExt cx="6222960" cy="2916000"/>
          </a:xfrm>
        </p:grpSpPr>
        <p:sp>
          <p:nvSpPr>
            <p:cNvPr id="245" name=""/>
            <p:cNvSpPr/>
            <p:nvPr/>
          </p:nvSpPr>
          <p:spPr>
            <a:xfrm>
              <a:off x="6070320" y="524520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Č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295280" y="2666520"/>
              <a:ext cx="6006600" cy="2603520"/>
              <a:chOff x="1295280" y="2666520"/>
              <a:chExt cx="6006600" cy="260352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2501640" y="2666520"/>
                <a:ext cx="4800240" cy="2603520"/>
                <a:chOff x="2501640" y="2666520"/>
                <a:chExt cx="4800240" cy="260352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2501640" y="2666520"/>
                  <a:ext cx="4800240" cy="2603520"/>
                  <a:chOff x="2501640" y="2666520"/>
                  <a:chExt cx="4800240" cy="260352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V="1">
                    <a:off x="2501640" y="2666520"/>
                    <a:ext cx="0" cy="2590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501640" y="5257800"/>
                    <a:ext cx="4800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501640" y="4952880"/>
                    <a:ext cx="472428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514240" y="431784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514240" y="464832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514240" y="368316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514240" y="400068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514240" y="335268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514240" y="300996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V="1">
                    <a:off x="281880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V="1">
                    <a:off x="351756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V="1">
                    <a:off x="316188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V="1">
                    <a:off x="6946560" y="276840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V="1">
                    <a:off x="384768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V="1">
                    <a:off x="41778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V="1">
                    <a:off x="449532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V="1">
                    <a:off x="482544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flipV="1">
                    <a:off x="519372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V="1">
                    <a:off x="55620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 flipV="1">
                    <a:off x="591768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V="1">
                    <a:off x="62478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V="1">
                    <a:off x="660348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2539440" y="3009960"/>
                  <a:ext cx="3999960" cy="1942920"/>
                  <a:chOff x="2539440" y="3009960"/>
                  <a:chExt cx="3999960" cy="19429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2539440" y="3009960"/>
                    <a:ext cx="82512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3351960" y="303516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971080" y="4000680"/>
                    <a:ext cx="105372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3364560" y="3352680"/>
                    <a:ext cx="4442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3796560" y="3683160"/>
                    <a:ext cx="74880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3796560" y="336564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3987000" y="4317840"/>
                    <a:ext cx="57096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4025160" y="402588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545720" y="3695760"/>
                    <a:ext cx="0" cy="95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494960" y="434340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4545720" y="4648320"/>
                    <a:ext cx="11552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5701320" y="4952880"/>
                    <a:ext cx="83808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5701320" y="464832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5244120" y="3009960"/>
                    <a:ext cx="4316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5676120" y="3009960"/>
                    <a:ext cx="0" cy="1942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7" name=""/>
              <p:cNvSpPr/>
              <p:nvPr/>
            </p:nvSpPr>
            <p:spPr>
              <a:xfrm>
                <a:off x="1295280" y="2857320"/>
                <a:ext cx="1447560" cy="22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Ganttovy diagra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ABF1-82A0-4927-895D-416B8C2D323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AD569-FD6E-4ED8-85C9-4BB348701D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ýpočet celkových nákladů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2003400"/>
            <a:ext cx="8381880" cy="40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tanovení vstupů a rozpočt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ředpoklád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tanovení prostředků potřebných pro realizaci každé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. pro každý předpokládaný výs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lidské zdroje – mzdy,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materiální zdroje a potřebné vybavení, spotřební materi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) finanční 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Vyjádření prostředků v nákladových kategori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pecifikování jednotek, množství a jednotkov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Určení zdroje finan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tanovení harmonogramu čerpání rozpo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Rozdělení nákladů do kategorií rozpočtu a pří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čtových tabulek </a:t>
            </a: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rozpočtových vzorc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2720-A01A-43A9-800D-FF873B8EE47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1A363-65AB-49A4-9B21-EF03E8FF40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11280" y="1700280"/>
            <a:ext cx="8229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ánování zdro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4040" y="2133720"/>
            <a:ext cx="8589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ánování zdrojů představuje proces agregovaného a detailního rozvrhování potřebných a disponibilních zdrojů v čase, odhadování metrik na základě odhadů spotřeby a jejich následná optimaliz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14680" y="3646080"/>
            <a:ext cx="5763960" cy="2017440"/>
            <a:chOff x="1714680" y="3646080"/>
            <a:chExt cx="5763960" cy="2017440"/>
          </a:xfrm>
        </p:grpSpPr>
        <p:grpSp>
          <p:nvGrpSpPr>
            <p:cNvPr id="294" name=""/>
            <p:cNvGrpSpPr/>
            <p:nvPr/>
          </p:nvGrpSpPr>
          <p:grpSpPr>
            <a:xfrm>
              <a:off x="1714680" y="3646080"/>
              <a:ext cx="3621960" cy="2017440"/>
              <a:chOff x="1714680" y="3646080"/>
              <a:chExt cx="3621960" cy="20174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2014200" y="3646080"/>
                <a:ext cx="3212640" cy="1734840"/>
                <a:chOff x="2014200" y="3646080"/>
                <a:chExt cx="3212640" cy="1734840"/>
              </a:xfrm>
            </p:grpSpPr>
            <p:sp>
              <p:nvSpPr>
                <p:cNvPr id="296" name=""/>
                <p:cNvSpPr/>
                <p:nvPr/>
              </p:nvSpPr>
              <p:spPr>
                <a:xfrm flipV="1">
                  <a:off x="2014200" y="3646080"/>
                  <a:ext cx="0" cy="172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014200" y="5373360"/>
                  <a:ext cx="321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014200" y="5169960"/>
                  <a:ext cx="316188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022840" y="474660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022840" y="496692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022840" y="432360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022840" y="453528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022840" y="410328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022840" y="387504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22266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>
                  <a:off x="269424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245628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V="1">
                  <a:off x="4988880" y="371376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291492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313596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334836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35694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38160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406224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430056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V="1">
                  <a:off x="452124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475956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2039760" y="4967280"/>
                <a:ext cx="414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368600" y="5356440"/>
                <a:ext cx="96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Č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6200000">
                <a:off x="1384560" y="4325400"/>
                <a:ext cx="966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droj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2450880" y="4103640"/>
                <a:ext cx="0" cy="857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64920" y="4103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2909520" y="4095360"/>
                <a:ext cx="0" cy="211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16000" y="4314960"/>
                <a:ext cx="209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3122280" y="4314600"/>
                <a:ext cx="0" cy="447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144600" y="4746600"/>
                <a:ext cx="694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819240" y="4737240"/>
                <a:ext cx="0" cy="449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41560" y="5170680"/>
                <a:ext cx="694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022120" y="4332240"/>
                <a:ext cx="6616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2690640" y="4314600"/>
                <a:ext cx="0" cy="245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711160" y="4535640"/>
                <a:ext cx="6440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3342960" y="4525920"/>
                <a:ext cx="0" cy="441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65280" y="4967280"/>
                <a:ext cx="7124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4057200" y="4949640"/>
                <a:ext cx="0" cy="244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87440" y="5203800"/>
                <a:ext cx="439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598560" y="3929040"/>
                <a:ext cx="1402920" cy="27648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e1"/>
                    </a:solidFill>
                    <a:latin typeface="Times New Roman"/>
                  </a:rPr>
                  <a:t>Potřebné zdro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95320" y="4256280"/>
                <a:ext cx="1415880" cy="276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e1"/>
                    </a:solidFill>
                    <a:latin typeface="Times New Roman"/>
                  </a:rPr>
                  <a:t>Disponibilní zdro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5283360" y="3646080"/>
              <a:ext cx="2195280" cy="2017080"/>
              <a:chOff x="5283360" y="3646080"/>
              <a:chExt cx="2195280" cy="2017080"/>
            </a:xfrm>
          </p:grpSpPr>
          <p:sp>
            <p:nvSpPr>
              <p:cNvPr id="339" name=""/>
              <p:cNvSpPr/>
              <p:nvPr/>
            </p:nvSpPr>
            <p:spPr>
              <a:xfrm>
                <a:off x="6513480" y="5356080"/>
                <a:ext cx="965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Č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6200000">
                <a:off x="4546440" y="4398840"/>
                <a:ext cx="178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acnos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5575320" y="3646080"/>
                <a:ext cx="1612800" cy="1725840"/>
                <a:chOff x="5575320" y="3646080"/>
                <a:chExt cx="1612800" cy="1725840"/>
              </a:xfrm>
            </p:grpSpPr>
            <p:grpSp>
              <p:nvGrpSpPr>
                <p:cNvPr id="342" name=""/>
                <p:cNvGrpSpPr/>
                <p:nvPr/>
              </p:nvGrpSpPr>
              <p:grpSpPr>
                <a:xfrm>
                  <a:off x="5575320" y="3646080"/>
                  <a:ext cx="1612800" cy="1725840"/>
                  <a:chOff x="5575320" y="3646080"/>
                  <a:chExt cx="1612800" cy="172584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flipV="1">
                    <a:off x="5575320" y="3646080"/>
                    <a:ext cx="0" cy="1725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5575320" y="5371920"/>
                    <a:ext cx="1612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5575320" y="5168880"/>
                    <a:ext cx="156204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5583600" y="47458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5583600" y="496584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5583600" y="43228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5583600" y="453420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5583600" y="410292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583600" y="38746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V="1">
                    <a:off x="5786640" y="369720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V="1">
                    <a:off x="6251400" y="368856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V="1">
                    <a:off x="6014880" y="368856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V="1">
                    <a:off x="6471360" y="369720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V="1">
                    <a:off x="6691320" y="370548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V="1">
                    <a:off x="6902640" y="370548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8" name=""/>
                <p:cNvSpPr/>
                <p:nvPr/>
              </p:nvSpPr>
              <p:spPr>
                <a:xfrm>
                  <a:off x="5642640" y="3874680"/>
                  <a:ext cx="1251360" cy="1074240"/>
                </a:xfrm>
                <a:custGeom>
                  <a:avLst/>
                  <a:gdLst/>
                  <a:ahLst/>
                  <a:rect l="l" t="t" r="r" b="b"/>
                  <a:pathLst>
                    <a:path w="1184" h="968">
                      <a:moveTo>
                        <a:pt x="0" y="968"/>
                      </a:moveTo>
                      <a:cubicBezTo>
                        <a:pt x="25" y="931"/>
                        <a:pt x="104" y="800"/>
                        <a:pt x="152" y="744"/>
                      </a:cubicBezTo>
                      <a:cubicBezTo>
                        <a:pt x="200" y="688"/>
                        <a:pt x="232" y="664"/>
                        <a:pt x="288" y="632"/>
                      </a:cubicBezTo>
                      <a:cubicBezTo>
                        <a:pt x="344" y="600"/>
                        <a:pt x="396" y="580"/>
                        <a:pt x="488" y="552"/>
                      </a:cubicBezTo>
                      <a:cubicBezTo>
                        <a:pt x="580" y="524"/>
                        <a:pt x="744" y="504"/>
                        <a:pt x="840" y="464"/>
                      </a:cubicBezTo>
                      <a:cubicBezTo>
                        <a:pt x="936" y="424"/>
                        <a:pt x="1012" y="364"/>
                        <a:pt x="1064" y="312"/>
                      </a:cubicBezTo>
                      <a:cubicBezTo>
                        <a:pt x="1116" y="260"/>
                        <a:pt x="1132" y="204"/>
                        <a:pt x="1152" y="152"/>
                      </a:cubicBezTo>
                      <a:cubicBezTo>
                        <a:pt x="1172" y="100"/>
                        <a:pt x="1177" y="32"/>
                        <a:pt x="1184" y="0"/>
                      </a:cubicBezTo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třeba zdrojů pro realizac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1C5D-879C-49F0-A757-12B58A7E50F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FC934-9838-4334-B4B8-9CC7621426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 CP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826920" y="1628640"/>
          <a:ext cx="7772040" cy="4530600"/>
        </p:xfrm>
        <a:graphic>
          <a:graphicData uri="http://schemas.openxmlformats.org/drawingml/2006/table">
            <a:tbl>
              <a:tblPr/>
              <a:tblGrid>
                <a:gridCol w="1024560"/>
                <a:gridCol w="3947400"/>
                <a:gridCol w="1224360"/>
                <a:gridCol w="1575720"/>
              </a:tblGrid>
              <a:tr h="82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Činn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pis čin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oba trvání (týdn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ředchozí čin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a nákup vhodného ob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žád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zpracování pro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obsazení pozice manaž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personál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,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rekonstrukce a vybavení ob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školení personá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sortimentu zbož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,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uzavření smluv s dodavate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nákup zbož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E,F,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rekla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7863-4C39-44B9-BED1-AB504593695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561364-C4C5-4EC3-B30C-0B9523B46B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175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94040" y="3162240"/>
            <a:ext cx="81252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179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895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37440" y="31622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937640" y="31622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360684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819520" y="36068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43400" y="360684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15000" y="360684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238880" y="36068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517920" y="1486080"/>
            <a:ext cx="812880" cy="812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89520" y="5067360"/>
            <a:ext cx="888840" cy="888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337440" y="5067360"/>
            <a:ext cx="888840" cy="888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666880" y="2235240"/>
            <a:ext cx="990720" cy="990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91120" y="3911760"/>
            <a:ext cx="914400" cy="1218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551196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086600" y="3911760"/>
            <a:ext cx="1066680" cy="1218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267080" y="2158920"/>
            <a:ext cx="221004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23875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781680" y="398772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4960" y="322740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11480" y="330372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43200" y="1550880"/>
            <a:ext cx="62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59040" y="3227400"/>
            <a:ext cx="45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06960" y="322740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106960" y="520848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54880" y="520848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54880" y="3227400"/>
            <a:ext cx="45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231040" y="330372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20760" y="3075120"/>
            <a:ext cx="45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44440" y="36846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87440" y="2160720"/>
            <a:ext cx="114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B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3240" y="3075120"/>
            <a:ext cx="454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97280" y="360828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83280" y="2084400"/>
            <a:ext cx="159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E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87640" y="246528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1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421160" y="30751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344840" y="360828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92760" y="307512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16440" y="360828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392960" y="30751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240680" y="360828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802040" y="4294080"/>
            <a:ext cx="152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G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792760" y="497988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16440" y="5513400"/>
            <a:ext cx="75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73640" y="4294080"/>
            <a:ext cx="144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2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97880" y="4294080"/>
            <a:ext cx="106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J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27F8-6828-4816-ACE5-4D665E9726CF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6B889-9510-42FE-91AC-7EE14A55FD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75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994040" y="3376440"/>
            <a:ext cx="81252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179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895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337440" y="33764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37640" y="33764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382104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38210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382104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82104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238880" y="382104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17920" y="170028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889520" y="5281560"/>
            <a:ext cx="888840" cy="889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37440" y="5281560"/>
            <a:ext cx="888840" cy="889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666880" y="2449440"/>
            <a:ext cx="990720" cy="990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4125960"/>
            <a:ext cx="91440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791320" y="572616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7086600" y="4125600"/>
            <a:ext cx="106668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2373480"/>
            <a:ext cx="221004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86200" y="260208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81680" y="4201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4960" y="344160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11480" y="351792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643200" y="1765440"/>
            <a:ext cx="62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659040" y="3441600"/>
            <a:ext cx="45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106960" y="344160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06960" y="542304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554880" y="542304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554880" y="3441600"/>
            <a:ext cx="45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231040" y="351792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20760" y="3289320"/>
            <a:ext cx="45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44440" y="38988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287440" y="2374920"/>
            <a:ext cx="114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B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973240" y="3289320"/>
            <a:ext cx="454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97280" y="382284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183280" y="2298600"/>
            <a:ext cx="159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E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887640" y="267984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1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21160" y="32893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344840" y="382284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792760" y="328932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716440" y="382284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392960" y="32893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236000" y="393372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802040" y="4508640"/>
            <a:ext cx="152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G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92760" y="519444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6440" y="5727600"/>
            <a:ext cx="75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73640" y="4508640"/>
            <a:ext cx="144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2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697880" y="4508640"/>
            <a:ext cx="106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J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9D91-EEC8-4703-B2A7-2B1B7341D73A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A19A5-CDD2-4AA7-9B51-F4A7382B0E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ozpty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yjadřuje míru rozptýlení hodnot náhodné proměnné okolo stř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měrodatná odchyl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dmocnina rozptylu – měří variabilitu v původních jednotkách náhodné proměn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čekávaný čas trvání činnost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střední hodnota) – převádí tři časové odhady dob trvání činností v jediný odhad střední hodnoty doby trvání čin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– optimistický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 – modální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 – pesimistický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ei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(a+4m+b)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b-a)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0E68-0F64-4CC0-AFF7-97F8B34A48E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D35EE-456B-4F77-BF7B-D5A1F45C91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ou-li známy (či odhadnuty) parametry pro všechny činnosti projektu, lze zjistit pomocí algoritmu kritickou cestu projektu. Stačí místo hodnot očekávaných dob trvání 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ij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dosadit střední hodnoty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Arial"/>
              </a:rPr>
              <a:t>e ij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očítané z výše uvedených vztah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ední hodnota celého projektu je rovna součtu středních hodnot činností ležících na kritické cestě graf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 samé platí i pro rozptyl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istuje-li více kritických cest, je třeba vybrat tu s největším rozpty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4345-5400-4EAF-9344-DF311EC6AB8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5F183-641C-4AD5-81B4-34AF77570D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lková doba projektu se dá vypočítat jako součet dob trvání činností ležících na kritické cestě. (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y trvání jsou nezávislé náhodné veličiny s Beta rozdělením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trální limitní věta (Ljupunovova) říká, že normalizovaný součet nezávislých náhodných veličin lze pro dostatečně velký počet sčítanců aproximovat standardním normálním rozděle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rmované proměnné jsou ve tv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u= (x-T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/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04FA-56E9-4C56-B8BA-0179D01D307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E5735-4C37-4B8A-96FA-407745BFDC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pravděpodobnosti dodržení termí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počteme hodnoty normované proměnn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u = (x-T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/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, kde x je požadovaná doba trvání pro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V tabulkách normálního rozdělení najdeme odpovídající hodnotu distribuční funk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Úlohu lze obrátit a hledat takový termín, který bude dodržen s požadovanou pravděpodobnos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F7EA-C22D-456D-9F0E-F344EE10769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060E1-C5A2-4BE0-816E-9B23B996E6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lastnosti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inečnost &amp; neopakovatelnost (acyklič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ý termín zahájení &amp; ukončení +přidělený rozpočet a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ultiprofesní projektový tým s dočasnou působ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oká neurčitost (riziko) spojené s definováním &amp; způsobem dosahování cí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plexnost a složitost předmětu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689-2D1C-4F85-AF2F-B64383AB13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7A83B-6A78-4DB0-BFB8-F826714005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Doporučené hodnoty pravděpodobností pro hodnocení stochastických sítí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914400" y="1600200"/>
          <a:ext cx="7772400" cy="4343400"/>
        </p:xfrm>
        <a:graphic>
          <a:graphicData uri="http://schemas.openxmlformats.org/drawingml/2006/table">
            <a:tbl>
              <a:tblPr/>
              <a:tblGrid>
                <a:gridCol w="3297240"/>
                <a:gridCol w="4475160"/>
              </a:tblGrid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 pro hodnoty pravděpodob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c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0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ostatečné zabezpečení, hledat cesty, jak dosáhnout vyšších hod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5 – 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áce jsou dobře zabezpeče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 a ví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zpečení projektu je nadbytečn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F9AD-95BE-44E7-8375-D0675E4221F7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C9CEE-BFF3-407D-ADB7-8E18AE1771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ďte časovou analýzu síťového grafu (nejkratší dobu trvání, kritickou cestu), který reprezentuje model projektu zadaného v následující tabulce činnostmi, jejich návazností a dobou tr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D4B8-2486-4275-9EE8-5FCD8DB9C93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4B704-8846-4A17-885F-692A4D24BB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181760" cy="48862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adání údaj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EE3-DBC6-47F0-8894-2CC0776BE4D9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7CC0F-1F00-4C64-833C-C309BB4F27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eše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e návaznosti činností uvedených v tabulce sestrojíme hranový síťový graf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číslujeme uzly tak, aby každá hrana vždy vycházela z uzlu nižšího pořadového čísla do uzlu s vyšším čísl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íťový graf je na následujícím obráz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6913-FDA4-46DA-A163-D3550A6440D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1971B-1DC5-45F6-A895-9A992C503A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343920" cy="327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7826-858F-417C-807A-FC35EAF8CF5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DA438-1045-4C71-B67E-32F0E5E887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áze I – výpočet nejdříve možných začátků a konců činnos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35292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EDC5-DD38-43D9-8AD6-B75805D1796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170A6-86D7-4F48-AB42-2A72856D17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áze II – výpočet nejpozději přípustných konců a začátků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6267240" cy="320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CC35-3FC8-4250-986F-70A73C6D1B7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A2657-009F-4F78-A867-0C50C5E032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 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– optimistický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 – modální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 – pesimistický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harakteristi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ní hodnota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yi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měrodatnou odchylku σ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i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ozptyl σ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1913-8D64-43B6-BAC9-F33E5CEFC47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CEA52-024E-4FA5-9634-6E939FAFAA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řední hodnota trvání libovolné činnosti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ěrodatná odchy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pt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3348000" y="2205000"/>
            <a:ext cx="1871640" cy="6699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3419640" y="3789360"/>
            <a:ext cx="1368360" cy="6494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3419640" y="5300640"/>
            <a:ext cx="17287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05B1-15E2-440C-A3CA-516BF49A2D8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4A1A5-4D9F-45F5-88AC-D7EABD7063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 náhodnou veličin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ovanou ve tva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terá má normální rozdělení s nulovou střední hodnotou a s jednotkovým rozptylem, lze nalézt odpovídající pravděpodobnosti v tabulce hodnot distribuční funkce normovaného normálního rozděl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3635280" y="2276640"/>
            <a:ext cx="1287720" cy="80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2DA9-F22A-4601-8FB6-45397C392D6F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DE810-57B8-40BB-B817-EA4FD2C4DC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jektové říze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uží k rozplánování a realizaci složitých akcí, které je potřeba uskutečnit v požadovaném termínu s plánovanými náklady tak, aby se dostálo stanovených cíl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čně: účinné a efektivní dosahování změ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mětem projektového řízení je proje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žívané princi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 týmové prá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 systematické práce – podložené exaktními metod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émový přístup k řešení problém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ECB2-B42B-4EFD-A804-B784D969A8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37B1D-E3CF-481C-A294-0FC4C0AD00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913440" cy="466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5741-A812-4828-882E-013FE90A6A3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C37E26-7D51-4B67-9B86-046578AFC6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epočtený 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4048200" cy="308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4E81-F224-4972-A70B-D23043B705EB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0E837-76AF-4D27-B17E-F574428DFC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ní hodnota doby realizace projektu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směrodatná odchylka doby trvání projektu σ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sou dány součtem odpovídajících hodnot kritických činností. T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168dní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=5,3 d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vděpodobnost, že projekt skončí o 10 dní dříve, než je spočtená střední hodnota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1332000" y="5445000"/>
            <a:ext cx="4464000" cy="6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9200-41A6-438E-A7AB-9BE29C48791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F8178-40C3-4FCB-910B-3E6E1411E4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ízení projekt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064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Řízení projek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raxe stanovování dosažitelných cílů, řízení zdrojů a systematického vyhodnocování výkonů vzhledem ke stanoveným cílům a následné přijímání korektivních opatření k odstraňování odchyl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Projektové říz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organizační systém řízení projekt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formou projektu je vhodné tam, kde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rozsah, neobvyklost, složitost, obtížnost a rizikov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realizace činností přesahují určitou míru.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 Řízení podle projek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BP (Management by Projects) způsob řízení, kdy organizační struktura a způsob práce v organizaci je přizpůsoben metodám projektového říze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6725-48AB-4465-BA6F-F384682FC1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59CB3-DA3F-4B6A-B750-50AA345CD3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rý systém řízení projektů je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becně-použitel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rientovaný na výstup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roduct-oriented) a zahrnující procesy definování cílů, systém plánování činností, proces výběru metod, systém rozdělování práce &amp; zdrojů, systém sledování postupu &amp; měření výsled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DB51-3959-4D48-91E9-92059FCB8F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9C9C3-74EE-4499-9601-C4D3232BF7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EB0F-3D2A-479F-8474-06786CDB379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F7A1F-D54E-46DE-8128-196343B6C2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bsahem řízení projek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aplikování specifických kompetencí, nástrojů a technik na řízení činností s cílem dosáhnout požadovaných cílů resp. naplnit očekávání zájmových skupin. Úspěšné řízení projektu předpokládá rovnováhu mezi 3 komponenty plánování projek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 Rozsah (sco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Harmonogram (sche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Zdroje (resour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80000" y="3933720"/>
            <a:ext cx="2428920" cy="21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E63B-B7BE-4BB6-A018-5811BA558D5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CB335-60CC-4C71-BD2C-D03B0CCC95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1:41:49Z</dcterms:created>
  <dc:creator>hrstkova</dc:creator>
  <dc:description/>
  <dc:language>en-US</dc:language>
  <cp:lastModifiedBy>hrstkova</cp:lastModifiedBy>
  <dcterms:modified xsi:type="dcterms:W3CDTF">2004-12-03T09:07:40Z</dcterms:modified>
  <cp:revision>7</cp:revision>
  <dc:subject/>
  <dc:title>Řízení projektů</dc:title>
</cp:coreProperties>
</file>